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7C0A0-4F4C-4C32-8860-3E79FFCED030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6.xml"/><Relationship Id="rId24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BA690-9812-45D4-B0A2-1D65921838A6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BDBBE-E433-4585-A39D-D7F2BAF64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A6FAE-B14D-412C-A038-F35CEC18E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4F077-8CCC-4CF4-97F6-8C669903A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4F641-369F-4216-BCAA-D120A47CB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932C0-A5F9-44D8-B067-D5EC850DF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A7DC8-CFD8-46BB-B7B2-95B62610E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F2C8F-D6F5-4447-B9C3-8246DD222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B5644-0EE0-451F-8DF2-CB905F6E7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EFDA9-F6FA-4DA0-87F7-1C1A8C8BE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82B7D-4169-4F54-B9B3-7D220FC02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8E4A5-BC72-4D96-88A3-39F081048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CD519-6886-4F11-824E-5AB5886E2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1C538-E5E3-4C63-BF4C-C24D8739F3A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Text Box 4" descr=""/>
          <p:cNvPicPr/>
          <p:nvPr/>
        </p:nvPicPr>
        <p:blipFill>
          <a:blip r:embed="rId2"/>
          <a:stretch/>
        </p:blipFill>
        <p:spPr>
          <a:xfrm>
            <a:off x="2057400" y="923760"/>
            <a:ext cx="5164200" cy="1446480"/>
          </a:xfrm>
          <a:prstGeom prst="rect">
            <a:avLst/>
          </a:prstGeom>
          <a:ln w="0">
            <a:noFill/>
          </a:ln>
        </p:spPr>
      </p:pic>
      <p:pic>
        <p:nvPicPr>
          <p:cNvPr id="49" name="矩形 5" descr=""/>
          <p:cNvPicPr/>
          <p:nvPr/>
        </p:nvPicPr>
        <p:blipFill>
          <a:blip r:embed="rId3"/>
          <a:stretch/>
        </p:blipFill>
        <p:spPr>
          <a:xfrm>
            <a:off x="1614600" y="6095880"/>
            <a:ext cx="5672160" cy="4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4" descr="010"/>
          <p:cNvPicPr/>
          <p:nvPr/>
        </p:nvPicPr>
        <p:blipFill>
          <a:blip r:embed="rId1"/>
          <a:stretch/>
        </p:blipFill>
        <p:spPr>
          <a:xfrm>
            <a:off x="2028960" y="1143000"/>
            <a:ext cx="5086080" cy="3743280"/>
          </a:xfrm>
          <a:prstGeom prst="rect">
            <a:avLst/>
          </a:prstGeom>
          <a:ln w="0">
            <a:noFill/>
          </a:ln>
        </p:spPr>
      </p:pic>
      <p:sp>
        <p:nvSpPr>
          <p:cNvPr id="72" name="Text Box 5"/>
          <p:cNvSpPr/>
          <p:nvPr/>
        </p:nvSpPr>
        <p:spPr>
          <a:xfrm>
            <a:off x="4386240" y="5943600"/>
            <a:ext cx="3711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</a:rPr>
              <a:t>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4"/>
          <p:cNvSpPr/>
          <p:nvPr/>
        </p:nvSpPr>
        <p:spPr>
          <a:xfrm>
            <a:off x="485640" y="45720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资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5"/>
          <p:cNvSpPr/>
          <p:nvPr/>
        </p:nvSpPr>
        <p:spPr>
          <a:xfrm>
            <a:off x="4386240" y="6019920"/>
            <a:ext cx="3711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</a:rPr>
              <a:t>鹬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6" descr="31dc6f8ade0fa60ec9fc7a6e"/>
          <p:cNvPicPr/>
          <p:nvPr/>
        </p:nvPicPr>
        <p:blipFill>
          <a:blip r:embed="rId1"/>
          <a:stretch/>
        </p:blipFill>
        <p:spPr>
          <a:xfrm>
            <a:off x="914400" y="992160"/>
            <a:ext cx="7315200" cy="487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2"/>
          <p:cNvSpPr/>
          <p:nvPr/>
        </p:nvSpPr>
        <p:spPr>
          <a:xfrm>
            <a:off x="3244680" y="838080"/>
            <a:ext cx="551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楷体_GB2312"/>
              </a:rPr>
              <a:t>10 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</a:rPr>
              <a:t>寓言二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3"/>
          <p:cNvSpPr/>
          <p:nvPr/>
        </p:nvSpPr>
        <p:spPr>
          <a:xfrm>
            <a:off x="1066680" y="2057400"/>
            <a:ext cx="7848720" cy="338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楷体_GB2312"/>
              </a:rPr>
              <a:t>        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鹬蚌相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</a:rPr>
              <a:t>学习目标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楷体_GB2312"/>
              </a:rPr>
              <a:t>1</a:t>
            </a:r>
            <a:r>
              <a:rPr b="1" lang="zh-CN" sz="2400" spc="-1" strike="noStrike">
                <a:solidFill>
                  <a:srgbClr val="333399"/>
                </a:solidFill>
                <a:latin typeface="楷体_GB2312"/>
              </a:rPr>
              <a:t>、认识</a:t>
            </a:r>
            <a:r>
              <a:rPr b="1" lang="en-US" sz="2400" spc="-1" strike="noStrike">
                <a:solidFill>
                  <a:srgbClr val="333399"/>
                </a:solidFill>
                <a:latin typeface="楷体_GB2312"/>
              </a:rPr>
              <a:t>《</a:t>
            </a:r>
            <a:r>
              <a:rPr b="1" lang="zh-CN" sz="2400" spc="-1" strike="noStrike">
                <a:solidFill>
                  <a:srgbClr val="333399"/>
                </a:solidFill>
                <a:latin typeface="楷体_GB2312"/>
              </a:rPr>
              <a:t>鹬蚌相争</a:t>
            </a:r>
            <a:r>
              <a:rPr b="1" lang="en-US" sz="2400" spc="-1" strike="noStrike">
                <a:solidFill>
                  <a:srgbClr val="333399"/>
                </a:solidFill>
                <a:latin typeface="楷体_GB2312"/>
              </a:rPr>
              <a:t>》</a:t>
            </a:r>
            <a:r>
              <a:rPr b="1" lang="zh-CN" sz="2400" spc="-1" strike="noStrike">
                <a:solidFill>
                  <a:srgbClr val="333399"/>
                </a:solidFill>
                <a:latin typeface="楷体_GB2312"/>
              </a:rPr>
              <a:t>中的生字，知道生字的字音、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楷体_GB2312"/>
              </a:rPr>
              <a:t>  </a:t>
            </a:r>
            <a:r>
              <a:rPr b="1" lang="zh-CN" sz="2400" spc="-1" strike="noStrike">
                <a:solidFill>
                  <a:srgbClr val="333399"/>
                </a:solidFill>
                <a:latin typeface="楷体_GB2312"/>
              </a:rPr>
              <a:t>形、字义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楷体_GB2312"/>
              </a:rPr>
              <a:t>2</a:t>
            </a:r>
            <a:r>
              <a:rPr b="1" lang="zh-CN" sz="2400" spc="-1" strike="noStrike">
                <a:solidFill>
                  <a:srgbClr val="333399"/>
                </a:solidFill>
                <a:latin typeface="楷体_GB2312"/>
              </a:rPr>
              <a:t>、能正确、流利的朗读课文，懂得寓言故事的寓意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2"/>
          <p:cNvSpPr/>
          <p:nvPr/>
        </p:nvSpPr>
        <p:spPr>
          <a:xfrm>
            <a:off x="3244680" y="838080"/>
            <a:ext cx="551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</a:rPr>
              <a:t>小组讨论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304920" y="1752480"/>
            <a:ext cx="83818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楷体_GB2312"/>
              </a:rPr>
              <a:t>1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</a:rPr>
              <a:t>、朗读课文找出</a:t>
            </a:r>
            <a:r>
              <a:rPr b="1" lang="en-US" sz="2800" spc="-1" strike="noStrike">
                <a:solidFill>
                  <a:srgbClr val="333399"/>
                </a:solidFill>
                <a:latin typeface="楷体_GB2312"/>
              </a:rPr>
              <a:t>《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</a:rPr>
              <a:t>鹬蚌相争</a:t>
            </a:r>
            <a:r>
              <a:rPr b="1" lang="en-US" sz="2800" spc="-1" strike="noStrike">
                <a:solidFill>
                  <a:srgbClr val="333399"/>
                </a:solidFill>
                <a:latin typeface="楷体_GB2312"/>
              </a:rPr>
              <a:t>》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</a:rPr>
              <a:t>中，要学习的生字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楷体_GB2312"/>
              </a:rPr>
              <a:t>   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</a:rPr>
              <a:t>圈出来，不认识的字查字典读熟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楷体_GB2312"/>
              </a:rPr>
              <a:t>2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</a:rPr>
              <a:t>、找出</a:t>
            </a:r>
            <a:r>
              <a:rPr b="1" lang="en-US" sz="2800" spc="-1" strike="noStrike">
                <a:solidFill>
                  <a:srgbClr val="333399"/>
                </a:solidFill>
                <a:latin typeface="楷体_GB2312"/>
              </a:rPr>
              <a:t>《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</a:rPr>
              <a:t>鹬蚌相争</a:t>
            </a:r>
            <a:r>
              <a:rPr b="1" lang="en-US" sz="2800" spc="-1" strike="noStrike">
                <a:solidFill>
                  <a:srgbClr val="333399"/>
                </a:solidFill>
                <a:latin typeface="楷体_GB2312"/>
              </a:rPr>
              <a:t>》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</a:rPr>
              <a:t>中的多音字，并写在书上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楷体_GB2312"/>
              </a:rPr>
              <a:t>3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</a:rPr>
              <a:t>、课文中主要讲了一件什么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4"/>
          <p:cNvSpPr/>
          <p:nvPr/>
        </p:nvSpPr>
        <p:spPr>
          <a:xfrm>
            <a:off x="304920" y="2287080"/>
            <a:ext cx="84582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　河滩上有一只蚌正在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晒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shài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太阳，它舒服地张开蚌壳，露出里面的蚌肉。一只叫鹬的水鸟看到了，就用长嘴去啄蚌的肉，蚌连忙收拢蚌壳，把鹬的长嘴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夹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jiā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住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　鹬怎么也不能摆脱夹住自己嘴的蚌。它生气地说：“今天不下雨，明天不下雨，太阳晒死你！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　蚌毫不示弱，它说：“今天不放你，明天不放你，你也活不成！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　正当鹬和蚌互不相让的时候，一个渔翁路过这里，毫不费力地把它们捉了起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5"/>
          <p:cNvSpPr/>
          <p:nvPr/>
        </p:nvSpPr>
        <p:spPr>
          <a:xfrm>
            <a:off x="3933000" y="3049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鹬蚌相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304920" y="2287080"/>
            <a:ext cx="84582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　河滩上有一只蚌正在晒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shài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太阳，它舒服地张开蚌壳，露出里面的蚌肉。一只叫鹬的水鸟看到了，就用长嘴去啄蚌的肉，蚌连忙收拢蚌壳，把鹬的长嘴夹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jiā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住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　鹬怎么也不能摆脱夹住自己嘴的蚌。它生气地说：“今天不下雨，明天不下雨，太阳晒死你！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　蚌毫不示弱，它说：“今天不放你，明天不放你，你也活不成！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　正当鹬和蚌互不相让的时候，一个渔翁路过这里，毫不费力地把它们捉了起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3933000" y="3049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鹬蚌相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4"/>
          <p:cNvSpPr/>
          <p:nvPr/>
        </p:nvSpPr>
        <p:spPr>
          <a:xfrm>
            <a:off x="152280" y="0"/>
            <a:ext cx="3353040" cy="182880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cc9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　　你能找出故事的起因、经过和结果的段落吗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5"/>
          <p:cNvSpPr/>
          <p:nvPr/>
        </p:nvSpPr>
        <p:spPr>
          <a:xfrm>
            <a:off x="3932280" y="2498760"/>
            <a:ext cx="63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0000"/>
                </a:solidFill>
                <a:latin typeface="Arial"/>
                <a:ea typeface="黑体"/>
              </a:rPr>
              <a:t>起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6"/>
          <p:cNvSpPr/>
          <p:nvPr/>
        </p:nvSpPr>
        <p:spPr>
          <a:xfrm>
            <a:off x="3583080" y="4267080"/>
            <a:ext cx="63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0000"/>
                </a:solidFill>
                <a:latin typeface="Arial"/>
                <a:ea typeface="黑体"/>
              </a:rPr>
              <a:t>经过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7"/>
          <p:cNvSpPr/>
          <p:nvPr/>
        </p:nvSpPr>
        <p:spPr>
          <a:xfrm>
            <a:off x="5792760" y="5105520"/>
            <a:ext cx="63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0000"/>
                </a:solidFill>
                <a:latin typeface="Arial"/>
                <a:ea typeface="黑体"/>
              </a:rPr>
              <a:t>结果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6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2"/>
          <p:cNvSpPr/>
          <p:nvPr/>
        </p:nvSpPr>
        <p:spPr>
          <a:xfrm>
            <a:off x="458640" y="3108240"/>
            <a:ext cx="1095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互不相让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3"/>
          <p:cNvSpPr/>
          <p:nvPr/>
        </p:nvSpPr>
        <p:spPr>
          <a:xfrm>
            <a:off x="1905120" y="2362320"/>
            <a:ext cx="228600" cy="2133360"/>
          </a:xfrm>
          <a:custGeom>
            <a:avLst/>
            <a:gdLst>
              <a:gd name="textAreaLeft" fmla="*/ 146160 w 228600"/>
              <a:gd name="textAreaRight" fmla="*/ 228960 w 228600"/>
              <a:gd name="textAreaTop" fmla="*/ 55440 h 2133360"/>
              <a:gd name="textAreaBottom" fmla="*/ 2077920 h 2133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2424240" y="2305080"/>
            <a:ext cx="409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鹬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3659400" y="2305080"/>
            <a:ext cx="866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不下雨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6"/>
          <p:cNvSpPr/>
          <p:nvPr/>
        </p:nvSpPr>
        <p:spPr>
          <a:xfrm>
            <a:off x="5259600" y="2305080"/>
            <a:ext cx="866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晒死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7"/>
          <p:cNvSpPr/>
          <p:nvPr/>
        </p:nvSpPr>
        <p:spPr>
          <a:xfrm>
            <a:off x="2424240" y="3809880"/>
            <a:ext cx="409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8"/>
          <p:cNvSpPr/>
          <p:nvPr/>
        </p:nvSpPr>
        <p:spPr>
          <a:xfrm>
            <a:off x="3659400" y="3809880"/>
            <a:ext cx="866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不放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9"/>
          <p:cNvSpPr/>
          <p:nvPr/>
        </p:nvSpPr>
        <p:spPr>
          <a:xfrm>
            <a:off x="5259600" y="3809880"/>
            <a:ext cx="866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活不成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10"/>
          <p:cNvSpPr/>
          <p:nvPr/>
        </p:nvSpPr>
        <p:spPr>
          <a:xfrm>
            <a:off x="6477120" y="2362320"/>
            <a:ext cx="152280" cy="2133360"/>
          </a:xfrm>
          <a:custGeom>
            <a:avLst/>
            <a:gdLst>
              <a:gd name="textAreaLeft" fmla="*/ 0 w 152280"/>
              <a:gd name="textAreaRight" fmla="*/ 55080 w 152280"/>
              <a:gd name="textAreaTop" fmla="*/ 55440 h 2133360"/>
              <a:gd name="textAreaBottom" fmla="*/ 2077920 h 2133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1"/>
          <p:cNvSpPr/>
          <p:nvPr/>
        </p:nvSpPr>
        <p:spPr>
          <a:xfrm>
            <a:off x="7361280" y="3143160"/>
            <a:ext cx="1095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渔翁得利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12"/>
          <p:cNvSpPr/>
          <p:nvPr/>
        </p:nvSpPr>
        <p:spPr>
          <a:xfrm>
            <a:off x="457200" y="304920"/>
            <a:ext cx="3962520" cy="19047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　　鹬和蚌这么互不相让地争斗下去，结果怎样？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文本框 1"/>
          <p:cNvSpPr/>
          <p:nvPr/>
        </p:nvSpPr>
        <p:spPr>
          <a:xfrm>
            <a:off x="828720" y="5867280"/>
            <a:ext cx="61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500"/>
                            </p:stCondLst>
                            <p:childTnLst>
                              <p:par>
                                <p:cTn id="99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500"/>
                            </p:stCondLst>
                            <p:childTnLst>
                              <p:par>
                                <p:cTn id="108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500"/>
                            </p:stCondLst>
                            <p:childTnLst>
                              <p:par>
                                <p:cTn id="117" dur="indefinite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1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2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4"/>
          <p:cNvSpPr/>
          <p:nvPr/>
        </p:nvSpPr>
        <p:spPr>
          <a:xfrm>
            <a:off x="3851280" y="198108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结  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517F8-310C-46ED-85C3-21C25BC3C859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3244680" y="838080"/>
            <a:ext cx="551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楷体_GB2312"/>
              </a:rPr>
              <a:t>10 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</a:rPr>
              <a:t>寓言二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1066680" y="2057400"/>
            <a:ext cx="7543800" cy="338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楷体_GB2312"/>
              </a:rPr>
              <a:t>        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</a:rPr>
              <a:t>狐假虎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</a:rPr>
              <a:t>学习目标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楷体_GB2312"/>
              </a:rPr>
              <a:t>1</a:t>
            </a:r>
            <a:r>
              <a:rPr b="1" lang="zh-CN" sz="2400" spc="-1" strike="noStrike">
                <a:solidFill>
                  <a:srgbClr val="333399"/>
                </a:solidFill>
                <a:latin typeface="楷体_GB2312"/>
              </a:rPr>
              <a:t>、认识</a:t>
            </a:r>
            <a:r>
              <a:rPr b="1" lang="en-US" sz="2400" spc="-1" strike="noStrike">
                <a:solidFill>
                  <a:srgbClr val="333399"/>
                </a:solidFill>
                <a:latin typeface="楷体_GB2312"/>
              </a:rPr>
              <a:t>《</a:t>
            </a:r>
            <a:r>
              <a:rPr b="1" lang="zh-CN" sz="2400" spc="-1" strike="noStrike">
                <a:solidFill>
                  <a:srgbClr val="333399"/>
                </a:solidFill>
                <a:latin typeface="楷体_GB2312"/>
              </a:rPr>
              <a:t>狐假虎威</a:t>
            </a:r>
            <a:r>
              <a:rPr b="1" lang="en-US" sz="2400" spc="-1" strike="noStrike">
                <a:solidFill>
                  <a:srgbClr val="333399"/>
                </a:solidFill>
                <a:latin typeface="楷体_GB2312"/>
              </a:rPr>
              <a:t>》</a:t>
            </a:r>
            <a:r>
              <a:rPr b="1" lang="zh-CN" sz="2400" spc="-1" strike="noStrike">
                <a:solidFill>
                  <a:srgbClr val="333399"/>
                </a:solidFill>
                <a:latin typeface="楷体_GB2312"/>
              </a:rPr>
              <a:t>中的生字，知道生字的字音、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楷体_GB2312"/>
              </a:rPr>
              <a:t>   </a:t>
            </a:r>
            <a:r>
              <a:rPr b="1" lang="zh-CN" sz="2400" spc="-1" strike="noStrike">
                <a:solidFill>
                  <a:srgbClr val="333399"/>
                </a:solidFill>
                <a:latin typeface="楷体_GB2312"/>
              </a:rPr>
              <a:t>形、字义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楷体_GB2312"/>
              </a:rPr>
              <a:t>2</a:t>
            </a:r>
            <a:r>
              <a:rPr b="1" lang="zh-CN" sz="2400" spc="-1" strike="noStrike">
                <a:solidFill>
                  <a:srgbClr val="333399"/>
                </a:solidFill>
                <a:latin typeface="楷体_GB2312"/>
              </a:rPr>
              <a:t>、能正确、流利的朗读课文，懂得寓言故事的寓意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"/>
          <p:cNvSpPr/>
          <p:nvPr/>
        </p:nvSpPr>
        <p:spPr>
          <a:xfrm>
            <a:off x="3244680" y="838080"/>
            <a:ext cx="551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</a:rPr>
              <a:t>小组讨论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304920" y="1752480"/>
            <a:ext cx="83818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楷体_GB2312"/>
              </a:rPr>
              <a:t>1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</a:rPr>
              <a:t>、朗读课文找出</a:t>
            </a:r>
            <a:r>
              <a:rPr b="1" lang="en-US" sz="2800" spc="-1" strike="noStrike">
                <a:solidFill>
                  <a:srgbClr val="333399"/>
                </a:solidFill>
                <a:latin typeface="楷体_GB2312"/>
              </a:rPr>
              <a:t>《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</a:rPr>
              <a:t>狐假虎威</a:t>
            </a:r>
            <a:r>
              <a:rPr b="1" lang="en-US" sz="2800" spc="-1" strike="noStrike">
                <a:solidFill>
                  <a:srgbClr val="333399"/>
                </a:solidFill>
                <a:latin typeface="楷体_GB2312"/>
              </a:rPr>
              <a:t>》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</a:rPr>
              <a:t>中要学习的生字圈出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楷体_GB2312"/>
              </a:rPr>
              <a:t>   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</a:rPr>
              <a:t>来，不认识的字查字典读熟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楷体_GB2312"/>
              </a:rPr>
              <a:t>2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</a:rPr>
              <a:t>、找出</a:t>
            </a:r>
            <a:r>
              <a:rPr b="1" lang="en-US" sz="2800" spc="-1" strike="noStrike">
                <a:solidFill>
                  <a:srgbClr val="333399"/>
                </a:solidFill>
                <a:latin typeface="楷体_GB2312"/>
              </a:rPr>
              <a:t>《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</a:rPr>
              <a:t>狐假虎威</a:t>
            </a:r>
            <a:r>
              <a:rPr b="1" lang="en-US" sz="2800" spc="-1" strike="noStrike">
                <a:solidFill>
                  <a:srgbClr val="333399"/>
                </a:solidFill>
                <a:latin typeface="楷体_GB2312"/>
              </a:rPr>
              <a:t>》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</a:rPr>
              <a:t>中的多音字，并写在书上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楷体_GB2312"/>
              </a:rPr>
              <a:t>3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</a:rPr>
              <a:t>、查字典弄懂狐假虎威中</a:t>
            </a: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“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</a:rPr>
              <a:t>假</a:t>
            </a: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”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</a:rPr>
              <a:t>字的意思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楷体_GB2312"/>
              </a:rPr>
              <a:t>4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</a:rPr>
              <a:t>、课文中主要讲了一件什么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5"/>
          <p:cNvSpPr/>
          <p:nvPr/>
        </p:nvSpPr>
        <p:spPr>
          <a:xfrm>
            <a:off x="304920" y="3307680"/>
            <a:ext cx="85341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　有一只老虎，在山林中捉到了一只狐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狸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lí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，要吃掉它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　狐狸对老虎说：“我是老天爷派来做百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兽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shòu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之王的，你如果吃了我，就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违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wéi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抗了老天爷的命令，一定会受到惩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hénɡ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罚的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　老虎对狐狸说的话，有些不信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　狐狸又说：“如果你不相信我的话，你就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跟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ɡēn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我到山林里走一趟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tànɡ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。你可以看到，各种野兽见了我都会害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怕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pà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的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6"/>
          <p:cNvSpPr/>
          <p:nvPr/>
        </p:nvSpPr>
        <p:spPr>
          <a:xfrm>
            <a:off x="2729520" y="6858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狐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假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虎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6"/>
          <p:cNvSpPr/>
          <p:nvPr/>
        </p:nvSpPr>
        <p:spPr>
          <a:xfrm>
            <a:off x="304920" y="1247040"/>
            <a:ext cx="85341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　老虎同意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　于是，狐狸在前面走，老虎紧跟在后面，一路向山林深处走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　山林里的野兽见了，都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纷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fēn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纷逃命。狐狸得意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洋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yánɡ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洋地对老虎说：“怎么样？你看，各种野兽都怕我吧？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　老虎不知道这些野兽是怕自己才逃跑的，还以为它们真的怕狐狸呢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矩形 7"/>
          <p:cNvSpPr/>
          <p:nvPr/>
        </p:nvSpPr>
        <p:spPr>
          <a:xfrm>
            <a:off x="985680" y="3200400"/>
            <a:ext cx="735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2"/>
          <p:cNvSpPr/>
          <p:nvPr/>
        </p:nvSpPr>
        <p:spPr>
          <a:xfrm>
            <a:off x="304920" y="3307680"/>
            <a:ext cx="85341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　有一只老虎，在山林中捉到了一只狐狸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lí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，要吃掉它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　狐狸对老虎说：“我是老天爷派来做百兽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shòu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之王的，你如果吃了我，就违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wéi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抗了老天爷的命令，一定会受到惩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hénɡ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罚的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　老虎对狐狸说的话，有些不信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　狐狸又说：“如果你不相信我的话，你就跟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ɡēn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我到山林里走一趟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tànɡ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。你可以看到，各种野兽见了我都会害怕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pà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的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2729520" y="6858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狐假虎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5"/>
          <p:cNvSpPr/>
          <p:nvPr/>
        </p:nvSpPr>
        <p:spPr>
          <a:xfrm>
            <a:off x="457200" y="685800"/>
            <a:ext cx="4114800" cy="1905120"/>
          </a:xfrm>
          <a:prstGeom prst="cloudCallout">
            <a:avLst>
              <a:gd name="adj1" fmla="val -45486"/>
              <a:gd name="adj2" fmla="val 72416"/>
            </a:avLst>
          </a:prstGeom>
          <a:solidFill>
            <a:srgbClr val="00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　　从课文中哪些地方可以看出狐狸很狡猾？哪些地方看出老虎很愚蠢呢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2"/>
          <p:cNvSpPr/>
          <p:nvPr/>
        </p:nvSpPr>
        <p:spPr>
          <a:xfrm>
            <a:off x="304920" y="1247040"/>
            <a:ext cx="85341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　老虎同意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　于是，狐狸在前面走，老虎紧跟在后面，一路向山林深处走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　山林里的野兽见了，都纷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fēn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纷逃命。狐狸得意洋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yánɡ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洋地对老虎说：“怎么样？你看，各种野兽都怕我吧？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　老虎不知道这些野兽是怕自己才逃跑的，还以为它们真的怕狐狸呢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3"/>
          <p:cNvSpPr/>
          <p:nvPr/>
        </p:nvSpPr>
        <p:spPr>
          <a:xfrm>
            <a:off x="4952880" y="4114800"/>
            <a:ext cx="3124440" cy="1828800"/>
          </a:xfrm>
          <a:prstGeom prst="cloudCallout">
            <a:avLst>
              <a:gd name="adj1" fmla="val 65449"/>
              <a:gd name="adj2" fmla="val 67884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　　森林中的百兽纷纷逃命，到底是怕谁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4"/>
          <p:cNvSpPr/>
          <p:nvPr/>
        </p:nvSpPr>
        <p:spPr>
          <a:xfrm>
            <a:off x="1836720" y="3087720"/>
            <a:ext cx="44748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Arial"/>
              </a:rPr>
              <a:t>狐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5"/>
          <p:cNvSpPr/>
          <p:nvPr/>
        </p:nvSpPr>
        <p:spPr>
          <a:xfrm>
            <a:off x="4351320" y="3087720"/>
            <a:ext cx="44748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Arial"/>
              </a:rPr>
              <a:t>虎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6"/>
          <p:cNvSpPr/>
          <p:nvPr/>
        </p:nvSpPr>
        <p:spPr>
          <a:xfrm>
            <a:off x="5551560" y="2676600"/>
            <a:ext cx="71424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Arial"/>
              </a:rPr>
              <a:t>吓跑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7"/>
          <p:cNvSpPr/>
          <p:nvPr/>
        </p:nvSpPr>
        <p:spPr>
          <a:xfrm>
            <a:off x="6878520" y="3087720"/>
            <a:ext cx="71424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Arial"/>
              </a:rPr>
              <a:t>百兽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8"/>
          <p:cNvSpPr/>
          <p:nvPr/>
        </p:nvSpPr>
        <p:spPr>
          <a:xfrm>
            <a:off x="2584440" y="342900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9"/>
          <p:cNvSpPr/>
          <p:nvPr/>
        </p:nvSpPr>
        <p:spPr>
          <a:xfrm>
            <a:off x="5181480" y="34290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1"/>
          <p:cNvSpPr/>
          <p:nvPr/>
        </p:nvSpPr>
        <p:spPr>
          <a:xfrm>
            <a:off x="3116160" y="2619360"/>
            <a:ext cx="44748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Arial"/>
              </a:rPr>
              <a:t>借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500"/>
                            </p:stCondLst>
                            <p:childTnLst>
                              <p:par>
                                <p:cTn id="53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AutoShape 4"/>
          <p:cNvSpPr/>
          <p:nvPr/>
        </p:nvSpPr>
        <p:spPr>
          <a:xfrm>
            <a:off x="1714680" y="1676520"/>
            <a:ext cx="5715000" cy="342900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讨论：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　　想想老虎发现自己被狐狸骗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了之后，再一次碰到狐狸，它们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之间又会发生什么样的故事呢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26T05:06:56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0:55:37Z</dcterms:modified>
  <cp:revision>96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  <property fmtid="{D5CDD505-2E9C-101B-9397-08002B2CF9AE}" pid="3" name="Version">
    <vt:r8>1</vt:r8>
  </property>
</Properties>
</file>