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6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5.png" ContentType="image/png"/>
  <Override PartName="/ppt/media/image14.png" ContentType="image/png"/>
  <Override PartName="/ppt/media/image16.png" ContentType="image/png"/>
  <Override PartName="/ppt/media/image29.png" ContentType="image/png"/>
  <Override PartName="/ppt/media/chimes.wav" ContentType="audio/x-wav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0F6B-1940-4707-9B1F-D447F5C02B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BB1E-237E-4F04-940B-1F09752A0F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A7C-D7A6-4F7A-9CD0-F340A672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DFF-90BA-43C7-8F4B-D711450C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6A7-C773-45C3-B671-4ED33E8E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BC2-C60E-454A-BF48-34E65EF4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7B0-D530-4787-BC76-9CDFF065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31F-0F9D-4AB2-9090-AC6B9D68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1162-1AC4-4278-8105-7830E166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FF4-AD6F-4654-A495-61F4D9C0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66F-7FCE-489B-B91A-5D25F3ED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A19A-F770-4045-81CA-C6FCF255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0EC-41D1-4BFB-927C-79A212D9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531-D2DB-4608-A6F7-F68585D6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6D5F-D6F2-4B95-A29D-34313A1D40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hyperlink" Target="file:///../../&#35838;&#20214;&#30446;&#24405;B.ppt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file:///../../&#35838;&#20214;&#30446;&#24405;B.ppt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66720" y="1160640"/>
            <a:ext cx="593568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虎口藏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232000" y="1881360"/>
            <a:ext cx="582768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1312560" y="5952960"/>
            <a:ext cx="65192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2"/>
          <p:cNvGrpSpPr/>
          <p:nvPr/>
        </p:nvGrpSpPr>
        <p:grpSpPr>
          <a:xfrm>
            <a:off x="1079640" y="728640"/>
            <a:ext cx="6948360" cy="2555280"/>
            <a:chOff x="1079640" y="728640"/>
            <a:chExt cx="6948360" cy="2555280"/>
          </a:xfrm>
        </p:grpSpPr>
        <p:grpSp>
          <p:nvGrpSpPr>
            <p:cNvPr id="618" name="Group 3"/>
            <p:cNvGrpSpPr/>
            <p:nvPr/>
          </p:nvGrpSpPr>
          <p:grpSpPr>
            <a:xfrm>
              <a:off x="1079640" y="728640"/>
              <a:ext cx="417600" cy="2555280"/>
              <a:chOff x="1079640" y="728640"/>
              <a:chExt cx="417600" cy="2555280"/>
            </a:xfrm>
          </p:grpSpPr>
          <p:sp>
            <p:nvSpPr>
              <p:cNvPr id="619" name="Oval 218"/>
              <p:cNvSpPr/>
              <p:nvPr/>
            </p:nvSpPr>
            <p:spPr>
              <a:xfrm>
                <a:off x="1079640" y="728640"/>
                <a:ext cx="417600" cy="5529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158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Oval 219"/>
              <p:cNvSpPr/>
              <p:nvPr/>
            </p:nvSpPr>
            <p:spPr>
              <a:xfrm>
                <a:off x="1092240" y="764280"/>
                <a:ext cx="393840" cy="47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Oval 220"/>
              <p:cNvSpPr/>
              <p:nvPr/>
            </p:nvSpPr>
            <p:spPr>
              <a:xfrm>
                <a:off x="1114560" y="802080"/>
                <a:ext cx="345960" cy="416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AutoShape 221"/>
              <p:cNvSpPr/>
              <p:nvPr/>
            </p:nvSpPr>
            <p:spPr>
              <a:xfrm rot="720000">
                <a:off x="1190520" y="862560"/>
                <a:ext cx="195120" cy="254520"/>
              </a:xfrm>
              <a:custGeom>
                <a:avLst/>
                <a:gdLst/>
                <a:ahLst/>
                <a:rect l="l" t="t" r="r" b="b"/>
                <a:pathLst>
                  <a:path w="123" h="121">
                    <a:moveTo>
                      <a:pt x="0" y="46"/>
                    </a:moveTo>
                    <a:lnTo>
                      <a:pt x="47" y="46"/>
                    </a:lnTo>
                    <a:lnTo>
                      <a:pt x="62" y="0"/>
                    </a:lnTo>
                    <a:lnTo>
                      <a:pt x="76" y="46"/>
                    </a:lnTo>
                    <a:lnTo>
                      <a:pt x="123" y="46"/>
                    </a:lnTo>
                    <a:lnTo>
                      <a:pt x="85" y="75"/>
                    </a:lnTo>
                    <a:lnTo>
                      <a:pt x="100" y="121"/>
                    </a:lnTo>
                    <a:lnTo>
                      <a:pt x="62" y="92"/>
                    </a:lnTo>
                    <a:lnTo>
                      <a:pt x="23" y="121"/>
                    </a:lnTo>
                    <a:lnTo>
                      <a:pt x="38" y="75"/>
                    </a:lnTo>
                    <a:lnTo>
                      <a:pt x="0" y="46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Oval 222"/>
              <p:cNvSpPr/>
              <p:nvPr/>
            </p:nvSpPr>
            <p:spPr>
              <a:xfrm>
                <a:off x="1122480" y="3149640"/>
                <a:ext cx="316080" cy="1342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23"/>
              <p:cNvSpPr/>
              <p:nvPr/>
            </p:nvSpPr>
            <p:spPr>
              <a:xfrm>
                <a:off x="1195560" y="1281600"/>
                <a:ext cx="85680" cy="1772640"/>
              </a:xfrm>
              <a:custGeom>
                <a:avLst/>
                <a:gdLst/>
                <a:ahLst/>
                <a:rect l="l" t="t" r="r" b="b"/>
                <a:pathLst>
                  <a:path w="151" h="2291">
                    <a:moveTo>
                      <a:pt x="105" y="0"/>
                    </a:moveTo>
                    <a:cubicBezTo>
                      <a:pt x="90" y="70"/>
                      <a:pt x="75" y="140"/>
                      <a:pt x="60" y="295"/>
                    </a:cubicBezTo>
                    <a:cubicBezTo>
                      <a:pt x="45" y="450"/>
                      <a:pt x="0" y="597"/>
                      <a:pt x="15" y="930"/>
                    </a:cubicBezTo>
                    <a:cubicBezTo>
                      <a:pt x="30" y="1263"/>
                      <a:pt x="121" y="2068"/>
                      <a:pt x="151" y="2291"/>
                    </a:cubicBezTo>
                  </a:path>
                </a:pathLst>
              </a:custGeom>
              <a:noFill/>
              <a:ln w="3492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" name="Group 10"/>
              <p:cNvGrpSpPr/>
              <p:nvPr/>
            </p:nvGrpSpPr>
            <p:grpSpPr>
              <a:xfrm>
                <a:off x="1224000" y="3035520"/>
                <a:ext cx="114480" cy="172080"/>
                <a:chOff x="1224000" y="3035520"/>
                <a:chExt cx="114480" cy="172080"/>
              </a:xfrm>
            </p:grpSpPr>
            <p:sp>
              <p:nvSpPr>
                <p:cNvPr id="626" name="Freeform 238"/>
                <p:cNvSpPr/>
                <p:nvPr/>
              </p:nvSpPr>
              <p:spPr>
                <a:xfrm>
                  <a:off x="1224000" y="3035520"/>
                  <a:ext cx="114480" cy="86400"/>
                </a:xfrm>
                <a:custGeom>
                  <a:avLst/>
                  <a:gdLst/>
                  <a:ahLst/>
                  <a:rect l="l" t="t" r="r" b="b"/>
                  <a:pathLst>
                    <a:path w="839" h="485">
                      <a:moveTo>
                        <a:pt x="250" y="9"/>
                      </a:moveTo>
                      <a:lnTo>
                        <a:pt x="545" y="0"/>
                      </a:lnTo>
                      <a:lnTo>
                        <a:pt x="839" y="485"/>
                      </a:lnTo>
                      <a:lnTo>
                        <a:pt x="0" y="485"/>
                      </a:lnTo>
                      <a:lnTo>
                        <a:pt x="250" y="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343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Rectangle 239"/>
                <p:cNvSpPr/>
                <p:nvPr/>
              </p:nvSpPr>
              <p:spPr>
                <a:xfrm>
                  <a:off x="1224000" y="3121920"/>
                  <a:ext cx="114480" cy="85680"/>
                </a:xfrm>
                <a:prstGeom prst="rect">
                  <a:avLst/>
                </a:pr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8" name="AutoShape 242"/>
            <p:cNvSpPr/>
            <p:nvPr/>
          </p:nvSpPr>
          <p:spPr>
            <a:xfrm>
              <a:off x="1187640" y="968400"/>
              <a:ext cx="6840360" cy="228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3ccff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Rectangle 271"/>
          <p:cNvSpPr/>
          <p:nvPr/>
        </p:nvSpPr>
        <p:spPr>
          <a:xfrm>
            <a:off x="1655640" y="1197000"/>
            <a:ext cx="6301080" cy="13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纳塔莉，你的父母呢？“威廉叔叔看上去既疲惫不堪，又忧心忡忡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72"/>
          <p:cNvSpPr/>
          <p:nvPr/>
        </p:nvSpPr>
        <p:spPr>
          <a:xfrm>
            <a:off x="1079640" y="4005360"/>
            <a:ext cx="21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疲惫不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忧心忡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7"/>
          <p:cNvSpPr/>
          <p:nvPr/>
        </p:nvSpPr>
        <p:spPr>
          <a:xfrm>
            <a:off x="792000" y="2744640"/>
            <a:ext cx="6357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、疲惫不堪、忧心忡忡的意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8"/>
          <p:cNvSpPr/>
          <p:nvPr/>
        </p:nvSpPr>
        <p:spPr>
          <a:xfrm>
            <a:off x="1295280" y="3357720"/>
            <a:ext cx="6913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、为什么威廉叔叔会疲惫不堪、忧心忡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9"/>
          <p:cNvSpPr/>
          <p:nvPr/>
        </p:nvSpPr>
        <p:spPr>
          <a:xfrm>
            <a:off x="3060720" y="4149720"/>
            <a:ext cx="18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非常疲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0"/>
          <p:cNvSpPr/>
          <p:nvPr/>
        </p:nvSpPr>
        <p:spPr>
          <a:xfrm>
            <a:off x="3451680" y="468936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十分担忧的样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1"/>
          <p:cNvSpPr/>
          <p:nvPr/>
        </p:nvSpPr>
        <p:spPr>
          <a:xfrm>
            <a:off x="47520" y="5300640"/>
            <a:ext cx="8016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疲惫不堪是因为威廉叔叔被歹徒折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忧心忡忡是因为担心证据——胶卷会被夺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AutoShape 7"/>
          <p:cNvSpPr/>
          <p:nvPr/>
        </p:nvSpPr>
        <p:spPr>
          <a:xfrm>
            <a:off x="343080" y="774720"/>
            <a:ext cx="8610480" cy="5765760"/>
          </a:xfrm>
          <a:prstGeom prst="roundRect">
            <a:avLst>
              <a:gd name="adj" fmla="val 4764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9"/>
          <p:cNvSpPr/>
          <p:nvPr/>
        </p:nvSpPr>
        <p:spPr>
          <a:xfrm>
            <a:off x="1116000" y="130500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“胶卷是什么宝物呢？”纳塔莉想，“难道是威廉叔叔是同我开玩笑吗？他为什么又让我再把它藏起来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2"/>
          <p:cNvSpPr/>
          <p:nvPr/>
        </p:nvSpPr>
        <p:spPr>
          <a:xfrm>
            <a:off x="1079640" y="4400640"/>
            <a:ext cx="76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纳塔莉回过头去，凝视着陶瓷虎那双黄玉般的眼睛。突然，她仿佛觉得有一只虎眼朝她眨了一下，好像在说：“真有你的，纳塔莉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4"/>
          <p:cNvSpPr/>
          <p:nvPr/>
        </p:nvSpPr>
        <p:spPr>
          <a:xfrm>
            <a:off x="1079640" y="2781360"/>
            <a:ext cx="73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、胶卷！纳塔莉有点儿心虚的在口袋里摸摸。“原来他们是在找这玩意儿！为什么呀？他们肯定不是好人。我得把胶卷快藏起来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9"/>
          <p:cNvSpPr/>
          <p:nvPr/>
        </p:nvSpPr>
        <p:spPr>
          <a:xfrm>
            <a:off x="3059280" y="476280"/>
            <a:ext cx="3384360" cy="612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cap="rnd" w="3816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311640" y="485280"/>
            <a:ext cx="3132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心理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8"/>
          <p:cNvGrpSpPr/>
          <p:nvPr/>
        </p:nvGrpSpPr>
        <p:grpSpPr>
          <a:xfrm>
            <a:off x="8317080" y="3500280"/>
            <a:ext cx="576000" cy="2038320"/>
            <a:chOff x="8317080" y="3500280"/>
            <a:chExt cx="576000" cy="2038320"/>
          </a:xfrm>
        </p:grpSpPr>
        <p:sp>
          <p:nvSpPr>
            <p:cNvPr id="643" name="Oval 61"/>
            <p:cNvSpPr/>
            <p:nvPr/>
          </p:nvSpPr>
          <p:spPr>
            <a:xfrm flipH="1">
              <a:off x="8317080" y="3500280"/>
              <a:ext cx="576000" cy="4413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62"/>
            <p:cNvSpPr/>
            <p:nvPr/>
          </p:nvSpPr>
          <p:spPr>
            <a:xfrm flipH="1">
              <a:off x="8331840" y="3528720"/>
              <a:ext cx="542520" cy="379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63"/>
            <p:cNvSpPr/>
            <p:nvPr/>
          </p:nvSpPr>
          <p:spPr>
            <a:xfrm flipH="1">
              <a:off x="8367480" y="3558960"/>
              <a:ext cx="477360" cy="33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64"/>
            <p:cNvSpPr/>
            <p:nvPr/>
          </p:nvSpPr>
          <p:spPr>
            <a:xfrm flipH="1" rot="20880000">
              <a:off x="8470080" y="3608280"/>
              <a:ext cx="267840" cy="202680"/>
            </a:xfrm>
            <a:custGeom>
              <a:avLst/>
              <a:gdLst/>
              <a:ahLst/>
              <a:rect l="l" t="t" r="r" b="b"/>
              <a:pathLst>
                <a:path w="169" h="128">
                  <a:moveTo>
                    <a:pt x="0" y="49"/>
                  </a:moveTo>
                  <a:lnTo>
                    <a:pt x="65" y="49"/>
                  </a:lnTo>
                  <a:lnTo>
                    <a:pt x="85" y="0"/>
                  </a:lnTo>
                  <a:lnTo>
                    <a:pt x="104" y="49"/>
                  </a:lnTo>
                  <a:lnTo>
                    <a:pt x="169" y="49"/>
                  </a:lnTo>
                  <a:lnTo>
                    <a:pt x="117" y="79"/>
                  </a:lnTo>
                  <a:lnTo>
                    <a:pt x="137" y="128"/>
                  </a:lnTo>
                  <a:lnTo>
                    <a:pt x="85" y="98"/>
                  </a:lnTo>
                  <a:lnTo>
                    <a:pt x="32" y="128"/>
                  </a:lnTo>
                  <a:lnTo>
                    <a:pt x="52" y="79"/>
                  </a:lnTo>
                  <a:lnTo>
                    <a:pt x="0" y="49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65"/>
            <p:cNvSpPr/>
            <p:nvPr/>
          </p:nvSpPr>
          <p:spPr>
            <a:xfrm flipH="1">
              <a:off x="8397720" y="5430600"/>
              <a:ext cx="436320" cy="108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66"/>
            <p:cNvSpPr/>
            <p:nvPr/>
          </p:nvSpPr>
          <p:spPr>
            <a:xfrm flipH="1">
              <a:off x="8630280" y="3931920"/>
              <a:ext cx="117000" cy="1424160"/>
            </a:xfrm>
            <a:custGeom>
              <a:avLst/>
              <a:gdLst/>
              <a:ahLst/>
              <a:rect l="l" t="t" r="r" b="b"/>
              <a:pathLst>
                <a:path w="151" h="2291">
                  <a:moveTo>
                    <a:pt x="105" y="0"/>
                  </a:moveTo>
                  <a:cubicBezTo>
                    <a:pt x="90" y="70"/>
                    <a:pt x="75" y="140"/>
                    <a:pt x="60" y="295"/>
                  </a:cubicBezTo>
                  <a:cubicBezTo>
                    <a:pt x="45" y="450"/>
                    <a:pt x="0" y="597"/>
                    <a:pt x="15" y="930"/>
                  </a:cubicBezTo>
                  <a:cubicBezTo>
                    <a:pt x="30" y="1263"/>
                    <a:pt x="121" y="2068"/>
                    <a:pt x="151" y="2291"/>
                  </a:cubicBezTo>
                </a:path>
              </a:pathLst>
            </a:custGeom>
            <a:noFill/>
            <a:ln w="3492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15"/>
            <p:cNvGrpSpPr/>
            <p:nvPr/>
          </p:nvGrpSpPr>
          <p:grpSpPr>
            <a:xfrm>
              <a:off x="8535600" y="5340240"/>
              <a:ext cx="156600" cy="138240"/>
              <a:chOff x="8535600" y="5340240"/>
              <a:chExt cx="156600" cy="138240"/>
            </a:xfrm>
          </p:grpSpPr>
          <p:sp>
            <p:nvSpPr>
              <p:cNvPr id="650" name="Freeform 68"/>
              <p:cNvSpPr/>
              <p:nvPr/>
            </p:nvSpPr>
            <p:spPr>
              <a:xfrm flipH="1">
                <a:off x="8535240" y="5340240"/>
                <a:ext cx="156600" cy="69480"/>
              </a:xfrm>
              <a:custGeom>
                <a:avLst/>
                <a:gdLst/>
                <a:ahLst/>
                <a:rect l="l" t="t" r="r" b="b"/>
                <a:pathLst>
                  <a:path w="839" h="485">
                    <a:moveTo>
                      <a:pt x="250" y="9"/>
                    </a:moveTo>
                    <a:lnTo>
                      <a:pt x="545" y="0"/>
                    </a:lnTo>
                    <a:lnTo>
                      <a:pt x="839" y="485"/>
                    </a:lnTo>
                    <a:lnTo>
                      <a:pt x="0" y="485"/>
                    </a:lnTo>
                    <a:lnTo>
                      <a:pt x="250" y="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69"/>
              <p:cNvSpPr/>
              <p:nvPr/>
            </p:nvSpPr>
            <p:spPr>
              <a:xfrm flipH="1">
                <a:off x="8535240" y="5409720"/>
                <a:ext cx="156600" cy="68760"/>
              </a:xfrm>
              <a:prstGeom prst="rect">
                <a:avLst/>
              </a:pr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纳塔利心理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胶卷是什么宝物呢？”纳塔 利想，“难道是威廉叔叔是同我开玩笑吗？他为什么又让我再把它藏起来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问题：可以看出纳塔莉是一个什么样的小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纳塔莉是一个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天真，爱动脑筋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的小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纳塔利心理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胶卷！纳塔莉有点儿心虚的在口袋里摸摸。“原来他们是在找这玩意儿！为什么呀？他们肯定不是好人。我得把胶卷快藏起来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问题：可以看出纳塔莉有什么样的品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机敏、果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纳塔利心理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31280" y="1917720"/>
            <a:ext cx="8533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纳塔莉回过头去，凝视着陶瓷虎那双黄玉般的眼睛。突然，她仿佛觉得有一只虎眼朝她眨了一下，好像在说：“真有你的，纳塔莉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用自己的智慧和勇敢保护了胶卷而产生的自豪感和成就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2"/>
          <p:cNvGrpSpPr/>
          <p:nvPr/>
        </p:nvGrpSpPr>
        <p:grpSpPr>
          <a:xfrm>
            <a:off x="0" y="4056120"/>
            <a:ext cx="2604960" cy="2360520"/>
            <a:chOff x="0" y="4056120"/>
            <a:chExt cx="2604960" cy="2360520"/>
          </a:xfrm>
        </p:grpSpPr>
        <p:sp>
          <p:nvSpPr>
            <p:cNvPr id="659" name="Oval 18"/>
            <p:cNvSpPr/>
            <p:nvPr/>
          </p:nvSpPr>
          <p:spPr>
            <a:xfrm>
              <a:off x="0" y="5783400"/>
              <a:ext cx="2604960" cy="633240"/>
            </a:xfrm>
            <a:prstGeom prst="ellipse">
              <a:avLst/>
            </a:prstGeom>
            <a:gradFill rotWithShape="0">
              <a:gsLst>
                <a:gs pos="0">
                  <a:srgbClr val="005e5c">
                    <a:alpha val="60000"/>
                  </a:srgbClr>
                </a:gs>
                <a:gs pos="100000">
                  <a:srgbClr val="00363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19"/>
            <p:cNvSpPr/>
            <p:nvPr/>
          </p:nvSpPr>
          <p:spPr>
            <a:xfrm>
              <a:off x="301680" y="4056120"/>
              <a:ext cx="417600" cy="417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20"/>
            <p:cNvSpPr/>
            <p:nvPr/>
          </p:nvSpPr>
          <p:spPr>
            <a:xfrm>
              <a:off x="314280" y="4083120"/>
              <a:ext cx="393840" cy="35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21"/>
            <p:cNvSpPr/>
            <p:nvPr/>
          </p:nvSpPr>
          <p:spPr>
            <a:xfrm>
              <a:off x="336600" y="4111560"/>
              <a:ext cx="345960" cy="31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AutoShape 22"/>
            <p:cNvSpPr/>
            <p:nvPr/>
          </p:nvSpPr>
          <p:spPr>
            <a:xfrm rot="720000">
              <a:off x="412560" y="4157280"/>
              <a:ext cx="195120" cy="192240"/>
            </a:xfrm>
            <a:custGeom>
              <a:avLst/>
              <a:gdLst/>
              <a:ahLst/>
              <a:rect l="l" t="t" r="r" b="b"/>
              <a:pathLst>
                <a:path w="123" h="121">
                  <a:moveTo>
                    <a:pt x="0" y="46"/>
                  </a:moveTo>
                  <a:lnTo>
                    <a:pt x="47" y="46"/>
                  </a:lnTo>
                  <a:lnTo>
                    <a:pt x="62" y="0"/>
                  </a:lnTo>
                  <a:lnTo>
                    <a:pt x="76" y="46"/>
                  </a:lnTo>
                  <a:lnTo>
                    <a:pt x="123" y="46"/>
                  </a:lnTo>
                  <a:lnTo>
                    <a:pt x="85" y="75"/>
                  </a:lnTo>
                  <a:lnTo>
                    <a:pt x="100" y="121"/>
                  </a:lnTo>
                  <a:lnTo>
                    <a:pt x="62" y="92"/>
                  </a:lnTo>
                  <a:lnTo>
                    <a:pt x="23" y="121"/>
                  </a:lnTo>
                  <a:lnTo>
                    <a:pt x="38" y="75"/>
                  </a:lnTo>
                  <a:lnTo>
                    <a:pt x="0" y="46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23"/>
            <p:cNvSpPr/>
            <p:nvPr/>
          </p:nvSpPr>
          <p:spPr>
            <a:xfrm>
              <a:off x="344520" y="5883480"/>
              <a:ext cx="315720" cy="10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4"/>
            <p:cNvSpPr/>
            <p:nvPr/>
          </p:nvSpPr>
          <p:spPr>
            <a:xfrm>
              <a:off x="417600" y="4473720"/>
              <a:ext cx="85680" cy="1338120"/>
            </a:xfrm>
            <a:custGeom>
              <a:avLst/>
              <a:gdLst/>
              <a:ahLst/>
              <a:rect l="l" t="t" r="r" b="b"/>
              <a:pathLst>
                <a:path w="151" h="2291">
                  <a:moveTo>
                    <a:pt x="105" y="0"/>
                  </a:moveTo>
                  <a:cubicBezTo>
                    <a:pt x="90" y="70"/>
                    <a:pt x="75" y="140"/>
                    <a:pt x="60" y="295"/>
                  </a:cubicBezTo>
                  <a:cubicBezTo>
                    <a:pt x="45" y="450"/>
                    <a:pt x="0" y="597"/>
                    <a:pt x="15" y="930"/>
                  </a:cubicBezTo>
                  <a:cubicBezTo>
                    <a:pt x="30" y="1263"/>
                    <a:pt x="121" y="2068"/>
                    <a:pt x="151" y="2291"/>
                  </a:cubicBezTo>
                </a:path>
              </a:pathLst>
            </a:custGeom>
            <a:noFill/>
            <a:ln w="3492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Group 10"/>
            <p:cNvGrpSpPr/>
            <p:nvPr/>
          </p:nvGrpSpPr>
          <p:grpSpPr>
            <a:xfrm>
              <a:off x="446040" y="5797440"/>
              <a:ext cx="114480" cy="130320"/>
              <a:chOff x="446040" y="5797440"/>
              <a:chExt cx="114480" cy="130320"/>
            </a:xfrm>
          </p:grpSpPr>
          <p:sp>
            <p:nvSpPr>
              <p:cNvPr id="667" name="Freeform 39"/>
              <p:cNvSpPr/>
              <p:nvPr/>
            </p:nvSpPr>
            <p:spPr>
              <a:xfrm>
                <a:off x="446040" y="5797440"/>
                <a:ext cx="114480" cy="65520"/>
              </a:xfrm>
              <a:custGeom>
                <a:avLst/>
                <a:gdLst/>
                <a:ahLst/>
                <a:rect l="l" t="t" r="r" b="b"/>
                <a:pathLst>
                  <a:path w="839" h="485">
                    <a:moveTo>
                      <a:pt x="250" y="9"/>
                    </a:moveTo>
                    <a:lnTo>
                      <a:pt x="545" y="0"/>
                    </a:lnTo>
                    <a:lnTo>
                      <a:pt x="839" y="485"/>
                    </a:lnTo>
                    <a:lnTo>
                      <a:pt x="0" y="485"/>
                    </a:lnTo>
                    <a:lnTo>
                      <a:pt x="250" y="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40"/>
              <p:cNvSpPr/>
              <p:nvPr/>
            </p:nvSpPr>
            <p:spPr>
              <a:xfrm>
                <a:off x="446040" y="5862960"/>
                <a:ext cx="114480" cy="64800"/>
              </a:xfrm>
              <a:prstGeom prst="rect">
                <a:avLst/>
              </a:pr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13"/>
            <p:cNvGrpSpPr/>
            <p:nvPr/>
          </p:nvGrpSpPr>
          <p:grpSpPr>
            <a:xfrm>
              <a:off x="676440" y="4343400"/>
              <a:ext cx="511560" cy="1866960"/>
              <a:chOff x="676440" y="4343400"/>
              <a:chExt cx="511560" cy="1866960"/>
            </a:xfrm>
          </p:grpSpPr>
          <p:sp>
            <p:nvSpPr>
              <p:cNvPr id="670" name="AutoShape 42"/>
              <p:cNvSpPr/>
              <p:nvPr/>
            </p:nvSpPr>
            <p:spPr>
              <a:xfrm>
                <a:off x="748080" y="6009120"/>
                <a:ext cx="345960" cy="201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Oval 43"/>
              <p:cNvSpPr/>
              <p:nvPr/>
            </p:nvSpPr>
            <p:spPr>
              <a:xfrm>
                <a:off x="834480" y="6036840"/>
                <a:ext cx="172440" cy="100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AutoShape 44"/>
              <p:cNvSpPr/>
              <p:nvPr/>
            </p:nvSpPr>
            <p:spPr>
              <a:xfrm flipH="1" rot="8443200">
                <a:off x="861840" y="6037200"/>
                <a:ext cx="44280" cy="11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593" y="21600"/>
                    </a:lnTo>
                    <a:lnTo>
                      <a:pt x="1800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AutoShape 45"/>
              <p:cNvSpPr/>
              <p:nvPr/>
            </p:nvSpPr>
            <p:spPr>
              <a:xfrm>
                <a:off x="828720" y="5907240"/>
                <a:ext cx="47520" cy="15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494" y="21600"/>
                    </a:lnTo>
                    <a:lnTo>
                      <a:pt x="181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ebd"/>
                  </a:gs>
                  <a:gs pos="100000">
                    <a:srgbClr val="fff1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Oval 46"/>
              <p:cNvSpPr/>
              <p:nvPr/>
            </p:nvSpPr>
            <p:spPr>
              <a:xfrm>
                <a:off x="822960" y="6037560"/>
                <a:ext cx="40320" cy="43200"/>
              </a:xfrm>
              <a:prstGeom prst="ellipse">
                <a:avLst/>
              </a:prstGeom>
              <a:gradFill rotWithShape="0">
                <a:gsLst>
                  <a:gs pos="0">
                    <a:srgbClr val="ffecd9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AutoShape 47"/>
              <p:cNvSpPr/>
              <p:nvPr/>
            </p:nvSpPr>
            <p:spPr>
              <a:xfrm rot="13156800">
                <a:off x="933840" y="6036840"/>
                <a:ext cx="44280" cy="135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593" y="21600"/>
                    </a:lnTo>
                    <a:lnTo>
                      <a:pt x="1800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AutoShape 48"/>
              <p:cNvSpPr/>
              <p:nvPr/>
            </p:nvSpPr>
            <p:spPr>
              <a:xfrm flipH="1">
                <a:off x="965880" y="5905080"/>
                <a:ext cx="52560" cy="15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494" y="21600"/>
                    </a:lnTo>
                    <a:lnTo>
                      <a:pt x="181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ebd"/>
                  </a:gs>
                  <a:gs pos="100000">
                    <a:srgbClr val="fff1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Oval 49"/>
              <p:cNvSpPr/>
              <p:nvPr/>
            </p:nvSpPr>
            <p:spPr>
              <a:xfrm flipH="1">
                <a:off x="978480" y="6037560"/>
                <a:ext cx="40320" cy="43200"/>
              </a:xfrm>
              <a:prstGeom prst="ellipse">
                <a:avLst/>
              </a:prstGeom>
              <a:gradFill rotWithShape="0">
                <a:gsLst>
                  <a:gs pos="0">
                    <a:srgbClr val="ffecd9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Oval 50"/>
              <p:cNvSpPr/>
              <p:nvPr/>
            </p:nvSpPr>
            <p:spPr>
              <a:xfrm>
                <a:off x="892080" y="6109200"/>
                <a:ext cx="43200" cy="57600"/>
              </a:xfrm>
              <a:prstGeom prst="ellipse">
                <a:avLst/>
              </a:prstGeom>
              <a:gradFill rotWithShape="0">
                <a:gsLst>
                  <a:gs pos="0">
                    <a:srgbClr val="ffe4c9"/>
                  </a:gs>
                  <a:gs pos="100000">
                    <a:srgbClr val="ffe4c9">
                      <a:alpha val="85098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Oval 51"/>
              <p:cNvSpPr/>
              <p:nvPr/>
            </p:nvSpPr>
            <p:spPr>
              <a:xfrm>
                <a:off x="877680" y="6109200"/>
                <a:ext cx="57600" cy="43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Group 24"/>
              <p:cNvGrpSpPr/>
              <p:nvPr/>
            </p:nvGrpSpPr>
            <p:grpSpPr>
              <a:xfrm>
                <a:off x="676440" y="4343400"/>
                <a:ext cx="511560" cy="1590480"/>
                <a:chOff x="676440" y="4343400"/>
                <a:chExt cx="511560" cy="1590480"/>
              </a:xfrm>
            </p:grpSpPr>
            <p:grpSp>
              <p:nvGrpSpPr>
                <p:cNvPr id="681" name="Group 25"/>
                <p:cNvGrpSpPr/>
                <p:nvPr/>
              </p:nvGrpSpPr>
              <p:grpSpPr>
                <a:xfrm>
                  <a:off x="676440" y="4343400"/>
                  <a:ext cx="511560" cy="1590480"/>
                  <a:chOff x="676440" y="4343400"/>
                  <a:chExt cx="511560" cy="1590480"/>
                </a:xfrm>
              </p:grpSpPr>
              <p:sp>
                <p:nvSpPr>
                  <p:cNvPr id="682" name="Oval 54"/>
                  <p:cNvSpPr/>
                  <p:nvPr/>
                </p:nvSpPr>
                <p:spPr>
                  <a:xfrm>
                    <a:off x="695880" y="4452480"/>
                    <a:ext cx="426600" cy="15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AutoShape 55"/>
                  <p:cNvSpPr/>
                  <p:nvPr/>
                </p:nvSpPr>
                <p:spPr>
                  <a:xfrm>
                    <a:off x="762120" y="4476600"/>
                    <a:ext cx="282600" cy="60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065" y="21600"/>
                        </a:lnTo>
                        <a:lnTo>
                          <a:pt x="1953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332125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Freeform 56"/>
                  <p:cNvSpPr/>
                  <p:nvPr/>
                </p:nvSpPr>
                <p:spPr>
                  <a:xfrm>
                    <a:off x="676440" y="4933800"/>
                    <a:ext cx="478800" cy="10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0" h="1505">
                        <a:moveTo>
                          <a:pt x="265" y="117"/>
                        </a:moveTo>
                        <a:cubicBezTo>
                          <a:pt x="314" y="75"/>
                          <a:pt x="416" y="140"/>
                          <a:pt x="491" y="140"/>
                        </a:cubicBezTo>
                        <a:cubicBezTo>
                          <a:pt x="566" y="140"/>
                          <a:pt x="673" y="117"/>
                          <a:pt x="718" y="117"/>
                        </a:cubicBezTo>
                        <a:cubicBezTo>
                          <a:pt x="763" y="117"/>
                          <a:pt x="726" y="0"/>
                          <a:pt x="764" y="140"/>
                        </a:cubicBezTo>
                        <a:cubicBezTo>
                          <a:pt x="802" y="280"/>
                          <a:pt x="907" y="772"/>
                          <a:pt x="945" y="957"/>
                        </a:cubicBezTo>
                        <a:cubicBezTo>
                          <a:pt x="983" y="1142"/>
                          <a:pt x="979" y="1176"/>
                          <a:pt x="990" y="1251"/>
                        </a:cubicBezTo>
                        <a:cubicBezTo>
                          <a:pt x="1001" y="1326"/>
                          <a:pt x="1020" y="1376"/>
                          <a:pt x="1013" y="1410"/>
                        </a:cubicBezTo>
                        <a:cubicBezTo>
                          <a:pt x="1006" y="1444"/>
                          <a:pt x="1005" y="1441"/>
                          <a:pt x="945" y="1456"/>
                        </a:cubicBezTo>
                        <a:cubicBezTo>
                          <a:pt x="885" y="1471"/>
                          <a:pt x="760" y="1497"/>
                          <a:pt x="650" y="1501"/>
                        </a:cubicBezTo>
                        <a:cubicBezTo>
                          <a:pt x="540" y="1505"/>
                          <a:pt x="389" y="1485"/>
                          <a:pt x="287" y="1478"/>
                        </a:cubicBezTo>
                        <a:cubicBezTo>
                          <a:pt x="185" y="1471"/>
                          <a:pt x="76" y="1486"/>
                          <a:pt x="38" y="1456"/>
                        </a:cubicBezTo>
                        <a:cubicBezTo>
                          <a:pt x="0" y="1426"/>
                          <a:pt x="45" y="1361"/>
                          <a:pt x="60" y="1297"/>
                        </a:cubicBezTo>
                        <a:cubicBezTo>
                          <a:pt x="75" y="1233"/>
                          <a:pt x="113" y="1168"/>
                          <a:pt x="128" y="1070"/>
                        </a:cubicBezTo>
                        <a:cubicBezTo>
                          <a:pt x="143" y="972"/>
                          <a:pt x="140" y="820"/>
                          <a:pt x="151" y="707"/>
                        </a:cubicBezTo>
                        <a:cubicBezTo>
                          <a:pt x="162" y="594"/>
                          <a:pt x="178" y="488"/>
                          <a:pt x="197" y="390"/>
                        </a:cubicBezTo>
                        <a:cubicBezTo>
                          <a:pt x="216" y="292"/>
                          <a:pt x="216" y="159"/>
                          <a:pt x="265" y="11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33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Oval 57"/>
                  <p:cNvSpPr/>
                  <p:nvPr/>
                </p:nvSpPr>
                <p:spPr>
                  <a:xfrm>
                    <a:off x="844560" y="5776560"/>
                    <a:ext cx="323640" cy="77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3b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Rectangle 58"/>
                  <p:cNvSpPr/>
                  <p:nvPr/>
                </p:nvSpPr>
                <p:spPr>
                  <a:xfrm>
                    <a:off x="792360" y="5024520"/>
                    <a:ext cx="246240" cy="298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>
                          <a:alpha val="4117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Oval 59"/>
                  <p:cNvSpPr/>
                  <p:nvPr/>
                </p:nvSpPr>
                <p:spPr>
                  <a:xfrm>
                    <a:off x="791280" y="4614480"/>
                    <a:ext cx="212040" cy="42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AutoShape 60"/>
                  <p:cNvSpPr/>
                  <p:nvPr/>
                </p:nvSpPr>
                <p:spPr>
                  <a:xfrm rot="10800000">
                    <a:off x="888480" y="4663800"/>
                    <a:ext cx="32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100000">
                        <a:srgbClr val="fff1e3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Oval 61"/>
                  <p:cNvSpPr/>
                  <p:nvPr/>
                </p:nvSpPr>
                <p:spPr>
                  <a:xfrm rot="237000">
                    <a:off x="689760" y="4466880"/>
                    <a:ext cx="438840" cy="115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560" bIns="345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Oval 62"/>
                  <p:cNvSpPr/>
                  <p:nvPr/>
                </p:nvSpPr>
                <p:spPr>
                  <a:xfrm>
                    <a:off x="807120" y="4395240"/>
                    <a:ext cx="199800" cy="28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debd"/>
                      </a:gs>
                      <a:gs pos="100000">
                        <a:srgbClr val="fff1e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Freeform 63"/>
                  <p:cNvSpPr/>
                  <p:nvPr/>
                </p:nvSpPr>
                <p:spPr>
                  <a:xfrm>
                    <a:off x="744120" y="4343400"/>
                    <a:ext cx="29952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918" h="628">
                        <a:moveTo>
                          <a:pt x="64" y="454"/>
                        </a:moveTo>
                        <a:cubicBezTo>
                          <a:pt x="0" y="416"/>
                          <a:pt x="57" y="424"/>
                          <a:pt x="64" y="386"/>
                        </a:cubicBezTo>
                        <a:cubicBezTo>
                          <a:pt x="71" y="348"/>
                          <a:pt x="83" y="276"/>
                          <a:pt x="109" y="227"/>
                        </a:cubicBezTo>
                        <a:cubicBezTo>
                          <a:pt x="135" y="178"/>
                          <a:pt x="165" y="125"/>
                          <a:pt x="222" y="91"/>
                        </a:cubicBezTo>
                        <a:cubicBezTo>
                          <a:pt x="279" y="57"/>
                          <a:pt x="385" y="34"/>
                          <a:pt x="449" y="23"/>
                        </a:cubicBezTo>
                        <a:cubicBezTo>
                          <a:pt x="513" y="12"/>
                          <a:pt x="547" y="0"/>
                          <a:pt x="608" y="23"/>
                        </a:cubicBezTo>
                        <a:cubicBezTo>
                          <a:pt x="669" y="46"/>
                          <a:pt x="763" y="110"/>
                          <a:pt x="812" y="159"/>
                        </a:cubicBezTo>
                        <a:cubicBezTo>
                          <a:pt x="861" y="208"/>
                          <a:pt x="888" y="261"/>
                          <a:pt x="903" y="318"/>
                        </a:cubicBezTo>
                        <a:cubicBezTo>
                          <a:pt x="918" y="375"/>
                          <a:pt x="918" y="461"/>
                          <a:pt x="903" y="499"/>
                        </a:cubicBezTo>
                        <a:cubicBezTo>
                          <a:pt x="888" y="537"/>
                          <a:pt x="888" y="526"/>
                          <a:pt x="812" y="545"/>
                        </a:cubicBezTo>
                        <a:cubicBezTo>
                          <a:pt x="736" y="564"/>
                          <a:pt x="577" y="628"/>
                          <a:pt x="449" y="613"/>
                        </a:cubicBezTo>
                        <a:cubicBezTo>
                          <a:pt x="321" y="598"/>
                          <a:pt x="128" y="492"/>
                          <a:pt x="64" y="45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Oval 64"/>
                  <p:cNvSpPr/>
                  <p:nvPr/>
                </p:nvSpPr>
                <p:spPr>
                  <a:xfrm rot="361200">
                    <a:off x="752040" y="4394520"/>
                    <a:ext cx="138960" cy="97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76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3" name="Group 37"/>
                  <p:cNvGrpSpPr/>
                  <p:nvPr/>
                </p:nvGrpSpPr>
                <p:grpSpPr>
                  <a:xfrm>
                    <a:off x="848880" y="4345920"/>
                    <a:ext cx="99720" cy="48960"/>
                    <a:chOff x="848880" y="4345920"/>
                    <a:chExt cx="99720" cy="48960"/>
                  </a:xfrm>
                </p:grpSpPr>
                <p:sp>
                  <p:nvSpPr>
                    <p:cNvPr id="694" name="Freeform 66"/>
                    <p:cNvSpPr/>
                    <p:nvPr/>
                  </p:nvSpPr>
                  <p:spPr>
                    <a:xfrm flipH="1" rot="21568200">
                      <a:off x="848880" y="4354560"/>
                      <a:ext cx="975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124">
                          <a:moveTo>
                            <a:pt x="4" y="45"/>
                          </a:moveTo>
                          <a:cubicBezTo>
                            <a:pt x="0" y="64"/>
                            <a:pt x="42" y="102"/>
                            <a:pt x="72" y="113"/>
                          </a:cubicBezTo>
                          <a:cubicBezTo>
                            <a:pt x="102" y="124"/>
                            <a:pt x="155" y="120"/>
                            <a:pt x="185" y="113"/>
                          </a:cubicBezTo>
                          <a:cubicBezTo>
                            <a:pt x="215" y="106"/>
                            <a:pt x="246" y="83"/>
                            <a:pt x="253" y="68"/>
                          </a:cubicBezTo>
                          <a:cubicBezTo>
                            <a:pt x="260" y="53"/>
                            <a:pt x="257" y="33"/>
                            <a:pt x="230" y="22"/>
                          </a:cubicBezTo>
                          <a:cubicBezTo>
                            <a:pt x="203" y="11"/>
                            <a:pt x="132" y="0"/>
                            <a:pt x="94" y="0"/>
                          </a:cubicBezTo>
                          <a:cubicBezTo>
                            <a:pt x="56" y="0"/>
                            <a:pt x="8" y="26"/>
                            <a:pt x="4" y="45"/>
                          </a:cubicBezTo>
                          <a:close/>
                        </a:path>
                      </a:pathLst>
                    </a:custGeom>
                    <a:solidFill>
                      <a:srgbClr val="d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Freeform 67"/>
                    <p:cNvSpPr/>
                    <p:nvPr/>
                  </p:nvSpPr>
                  <p:spPr>
                    <a:xfrm flipH="1" rot="21568200">
                      <a:off x="850680" y="4346280"/>
                      <a:ext cx="975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124">
                          <a:moveTo>
                            <a:pt x="4" y="45"/>
                          </a:moveTo>
                          <a:cubicBezTo>
                            <a:pt x="0" y="64"/>
                            <a:pt x="42" y="102"/>
                            <a:pt x="72" y="113"/>
                          </a:cubicBezTo>
                          <a:cubicBezTo>
                            <a:pt x="102" y="124"/>
                            <a:pt x="155" y="120"/>
                            <a:pt x="185" y="113"/>
                          </a:cubicBezTo>
                          <a:cubicBezTo>
                            <a:pt x="215" y="106"/>
                            <a:pt x="246" y="83"/>
                            <a:pt x="253" y="68"/>
                          </a:cubicBezTo>
                          <a:cubicBezTo>
                            <a:pt x="260" y="53"/>
                            <a:pt x="257" y="33"/>
                            <a:pt x="230" y="22"/>
                          </a:cubicBezTo>
                          <a:cubicBezTo>
                            <a:pt x="203" y="11"/>
                            <a:pt x="132" y="0"/>
                            <a:pt x="94" y="0"/>
                          </a:cubicBezTo>
                          <a:cubicBezTo>
                            <a:pt x="56" y="0"/>
                            <a:pt x="8" y="26"/>
                            <a:pt x="4" y="45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d0000"/>
                        </a:gs>
                        <a:gs pos="100000">
                          <a:srgbClr val="ac0000"/>
                        </a:gs>
                      </a:gsLst>
                      <a:lin ang="4722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6" name="Freeform 68"/>
                  <p:cNvSpPr/>
                  <p:nvPr/>
                </p:nvSpPr>
                <p:spPr>
                  <a:xfrm>
                    <a:off x="760680" y="4469040"/>
                    <a:ext cx="2883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1" h="117">
                        <a:moveTo>
                          <a:pt x="0" y="0"/>
                        </a:moveTo>
                        <a:cubicBezTo>
                          <a:pt x="74" y="36"/>
                          <a:pt x="148" y="72"/>
                          <a:pt x="227" y="91"/>
                        </a:cubicBezTo>
                        <a:cubicBezTo>
                          <a:pt x="306" y="110"/>
                          <a:pt x="389" y="117"/>
                          <a:pt x="476" y="113"/>
                        </a:cubicBezTo>
                        <a:cubicBezTo>
                          <a:pt x="563" y="109"/>
                          <a:pt x="695" y="83"/>
                          <a:pt x="748" y="68"/>
                        </a:cubicBezTo>
                        <a:cubicBezTo>
                          <a:pt x="801" y="53"/>
                          <a:pt x="749" y="23"/>
                          <a:pt x="794" y="23"/>
                        </a:cubicBezTo>
                      </a:path>
                    </a:pathLst>
                  </a:custGeom>
                  <a:noFill/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AutoShape 69"/>
                  <p:cNvSpPr/>
                  <p:nvPr/>
                </p:nvSpPr>
                <p:spPr>
                  <a:xfrm>
                    <a:off x="997200" y="4479120"/>
                    <a:ext cx="244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Oval 70"/>
                  <p:cNvSpPr/>
                  <p:nvPr/>
                </p:nvSpPr>
                <p:spPr>
                  <a:xfrm rot="20773200">
                    <a:off x="882720" y="4500000"/>
                    <a:ext cx="13968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76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Oval 71"/>
                  <p:cNvSpPr/>
                  <p:nvPr/>
                </p:nvSpPr>
                <p:spPr>
                  <a:xfrm rot="401400">
                    <a:off x="705240" y="4481280"/>
                    <a:ext cx="86760" cy="29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Oval 72"/>
                  <p:cNvSpPr/>
                  <p:nvPr/>
                </p:nvSpPr>
                <p:spPr>
                  <a:xfrm rot="20941800">
                    <a:off x="1013760" y="4496040"/>
                    <a:ext cx="106560" cy="33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Freeform 73"/>
                  <p:cNvSpPr/>
                  <p:nvPr/>
                </p:nvSpPr>
                <p:spPr>
                  <a:xfrm>
                    <a:off x="719640" y="4478040"/>
                    <a:ext cx="4032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38">
                        <a:moveTo>
                          <a:pt x="159" y="4"/>
                        </a:moveTo>
                        <a:cubicBezTo>
                          <a:pt x="125" y="8"/>
                          <a:pt x="0" y="42"/>
                          <a:pt x="0" y="49"/>
                        </a:cubicBezTo>
                        <a:cubicBezTo>
                          <a:pt x="0" y="56"/>
                          <a:pt x="99" y="30"/>
                          <a:pt x="159" y="49"/>
                        </a:cubicBezTo>
                        <a:cubicBezTo>
                          <a:pt x="219" y="68"/>
                          <a:pt x="303" y="133"/>
                          <a:pt x="363" y="163"/>
                        </a:cubicBezTo>
                        <a:cubicBezTo>
                          <a:pt x="423" y="193"/>
                          <a:pt x="465" y="224"/>
                          <a:pt x="522" y="231"/>
                        </a:cubicBezTo>
                        <a:cubicBezTo>
                          <a:pt x="579" y="238"/>
                          <a:pt x="646" y="223"/>
                          <a:pt x="703" y="208"/>
                        </a:cubicBezTo>
                        <a:cubicBezTo>
                          <a:pt x="760" y="193"/>
                          <a:pt x="820" y="159"/>
                          <a:pt x="862" y="140"/>
                        </a:cubicBezTo>
                        <a:cubicBezTo>
                          <a:pt x="904" y="121"/>
                          <a:pt x="926" y="106"/>
                          <a:pt x="953" y="95"/>
                        </a:cubicBezTo>
                        <a:cubicBezTo>
                          <a:pt x="980" y="84"/>
                          <a:pt x="995" y="72"/>
                          <a:pt x="1021" y="72"/>
                        </a:cubicBezTo>
                        <a:cubicBezTo>
                          <a:pt x="1047" y="72"/>
                          <a:pt x="1122" y="102"/>
                          <a:pt x="1111" y="95"/>
                        </a:cubicBezTo>
                        <a:cubicBezTo>
                          <a:pt x="1100" y="88"/>
                          <a:pt x="994" y="31"/>
                          <a:pt x="953" y="27"/>
                        </a:cubicBezTo>
                        <a:cubicBezTo>
                          <a:pt x="912" y="23"/>
                          <a:pt x="911" y="61"/>
                          <a:pt x="862" y="72"/>
                        </a:cubicBezTo>
                        <a:cubicBezTo>
                          <a:pt x="813" y="83"/>
                          <a:pt x="730" y="91"/>
                          <a:pt x="658" y="95"/>
                        </a:cubicBezTo>
                        <a:cubicBezTo>
                          <a:pt x="586" y="99"/>
                          <a:pt x="507" y="106"/>
                          <a:pt x="431" y="95"/>
                        </a:cubicBezTo>
                        <a:cubicBezTo>
                          <a:pt x="355" y="84"/>
                          <a:pt x="249" y="42"/>
                          <a:pt x="204" y="27"/>
                        </a:cubicBezTo>
                        <a:cubicBezTo>
                          <a:pt x="159" y="12"/>
                          <a:pt x="193" y="0"/>
                          <a:pt x="159" y="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Freeform 74"/>
                  <p:cNvSpPr/>
                  <p:nvPr/>
                </p:nvSpPr>
                <p:spPr>
                  <a:xfrm>
                    <a:off x="782280" y="4735800"/>
                    <a:ext cx="26172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760" h="839">
                        <a:moveTo>
                          <a:pt x="250" y="4"/>
                        </a:moveTo>
                        <a:cubicBezTo>
                          <a:pt x="197" y="8"/>
                          <a:pt x="174" y="0"/>
                          <a:pt x="136" y="26"/>
                        </a:cubicBezTo>
                        <a:cubicBezTo>
                          <a:pt x="98" y="52"/>
                          <a:pt x="46" y="117"/>
                          <a:pt x="23" y="162"/>
                        </a:cubicBezTo>
                        <a:cubicBezTo>
                          <a:pt x="0" y="207"/>
                          <a:pt x="0" y="264"/>
                          <a:pt x="0" y="298"/>
                        </a:cubicBezTo>
                        <a:cubicBezTo>
                          <a:pt x="0" y="332"/>
                          <a:pt x="8" y="355"/>
                          <a:pt x="23" y="366"/>
                        </a:cubicBezTo>
                        <a:cubicBezTo>
                          <a:pt x="38" y="377"/>
                          <a:pt x="80" y="309"/>
                          <a:pt x="91" y="366"/>
                        </a:cubicBezTo>
                        <a:cubicBezTo>
                          <a:pt x="102" y="423"/>
                          <a:pt x="98" y="631"/>
                          <a:pt x="91" y="707"/>
                        </a:cubicBezTo>
                        <a:cubicBezTo>
                          <a:pt x="84" y="783"/>
                          <a:pt x="4" y="801"/>
                          <a:pt x="46" y="820"/>
                        </a:cubicBezTo>
                        <a:cubicBezTo>
                          <a:pt x="88" y="839"/>
                          <a:pt x="235" y="820"/>
                          <a:pt x="341" y="820"/>
                        </a:cubicBezTo>
                        <a:cubicBezTo>
                          <a:pt x="447" y="820"/>
                          <a:pt x="632" y="831"/>
                          <a:pt x="681" y="820"/>
                        </a:cubicBezTo>
                        <a:cubicBezTo>
                          <a:pt x="730" y="809"/>
                          <a:pt x="646" y="779"/>
                          <a:pt x="635" y="752"/>
                        </a:cubicBezTo>
                        <a:cubicBezTo>
                          <a:pt x="624" y="725"/>
                          <a:pt x="617" y="725"/>
                          <a:pt x="613" y="661"/>
                        </a:cubicBezTo>
                        <a:cubicBezTo>
                          <a:pt x="609" y="597"/>
                          <a:pt x="602" y="411"/>
                          <a:pt x="613" y="366"/>
                        </a:cubicBezTo>
                        <a:cubicBezTo>
                          <a:pt x="624" y="321"/>
                          <a:pt x="658" y="385"/>
                          <a:pt x="681" y="389"/>
                        </a:cubicBezTo>
                        <a:cubicBezTo>
                          <a:pt x="704" y="393"/>
                          <a:pt x="738" y="408"/>
                          <a:pt x="749" y="389"/>
                        </a:cubicBezTo>
                        <a:cubicBezTo>
                          <a:pt x="760" y="370"/>
                          <a:pt x="757" y="317"/>
                          <a:pt x="749" y="276"/>
                        </a:cubicBezTo>
                        <a:cubicBezTo>
                          <a:pt x="741" y="235"/>
                          <a:pt x="726" y="182"/>
                          <a:pt x="703" y="140"/>
                        </a:cubicBezTo>
                        <a:cubicBezTo>
                          <a:pt x="680" y="98"/>
                          <a:pt x="654" y="49"/>
                          <a:pt x="613" y="26"/>
                        </a:cubicBezTo>
                        <a:cubicBezTo>
                          <a:pt x="572" y="3"/>
                          <a:pt x="514" y="4"/>
                          <a:pt x="454" y="4"/>
                        </a:cubicBezTo>
                        <a:cubicBezTo>
                          <a:pt x="394" y="4"/>
                          <a:pt x="303" y="0"/>
                          <a:pt x="250" y="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3" name="Group 47"/>
                  <p:cNvGrpSpPr/>
                  <p:nvPr/>
                </p:nvGrpSpPr>
                <p:grpSpPr>
                  <a:xfrm>
                    <a:off x="861120" y="4674600"/>
                    <a:ext cx="156960" cy="132480"/>
                    <a:chOff x="861120" y="4674600"/>
                    <a:chExt cx="156960" cy="132480"/>
                  </a:xfrm>
                </p:grpSpPr>
                <p:sp>
                  <p:nvSpPr>
                    <p:cNvPr id="704" name="Freeform 76"/>
                    <p:cNvSpPr/>
                    <p:nvPr/>
                  </p:nvSpPr>
                  <p:spPr>
                    <a:xfrm rot="3600000">
                      <a:off x="950760" y="4664880"/>
                      <a:ext cx="3348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344">
                          <a:moveTo>
                            <a:pt x="49" y="23"/>
                          </a:moveTo>
                          <a:cubicBezTo>
                            <a:pt x="34" y="0"/>
                            <a:pt x="34" y="61"/>
                            <a:pt x="27" y="91"/>
                          </a:cubicBezTo>
                          <a:cubicBezTo>
                            <a:pt x="20" y="121"/>
                            <a:pt x="0" y="163"/>
                            <a:pt x="4" y="204"/>
                          </a:cubicBezTo>
                          <a:cubicBezTo>
                            <a:pt x="8" y="245"/>
                            <a:pt x="30" y="336"/>
                            <a:pt x="49" y="340"/>
                          </a:cubicBezTo>
                          <a:cubicBezTo>
                            <a:pt x="68" y="344"/>
                            <a:pt x="117" y="280"/>
                            <a:pt x="117" y="227"/>
                          </a:cubicBezTo>
                          <a:cubicBezTo>
                            <a:pt x="117" y="174"/>
                            <a:pt x="64" y="46"/>
                            <a:pt x="49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006600"/>
                        </a:gs>
                      </a:gsLst>
                      <a:lin ang="1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Oval 77"/>
                    <p:cNvSpPr/>
                    <p:nvPr/>
                  </p:nvSpPr>
                  <p:spPr>
                    <a:xfrm rot="3600000">
                      <a:off x="961200" y="4678200"/>
                      <a:ext cx="32760" cy="48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0ff89"/>
                        </a:gs>
                        <a:gs pos="100000">
                          <a:srgbClr val="81934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240" bIns="-12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Freeform 78"/>
                    <p:cNvSpPr/>
                    <p:nvPr/>
                  </p:nvSpPr>
                  <p:spPr>
                    <a:xfrm rot="21002400">
                      <a:off x="864000" y="4712400"/>
                      <a:ext cx="6516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91">
                          <a:moveTo>
                            <a:pt x="23" y="0"/>
                          </a:moveTo>
                          <a:lnTo>
                            <a:pt x="0" y="46"/>
                          </a:lnTo>
                          <a:lnTo>
                            <a:pt x="46" y="69"/>
                          </a:lnTo>
                          <a:lnTo>
                            <a:pt x="136" y="91"/>
                          </a:lnTo>
                          <a:lnTo>
                            <a:pt x="182" y="69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3300"/>
                        </a:gs>
                      </a:gsLst>
                      <a:lin ang="19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Freeform 79"/>
                    <p:cNvSpPr/>
                    <p:nvPr/>
                  </p:nvSpPr>
                  <p:spPr>
                    <a:xfrm>
                      <a:off x="911520" y="4729680"/>
                      <a:ext cx="33840" cy="6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344">
                          <a:moveTo>
                            <a:pt x="49" y="23"/>
                          </a:moveTo>
                          <a:cubicBezTo>
                            <a:pt x="34" y="0"/>
                            <a:pt x="34" y="61"/>
                            <a:pt x="27" y="91"/>
                          </a:cubicBezTo>
                          <a:cubicBezTo>
                            <a:pt x="20" y="121"/>
                            <a:pt x="0" y="163"/>
                            <a:pt x="4" y="204"/>
                          </a:cubicBezTo>
                          <a:cubicBezTo>
                            <a:pt x="8" y="245"/>
                            <a:pt x="30" y="336"/>
                            <a:pt x="49" y="340"/>
                          </a:cubicBezTo>
                          <a:cubicBezTo>
                            <a:pt x="68" y="344"/>
                            <a:pt x="117" y="280"/>
                            <a:pt x="117" y="227"/>
                          </a:cubicBezTo>
                          <a:cubicBezTo>
                            <a:pt x="117" y="174"/>
                            <a:pt x="64" y="46"/>
                            <a:pt x="49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Oval 80"/>
                    <p:cNvSpPr/>
                    <p:nvPr/>
                  </p:nvSpPr>
                  <p:spPr>
                    <a:xfrm rot="3600000">
                      <a:off x="961200" y="4671720"/>
                      <a:ext cx="16560" cy="97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2f00">
                            <a:alpha val="0"/>
                          </a:srgbClr>
                        </a:gs>
                        <a:gs pos="100000">
                          <a:srgbClr val="006600"/>
                        </a:gs>
                      </a:gsLst>
                      <a:lin ang="1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2680" bIns="22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Oval 81"/>
                    <p:cNvSpPr/>
                    <p:nvPr/>
                  </p:nvSpPr>
                  <p:spPr>
                    <a:xfrm>
                      <a:off x="872280" y="4729680"/>
                      <a:ext cx="828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Oval 82"/>
                    <p:cNvSpPr/>
                    <p:nvPr/>
                  </p:nvSpPr>
                  <p:spPr>
                    <a:xfrm>
                      <a:off x="912960" y="4770360"/>
                      <a:ext cx="792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Oval 83"/>
                    <p:cNvSpPr/>
                    <p:nvPr/>
                  </p:nvSpPr>
                  <p:spPr>
                    <a:xfrm>
                      <a:off x="913320" y="4737960"/>
                      <a:ext cx="756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Oval 84"/>
                    <p:cNvSpPr/>
                    <p:nvPr/>
                  </p:nvSpPr>
                  <p:spPr>
                    <a:xfrm>
                      <a:off x="953640" y="4729680"/>
                      <a:ext cx="792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Oval 85"/>
                    <p:cNvSpPr/>
                    <p:nvPr/>
                  </p:nvSpPr>
                  <p:spPr>
                    <a:xfrm>
                      <a:off x="929160" y="4754160"/>
                      <a:ext cx="828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Oval 86"/>
                    <p:cNvSpPr/>
                    <p:nvPr/>
                  </p:nvSpPr>
                  <p:spPr>
                    <a:xfrm>
                      <a:off x="921240" y="4729680"/>
                      <a:ext cx="16200" cy="16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5b4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Oval 87"/>
                    <p:cNvSpPr/>
                    <p:nvPr/>
                  </p:nvSpPr>
                  <p:spPr>
                    <a:xfrm rot="3600000">
                      <a:off x="908280" y="4765320"/>
                      <a:ext cx="39960" cy="32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0ff89"/>
                        </a:gs>
                        <a:gs pos="100000">
                          <a:srgbClr val="81934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120" bIns="-24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" name="Oval 88"/>
                  <p:cNvSpPr/>
                  <p:nvPr/>
                </p:nvSpPr>
                <p:spPr>
                  <a:xfrm rot="600000">
                    <a:off x="821880" y="4802400"/>
                    <a:ext cx="10080" cy="6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6c6c">
                          <a:alpha val="0"/>
                        </a:srgbClr>
                      </a:gs>
                      <a:gs pos="100000">
                        <a:srgbClr val="eaeaea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" name="Group 61"/>
                  <p:cNvGrpSpPr/>
                  <p:nvPr/>
                </p:nvGrpSpPr>
                <p:grpSpPr>
                  <a:xfrm>
                    <a:off x="822960" y="4786560"/>
                    <a:ext cx="16200" cy="15840"/>
                    <a:chOff x="822960" y="4786560"/>
                    <a:chExt cx="16200" cy="15840"/>
                  </a:xfrm>
                </p:grpSpPr>
                <p:grpSp>
                  <p:nvGrpSpPr>
                    <p:cNvPr id="718" name="Group 62"/>
                    <p:cNvGrpSpPr/>
                    <p:nvPr/>
                  </p:nvGrpSpPr>
                  <p:grpSpPr>
                    <a:xfrm>
                      <a:off x="822960" y="4786560"/>
                      <a:ext cx="16200" cy="15840"/>
                      <a:chOff x="822960" y="4786560"/>
                      <a:chExt cx="16200" cy="15840"/>
                    </a:xfrm>
                  </p:grpSpPr>
                  <p:sp>
                    <p:nvSpPr>
                      <p:cNvPr id="719" name="Oval 91"/>
                      <p:cNvSpPr/>
                      <p:nvPr/>
                    </p:nvSpPr>
                    <p:spPr>
                      <a:xfrm>
                        <a:off x="826920" y="4786560"/>
                        <a:ext cx="792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Oval 92"/>
                      <p:cNvSpPr/>
                      <p:nvPr/>
                    </p:nvSpPr>
                    <p:spPr>
                      <a:xfrm>
                        <a:off x="822960" y="4786560"/>
                        <a:ext cx="1620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21" name="Oval 93"/>
                    <p:cNvSpPr/>
                    <p:nvPr/>
                  </p:nvSpPr>
                  <p:spPr>
                    <a:xfrm>
                      <a:off x="822960" y="4786560"/>
                      <a:ext cx="1512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2" name="Group 66"/>
                  <p:cNvGrpSpPr/>
                  <p:nvPr/>
                </p:nvGrpSpPr>
                <p:grpSpPr>
                  <a:xfrm>
                    <a:off x="888480" y="4876200"/>
                    <a:ext cx="16920" cy="16200"/>
                    <a:chOff x="888480" y="4876200"/>
                    <a:chExt cx="16920" cy="16200"/>
                  </a:xfrm>
                </p:grpSpPr>
                <p:grpSp>
                  <p:nvGrpSpPr>
                    <p:cNvPr id="723" name="Group 67"/>
                    <p:cNvGrpSpPr/>
                    <p:nvPr/>
                  </p:nvGrpSpPr>
                  <p:grpSpPr>
                    <a:xfrm>
                      <a:off x="888480" y="4876200"/>
                      <a:ext cx="16920" cy="16200"/>
                      <a:chOff x="888480" y="4876200"/>
                      <a:chExt cx="16920" cy="16200"/>
                    </a:xfrm>
                  </p:grpSpPr>
                  <p:sp>
                    <p:nvSpPr>
                      <p:cNvPr id="724" name="Oval 96"/>
                      <p:cNvSpPr/>
                      <p:nvPr/>
                    </p:nvSpPr>
                    <p:spPr>
                      <a:xfrm>
                        <a:off x="892800" y="4876200"/>
                        <a:ext cx="828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Oval 97"/>
                      <p:cNvSpPr/>
                      <p:nvPr/>
                    </p:nvSpPr>
                    <p:spPr>
                      <a:xfrm>
                        <a:off x="888480" y="4876200"/>
                        <a:ext cx="16920" cy="16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920" bIns="-34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26" name="Oval 98"/>
                    <p:cNvSpPr/>
                    <p:nvPr/>
                  </p:nvSpPr>
                  <p:spPr>
                    <a:xfrm>
                      <a:off x="888480" y="4876200"/>
                      <a:ext cx="15840" cy="1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7" name="Group 71"/>
                  <p:cNvGrpSpPr/>
                  <p:nvPr/>
                </p:nvGrpSpPr>
                <p:grpSpPr>
                  <a:xfrm>
                    <a:off x="847800" y="4924800"/>
                    <a:ext cx="16200" cy="16560"/>
                    <a:chOff x="847800" y="4924800"/>
                    <a:chExt cx="16200" cy="16560"/>
                  </a:xfrm>
                </p:grpSpPr>
                <p:grpSp>
                  <p:nvGrpSpPr>
                    <p:cNvPr id="728" name="Group 72"/>
                    <p:cNvGrpSpPr/>
                    <p:nvPr/>
                  </p:nvGrpSpPr>
                  <p:grpSpPr>
                    <a:xfrm>
                      <a:off x="847800" y="4924800"/>
                      <a:ext cx="16200" cy="16560"/>
                      <a:chOff x="847800" y="4924800"/>
                      <a:chExt cx="16200" cy="16560"/>
                    </a:xfrm>
                  </p:grpSpPr>
                  <p:sp>
                    <p:nvSpPr>
                      <p:cNvPr id="729" name="Oval 101"/>
                      <p:cNvSpPr/>
                      <p:nvPr/>
                    </p:nvSpPr>
                    <p:spPr>
                      <a:xfrm>
                        <a:off x="851760" y="4924800"/>
                        <a:ext cx="792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0" name="Oval 102"/>
                      <p:cNvSpPr/>
                      <p:nvPr/>
                    </p:nvSpPr>
                    <p:spPr>
                      <a:xfrm>
                        <a:off x="847800" y="4924800"/>
                        <a:ext cx="16200" cy="16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31" name="Oval 103"/>
                    <p:cNvSpPr/>
                    <p:nvPr/>
                  </p:nvSpPr>
                  <p:spPr>
                    <a:xfrm>
                      <a:off x="847800" y="4924800"/>
                      <a:ext cx="1512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Group 76"/>
                  <p:cNvGrpSpPr/>
                  <p:nvPr/>
                </p:nvGrpSpPr>
                <p:grpSpPr>
                  <a:xfrm>
                    <a:off x="954000" y="4859640"/>
                    <a:ext cx="16560" cy="16560"/>
                    <a:chOff x="954000" y="4859640"/>
                    <a:chExt cx="16560" cy="16560"/>
                  </a:xfrm>
                </p:grpSpPr>
                <p:grpSp>
                  <p:nvGrpSpPr>
                    <p:cNvPr id="733" name="Group 77"/>
                    <p:cNvGrpSpPr/>
                    <p:nvPr/>
                  </p:nvGrpSpPr>
                  <p:grpSpPr>
                    <a:xfrm>
                      <a:off x="954000" y="4859640"/>
                      <a:ext cx="16560" cy="16560"/>
                      <a:chOff x="954000" y="4859640"/>
                      <a:chExt cx="16560" cy="16560"/>
                    </a:xfrm>
                  </p:grpSpPr>
                  <p:sp>
                    <p:nvSpPr>
                      <p:cNvPr id="734" name="Oval 106"/>
                      <p:cNvSpPr/>
                      <p:nvPr/>
                    </p:nvSpPr>
                    <p:spPr>
                      <a:xfrm>
                        <a:off x="957960" y="4859640"/>
                        <a:ext cx="828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Oval 107"/>
                      <p:cNvSpPr/>
                      <p:nvPr/>
                    </p:nvSpPr>
                    <p:spPr>
                      <a:xfrm>
                        <a:off x="954000" y="4859640"/>
                        <a:ext cx="16560" cy="16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36" name="Oval 108"/>
                    <p:cNvSpPr/>
                    <p:nvPr/>
                  </p:nvSpPr>
                  <p:spPr>
                    <a:xfrm>
                      <a:off x="954000" y="4859640"/>
                      <a:ext cx="1548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Group 81"/>
                  <p:cNvGrpSpPr/>
                  <p:nvPr/>
                </p:nvGrpSpPr>
                <p:grpSpPr>
                  <a:xfrm>
                    <a:off x="888480" y="4786560"/>
                    <a:ext cx="16920" cy="15840"/>
                    <a:chOff x="888480" y="4786560"/>
                    <a:chExt cx="16920" cy="15840"/>
                  </a:xfrm>
                </p:grpSpPr>
                <p:grpSp>
                  <p:nvGrpSpPr>
                    <p:cNvPr id="738" name="Group 82"/>
                    <p:cNvGrpSpPr/>
                    <p:nvPr/>
                  </p:nvGrpSpPr>
                  <p:grpSpPr>
                    <a:xfrm>
                      <a:off x="888480" y="4786560"/>
                      <a:ext cx="16920" cy="15840"/>
                      <a:chOff x="888480" y="4786560"/>
                      <a:chExt cx="16920" cy="15840"/>
                    </a:xfrm>
                  </p:grpSpPr>
                  <p:sp>
                    <p:nvSpPr>
                      <p:cNvPr id="739" name="Oval 111"/>
                      <p:cNvSpPr/>
                      <p:nvPr/>
                    </p:nvSpPr>
                    <p:spPr>
                      <a:xfrm>
                        <a:off x="892800" y="4786560"/>
                        <a:ext cx="828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Oval 112"/>
                      <p:cNvSpPr/>
                      <p:nvPr/>
                    </p:nvSpPr>
                    <p:spPr>
                      <a:xfrm>
                        <a:off x="888480" y="4786560"/>
                        <a:ext cx="1692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41" name="Oval 113"/>
                    <p:cNvSpPr/>
                    <p:nvPr/>
                  </p:nvSpPr>
                  <p:spPr>
                    <a:xfrm>
                      <a:off x="888480" y="4786560"/>
                      <a:ext cx="1584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2" name="Group 86"/>
                  <p:cNvGrpSpPr/>
                  <p:nvPr/>
                </p:nvGrpSpPr>
                <p:grpSpPr>
                  <a:xfrm>
                    <a:off x="1019160" y="4810680"/>
                    <a:ext cx="16560" cy="16200"/>
                    <a:chOff x="1019160" y="4810680"/>
                    <a:chExt cx="16560" cy="16200"/>
                  </a:xfrm>
                </p:grpSpPr>
                <p:grpSp>
                  <p:nvGrpSpPr>
                    <p:cNvPr id="743" name="Group 87"/>
                    <p:cNvGrpSpPr/>
                    <p:nvPr/>
                  </p:nvGrpSpPr>
                  <p:grpSpPr>
                    <a:xfrm>
                      <a:off x="1019160" y="4810680"/>
                      <a:ext cx="16560" cy="16200"/>
                      <a:chOff x="1019160" y="4810680"/>
                      <a:chExt cx="16560" cy="16200"/>
                    </a:xfrm>
                  </p:grpSpPr>
                  <p:sp>
                    <p:nvSpPr>
                      <p:cNvPr id="744" name="Oval 116"/>
                      <p:cNvSpPr/>
                      <p:nvPr/>
                    </p:nvSpPr>
                    <p:spPr>
                      <a:xfrm>
                        <a:off x="1023120" y="4810680"/>
                        <a:ext cx="828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5" name="Oval 117"/>
                      <p:cNvSpPr/>
                      <p:nvPr/>
                    </p:nvSpPr>
                    <p:spPr>
                      <a:xfrm>
                        <a:off x="1019160" y="4810680"/>
                        <a:ext cx="16560" cy="16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920" bIns="-34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46" name="Oval 118"/>
                    <p:cNvSpPr/>
                    <p:nvPr/>
                  </p:nvSpPr>
                  <p:spPr>
                    <a:xfrm>
                      <a:off x="1019160" y="4810680"/>
                      <a:ext cx="15480" cy="1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Group 91"/>
                  <p:cNvGrpSpPr/>
                  <p:nvPr/>
                </p:nvGrpSpPr>
                <p:grpSpPr>
                  <a:xfrm>
                    <a:off x="938160" y="4957920"/>
                    <a:ext cx="15840" cy="15840"/>
                    <a:chOff x="938160" y="4957920"/>
                    <a:chExt cx="15840" cy="15840"/>
                  </a:xfrm>
                </p:grpSpPr>
                <p:grpSp>
                  <p:nvGrpSpPr>
                    <p:cNvPr id="748" name="Group 92"/>
                    <p:cNvGrpSpPr/>
                    <p:nvPr/>
                  </p:nvGrpSpPr>
                  <p:grpSpPr>
                    <a:xfrm>
                      <a:off x="938160" y="4957920"/>
                      <a:ext cx="15840" cy="15840"/>
                      <a:chOff x="938160" y="4957920"/>
                      <a:chExt cx="15840" cy="15840"/>
                    </a:xfrm>
                  </p:grpSpPr>
                  <p:sp>
                    <p:nvSpPr>
                      <p:cNvPr id="749" name="Oval 121"/>
                      <p:cNvSpPr/>
                      <p:nvPr/>
                    </p:nvSpPr>
                    <p:spPr>
                      <a:xfrm>
                        <a:off x="942120" y="4957920"/>
                        <a:ext cx="792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Oval 122"/>
                      <p:cNvSpPr/>
                      <p:nvPr/>
                    </p:nvSpPr>
                    <p:spPr>
                      <a:xfrm>
                        <a:off x="938160" y="4957920"/>
                        <a:ext cx="1584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51" name="Oval 123"/>
                    <p:cNvSpPr/>
                    <p:nvPr/>
                  </p:nvSpPr>
                  <p:spPr>
                    <a:xfrm>
                      <a:off x="938160" y="4957920"/>
                      <a:ext cx="1476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Group 96"/>
                  <p:cNvGrpSpPr/>
                  <p:nvPr/>
                </p:nvGrpSpPr>
                <p:grpSpPr>
                  <a:xfrm>
                    <a:off x="822960" y="4990320"/>
                    <a:ext cx="16200" cy="16200"/>
                    <a:chOff x="822960" y="4990320"/>
                    <a:chExt cx="16200" cy="16200"/>
                  </a:xfrm>
                </p:grpSpPr>
                <p:grpSp>
                  <p:nvGrpSpPr>
                    <p:cNvPr id="753" name="Group 97"/>
                    <p:cNvGrpSpPr/>
                    <p:nvPr/>
                  </p:nvGrpSpPr>
                  <p:grpSpPr>
                    <a:xfrm>
                      <a:off x="822960" y="4990320"/>
                      <a:ext cx="16200" cy="16200"/>
                      <a:chOff x="822960" y="4990320"/>
                      <a:chExt cx="16200" cy="16200"/>
                    </a:xfrm>
                  </p:grpSpPr>
                  <p:sp>
                    <p:nvSpPr>
                      <p:cNvPr id="754" name="Oval 126"/>
                      <p:cNvSpPr/>
                      <p:nvPr/>
                    </p:nvSpPr>
                    <p:spPr>
                      <a:xfrm>
                        <a:off x="826920" y="4990320"/>
                        <a:ext cx="792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5" name="Oval 127"/>
                      <p:cNvSpPr/>
                      <p:nvPr/>
                    </p:nvSpPr>
                    <p:spPr>
                      <a:xfrm>
                        <a:off x="822960" y="4990320"/>
                        <a:ext cx="16200" cy="16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920" bIns="-34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56" name="Oval 128"/>
                    <p:cNvSpPr/>
                    <p:nvPr/>
                  </p:nvSpPr>
                  <p:spPr>
                    <a:xfrm>
                      <a:off x="822960" y="4990320"/>
                      <a:ext cx="15120" cy="1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7" name="Group 101"/>
                  <p:cNvGrpSpPr/>
                  <p:nvPr/>
                </p:nvGrpSpPr>
                <p:grpSpPr>
                  <a:xfrm>
                    <a:off x="961920" y="4737600"/>
                    <a:ext cx="16560" cy="15840"/>
                    <a:chOff x="961920" y="4737600"/>
                    <a:chExt cx="16560" cy="15840"/>
                  </a:xfrm>
                </p:grpSpPr>
                <p:grpSp>
                  <p:nvGrpSpPr>
                    <p:cNvPr id="758" name="Group 102"/>
                    <p:cNvGrpSpPr/>
                    <p:nvPr/>
                  </p:nvGrpSpPr>
                  <p:grpSpPr>
                    <a:xfrm>
                      <a:off x="961920" y="4737600"/>
                      <a:ext cx="16560" cy="15840"/>
                      <a:chOff x="961920" y="4737600"/>
                      <a:chExt cx="16560" cy="15840"/>
                    </a:xfrm>
                  </p:grpSpPr>
                  <p:sp>
                    <p:nvSpPr>
                      <p:cNvPr id="759" name="Oval 131"/>
                      <p:cNvSpPr/>
                      <p:nvPr/>
                    </p:nvSpPr>
                    <p:spPr>
                      <a:xfrm>
                        <a:off x="965880" y="4737600"/>
                        <a:ext cx="828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0" name="Oval 132"/>
                      <p:cNvSpPr/>
                      <p:nvPr/>
                    </p:nvSpPr>
                    <p:spPr>
                      <a:xfrm>
                        <a:off x="961920" y="4737600"/>
                        <a:ext cx="1656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61" name="Oval 133"/>
                    <p:cNvSpPr/>
                    <p:nvPr/>
                  </p:nvSpPr>
                  <p:spPr>
                    <a:xfrm>
                      <a:off x="961920" y="4737600"/>
                      <a:ext cx="1548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2" name="Group 106"/>
                  <p:cNvGrpSpPr/>
                  <p:nvPr/>
                </p:nvGrpSpPr>
                <p:grpSpPr>
                  <a:xfrm>
                    <a:off x="1002960" y="4835520"/>
                    <a:ext cx="16200" cy="16200"/>
                    <a:chOff x="1002960" y="4835520"/>
                    <a:chExt cx="16200" cy="16200"/>
                  </a:xfrm>
                </p:grpSpPr>
                <p:grpSp>
                  <p:nvGrpSpPr>
                    <p:cNvPr id="763" name="Group 107"/>
                    <p:cNvGrpSpPr/>
                    <p:nvPr/>
                  </p:nvGrpSpPr>
                  <p:grpSpPr>
                    <a:xfrm>
                      <a:off x="1002960" y="4835520"/>
                      <a:ext cx="16200" cy="16200"/>
                      <a:chOff x="1002960" y="4835520"/>
                      <a:chExt cx="16200" cy="16200"/>
                    </a:xfrm>
                  </p:grpSpPr>
                  <p:sp>
                    <p:nvSpPr>
                      <p:cNvPr id="764" name="Oval 136"/>
                      <p:cNvSpPr/>
                      <p:nvPr/>
                    </p:nvSpPr>
                    <p:spPr>
                      <a:xfrm>
                        <a:off x="1006920" y="4835520"/>
                        <a:ext cx="792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5" name="Oval 137"/>
                      <p:cNvSpPr/>
                      <p:nvPr/>
                    </p:nvSpPr>
                    <p:spPr>
                      <a:xfrm>
                        <a:off x="1002960" y="4835520"/>
                        <a:ext cx="16200" cy="16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920" bIns="-34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66" name="Oval 138"/>
                    <p:cNvSpPr/>
                    <p:nvPr/>
                  </p:nvSpPr>
                  <p:spPr>
                    <a:xfrm>
                      <a:off x="1002960" y="4835520"/>
                      <a:ext cx="15120" cy="1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7" name="Oval 139"/>
                  <p:cNvSpPr/>
                  <p:nvPr/>
                </p:nvSpPr>
                <p:spPr>
                  <a:xfrm>
                    <a:off x="961560" y="4859640"/>
                    <a:ext cx="90720" cy="171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8" name="Group 112"/>
                  <p:cNvGrpSpPr/>
                  <p:nvPr/>
                </p:nvGrpSpPr>
                <p:grpSpPr>
                  <a:xfrm>
                    <a:off x="995040" y="4998600"/>
                    <a:ext cx="16200" cy="15840"/>
                    <a:chOff x="995040" y="4998600"/>
                    <a:chExt cx="16200" cy="15840"/>
                  </a:xfrm>
                </p:grpSpPr>
                <p:grpSp>
                  <p:nvGrpSpPr>
                    <p:cNvPr id="769" name="Group 113"/>
                    <p:cNvGrpSpPr/>
                    <p:nvPr/>
                  </p:nvGrpSpPr>
                  <p:grpSpPr>
                    <a:xfrm>
                      <a:off x="995040" y="4998600"/>
                      <a:ext cx="16200" cy="15840"/>
                      <a:chOff x="995040" y="4998600"/>
                      <a:chExt cx="16200" cy="15840"/>
                    </a:xfrm>
                  </p:grpSpPr>
                  <p:sp>
                    <p:nvSpPr>
                      <p:cNvPr id="770" name="Oval 142"/>
                      <p:cNvSpPr/>
                      <p:nvPr/>
                    </p:nvSpPr>
                    <p:spPr>
                      <a:xfrm>
                        <a:off x="999000" y="4998600"/>
                        <a:ext cx="792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Oval 143"/>
                      <p:cNvSpPr/>
                      <p:nvPr/>
                    </p:nvSpPr>
                    <p:spPr>
                      <a:xfrm>
                        <a:off x="995040" y="4998600"/>
                        <a:ext cx="1620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72" name="Oval 144"/>
                    <p:cNvSpPr/>
                    <p:nvPr/>
                  </p:nvSpPr>
                  <p:spPr>
                    <a:xfrm>
                      <a:off x="995040" y="4998600"/>
                      <a:ext cx="1512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3" name="Oval 145"/>
                  <p:cNvSpPr/>
                  <p:nvPr/>
                </p:nvSpPr>
                <p:spPr>
                  <a:xfrm>
                    <a:off x="791280" y="4867560"/>
                    <a:ext cx="56880" cy="155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be8dd"/>
                      </a:gs>
                      <a:gs pos="100000">
                        <a:srgbClr val="746b66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74" name="Group 118"/>
                  <p:cNvGrpSpPr/>
                  <p:nvPr/>
                </p:nvGrpSpPr>
                <p:grpSpPr>
                  <a:xfrm>
                    <a:off x="798840" y="4827240"/>
                    <a:ext cx="15840" cy="15840"/>
                    <a:chOff x="798840" y="4827240"/>
                    <a:chExt cx="15840" cy="15840"/>
                  </a:xfrm>
                </p:grpSpPr>
                <p:grpSp>
                  <p:nvGrpSpPr>
                    <p:cNvPr id="775" name="Group 119"/>
                    <p:cNvGrpSpPr/>
                    <p:nvPr/>
                  </p:nvGrpSpPr>
                  <p:grpSpPr>
                    <a:xfrm>
                      <a:off x="798840" y="4827240"/>
                      <a:ext cx="15840" cy="15840"/>
                      <a:chOff x="798840" y="4827240"/>
                      <a:chExt cx="15840" cy="15840"/>
                    </a:xfrm>
                  </p:grpSpPr>
                  <p:sp>
                    <p:nvSpPr>
                      <p:cNvPr id="776" name="Oval 148"/>
                      <p:cNvSpPr/>
                      <p:nvPr/>
                    </p:nvSpPr>
                    <p:spPr>
                      <a:xfrm>
                        <a:off x="802800" y="4827240"/>
                        <a:ext cx="792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7" name="Oval 149"/>
                      <p:cNvSpPr/>
                      <p:nvPr/>
                    </p:nvSpPr>
                    <p:spPr>
                      <a:xfrm>
                        <a:off x="798840" y="4827240"/>
                        <a:ext cx="1584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78" name="Oval 150"/>
                    <p:cNvSpPr/>
                    <p:nvPr/>
                  </p:nvSpPr>
                  <p:spPr>
                    <a:xfrm>
                      <a:off x="798840" y="4827240"/>
                      <a:ext cx="1476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9" name="Oval 151"/>
                  <p:cNvSpPr/>
                  <p:nvPr/>
                </p:nvSpPr>
                <p:spPr>
                  <a:xfrm>
                    <a:off x="995040" y="4869720"/>
                    <a:ext cx="56880" cy="154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3e9e5"/>
                      </a:gs>
                      <a:gs pos="100000">
                        <a:srgbClr val="706c6a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Freeform 152"/>
                  <p:cNvSpPr/>
                  <p:nvPr/>
                </p:nvSpPr>
                <p:spPr>
                  <a:xfrm>
                    <a:off x="782280" y="4868280"/>
                    <a:ext cx="3312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429">
                        <a:moveTo>
                          <a:pt x="0" y="0"/>
                        </a:moveTo>
                        <a:lnTo>
                          <a:pt x="23" y="159"/>
                        </a:lnTo>
                        <a:lnTo>
                          <a:pt x="23" y="703"/>
                        </a:lnTo>
                        <a:lnTo>
                          <a:pt x="0" y="1225"/>
                        </a:lnTo>
                        <a:lnTo>
                          <a:pt x="0" y="1429"/>
                        </a:lnTo>
                        <a:lnTo>
                          <a:pt x="68" y="1429"/>
                        </a:lnTo>
                        <a:lnTo>
                          <a:pt x="91" y="885"/>
                        </a:lnTo>
                        <a:lnTo>
                          <a:pt x="114" y="590"/>
                        </a:lnTo>
                        <a:lnTo>
                          <a:pt x="114" y="159"/>
                        </a:lnTo>
                        <a:lnTo>
                          <a:pt x="11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50000">
                        <a:srgbClr val="fff1e3"/>
                      </a:gs>
                      <a:gs pos="100000">
                        <a:srgbClr val="ffde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Freeform 153"/>
                  <p:cNvSpPr/>
                  <p:nvPr/>
                </p:nvSpPr>
                <p:spPr>
                  <a:xfrm rot="21360000">
                    <a:off x="1025280" y="4869720"/>
                    <a:ext cx="3240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429">
                        <a:moveTo>
                          <a:pt x="0" y="0"/>
                        </a:moveTo>
                        <a:lnTo>
                          <a:pt x="23" y="159"/>
                        </a:lnTo>
                        <a:lnTo>
                          <a:pt x="23" y="703"/>
                        </a:lnTo>
                        <a:lnTo>
                          <a:pt x="0" y="1225"/>
                        </a:lnTo>
                        <a:lnTo>
                          <a:pt x="0" y="1429"/>
                        </a:lnTo>
                        <a:lnTo>
                          <a:pt x="68" y="1429"/>
                        </a:lnTo>
                        <a:lnTo>
                          <a:pt x="91" y="885"/>
                        </a:lnTo>
                        <a:lnTo>
                          <a:pt x="114" y="590"/>
                        </a:lnTo>
                        <a:lnTo>
                          <a:pt x="114" y="159"/>
                        </a:lnTo>
                        <a:lnTo>
                          <a:pt x="11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50000">
                        <a:srgbClr val="fff1e3"/>
                      </a:gs>
                      <a:gs pos="100000">
                        <a:srgbClr val="ffdebd"/>
                      </a:gs>
                    </a:gsLst>
                    <a:lin ang="56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Oval 154"/>
                  <p:cNvSpPr/>
                  <p:nvPr/>
                </p:nvSpPr>
                <p:spPr>
                  <a:xfrm rot="361200">
                    <a:off x="741240" y="5270760"/>
                    <a:ext cx="258840" cy="278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66"/>
                      </a:gs>
                      <a:gs pos="100000">
                        <a:srgbClr val="1d583b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Oval 155"/>
                  <p:cNvSpPr/>
                  <p:nvPr/>
                </p:nvSpPr>
                <p:spPr>
                  <a:xfrm rot="3600000">
                    <a:off x="973080" y="5715000"/>
                    <a:ext cx="1814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e8a5c"/>
                      </a:gs>
                      <a:gs pos="100000">
                        <a:srgbClr val="1b503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Oval 156"/>
                  <p:cNvSpPr/>
                  <p:nvPr/>
                </p:nvSpPr>
                <p:spPr>
                  <a:xfrm>
                    <a:off x="831960" y="5620680"/>
                    <a:ext cx="5148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Oval 157"/>
                  <p:cNvSpPr/>
                  <p:nvPr/>
                </p:nvSpPr>
                <p:spPr>
                  <a:xfrm>
                    <a:off x="973440" y="5844600"/>
                    <a:ext cx="5184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Oval 158"/>
                  <p:cNvSpPr/>
                  <p:nvPr/>
                </p:nvSpPr>
                <p:spPr>
                  <a:xfrm>
                    <a:off x="1077840" y="5750280"/>
                    <a:ext cx="5184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Oval 159"/>
                  <p:cNvSpPr/>
                  <p:nvPr/>
                </p:nvSpPr>
                <p:spPr>
                  <a:xfrm>
                    <a:off x="728280" y="5844600"/>
                    <a:ext cx="5184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Oval 160"/>
                  <p:cNvSpPr/>
                  <p:nvPr/>
                </p:nvSpPr>
                <p:spPr>
                  <a:xfrm>
                    <a:off x="831960" y="5064120"/>
                    <a:ext cx="46080" cy="4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Oval 161"/>
                  <p:cNvSpPr/>
                  <p:nvPr/>
                </p:nvSpPr>
                <p:spPr>
                  <a:xfrm>
                    <a:off x="961560" y="5141520"/>
                    <a:ext cx="5112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Oval 162"/>
                  <p:cNvSpPr/>
                  <p:nvPr/>
                </p:nvSpPr>
                <p:spPr>
                  <a:xfrm>
                    <a:off x="818640" y="5245560"/>
                    <a:ext cx="5184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1" name="Group 135"/>
                  <p:cNvGrpSpPr/>
                  <p:nvPr/>
                </p:nvGrpSpPr>
                <p:grpSpPr>
                  <a:xfrm>
                    <a:off x="767160" y="4851720"/>
                    <a:ext cx="73440" cy="32400"/>
                    <a:chOff x="767160" y="4851720"/>
                    <a:chExt cx="73440" cy="32400"/>
                  </a:xfrm>
                </p:grpSpPr>
                <p:sp>
                  <p:nvSpPr>
                    <p:cNvPr id="792" name="Oval 164"/>
                    <p:cNvSpPr/>
                    <p:nvPr/>
                  </p:nvSpPr>
                  <p:spPr>
                    <a:xfrm>
                      <a:off x="785160" y="4859280"/>
                      <a:ext cx="37080" cy="15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Oval 165"/>
                    <p:cNvSpPr/>
                    <p:nvPr/>
                  </p:nvSpPr>
                  <p:spPr>
                    <a:xfrm>
                      <a:off x="767160" y="4851720"/>
                      <a:ext cx="73440" cy="32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4" name="Oval 166"/>
                  <p:cNvSpPr/>
                  <p:nvPr/>
                </p:nvSpPr>
                <p:spPr>
                  <a:xfrm>
                    <a:off x="1005120" y="4856400"/>
                    <a:ext cx="41040" cy="1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2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Oval 167"/>
                  <p:cNvSpPr/>
                  <p:nvPr/>
                </p:nvSpPr>
                <p:spPr>
                  <a:xfrm>
                    <a:off x="992160" y="4851720"/>
                    <a:ext cx="60120" cy="30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2f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Oval 168"/>
                  <p:cNvSpPr/>
                  <p:nvPr/>
                </p:nvSpPr>
                <p:spPr>
                  <a:xfrm rot="21000000">
                    <a:off x="986400" y="4795560"/>
                    <a:ext cx="8280" cy="73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6c6c">
                          <a:alpha val="0"/>
                        </a:srgbClr>
                      </a:gs>
                      <a:gs pos="100000">
                        <a:srgbClr val="eaeaea"/>
                      </a:gs>
                    </a:gsLst>
                    <a:lin ang="6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AutoShape 169"/>
                  <p:cNvSpPr/>
                  <p:nvPr/>
                </p:nvSpPr>
                <p:spPr>
                  <a:xfrm>
                    <a:off x="792360" y="5374440"/>
                    <a:ext cx="246240" cy="266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a50021"/>
                      </a:gs>
                      <a:gs pos="100000">
                        <a:srgbClr val="4c000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Oval 170"/>
                  <p:cNvSpPr/>
                  <p:nvPr/>
                </p:nvSpPr>
                <p:spPr>
                  <a:xfrm>
                    <a:off x="819000" y="5367960"/>
                    <a:ext cx="220320" cy="45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Oval 171"/>
                  <p:cNvSpPr/>
                  <p:nvPr/>
                </p:nvSpPr>
                <p:spPr>
                  <a:xfrm>
                    <a:off x="806040" y="5361840"/>
                    <a:ext cx="220320" cy="45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AutoShape 172"/>
                  <p:cNvSpPr/>
                  <p:nvPr/>
                </p:nvSpPr>
                <p:spPr>
                  <a:xfrm>
                    <a:off x="689760" y="5439960"/>
                    <a:ext cx="452520" cy="3758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cc0000"/>
                      </a:gs>
                      <a:gs pos="50000">
                        <a:srgbClr val="0d0000"/>
                      </a:gs>
                      <a:gs pos="100000">
                        <a:srgbClr val="cc0000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Oval 173"/>
                  <p:cNvSpPr/>
                  <p:nvPr/>
                </p:nvSpPr>
                <p:spPr>
                  <a:xfrm rot="1739400">
                    <a:off x="1025280" y="5439960"/>
                    <a:ext cx="12960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60000"/>
                        </a:srgbClr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74"/>
                  <p:cNvSpPr/>
                  <p:nvPr/>
                </p:nvSpPr>
                <p:spPr>
                  <a:xfrm>
                    <a:off x="689760" y="5465160"/>
                    <a:ext cx="414000" cy="336960"/>
                  </a:xfrm>
                  <a:prstGeom prst="roundRect">
                    <a:avLst>
                      <a:gd name="adj" fmla="val 11463"/>
                    </a:avLst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b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Freeform 175"/>
                  <p:cNvSpPr/>
                  <p:nvPr/>
                </p:nvSpPr>
                <p:spPr>
                  <a:xfrm>
                    <a:off x="767160" y="5387760"/>
                    <a:ext cx="295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91">
                        <a:moveTo>
                          <a:pt x="52" y="0"/>
                        </a:moveTo>
                        <a:cubicBezTo>
                          <a:pt x="33" y="4"/>
                          <a:pt x="14" y="8"/>
                          <a:pt x="7" y="23"/>
                        </a:cubicBezTo>
                        <a:cubicBezTo>
                          <a:pt x="0" y="38"/>
                          <a:pt x="14" y="80"/>
                          <a:pt x="7" y="91"/>
                        </a:cubicBezTo>
                      </a:path>
                    </a:pathLst>
                  </a:custGeom>
                  <a:noFill/>
                  <a:ln w="6984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Oval 176"/>
                  <p:cNvSpPr/>
                  <p:nvPr/>
                </p:nvSpPr>
                <p:spPr>
                  <a:xfrm>
                    <a:off x="728280" y="5361840"/>
                    <a:ext cx="77760" cy="116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5" name="Group 149"/>
                  <p:cNvGrpSpPr/>
                  <p:nvPr/>
                </p:nvGrpSpPr>
                <p:grpSpPr>
                  <a:xfrm>
                    <a:off x="1051920" y="5387760"/>
                    <a:ext cx="37800" cy="90720"/>
                    <a:chOff x="1051920" y="5387760"/>
                    <a:chExt cx="37800" cy="90720"/>
                  </a:xfrm>
                </p:grpSpPr>
                <p:sp>
                  <p:nvSpPr>
                    <p:cNvPr id="806" name="Freeform 178"/>
                    <p:cNvSpPr/>
                    <p:nvPr/>
                  </p:nvSpPr>
                  <p:spPr>
                    <a:xfrm flipH="1">
                      <a:off x="1057320" y="5387760"/>
                      <a:ext cx="1692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91">
                          <a:moveTo>
                            <a:pt x="52" y="0"/>
                          </a:moveTo>
                          <a:cubicBezTo>
                            <a:pt x="33" y="4"/>
                            <a:pt x="14" y="8"/>
                            <a:pt x="7" y="23"/>
                          </a:cubicBezTo>
                          <a:cubicBezTo>
                            <a:pt x="0" y="38"/>
                            <a:pt x="14" y="80"/>
                            <a:pt x="7" y="91"/>
                          </a:cubicBezTo>
                        </a:path>
                      </a:pathLst>
                    </a:custGeom>
                    <a:noFill/>
                    <a:ln w="69840">
                      <a:solidFill>
                        <a:srgbClr val="a5002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Oval 179"/>
                    <p:cNvSpPr/>
                    <p:nvPr/>
                  </p:nvSpPr>
                  <p:spPr>
                    <a:xfrm flipH="1">
                      <a:off x="1051560" y="5400720"/>
                      <a:ext cx="37800" cy="777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0000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Group 152"/>
                  <p:cNvGrpSpPr/>
                  <p:nvPr/>
                </p:nvGrpSpPr>
                <p:grpSpPr>
                  <a:xfrm>
                    <a:off x="1013040" y="5309640"/>
                    <a:ext cx="54720" cy="103320"/>
                    <a:chOff x="1013040" y="5309640"/>
                    <a:chExt cx="54720" cy="103320"/>
                  </a:xfrm>
                </p:grpSpPr>
                <p:sp>
                  <p:nvSpPr>
                    <p:cNvPr id="809" name="Freeform 181"/>
                    <p:cNvSpPr/>
                    <p:nvPr/>
                  </p:nvSpPr>
                  <p:spPr>
                    <a:xfrm flipH="1">
                      <a:off x="1026720" y="5309640"/>
                      <a:ext cx="3816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374">
                          <a:moveTo>
                            <a:pt x="34" y="23"/>
                          </a:moveTo>
                          <a:cubicBezTo>
                            <a:pt x="34" y="46"/>
                            <a:pt x="11" y="106"/>
                            <a:pt x="11" y="159"/>
                          </a:cubicBezTo>
                          <a:cubicBezTo>
                            <a:pt x="11" y="212"/>
                            <a:pt x="23" y="306"/>
                            <a:pt x="34" y="340"/>
                          </a:cubicBezTo>
                          <a:cubicBezTo>
                            <a:pt x="45" y="374"/>
                            <a:pt x="60" y="359"/>
                            <a:pt x="79" y="363"/>
                          </a:cubicBezTo>
                          <a:cubicBezTo>
                            <a:pt x="98" y="367"/>
                            <a:pt x="129" y="367"/>
                            <a:pt x="148" y="363"/>
                          </a:cubicBezTo>
                          <a:cubicBezTo>
                            <a:pt x="167" y="359"/>
                            <a:pt x="182" y="348"/>
                            <a:pt x="193" y="340"/>
                          </a:cubicBezTo>
                          <a:cubicBezTo>
                            <a:pt x="204" y="332"/>
                            <a:pt x="212" y="326"/>
                            <a:pt x="216" y="318"/>
                          </a:cubicBezTo>
                          <a:cubicBezTo>
                            <a:pt x="220" y="310"/>
                            <a:pt x="220" y="303"/>
                            <a:pt x="216" y="295"/>
                          </a:cubicBezTo>
                          <a:cubicBezTo>
                            <a:pt x="212" y="287"/>
                            <a:pt x="201" y="287"/>
                            <a:pt x="193" y="272"/>
                          </a:cubicBezTo>
                          <a:cubicBezTo>
                            <a:pt x="185" y="257"/>
                            <a:pt x="174" y="227"/>
                            <a:pt x="170" y="204"/>
                          </a:cubicBezTo>
                          <a:cubicBezTo>
                            <a:pt x="166" y="181"/>
                            <a:pt x="177" y="162"/>
                            <a:pt x="170" y="136"/>
                          </a:cubicBezTo>
                          <a:cubicBezTo>
                            <a:pt x="163" y="110"/>
                            <a:pt x="136" y="64"/>
                            <a:pt x="125" y="45"/>
                          </a:cubicBezTo>
                          <a:cubicBezTo>
                            <a:pt x="114" y="26"/>
                            <a:pt x="121" y="27"/>
                            <a:pt x="102" y="23"/>
                          </a:cubicBezTo>
                          <a:cubicBezTo>
                            <a:pt x="83" y="19"/>
                            <a:pt x="22" y="23"/>
                            <a:pt x="11" y="23"/>
                          </a:cubicBezTo>
                          <a:cubicBezTo>
                            <a:pt x="0" y="23"/>
                            <a:pt x="34" y="0"/>
                            <a:pt x="34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Oval 182"/>
                    <p:cNvSpPr/>
                    <p:nvPr/>
                  </p:nvSpPr>
                  <p:spPr>
                    <a:xfrm flipH="1" rot="600000">
                      <a:off x="1051560" y="5387040"/>
                      <a:ext cx="1440" cy="2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Oval 183"/>
                    <p:cNvSpPr/>
                    <p:nvPr/>
                  </p:nvSpPr>
                  <p:spPr>
                    <a:xfrm flipH="1" rot="600000">
                      <a:off x="1044000" y="5387040"/>
                      <a:ext cx="1440" cy="2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Oval 184"/>
                    <p:cNvSpPr/>
                    <p:nvPr/>
                  </p:nvSpPr>
                  <p:spPr>
                    <a:xfrm flipH="1" rot="600000">
                      <a:off x="1037520" y="5382360"/>
                      <a:ext cx="1440" cy="2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Oval 185"/>
                    <p:cNvSpPr/>
                    <p:nvPr/>
                  </p:nvSpPr>
                  <p:spPr>
                    <a:xfrm flipH="1" rot="840000">
                      <a:off x="1033920" y="5377680"/>
                      <a:ext cx="1800" cy="21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Oval 186"/>
                    <p:cNvSpPr/>
                    <p:nvPr/>
                  </p:nvSpPr>
                  <p:spPr>
                    <a:xfrm flipH="1" rot="711600">
                      <a:off x="1028880" y="5391000"/>
                      <a:ext cx="6840" cy="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Oval 187"/>
                    <p:cNvSpPr/>
                    <p:nvPr/>
                  </p:nvSpPr>
                  <p:spPr>
                    <a:xfrm flipH="1" rot="967800">
                      <a:off x="1032480" y="5374800"/>
                      <a:ext cx="32040" cy="25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39393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Freeform 188"/>
                    <p:cNvSpPr/>
                    <p:nvPr/>
                  </p:nvSpPr>
                  <p:spPr>
                    <a:xfrm flipH="1">
                      <a:off x="1013040" y="5314680"/>
                      <a:ext cx="3528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336">
                          <a:moveTo>
                            <a:pt x="11" y="30"/>
                          </a:moveTo>
                          <a:cubicBezTo>
                            <a:pt x="15" y="41"/>
                            <a:pt x="23" y="45"/>
                            <a:pt x="34" y="75"/>
                          </a:cubicBezTo>
                          <a:cubicBezTo>
                            <a:pt x="45" y="105"/>
                            <a:pt x="68" y="181"/>
                            <a:pt x="79" y="211"/>
                          </a:cubicBezTo>
                          <a:cubicBezTo>
                            <a:pt x="90" y="241"/>
                            <a:pt x="91" y="237"/>
                            <a:pt x="102" y="256"/>
                          </a:cubicBezTo>
                          <a:cubicBezTo>
                            <a:pt x="113" y="275"/>
                            <a:pt x="128" y="314"/>
                            <a:pt x="147" y="325"/>
                          </a:cubicBezTo>
                          <a:cubicBezTo>
                            <a:pt x="166" y="336"/>
                            <a:pt x="208" y="329"/>
                            <a:pt x="215" y="325"/>
                          </a:cubicBezTo>
                          <a:cubicBezTo>
                            <a:pt x="222" y="321"/>
                            <a:pt x="200" y="306"/>
                            <a:pt x="192" y="302"/>
                          </a:cubicBezTo>
                          <a:cubicBezTo>
                            <a:pt x="184" y="298"/>
                            <a:pt x="177" y="310"/>
                            <a:pt x="170" y="302"/>
                          </a:cubicBezTo>
                          <a:cubicBezTo>
                            <a:pt x="163" y="294"/>
                            <a:pt x="158" y="279"/>
                            <a:pt x="147" y="256"/>
                          </a:cubicBezTo>
                          <a:cubicBezTo>
                            <a:pt x="136" y="233"/>
                            <a:pt x="113" y="196"/>
                            <a:pt x="102" y="166"/>
                          </a:cubicBezTo>
                          <a:cubicBezTo>
                            <a:pt x="91" y="136"/>
                            <a:pt x="94" y="101"/>
                            <a:pt x="79" y="75"/>
                          </a:cubicBezTo>
                          <a:cubicBezTo>
                            <a:pt x="64" y="49"/>
                            <a:pt x="22" y="14"/>
                            <a:pt x="11" y="7"/>
                          </a:cubicBezTo>
                          <a:cubicBezTo>
                            <a:pt x="0" y="0"/>
                            <a:pt x="7" y="19"/>
                            <a:pt x="11" y="3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Oval 189"/>
                    <p:cNvSpPr/>
                    <p:nvPr/>
                  </p:nvSpPr>
                  <p:spPr>
                    <a:xfrm flipH="1" rot="840000">
                      <a:off x="1037520" y="5334840"/>
                      <a:ext cx="1440" cy="21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ffd9b4">
                            <a:alpha val="4000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Oval 190"/>
                    <p:cNvSpPr/>
                    <p:nvPr/>
                  </p:nvSpPr>
                  <p:spPr>
                    <a:xfrm flipH="1" rot="711600">
                      <a:off x="1046160" y="5401800"/>
                      <a:ext cx="684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Oval 191"/>
                    <p:cNvSpPr/>
                    <p:nvPr/>
                  </p:nvSpPr>
                  <p:spPr>
                    <a:xfrm flipH="1" rot="711600">
                      <a:off x="1040040" y="5403960"/>
                      <a:ext cx="6120" cy="57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Oval 192"/>
                    <p:cNvSpPr/>
                    <p:nvPr/>
                  </p:nvSpPr>
                  <p:spPr>
                    <a:xfrm flipH="1" rot="711600">
                      <a:off x="1031040" y="5401800"/>
                      <a:ext cx="684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Oval 193"/>
                    <p:cNvSpPr/>
                    <p:nvPr/>
                  </p:nvSpPr>
                  <p:spPr>
                    <a:xfrm flipH="1" rot="711600">
                      <a:off x="1028880" y="5395680"/>
                      <a:ext cx="6840" cy="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2" name="Group 166"/>
                  <p:cNvGrpSpPr/>
                  <p:nvPr/>
                </p:nvGrpSpPr>
                <p:grpSpPr>
                  <a:xfrm>
                    <a:off x="776880" y="5309640"/>
                    <a:ext cx="53640" cy="103320"/>
                    <a:chOff x="776880" y="5309640"/>
                    <a:chExt cx="53640" cy="103320"/>
                  </a:xfrm>
                </p:grpSpPr>
                <p:sp>
                  <p:nvSpPr>
                    <p:cNvPr id="823" name="Freeform 195"/>
                    <p:cNvSpPr/>
                    <p:nvPr/>
                  </p:nvSpPr>
                  <p:spPr>
                    <a:xfrm>
                      <a:off x="779760" y="5309640"/>
                      <a:ext cx="3744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374">
                          <a:moveTo>
                            <a:pt x="34" y="23"/>
                          </a:moveTo>
                          <a:cubicBezTo>
                            <a:pt x="34" y="46"/>
                            <a:pt x="11" y="106"/>
                            <a:pt x="11" y="159"/>
                          </a:cubicBezTo>
                          <a:cubicBezTo>
                            <a:pt x="11" y="212"/>
                            <a:pt x="23" y="306"/>
                            <a:pt x="34" y="340"/>
                          </a:cubicBezTo>
                          <a:cubicBezTo>
                            <a:pt x="45" y="374"/>
                            <a:pt x="60" y="359"/>
                            <a:pt x="79" y="363"/>
                          </a:cubicBezTo>
                          <a:cubicBezTo>
                            <a:pt x="98" y="367"/>
                            <a:pt x="129" y="367"/>
                            <a:pt x="148" y="363"/>
                          </a:cubicBezTo>
                          <a:cubicBezTo>
                            <a:pt x="167" y="359"/>
                            <a:pt x="182" y="348"/>
                            <a:pt x="193" y="340"/>
                          </a:cubicBezTo>
                          <a:cubicBezTo>
                            <a:pt x="204" y="332"/>
                            <a:pt x="212" y="326"/>
                            <a:pt x="216" y="318"/>
                          </a:cubicBezTo>
                          <a:cubicBezTo>
                            <a:pt x="220" y="310"/>
                            <a:pt x="220" y="303"/>
                            <a:pt x="216" y="295"/>
                          </a:cubicBezTo>
                          <a:cubicBezTo>
                            <a:pt x="212" y="287"/>
                            <a:pt x="201" y="287"/>
                            <a:pt x="193" y="272"/>
                          </a:cubicBezTo>
                          <a:cubicBezTo>
                            <a:pt x="185" y="257"/>
                            <a:pt x="174" y="227"/>
                            <a:pt x="170" y="204"/>
                          </a:cubicBezTo>
                          <a:cubicBezTo>
                            <a:pt x="166" y="181"/>
                            <a:pt x="177" y="162"/>
                            <a:pt x="170" y="136"/>
                          </a:cubicBezTo>
                          <a:cubicBezTo>
                            <a:pt x="163" y="110"/>
                            <a:pt x="136" y="64"/>
                            <a:pt x="125" y="45"/>
                          </a:cubicBezTo>
                          <a:cubicBezTo>
                            <a:pt x="114" y="26"/>
                            <a:pt x="121" y="27"/>
                            <a:pt x="102" y="23"/>
                          </a:cubicBezTo>
                          <a:cubicBezTo>
                            <a:pt x="83" y="19"/>
                            <a:pt x="22" y="23"/>
                            <a:pt x="11" y="23"/>
                          </a:cubicBezTo>
                          <a:cubicBezTo>
                            <a:pt x="0" y="23"/>
                            <a:pt x="34" y="0"/>
                            <a:pt x="34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Oval 196"/>
                    <p:cNvSpPr/>
                    <p:nvPr/>
                  </p:nvSpPr>
                  <p:spPr>
                    <a:xfrm rot="21000000">
                      <a:off x="790560" y="5387400"/>
                      <a:ext cx="1440" cy="2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Oval 197"/>
                    <p:cNvSpPr/>
                    <p:nvPr/>
                  </p:nvSpPr>
                  <p:spPr>
                    <a:xfrm rot="21000000">
                      <a:off x="797760" y="5387400"/>
                      <a:ext cx="1440" cy="2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Oval 198"/>
                    <p:cNvSpPr/>
                    <p:nvPr/>
                  </p:nvSpPr>
                  <p:spPr>
                    <a:xfrm rot="21000000">
                      <a:off x="804600" y="5382720"/>
                      <a:ext cx="1440" cy="2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Oval 199"/>
                    <p:cNvSpPr/>
                    <p:nvPr/>
                  </p:nvSpPr>
                  <p:spPr>
                    <a:xfrm rot="20760000">
                      <a:off x="808200" y="5377680"/>
                      <a:ext cx="1800" cy="21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Oval 200"/>
                    <p:cNvSpPr/>
                    <p:nvPr/>
                  </p:nvSpPr>
                  <p:spPr>
                    <a:xfrm rot="20888400">
                      <a:off x="808200" y="5391000"/>
                      <a:ext cx="6840" cy="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Oval 201"/>
                    <p:cNvSpPr/>
                    <p:nvPr/>
                  </p:nvSpPr>
                  <p:spPr>
                    <a:xfrm rot="20632200">
                      <a:off x="779760" y="5374800"/>
                      <a:ext cx="31680" cy="25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39393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Freeform 202"/>
                    <p:cNvSpPr/>
                    <p:nvPr/>
                  </p:nvSpPr>
                  <p:spPr>
                    <a:xfrm>
                      <a:off x="795960" y="5314680"/>
                      <a:ext cx="3456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336">
                          <a:moveTo>
                            <a:pt x="11" y="30"/>
                          </a:moveTo>
                          <a:cubicBezTo>
                            <a:pt x="15" y="41"/>
                            <a:pt x="23" y="45"/>
                            <a:pt x="34" y="75"/>
                          </a:cubicBezTo>
                          <a:cubicBezTo>
                            <a:pt x="45" y="105"/>
                            <a:pt x="68" y="181"/>
                            <a:pt x="79" y="211"/>
                          </a:cubicBezTo>
                          <a:cubicBezTo>
                            <a:pt x="90" y="241"/>
                            <a:pt x="91" y="237"/>
                            <a:pt x="102" y="256"/>
                          </a:cubicBezTo>
                          <a:cubicBezTo>
                            <a:pt x="113" y="275"/>
                            <a:pt x="128" y="314"/>
                            <a:pt x="147" y="325"/>
                          </a:cubicBezTo>
                          <a:cubicBezTo>
                            <a:pt x="166" y="336"/>
                            <a:pt x="208" y="329"/>
                            <a:pt x="215" y="325"/>
                          </a:cubicBezTo>
                          <a:cubicBezTo>
                            <a:pt x="222" y="321"/>
                            <a:pt x="200" y="306"/>
                            <a:pt x="192" y="302"/>
                          </a:cubicBezTo>
                          <a:cubicBezTo>
                            <a:pt x="184" y="298"/>
                            <a:pt x="177" y="310"/>
                            <a:pt x="170" y="302"/>
                          </a:cubicBezTo>
                          <a:cubicBezTo>
                            <a:pt x="163" y="294"/>
                            <a:pt x="158" y="279"/>
                            <a:pt x="147" y="256"/>
                          </a:cubicBezTo>
                          <a:cubicBezTo>
                            <a:pt x="136" y="233"/>
                            <a:pt x="113" y="196"/>
                            <a:pt x="102" y="166"/>
                          </a:cubicBezTo>
                          <a:cubicBezTo>
                            <a:pt x="91" y="136"/>
                            <a:pt x="94" y="101"/>
                            <a:pt x="79" y="75"/>
                          </a:cubicBezTo>
                          <a:cubicBezTo>
                            <a:pt x="64" y="49"/>
                            <a:pt x="22" y="14"/>
                            <a:pt x="11" y="7"/>
                          </a:cubicBezTo>
                          <a:cubicBezTo>
                            <a:pt x="0" y="0"/>
                            <a:pt x="7" y="19"/>
                            <a:pt x="11" y="3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Oval 203"/>
                    <p:cNvSpPr/>
                    <p:nvPr/>
                  </p:nvSpPr>
                  <p:spPr>
                    <a:xfrm rot="20760000">
                      <a:off x="804600" y="5334840"/>
                      <a:ext cx="1440" cy="21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ffd9b4">
                            <a:alpha val="4000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Oval 204"/>
                    <p:cNvSpPr/>
                    <p:nvPr/>
                  </p:nvSpPr>
                  <p:spPr>
                    <a:xfrm rot="20888400">
                      <a:off x="790560" y="5401800"/>
                      <a:ext cx="684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Oval 205"/>
                    <p:cNvSpPr/>
                    <p:nvPr/>
                  </p:nvSpPr>
                  <p:spPr>
                    <a:xfrm rot="20888400">
                      <a:off x="797760" y="5403960"/>
                      <a:ext cx="612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Oval 206"/>
                    <p:cNvSpPr/>
                    <p:nvPr/>
                  </p:nvSpPr>
                  <p:spPr>
                    <a:xfrm rot="20888400">
                      <a:off x="805320" y="5401800"/>
                      <a:ext cx="684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Oval 207"/>
                    <p:cNvSpPr/>
                    <p:nvPr/>
                  </p:nvSpPr>
                  <p:spPr>
                    <a:xfrm rot="20888400">
                      <a:off x="808200" y="5395680"/>
                      <a:ext cx="6840" cy="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6" name="AutoShape 208"/>
                  <p:cNvSpPr/>
                  <p:nvPr/>
                </p:nvSpPr>
                <p:spPr>
                  <a:xfrm>
                    <a:off x="806040" y="5569560"/>
                    <a:ext cx="21960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209"/>
                  <p:cNvSpPr/>
                  <p:nvPr/>
                </p:nvSpPr>
                <p:spPr>
                  <a:xfrm>
                    <a:off x="818640" y="5569560"/>
                    <a:ext cx="15480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Oval 210"/>
                  <p:cNvSpPr/>
                  <p:nvPr/>
                </p:nvSpPr>
                <p:spPr>
                  <a:xfrm>
                    <a:off x="973440" y="5400360"/>
                    <a:ext cx="51840" cy="5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Oval 211"/>
                  <p:cNvSpPr/>
                  <p:nvPr/>
                </p:nvSpPr>
                <p:spPr>
                  <a:xfrm>
                    <a:off x="909360" y="5271120"/>
                    <a:ext cx="5184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AutoShape 212"/>
                  <p:cNvSpPr/>
                  <p:nvPr/>
                </p:nvSpPr>
                <p:spPr>
                  <a:xfrm>
                    <a:off x="767160" y="5556240"/>
                    <a:ext cx="194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blipFill rotWithShape="0">
                    <a:blip r:embed="rId6">
                      <a:alphaModFix amt="40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AutoShape 213"/>
                  <p:cNvSpPr/>
                  <p:nvPr/>
                </p:nvSpPr>
                <p:spPr>
                  <a:xfrm>
                    <a:off x="728280" y="5504040"/>
                    <a:ext cx="3852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AutoShape 214"/>
                  <p:cNvSpPr/>
                  <p:nvPr/>
                </p:nvSpPr>
                <p:spPr>
                  <a:xfrm>
                    <a:off x="728280" y="5711760"/>
                    <a:ext cx="385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AutoShape 215"/>
                  <p:cNvSpPr/>
                  <p:nvPr/>
                </p:nvSpPr>
                <p:spPr>
                  <a:xfrm>
                    <a:off x="1038960" y="5504040"/>
                    <a:ext cx="3852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AutoShape 216"/>
                  <p:cNvSpPr/>
                  <p:nvPr/>
                </p:nvSpPr>
                <p:spPr>
                  <a:xfrm>
                    <a:off x="1038960" y="5711760"/>
                    <a:ext cx="385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5" name="Group 189"/>
                <p:cNvGrpSpPr/>
                <p:nvPr/>
              </p:nvGrpSpPr>
              <p:grpSpPr>
                <a:xfrm>
                  <a:off x="806040" y="4541400"/>
                  <a:ext cx="200160" cy="129960"/>
                  <a:chOff x="806040" y="4541400"/>
                  <a:chExt cx="200160" cy="129960"/>
                </a:xfrm>
              </p:grpSpPr>
              <p:grpSp>
                <p:nvGrpSpPr>
                  <p:cNvPr id="846" name="Group 190"/>
                  <p:cNvGrpSpPr/>
                  <p:nvPr/>
                </p:nvGrpSpPr>
                <p:grpSpPr>
                  <a:xfrm>
                    <a:off x="818280" y="4541400"/>
                    <a:ext cx="45360" cy="36000"/>
                    <a:chOff x="818280" y="4541400"/>
                    <a:chExt cx="45360" cy="36000"/>
                  </a:xfrm>
                </p:grpSpPr>
                <p:sp>
                  <p:nvSpPr>
                    <p:cNvPr id="847" name="Oval 219"/>
                    <p:cNvSpPr/>
                    <p:nvPr/>
                  </p:nvSpPr>
                  <p:spPr>
                    <a:xfrm>
                      <a:off x="827640" y="4541400"/>
                      <a:ext cx="36000" cy="36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2125"/>
                        </a:gs>
                        <a:gs pos="100000">
                          <a:srgbClr val="180f11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880" bIns="-20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Freeform 220"/>
                    <p:cNvSpPr/>
                    <p:nvPr/>
                  </p:nvSpPr>
                  <p:spPr>
                    <a:xfrm flipH="1">
                      <a:off x="817920" y="4550040"/>
                      <a:ext cx="363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102">
                          <a:moveTo>
                            <a:pt x="4" y="52"/>
                          </a:moveTo>
                          <a:cubicBezTo>
                            <a:pt x="0" y="37"/>
                            <a:pt x="31" y="14"/>
                            <a:pt x="50" y="7"/>
                          </a:cubicBezTo>
                          <a:cubicBezTo>
                            <a:pt x="69" y="0"/>
                            <a:pt x="99" y="0"/>
                            <a:pt x="118" y="7"/>
                          </a:cubicBezTo>
                          <a:cubicBezTo>
                            <a:pt x="137" y="14"/>
                            <a:pt x="171" y="37"/>
                            <a:pt x="163" y="52"/>
                          </a:cubicBezTo>
                          <a:cubicBezTo>
                            <a:pt x="155" y="67"/>
                            <a:pt x="98" y="94"/>
                            <a:pt x="72" y="98"/>
                          </a:cubicBezTo>
                          <a:cubicBezTo>
                            <a:pt x="46" y="102"/>
                            <a:pt x="8" y="67"/>
                            <a:pt x="4" y="52"/>
                          </a:cubicBez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9" name="Group 193"/>
                  <p:cNvGrpSpPr/>
                  <p:nvPr/>
                </p:nvGrpSpPr>
                <p:grpSpPr>
                  <a:xfrm>
                    <a:off x="949320" y="4549320"/>
                    <a:ext cx="44640" cy="36000"/>
                    <a:chOff x="949320" y="4549320"/>
                    <a:chExt cx="44640" cy="36000"/>
                  </a:xfrm>
                </p:grpSpPr>
                <p:sp>
                  <p:nvSpPr>
                    <p:cNvPr id="850" name="Oval 222"/>
                    <p:cNvSpPr/>
                    <p:nvPr/>
                  </p:nvSpPr>
                  <p:spPr>
                    <a:xfrm flipH="1">
                      <a:off x="949320" y="4549320"/>
                      <a:ext cx="35280" cy="36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2125"/>
                        </a:gs>
                        <a:gs pos="100000">
                          <a:srgbClr val="180f11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880" bIns="-20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Freeform 223"/>
                    <p:cNvSpPr/>
                    <p:nvPr/>
                  </p:nvSpPr>
                  <p:spPr>
                    <a:xfrm>
                      <a:off x="958320" y="4557960"/>
                      <a:ext cx="3564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102">
                          <a:moveTo>
                            <a:pt x="4" y="52"/>
                          </a:moveTo>
                          <a:cubicBezTo>
                            <a:pt x="0" y="37"/>
                            <a:pt x="31" y="14"/>
                            <a:pt x="50" y="7"/>
                          </a:cubicBezTo>
                          <a:cubicBezTo>
                            <a:pt x="69" y="0"/>
                            <a:pt x="99" y="0"/>
                            <a:pt x="118" y="7"/>
                          </a:cubicBezTo>
                          <a:cubicBezTo>
                            <a:pt x="137" y="14"/>
                            <a:pt x="171" y="37"/>
                            <a:pt x="163" y="52"/>
                          </a:cubicBezTo>
                          <a:cubicBezTo>
                            <a:pt x="155" y="67"/>
                            <a:pt x="98" y="94"/>
                            <a:pt x="72" y="98"/>
                          </a:cubicBezTo>
                          <a:cubicBezTo>
                            <a:pt x="46" y="102"/>
                            <a:pt x="8" y="67"/>
                            <a:pt x="4" y="52"/>
                          </a:cubicBez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2" name="Oval 224"/>
                  <p:cNvSpPr/>
                  <p:nvPr/>
                </p:nvSpPr>
                <p:spPr>
                  <a:xfrm>
                    <a:off x="806040" y="4574160"/>
                    <a:ext cx="56160" cy="56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a3262">
                          <a:alpha val="70196"/>
                        </a:srgbClr>
                      </a:gs>
                      <a:gs pos="100000">
                        <a:srgbClr val="ffdeb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3" name="Group 197"/>
                  <p:cNvGrpSpPr/>
                  <p:nvPr/>
                </p:nvGrpSpPr>
                <p:grpSpPr>
                  <a:xfrm>
                    <a:off x="949680" y="4582440"/>
                    <a:ext cx="56520" cy="56160"/>
                    <a:chOff x="949680" y="4582440"/>
                    <a:chExt cx="56520" cy="56160"/>
                  </a:xfrm>
                </p:grpSpPr>
                <p:sp>
                  <p:nvSpPr>
                    <p:cNvPr id="854" name="Oval 226"/>
                    <p:cNvSpPr/>
                    <p:nvPr/>
                  </p:nvSpPr>
                  <p:spPr>
                    <a:xfrm>
                      <a:off x="949680" y="4582440"/>
                      <a:ext cx="56520" cy="56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a3262">
                            <a:alpha val="70196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Oval 227"/>
                    <p:cNvSpPr/>
                    <p:nvPr/>
                  </p:nvSpPr>
                  <p:spPr>
                    <a:xfrm>
                      <a:off x="973440" y="4590360"/>
                      <a:ext cx="32760" cy="31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13b59">
                            <a:alpha val="30196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lin ang="189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6" name="AutoShape 228"/>
                  <p:cNvSpPr/>
                  <p:nvPr/>
                </p:nvSpPr>
                <p:spPr>
                  <a:xfrm rot="10800000">
                    <a:off x="902880" y="4590000"/>
                    <a:ext cx="864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ec0b4"/>
                      </a:gs>
                      <a:gs pos="100000">
                        <a:srgbClr val="f1cdc3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Oval 229"/>
                  <p:cNvSpPr/>
                  <p:nvPr/>
                </p:nvSpPr>
                <p:spPr>
                  <a:xfrm>
                    <a:off x="870480" y="4565520"/>
                    <a:ext cx="81720" cy="81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be8dd">
                          <a:alpha val="60000"/>
                        </a:srgbClr>
                      </a:gs>
                      <a:gs pos="100000">
                        <a:srgbClr val="ffffff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8" name="Group 202"/>
                  <p:cNvGrpSpPr/>
                  <p:nvPr/>
                </p:nvGrpSpPr>
                <p:grpSpPr>
                  <a:xfrm>
                    <a:off x="867600" y="4638960"/>
                    <a:ext cx="81720" cy="32400"/>
                    <a:chOff x="867600" y="4638960"/>
                    <a:chExt cx="81720" cy="32400"/>
                  </a:xfrm>
                </p:grpSpPr>
                <p:sp>
                  <p:nvSpPr>
                    <p:cNvPr id="859" name="Oval 231"/>
                    <p:cNvSpPr/>
                    <p:nvPr/>
                  </p:nvSpPr>
                  <p:spPr>
                    <a:xfrm>
                      <a:off x="867600" y="4638960"/>
                      <a:ext cx="81720" cy="32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d1a3">
                            <a:alpha val="40000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Freeform 232"/>
                    <p:cNvSpPr/>
                    <p:nvPr/>
                  </p:nvSpPr>
                  <p:spPr>
                    <a:xfrm>
                      <a:off x="897120" y="4655160"/>
                      <a:ext cx="2196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4">
                          <a:moveTo>
                            <a:pt x="0" y="4"/>
                          </a:moveTo>
                          <a:cubicBezTo>
                            <a:pt x="19" y="2"/>
                            <a:pt x="38" y="0"/>
                            <a:pt x="68" y="4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f6d3a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861" name="Freeform 236"/>
          <p:cNvSpPr/>
          <p:nvPr/>
        </p:nvSpPr>
        <p:spPr>
          <a:xfrm>
            <a:off x="8209080" y="4149720"/>
            <a:ext cx="533160" cy="248616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237"/>
          <p:cNvSpPr/>
          <p:nvPr/>
        </p:nvSpPr>
        <p:spPr>
          <a:xfrm>
            <a:off x="720720" y="227808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4"/>
          <p:cNvSpPr/>
          <p:nvPr/>
        </p:nvSpPr>
        <p:spPr>
          <a:xfrm>
            <a:off x="252360" y="1089000"/>
            <a:ext cx="8604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6"/>
          <p:cNvSpPr/>
          <p:nvPr/>
        </p:nvSpPr>
        <p:spPr>
          <a:xfrm>
            <a:off x="1224000" y="5553000"/>
            <a:ext cx="253800" cy="25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"/>
          <p:cNvSpPr/>
          <p:nvPr/>
        </p:nvSpPr>
        <p:spPr>
          <a:xfrm>
            <a:off x="1476360" y="5373720"/>
            <a:ext cx="38880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3"/>
          <p:cNvSpPr/>
          <p:nvPr/>
        </p:nvSpPr>
        <p:spPr>
          <a:xfrm>
            <a:off x="1044720" y="1341360"/>
            <a:ext cx="7291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纳塔莉关上房门，眼睛拼命四处搜寻着，突然，她看见自己的照相机，眼睛不禁一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4"/>
          <p:cNvSpPr/>
          <p:nvPr/>
        </p:nvSpPr>
        <p:spPr>
          <a:xfrm>
            <a:off x="1187280" y="2565360"/>
            <a:ext cx="624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她想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233"/>
          <p:cNvSpPr/>
          <p:nvPr/>
        </p:nvSpPr>
        <p:spPr>
          <a:xfrm>
            <a:off x="1079640" y="2997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对换的方法来保护真胶卷。把威廉叔叔的胶卷装进照相机，拿上自己的胶卷蒙蔽歹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249"/>
          <p:cNvSpPr/>
          <p:nvPr/>
        </p:nvSpPr>
        <p:spPr>
          <a:xfrm rot="14400000">
            <a:off x="7803360" y="1943640"/>
            <a:ext cx="130320" cy="44280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250"/>
          <p:cNvSpPr/>
          <p:nvPr/>
        </p:nvSpPr>
        <p:spPr>
          <a:xfrm rot="1800000">
            <a:off x="8064360" y="4832280"/>
            <a:ext cx="1461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251"/>
          <p:cNvSpPr/>
          <p:nvPr/>
        </p:nvSpPr>
        <p:spPr>
          <a:xfrm rot="5400000">
            <a:off x="8172720" y="6133320"/>
            <a:ext cx="1414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ec009d"/>
              </a:gs>
              <a:gs pos="50000">
                <a:srgbClr val="ffe5ff"/>
              </a:gs>
              <a:gs pos="100000">
                <a:srgbClr val="ec009d"/>
              </a:gs>
            </a:gsLst>
            <a:lin ang="189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252"/>
          <p:cNvSpPr/>
          <p:nvPr/>
        </p:nvSpPr>
        <p:spPr>
          <a:xfrm rot="17400000">
            <a:off x="8040600" y="3868560"/>
            <a:ext cx="181080" cy="53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253"/>
          <p:cNvSpPr/>
          <p:nvPr/>
        </p:nvSpPr>
        <p:spPr>
          <a:xfrm rot="5400000">
            <a:off x="8071920" y="2757240"/>
            <a:ext cx="1396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219"/>
          <p:cNvSpPr/>
          <p:nvPr/>
        </p:nvSpPr>
        <p:spPr>
          <a:xfrm>
            <a:off x="1368360" y="4221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她迅速取出照相机里的胶卷，把威廉叔叔的胶卷装了进去，然后把自己的胶卷塞进口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WordArt 220"/>
          <p:cNvSpPr txBox="1"/>
          <p:nvPr/>
        </p:nvSpPr>
        <p:spPr>
          <a:xfrm>
            <a:off x="2556000" y="297000"/>
            <a:ext cx="37335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聪明、机智、勇敢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2" descr="11"/>
          <p:cNvPicPr/>
          <p:nvPr/>
        </p:nvPicPr>
        <p:blipFill>
          <a:blip r:embed="rId2"/>
          <a:stretch/>
        </p:blipFill>
        <p:spPr>
          <a:xfrm>
            <a:off x="5030640" y="0"/>
            <a:ext cx="4267440" cy="6781680"/>
          </a:xfrm>
          <a:prstGeom prst="rect">
            <a:avLst/>
          </a:prstGeom>
          <a:ln w="0">
            <a:noFill/>
          </a:ln>
        </p:spPr>
      </p:pic>
      <p:sp>
        <p:nvSpPr>
          <p:cNvPr id="877" name="Text Box 3"/>
          <p:cNvSpPr/>
          <p:nvPr/>
        </p:nvSpPr>
        <p:spPr>
          <a:xfrm>
            <a:off x="324000" y="234936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纳塔莉背对着那个高个子，手里攥着胶卷，在陶瓷虎右眼眶鼓起的地方按了一下。老虎的嘴慢慢张开，纳塔莉一松手，赶忙把胶卷放进老虎口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WordArt 10"/>
          <p:cNvSpPr txBox="1"/>
          <p:nvPr/>
        </p:nvSpPr>
        <p:spPr>
          <a:xfrm>
            <a:off x="781200" y="1052640"/>
            <a:ext cx="37335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机智、勇敢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ircle/>
    <p:sndAc>
      <p:stSnd>
        <p:snd r:embed="rId3" name="chimes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2"/>
          <p:cNvGrpSpPr/>
          <p:nvPr/>
        </p:nvGrpSpPr>
        <p:grpSpPr>
          <a:xfrm>
            <a:off x="0" y="4056120"/>
            <a:ext cx="2604960" cy="2360520"/>
            <a:chOff x="0" y="4056120"/>
            <a:chExt cx="2604960" cy="2360520"/>
          </a:xfrm>
        </p:grpSpPr>
        <p:sp>
          <p:nvSpPr>
            <p:cNvPr id="880" name="Oval 18"/>
            <p:cNvSpPr/>
            <p:nvPr/>
          </p:nvSpPr>
          <p:spPr>
            <a:xfrm>
              <a:off x="0" y="5783400"/>
              <a:ext cx="2604960" cy="633240"/>
            </a:xfrm>
            <a:prstGeom prst="ellipse">
              <a:avLst/>
            </a:prstGeom>
            <a:gradFill rotWithShape="0">
              <a:gsLst>
                <a:gs pos="0">
                  <a:srgbClr val="005e5c">
                    <a:alpha val="60000"/>
                  </a:srgbClr>
                </a:gs>
                <a:gs pos="100000">
                  <a:srgbClr val="00363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9"/>
            <p:cNvSpPr/>
            <p:nvPr/>
          </p:nvSpPr>
          <p:spPr>
            <a:xfrm>
              <a:off x="301680" y="4056120"/>
              <a:ext cx="417600" cy="417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20"/>
            <p:cNvSpPr/>
            <p:nvPr/>
          </p:nvSpPr>
          <p:spPr>
            <a:xfrm>
              <a:off x="314280" y="4083120"/>
              <a:ext cx="393840" cy="35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21"/>
            <p:cNvSpPr/>
            <p:nvPr/>
          </p:nvSpPr>
          <p:spPr>
            <a:xfrm>
              <a:off x="336600" y="4111560"/>
              <a:ext cx="345960" cy="31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AutoShape 22"/>
            <p:cNvSpPr/>
            <p:nvPr/>
          </p:nvSpPr>
          <p:spPr>
            <a:xfrm rot="720000">
              <a:off x="412560" y="4157280"/>
              <a:ext cx="195120" cy="192240"/>
            </a:xfrm>
            <a:custGeom>
              <a:avLst/>
              <a:gdLst/>
              <a:ahLst/>
              <a:rect l="l" t="t" r="r" b="b"/>
              <a:pathLst>
                <a:path w="123" h="121">
                  <a:moveTo>
                    <a:pt x="0" y="46"/>
                  </a:moveTo>
                  <a:lnTo>
                    <a:pt x="47" y="46"/>
                  </a:lnTo>
                  <a:lnTo>
                    <a:pt x="62" y="0"/>
                  </a:lnTo>
                  <a:lnTo>
                    <a:pt x="76" y="46"/>
                  </a:lnTo>
                  <a:lnTo>
                    <a:pt x="123" y="46"/>
                  </a:lnTo>
                  <a:lnTo>
                    <a:pt x="85" y="75"/>
                  </a:lnTo>
                  <a:lnTo>
                    <a:pt x="100" y="121"/>
                  </a:lnTo>
                  <a:lnTo>
                    <a:pt x="62" y="92"/>
                  </a:lnTo>
                  <a:lnTo>
                    <a:pt x="23" y="121"/>
                  </a:lnTo>
                  <a:lnTo>
                    <a:pt x="38" y="75"/>
                  </a:lnTo>
                  <a:lnTo>
                    <a:pt x="0" y="46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23"/>
            <p:cNvSpPr/>
            <p:nvPr/>
          </p:nvSpPr>
          <p:spPr>
            <a:xfrm>
              <a:off x="344520" y="5883480"/>
              <a:ext cx="315720" cy="10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4"/>
            <p:cNvSpPr/>
            <p:nvPr/>
          </p:nvSpPr>
          <p:spPr>
            <a:xfrm>
              <a:off x="417600" y="4473720"/>
              <a:ext cx="85680" cy="1338120"/>
            </a:xfrm>
            <a:custGeom>
              <a:avLst/>
              <a:gdLst/>
              <a:ahLst/>
              <a:rect l="l" t="t" r="r" b="b"/>
              <a:pathLst>
                <a:path w="151" h="2291">
                  <a:moveTo>
                    <a:pt x="105" y="0"/>
                  </a:moveTo>
                  <a:cubicBezTo>
                    <a:pt x="90" y="70"/>
                    <a:pt x="75" y="140"/>
                    <a:pt x="60" y="295"/>
                  </a:cubicBezTo>
                  <a:cubicBezTo>
                    <a:pt x="45" y="450"/>
                    <a:pt x="0" y="597"/>
                    <a:pt x="15" y="930"/>
                  </a:cubicBezTo>
                  <a:cubicBezTo>
                    <a:pt x="30" y="1263"/>
                    <a:pt x="121" y="2068"/>
                    <a:pt x="151" y="2291"/>
                  </a:cubicBezTo>
                </a:path>
              </a:pathLst>
            </a:custGeom>
            <a:noFill/>
            <a:ln w="3492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Group 10"/>
            <p:cNvGrpSpPr/>
            <p:nvPr/>
          </p:nvGrpSpPr>
          <p:grpSpPr>
            <a:xfrm>
              <a:off x="446040" y="5797440"/>
              <a:ext cx="114480" cy="130320"/>
              <a:chOff x="446040" y="5797440"/>
              <a:chExt cx="114480" cy="130320"/>
            </a:xfrm>
          </p:grpSpPr>
          <p:sp>
            <p:nvSpPr>
              <p:cNvPr id="888" name="Freeform 39"/>
              <p:cNvSpPr/>
              <p:nvPr/>
            </p:nvSpPr>
            <p:spPr>
              <a:xfrm>
                <a:off x="446040" y="5797440"/>
                <a:ext cx="114480" cy="65520"/>
              </a:xfrm>
              <a:custGeom>
                <a:avLst/>
                <a:gdLst/>
                <a:ahLst/>
                <a:rect l="l" t="t" r="r" b="b"/>
                <a:pathLst>
                  <a:path w="839" h="485">
                    <a:moveTo>
                      <a:pt x="250" y="9"/>
                    </a:moveTo>
                    <a:lnTo>
                      <a:pt x="545" y="0"/>
                    </a:lnTo>
                    <a:lnTo>
                      <a:pt x="839" y="485"/>
                    </a:lnTo>
                    <a:lnTo>
                      <a:pt x="0" y="485"/>
                    </a:lnTo>
                    <a:lnTo>
                      <a:pt x="250" y="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Rectangle 40"/>
              <p:cNvSpPr/>
              <p:nvPr/>
            </p:nvSpPr>
            <p:spPr>
              <a:xfrm>
                <a:off x="446040" y="5862960"/>
                <a:ext cx="114480" cy="64800"/>
              </a:xfrm>
              <a:prstGeom prst="rect">
                <a:avLst/>
              </a:pr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13"/>
            <p:cNvGrpSpPr/>
            <p:nvPr/>
          </p:nvGrpSpPr>
          <p:grpSpPr>
            <a:xfrm>
              <a:off x="676440" y="4343400"/>
              <a:ext cx="511560" cy="1866960"/>
              <a:chOff x="676440" y="4343400"/>
              <a:chExt cx="511560" cy="1866960"/>
            </a:xfrm>
          </p:grpSpPr>
          <p:sp>
            <p:nvSpPr>
              <p:cNvPr id="891" name="AutoShape 42"/>
              <p:cNvSpPr/>
              <p:nvPr/>
            </p:nvSpPr>
            <p:spPr>
              <a:xfrm>
                <a:off x="748080" y="6009120"/>
                <a:ext cx="345960" cy="201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Oval 43"/>
              <p:cNvSpPr/>
              <p:nvPr/>
            </p:nvSpPr>
            <p:spPr>
              <a:xfrm>
                <a:off x="834480" y="6036840"/>
                <a:ext cx="172440" cy="100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AutoShape 44"/>
              <p:cNvSpPr/>
              <p:nvPr/>
            </p:nvSpPr>
            <p:spPr>
              <a:xfrm flipH="1" rot="8443200">
                <a:off x="861840" y="6037200"/>
                <a:ext cx="44280" cy="11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593" y="21600"/>
                    </a:lnTo>
                    <a:lnTo>
                      <a:pt x="1800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AutoShape 45"/>
              <p:cNvSpPr/>
              <p:nvPr/>
            </p:nvSpPr>
            <p:spPr>
              <a:xfrm>
                <a:off x="828720" y="5907240"/>
                <a:ext cx="47520" cy="15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494" y="21600"/>
                    </a:lnTo>
                    <a:lnTo>
                      <a:pt x="181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ebd"/>
                  </a:gs>
                  <a:gs pos="100000">
                    <a:srgbClr val="fff1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Oval 46"/>
              <p:cNvSpPr/>
              <p:nvPr/>
            </p:nvSpPr>
            <p:spPr>
              <a:xfrm>
                <a:off x="822960" y="6037560"/>
                <a:ext cx="40320" cy="43200"/>
              </a:xfrm>
              <a:prstGeom prst="ellipse">
                <a:avLst/>
              </a:prstGeom>
              <a:gradFill rotWithShape="0">
                <a:gsLst>
                  <a:gs pos="0">
                    <a:srgbClr val="ffecd9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AutoShape 47"/>
              <p:cNvSpPr/>
              <p:nvPr/>
            </p:nvSpPr>
            <p:spPr>
              <a:xfrm rot="13156800">
                <a:off x="933840" y="6036840"/>
                <a:ext cx="44280" cy="135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593" y="21600"/>
                    </a:lnTo>
                    <a:lnTo>
                      <a:pt x="1800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AutoShape 48"/>
              <p:cNvSpPr/>
              <p:nvPr/>
            </p:nvSpPr>
            <p:spPr>
              <a:xfrm flipH="1">
                <a:off x="965880" y="5905080"/>
                <a:ext cx="52560" cy="15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494" y="21600"/>
                    </a:lnTo>
                    <a:lnTo>
                      <a:pt x="181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ebd"/>
                  </a:gs>
                  <a:gs pos="100000">
                    <a:srgbClr val="fff1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Oval 49"/>
              <p:cNvSpPr/>
              <p:nvPr/>
            </p:nvSpPr>
            <p:spPr>
              <a:xfrm flipH="1">
                <a:off x="978480" y="6037560"/>
                <a:ext cx="40320" cy="43200"/>
              </a:xfrm>
              <a:prstGeom prst="ellipse">
                <a:avLst/>
              </a:prstGeom>
              <a:gradFill rotWithShape="0">
                <a:gsLst>
                  <a:gs pos="0">
                    <a:srgbClr val="ffecd9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Oval 50"/>
              <p:cNvSpPr/>
              <p:nvPr/>
            </p:nvSpPr>
            <p:spPr>
              <a:xfrm>
                <a:off x="892080" y="6109200"/>
                <a:ext cx="43200" cy="57600"/>
              </a:xfrm>
              <a:prstGeom prst="ellipse">
                <a:avLst/>
              </a:prstGeom>
              <a:gradFill rotWithShape="0">
                <a:gsLst>
                  <a:gs pos="0">
                    <a:srgbClr val="ffe4c9"/>
                  </a:gs>
                  <a:gs pos="100000">
                    <a:srgbClr val="ffe4c9">
                      <a:alpha val="85098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Oval 51"/>
              <p:cNvSpPr/>
              <p:nvPr/>
            </p:nvSpPr>
            <p:spPr>
              <a:xfrm>
                <a:off x="877680" y="6109200"/>
                <a:ext cx="57600" cy="43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1" name="Group 24"/>
              <p:cNvGrpSpPr/>
              <p:nvPr/>
            </p:nvGrpSpPr>
            <p:grpSpPr>
              <a:xfrm>
                <a:off x="676440" y="4343400"/>
                <a:ext cx="511560" cy="1590480"/>
                <a:chOff x="676440" y="4343400"/>
                <a:chExt cx="511560" cy="1590480"/>
              </a:xfrm>
            </p:grpSpPr>
            <p:grpSp>
              <p:nvGrpSpPr>
                <p:cNvPr id="902" name="Group 25"/>
                <p:cNvGrpSpPr/>
                <p:nvPr/>
              </p:nvGrpSpPr>
              <p:grpSpPr>
                <a:xfrm>
                  <a:off x="676440" y="4343400"/>
                  <a:ext cx="511560" cy="1590480"/>
                  <a:chOff x="676440" y="4343400"/>
                  <a:chExt cx="511560" cy="1590480"/>
                </a:xfrm>
              </p:grpSpPr>
              <p:sp>
                <p:nvSpPr>
                  <p:cNvPr id="903" name="Oval 54"/>
                  <p:cNvSpPr/>
                  <p:nvPr/>
                </p:nvSpPr>
                <p:spPr>
                  <a:xfrm>
                    <a:off x="695880" y="4452480"/>
                    <a:ext cx="426600" cy="15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AutoShape 55"/>
                  <p:cNvSpPr/>
                  <p:nvPr/>
                </p:nvSpPr>
                <p:spPr>
                  <a:xfrm>
                    <a:off x="762120" y="4476600"/>
                    <a:ext cx="282600" cy="60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065" y="21600"/>
                        </a:lnTo>
                        <a:lnTo>
                          <a:pt x="1953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332125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Freeform 56"/>
                  <p:cNvSpPr/>
                  <p:nvPr/>
                </p:nvSpPr>
                <p:spPr>
                  <a:xfrm>
                    <a:off x="676440" y="4933800"/>
                    <a:ext cx="478800" cy="10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0" h="1505">
                        <a:moveTo>
                          <a:pt x="265" y="117"/>
                        </a:moveTo>
                        <a:cubicBezTo>
                          <a:pt x="314" y="75"/>
                          <a:pt x="416" y="140"/>
                          <a:pt x="491" y="140"/>
                        </a:cubicBezTo>
                        <a:cubicBezTo>
                          <a:pt x="566" y="140"/>
                          <a:pt x="673" y="117"/>
                          <a:pt x="718" y="117"/>
                        </a:cubicBezTo>
                        <a:cubicBezTo>
                          <a:pt x="763" y="117"/>
                          <a:pt x="726" y="0"/>
                          <a:pt x="764" y="140"/>
                        </a:cubicBezTo>
                        <a:cubicBezTo>
                          <a:pt x="802" y="280"/>
                          <a:pt x="907" y="772"/>
                          <a:pt x="945" y="957"/>
                        </a:cubicBezTo>
                        <a:cubicBezTo>
                          <a:pt x="983" y="1142"/>
                          <a:pt x="979" y="1176"/>
                          <a:pt x="990" y="1251"/>
                        </a:cubicBezTo>
                        <a:cubicBezTo>
                          <a:pt x="1001" y="1326"/>
                          <a:pt x="1020" y="1376"/>
                          <a:pt x="1013" y="1410"/>
                        </a:cubicBezTo>
                        <a:cubicBezTo>
                          <a:pt x="1006" y="1444"/>
                          <a:pt x="1005" y="1441"/>
                          <a:pt x="945" y="1456"/>
                        </a:cubicBezTo>
                        <a:cubicBezTo>
                          <a:pt x="885" y="1471"/>
                          <a:pt x="760" y="1497"/>
                          <a:pt x="650" y="1501"/>
                        </a:cubicBezTo>
                        <a:cubicBezTo>
                          <a:pt x="540" y="1505"/>
                          <a:pt x="389" y="1485"/>
                          <a:pt x="287" y="1478"/>
                        </a:cubicBezTo>
                        <a:cubicBezTo>
                          <a:pt x="185" y="1471"/>
                          <a:pt x="76" y="1486"/>
                          <a:pt x="38" y="1456"/>
                        </a:cubicBezTo>
                        <a:cubicBezTo>
                          <a:pt x="0" y="1426"/>
                          <a:pt x="45" y="1361"/>
                          <a:pt x="60" y="1297"/>
                        </a:cubicBezTo>
                        <a:cubicBezTo>
                          <a:pt x="75" y="1233"/>
                          <a:pt x="113" y="1168"/>
                          <a:pt x="128" y="1070"/>
                        </a:cubicBezTo>
                        <a:cubicBezTo>
                          <a:pt x="143" y="972"/>
                          <a:pt x="140" y="820"/>
                          <a:pt x="151" y="707"/>
                        </a:cubicBezTo>
                        <a:cubicBezTo>
                          <a:pt x="162" y="594"/>
                          <a:pt x="178" y="488"/>
                          <a:pt x="197" y="390"/>
                        </a:cubicBezTo>
                        <a:cubicBezTo>
                          <a:pt x="216" y="292"/>
                          <a:pt x="216" y="159"/>
                          <a:pt x="265" y="11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33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Oval 57"/>
                  <p:cNvSpPr/>
                  <p:nvPr/>
                </p:nvSpPr>
                <p:spPr>
                  <a:xfrm>
                    <a:off x="844560" y="5776560"/>
                    <a:ext cx="323640" cy="77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3b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Rectangle 58"/>
                  <p:cNvSpPr/>
                  <p:nvPr/>
                </p:nvSpPr>
                <p:spPr>
                  <a:xfrm>
                    <a:off x="792360" y="5024520"/>
                    <a:ext cx="246240" cy="298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>
                          <a:alpha val="4117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Oval 59"/>
                  <p:cNvSpPr/>
                  <p:nvPr/>
                </p:nvSpPr>
                <p:spPr>
                  <a:xfrm>
                    <a:off x="791280" y="4614480"/>
                    <a:ext cx="212040" cy="42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AutoShape 60"/>
                  <p:cNvSpPr/>
                  <p:nvPr/>
                </p:nvSpPr>
                <p:spPr>
                  <a:xfrm rot="10800000">
                    <a:off x="888480" y="4663800"/>
                    <a:ext cx="32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100000">
                        <a:srgbClr val="fff1e3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Oval 61"/>
                  <p:cNvSpPr/>
                  <p:nvPr/>
                </p:nvSpPr>
                <p:spPr>
                  <a:xfrm rot="237000">
                    <a:off x="689760" y="4466880"/>
                    <a:ext cx="438840" cy="115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560" bIns="345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Oval 62"/>
                  <p:cNvSpPr/>
                  <p:nvPr/>
                </p:nvSpPr>
                <p:spPr>
                  <a:xfrm>
                    <a:off x="807120" y="4395240"/>
                    <a:ext cx="199800" cy="28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debd"/>
                      </a:gs>
                      <a:gs pos="100000">
                        <a:srgbClr val="fff1e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Freeform 63"/>
                  <p:cNvSpPr/>
                  <p:nvPr/>
                </p:nvSpPr>
                <p:spPr>
                  <a:xfrm>
                    <a:off x="744120" y="4343400"/>
                    <a:ext cx="29952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918" h="628">
                        <a:moveTo>
                          <a:pt x="64" y="454"/>
                        </a:moveTo>
                        <a:cubicBezTo>
                          <a:pt x="0" y="416"/>
                          <a:pt x="57" y="424"/>
                          <a:pt x="64" y="386"/>
                        </a:cubicBezTo>
                        <a:cubicBezTo>
                          <a:pt x="71" y="348"/>
                          <a:pt x="83" y="276"/>
                          <a:pt x="109" y="227"/>
                        </a:cubicBezTo>
                        <a:cubicBezTo>
                          <a:pt x="135" y="178"/>
                          <a:pt x="165" y="125"/>
                          <a:pt x="222" y="91"/>
                        </a:cubicBezTo>
                        <a:cubicBezTo>
                          <a:pt x="279" y="57"/>
                          <a:pt x="385" y="34"/>
                          <a:pt x="449" y="23"/>
                        </a:cubicBezTo>
                        <a:cubicBezTo>
                          <a:pt x="513" y="12"/>
                          <a:pt x="547" y="0"/>
                          <a:pt x="608" y="23"/>
                        </a:cubicBezTo>
                        <a:cubicBezTo>
                          <a:pt x="669" y="46"/>
                          <a:pt x="763" y="110"/>
                          <a:pt x="812" y="159"/>
                        </a:cubicBezTo>
                        <a:cubicBezTo>
                          <a:pt x="861" y="208"/>
                          <a:pt x="888" y="261"/>
                          <a:pt x="903" y="318"/>
                        </a:cubicBezTo>
                        <a:cubicBezTo>
                          <a:pt x="918" y="375"/>
                          <a:pt x="918" y="461"/>
                          <a:pt x="903" y="499"/>
                        </a:cubicBezTo>
                        <a:cubicBezTo>
                          <a:pt x="888" y="537"/>
                          <a:pt x="888" y="526"/>
                          <a:pt x="812" y="545"/>
                        </a:cubicBezTo>
                        <a:cubicBezTo>
                          <a:pt x="736" y="564"/>
                          <a:pt x="577" y="628"/>
                          <a:pt x="449" y="613"/>
                        </a:cubicBezTo>
                        <a:cubicBezTo>
                          <a:pt x="321" y="598"/>
                          <a:pt x="128" y="492"/>
                          <a:pt x="64" y="45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Oval 64"/>
                  <p:cNvSpPr/>
                  <p:nvPr/>
                </p:nvSpPr>
                <p:spPr>
                  <a:xfrm rot="361200">
                    <a:off x="752040" y="4394520"/>
                    <a:ext cx="138960" cy="97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76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14" name="Group 37"/>
                  <p:cNvGrpSpPr/>
                  <p:nvPr/>
                </p:nvGrpSpPr>
                <p:grpSpPr>
                  <a:xfrm>
                    <a:off x="848880" y="4345920"/>
                    <a:ext cx="99720" cy="48960"/>
                    <a:chOff x="848880" y="4345920"/>
                    <a:chExt cx="99720" cy="48960"/>
                  </a:xfrm>
                </p:grpSpPr>
                <p:sp>
                  <p:nvSpPr>
                    <p:cNvPr id="915" name="Freeform 66"/>
                    <p:cNvSpPr/>
                    <p:nvPr/>
                  </p:nvSpPr>
                  <p:spPr>
                    <a:xfrm flipH="1" rot="21568200">
                      <a:off x="848880" y="4354560"/>
                      <a:ext cx="975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124">
                          <a:moveTo>
                            <a:pt x="4" y="45"/>
                          </a:moveTo>
                          <a:cubicBezTo>
                            <a:pt x="0" y="64"/>
                            <a:pt x="42" y="102"/>
                            <a:pt x="72" y="113"/>
                          </a:cubicBezTo>
                          <a:cubicBezTo>
                            <a:pt x="102" y="124"/>
                            <a:pt x="155" y="120"/>
                            <a:pt x="185" y="113"/>
                          </a:cubicBezTo>
                          <a:cubicBezTo>
                            <a:pt x="215" y="106"/>
                            <a:pt x="246" y="83"/>
                            <a:pt x="253" y="68"/>
                          </a:cubicBezTo>
                          <a:cubicBezTo>
                            <a:pt x="260" y="53"/>
                            <a:pt x="257" y="33"/>
                            <a:pt x="230" y="22"/>
                          </a:cubicBezTo>
                          <a:cubicBezTo>
                            <a:pt x="203" y="11"/>
                            <a:pt x="132" y="0"/>
                            <a:pt x="94" y="0"/>
                          </a:cubicBezTo>
                          <a:cubicBezTo>
                            <a:pt x="56" y="0"/>
                            <a:pt x="8" y="26"/>
                            <a:pt x="4" y="45"/>
                          </a:cubicBezTo>
                          <a:close/>
                        </a:path>
                      </a:pathLst>
                    </a:custGeom>
                    <a:solidFill>
                      <a:srgbClr val="d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Freeform 67"/>
                    <p:cNvSpPr/>
                    <p:nvPr/>
                  </p:nvSpPr>
                  <p:spPr>
                    <a:xfrm flipH="1" rot="21568200">
                      <a:off x="850680" y="4346280"/>
                      <a:ext cx="975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124">
                          <a:moveTo>
                            <a:pt x="4" y="45"/>
                          </a:moveTo>
                          <a:cubicBezTo>
                            <a:pt x="0" y="64"/>
                            <a:pt x="42" y="102"/>
                            <a:pt x="72" y="113"/>
                          </a:cubicBezTo>
                          <a:cubicBezTo>
                            <a:pt x="102" y="124"/>
                            <a:pt x="155" y="120"/>
                            <a:pt x="185" y="113"/>
                          </a:cubicBezTo>
                          <a:cubicBezTo>
                            <a:pt x="215" y="106"/>
                            <a:pt x="246" y="83"/>
                            <a:pt x="253" y="68"/>
                          </a:cubicBezTo>
                          <a:cubicBezTo>
                            <a:pt x="260" y="53"/>
                            <a:pt x="257" y="33"/>
                            <a:pt x="230" y="22"/>
                          </a:cubicBezTo>
                          <a:cubicBezTo>
                            <a:pt x="203" y="11"/>
                            <a:pt x="132" y="0"/>
                            <a:pt x="94" y="0"/>
                          </a:cubicBezTo>
                          <a:cubicBezTo>
                            <a:pt x="56" y="0"/>
                            <a:pt x="8" y="26"/>
                            <a:pt x="4" y="45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d0000"/>
                        </a:gs>
                        <a:gs pos="100000">
                          <a:srgbClr val="ac0000"/>
                        </a:gs>
                      </a:gsLst>
                      <a:lin ang="4722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7" name="Freeform 68"/>
                  <p:cNvSpPr/>
                  <p:nvPr/>
                </p:nvSpPr>
                <p:spPr>
                  <a:xfrm>
                    <a:off x="760680" y="4469040"/>
                    <a:ext cx="2883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1" h="117">
                        <a:moveTo>
                          <a:pt x="0" y="0"/>
                        </a:moveTo>
                        <a:cubicBezTo>
                          <a:pt x="74" y="36"/>
                          <a:pt x="148" y="72"/>
                          <a:pt x="227" y="91"/>
                        </a:cubicBezTo>
                        <a:cubicBezTo>
                          <a:pt x="306" y="110"/>
                          <a:pt x="389" y="117"/>
                          <a:pt x="476" y="113"/>
                        </a:cubicBezTo>
                        <a:cubicBezTo>
                          <a:pt x="563" y="109"/>
                          <a:pt x="695" y="83"/>
                          <a:pt x="748" y="68"/>
                        </a:cubicBezTo>
                        <a:cubicBezTo>
                          <a:pt x="801" y="53"/>
                          <a:pt x="749" y="23"/>
                          <a:pt x="794" y="23"/>
                        </a:cubicBezTo>
                      </a:path>
                    </a:pathLst>
                  </a:custGeom>
                  <a:noFill/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AutoShape 69"/>
                  <p:cNvSpPr/>
                  <p:nvPr/>
                </p:nvSpPr>
                <p:spPr>
                  <a:xfrm>
                    <a:off x="997200" y="4479120"/>
                    <a:ext cx="244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Oval 70"/>
                  <p:cNvSpPr/>
                  <p:nvPr/>
                </p:nvSpPr>
                <p:spPr>
                  <a:xfrm rot="20773200">
                    <a:off x="882720" y="4500000"/>
                    <a:ext cx="13968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76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Oval 71"/>
                  <p:cNvSpPr/>
                  <p:nvPr/>
                </p:nvSpPr>
                <p:spPr>
                  <a:xfrm rot="401400">
                    <a:off x="705240" y="4481280"/>
                    <a:ext cx="86760" cy="29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Oval 72"/>
                  <p:cNvSpPr/>
                  <p:nvPr/>
                </p:nvSpPr>
                <p:spPr>
                  <a:xfrm rot="20941800">
                    <a:off x="1013760" y="4496040"/>
                    <a:ext cx="106560" cy="33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Freeform 73"/>
                  <p:cNvSpPr/>
                  <p:nvPr/>
                </p:nvSpPr>
                <p:spPr>
                  <a:xfrm>
                    <a:off x="719640" y="4478040"/>
                    <a:ext cx="4032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38">
                        <a:moveTo>
                          <a:pt x="159" y="4"/>
                        </a:moveTo>
                        <a:cubicBezTo>
                          <a:pt x="125" y="8"/>
                          <a:pt x="0" y="42"/>
                          <a:pt x="0" y="49"/>
                        </a:cubicBezTo>
                        <a:cubicBezTo>
                          <a:pt x="0" y="56"/>
                          <a:pt x="99" y="30"/>
                          <a:pt x="159" y="49"/>
                        </a:cubicBezTo>
                        <a:cubicBezTo>
                          <a:pt x="219" y="68"/>
                          <a:pt x="303" y="133"/>
                          <a:pt x="363" y="163"/>
                        </a:cubicBezTo>
                        <a:cubicBezTo>
                          <a:pt x="423" y="193"/>
                          <a:pt x="465" y="224"/>
                          <a:pt x="522" y="231"/>
                        </a:cubicBezTo>
                        <a:cubicBezTo>
                          <a:pt x="579" y="238"/>
                          <a:pt x="646" y="223"/>
                          <a:pt x="703" y="208"/>
                        </a:cubicBezTo>
                        <a:cubicBezTo>
                          <a:pt x="760" y="193"/>
                          <a:pt x="820" y="159"/>
                          <a:pt x="862" y="140"/>
                        </a:cubicBezTo>
                        <a:cubicBezTo>
                          <a:pt x="904" y="121"/>
                          <a:pt x="926" y="106"/>
                          <a:pt x="953" y="95"/>
                        </a:cubicBezTo>
                        <a:cubicBezTo>
                          <a:pt x="980" y="84"/>
                          <a:pt x="995" y="72"/>
                          <a:pt x="1021" y="72"/>
                        </a:cubicBezTo>
                        <a:cubicBezTo>
                          <a:pt x="1047" y="72"/>
                          <a:pt x="1122" y="102"/>
                          <a:pt x="1111" y="95"/>
                        </a:cubicBezTo>
                        <a:cubicBezTo>
                          <a:pt x="1100" y="88"/>
                          <a:pt x="994" y="31"/>
                          <a:pt x="953" y="27"/>
                        </a:cubicBezTo>
                        <a:cubicBezTo>
                          <a:pt x="912" y="23"/>
                          <a:pt x="911" y="61"/>
                          <a:pt x="862" y="72"/>
                        </a:cubicBezTo>
                        <a:cubicBezTo>
                          <a:pt x="813" y="83"/>
                          <a:pt x="730" y="91"/>
                          <a:pt x="658" y="95"/>
                        </a:cubicBezTo>
                        <a:cubicBezTo>
                          <a:pt x="586" y="99"/>
                          <a:pt x="507" y="106"/>
                          <a:pt x="431" y="95"/>
                        </a:cubicBezTo>
                        <a:cubicBezTo>
                          <a:pt x="355" y="84"/>
                          <a:pt x="249" y="42"/>
                          <a:pt x="204" y="27"/>
                        </a:cubicBezTo>
                        <a:cubicBezTo>
                          <a:pt x="159" y="12"/>
                          <a:pt x="193" y="0"/>
                          <a:pt x="159" y="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Freeform 74"/>
                  <p:cNvSpPr/>
                  <p:nvPr/>
                </p:nvSpPr>
                <p:spPr>
                  <a:xfrm>
                    <a:off x="782280" y="4735800"/>
                    <a:ext cx="26172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760" h="839">
                        <a:moveTo>
                          <a:pt x="250" y="4"/>
                        </a:moveTo>
                        <a:cubicBezTo>
                          <a:pt x="197" y="8"/>
                          <a:pt x="174" y="0"/>
                          <a:pt x="136" y="26"/>
                        </a:cubicBezTo>
                        <a:cubicBezTo>
                          <a:pt x="98" y="52"/>
                          <a:pt x="46" y="117"/>
                          <a:pt x="23" y="162"/>
                        </a:cubicBezTo>
                        <a:cubicBezTo>
                          <a:pt x="0" y="207"/>
                          <a:pt x="0" y="264"/>
                          <a:pt x="0" y="298"/>
                        </a:cubicBezTo>
                        <a:cubicBezTo>
                          <a:pt x="0" y="332"/>
                          <a:pt x="8" y="355"/>
                          <a:pt x="23" y="366"/>
                        </a:cubicBezTo>
                        <a:cubicBezTo>
                          <a:pt x="38" y="377"/>
                          <a:pt x="80" y="309"/>
                          <a:pt x="91" y="366"/>
                        </a:cubicBezTo>
                        <a:cubicBezTo>
                          <a:pt x="102" y="423"/>
                          <a:pt x="98" y="631"/>
                          <a:pt x="91" y="707"/>
                        </a:cubicBezTo>
                        <a:cubicBezTo>
                          <a:pt x="84" y="783"/>
                          <a:pt x="4" y="801"/>
                          <a:pt x="46" y="820"/>
                        </a:cubicBezTo>
                        <a:cubicBezTo>
                          <a:pt x="88" y="839"/>
                          <a:pt x="235" y="820"/>
                          <a:pt x="341" y="820"/>
                        </a:cubicBezTo>
                        <a:cubicBezTo>
                          <a:pt x="447" y="820"/>
                          <a:pt x="632" y="831"/>
                          <a:pt x="681" y="820"/>
                        </a:cubicBezTo>
                        <a:cubicBezTo>
                          <a:pt x="730" y="809"/>
                          <a:pt x="646" y="779"/>
                          <a:pt x="635" y="752"/>
                        </a:cubicBezTo>
                        <a:cubicBezTo>
                          <a:pt x="624" y="725"/>
                          <a:pt x="617" y="725"/>
                          <a:pt x="613" y="661"/>
                        </a:cubicBezTo>
                        <a:cubicBezTo>
                          <a:pt x="609" y="597"/>
                          <a:pt x="602" y="411"/>
                          <a:pt x="613" y="366"/>
                        </a:cubicBezTo>
                        <a:cubicBezTo>
                          <a:pt x="624" y="321"/>
                          <a:pt x="658" y="385"/>
                          <a:pt x="681" y="389"/>
                        </a:cubicBezTo>
                        <a:cubicBezTo>
                          <a:pt x="704" y="393"/>
                          <a:pt x="738" y="408"/>
                          <a:pt x="749" y="389"/>
                        </a:cubicBezTo>
                        <a:cubicBezTo>
                          <a:pt x="760" y="370"/>
                          <a:pt x="757" y="317"/>
                          <a:pt x="749" y="276"/>
                        </a:cubicBezTo>
                        <a:cubicBezTo>
                          <a:pt x="741" y="235"/>
                          <a:pt x="726" y="182"/>
                          <a:pt x="703" y="140"/>
                        </a:cubicBezTo>
                        <a:cubicBezTo>
                          <a:pt x="680" y="98"/>
                          <a:pt x="654" y="49"/>
                          <a:pt x="613" y="26"/>
                        </a:cubicBezTo>
                        <a:cubicBezTo>
                          <a:pt x="572" y="3"/>
                          <a:pt x="514" y="4"/>
                          <a:pt x="454" y="4"/>
                        </a:cubicBezTo>
                        <a:cubicBezTo>
                          <a:pt x="394" y="4"/>
                          <a:pt x="303" y="0"/>
                          <a:pt x="250" y="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24" name="Group 47"/>
                  <p:cNvGrpSpPr/>
                  <p:nvPr/>
                </p:nvGrpSpPr>
                <p:grpSpPr>
                  <a:xfrm>
                    <a:off x="861120" y="4674600"/>
                    <a:ext cx="156960" cy="132480"/>
                    <a:chOff x="861120" y="4674600"/>
                    <a:chExt cx="156960" cy="132480"/>
                  </a:xfrm>
                </p:grpSpPr>
                <p:sp>
                  <p:nvSpPr>
                    <p:cNvPr id="925" name="Freeform 76"/>
                    <p:cNvSpPr/>
                    <p:nvPr/>
                  </p:nvSpPr>
                  <p:spPr>
                    <a:xfrm rot="3600000">
                      <a:off x="950760" y="4664880"/>
                      <a:ext cx="3348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344">
                          <a:moveTo>
                            <a:pt x="49" y="23"/>
                          </a:moveTo>
                          <a:cubicBezTo>
                            <a:pt x="34" y="0"/>
                            <a:pt x="34" y="61"/>
                            <a:pt x="27" y="91"/>
                          </a:cubicBezTo>
                          <a:cubicBezTo>
                            <a:pt x="20" y="121"/>
                            <a:pt x="0" y="163"/>
                            <a:pt x="4" y="204"/>
                          </a:cubicBezTo>
                          <a:cubicBezTo>
                            <a:pt x="8" y="245"/>
                            <a:pt x="30" y="336"/>
                            <a:pt x="49" y="340"/>
                          </a:cubicBezTo>
                          <a:cubicBezTo>
                            <a:pt x="68" y="344"/>
                            <a:pt x="117" y="280"/>
                            <a:pt x="117" y="227"/>
                          </a:cubicBezTo>
                          <a:cubicBezTo>
                            <a:pt x="117" y="174"/>
                            <a:pt x="64" y="46"/>
                            <a:pt x="49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006600"/>
                        </a:gs>
                      </a:gsLst>
                      <a:lin ang="1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6" name="Oval 77"/>
                    <p:cNvSpPr/>
                    <p:nvPr/>
                  </p:nvSpPr>
                  <p:spPr>
                    <a:xfrm rot="3600000">
                      <a:off x="961200" y="4678200"/>
                      <a:ext cx="32760" cy="48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0ff89"/>
                        </a:gs>
                        <a:gs pos="100000">
                          <a:srgbClr val="81934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240" bIns="-12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7" name="Freeform 78"/>
                    <p:cNvSpPr/>
                    <p:nvPr/>
                  </p:nvSpPr>
                  <p:spPr>
                    <a:xfrm rot="21002400">
                      <a:off x="864000" y="4712400"/>
                      <a:ext cx="6516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91">
                          <a:moveTo>
                            <a:pt x="23" y="0"/>
                          </a:moveTo>
                          <a:lnTo>
                            <a:pt x="0" y="46"/>
                          </a:lnTo>
                          <a:lnTo>
                            <a:pt x="46" y="69"/>
                          </a:lnTo>
                          <a:lnTo>
                            <a:pt x="136" y="91"/>
                          </a:lnTo>
                          <a:lnTo>
                            <a:pt x="182" y="69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3300"/>
                        </a:gs>
                      </a:gsLst>
                      <a:lin ang="19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8" name="Freeform 79"/>
                    <p:cNvSpPr/>
                    <p:nvPr/>
                  </p:nvSpPr>
                  <p:spPr>
                    <a:xfrm>
                      <a:off x="911520" y="4729680"/>
                      <a:ext cx="33840" cy="6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344">
                          <a:moveTo>
                            <a:pt x="49" y="23"/>
                          </a:moveTo>
                          <a:cubicBezTo>
                            <a:pt x="34" y="0"/>
                            <a:pt x="34" y="61"/>
                            <a:pt x="27" y="91"/>
                          </a:cubicBezTo>
                          <a:cubicBezTo>
                            <a:pt x="20" y="121"/>
                            <a:pt x="0" y="163"/>
                            <a:pt x="4" y="204"/>
                          </a:cubicBezTo>
                          <a:cubicBezTo>
                            <a:pt x="8" y="245"/>
                            <a:pt x="30" y="336"/>
                            <a:pt x="49" y="340"/>
                          </a:cubicBezTo>
                          <a:cubicBezTo>
                            <a:pt x="68" y="344"/>
                            <a:pt x="117" y="280"/>
                            <a:pt x="117" y="227"/>
                          </a:cubicBezTo>
                          <a:cubicBezTo>
                            <a:pt x="117" y="174"/>
                            <a:pt x="64" y="46"/>
                            <a:pt x="49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Oval 80"/>
                    <p:cNvSpPr/>
                    <p:nvPr/>
                  </p:nvSpPr>
                  <p:spPr>
                    <a:xfrm rot="3600000">
                      <a:off x="961200" y="4671720"/>
                      <a:ext cx="16560" cy="97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2f00">
                            <a:alpha val="0"/>
                          </a:srgbClr>
                        </a:gs>
                        <a:gs pos="100000">
                          <a:srgbClr val="006600"/>
                        </a:gs>
                      </a:gsLst>
                      <a:lin ang="1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2680" bIns="22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Oval 81"/>
                    <p:cNvSpPr/>
                    <p:nvPr/>
                  </p:nvSpPr>
                  <p:spPr>
                    <a:xfrm>
                      <a:off x="872280" y="4729680"/>
                      <a:ext cx="828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Oval 82"/>
                    <p:cNvSpPr/>
                    <p:nvPr/>
                  </p:nvSpPr>
                  <p:spPr>
                    <a:xfrm>
                      <a:off x="912960" y="4770360"/>
                      <a:ext cx="792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2" name="Oval 83"/>
                    <p:cNvSpPr/>
                    <p:nvPr/>
                  </p:nvSpPr>
                  <p:spPr>
                    <a:xfrm>
                      <a:off x="913320" y="4737960"/>
                      <a:ext cx="756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3" name="Oval 84"/>
                    <p:cNvSpPr/>
                    <p:nvPr/>
                  </p:nvSpPr>
                  <p:spPr>
                    <a:xfrm>
                      <a:off x="953640" y="4729680"/>
                      <a:ext cx="792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Oval 85"/>
                    <p:cNvSpPr/>
                    <p:nvPr/>
                  </p:nvSpPr>
                  <p:spPr>
                    <a:xfrm>
                      <a:off x="929160" y="4754160"/>
                      <a:ext cx="828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Oval 86"/>
                    <p:cNvSpPr/>
                    <p:nvPr/>
                  </p:nvSpPr>
                  <p:spPr>
                    <a:xfrm>
                      <a:off x="921240" y="4729680"/>
                      <a:ext cx="16200" cy="16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5b4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Oval 87"/>
                    <p:cNvSpPr/>
                    <p:nvPr/>
                  </p:nvSpPr>
                  <p:spPr>
                    <a:xfrm rot="3600000">
                      <a:off x="908280" y="4765320"/>
                      <a:ext cx="39960" cy="32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0ff89"/>
                        </a:gs>
                        <a:gs pos="100000">
                          <a:srgbClr val="81934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120" bIns="-24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7" name="Oval 88"/>
                  <p:cNvSpPr/>
                  <p:nvPr/>
                </p:nvSpPr>
                <p:spPr>
                  <a:xfrm rot="600000">
                    <a:off x="821880" y="4802400"/>
                    <a:ext cx="10080" cy="6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6c6c">
                          <a:alpha val="0"/>
                        </a:srgbClr>
                      </a:gs>
                      <a:gs pos="100000">
                        <a:srgbClr val="eaeaea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38" name="Group 61"/>
                  <p:cNvGrpSpPr/>
                  <p:nvPr/>
                </p:nvGrpSpPr>
                <p:grpSpPr>
                  <a:xfrm>
                    <a:off x="822960" y="4786560"/>
                    <a:ext cx="16200" cy="15840"/>
                    <a:chOff x="822960" y="4786560"/>
                    <a:chExt cx="16200" cy="15840"/>
                  </a:xfrm>
                </p:grpSpPr>
                <p:grpSp>
                  <p:nvGrpSpPr>
                    <p:cNvPr id="939" name="Group 62"/>
                    <p:cNvGrpSpPr/>
                    <p:nvPr/>
                  </p:nvGrpSpPr>
                  <p:grpSpPr>
                    <a:xfrm>
                      <a:off x="822960" y="4786560"/>
                      <a:ext cx="16200" cy="15840"/>
                      <a:chOff x="822960" y="4786560"/>
                      <a:chExt cx="16200" cy="15840"/>
                    </a:xfrm>
                  </p:grpSpPr>
                  <p:sp>
                    <p:nvSpPr>
                      <p:cNvPr id="940" name="Oval 91"/>
                      <p:cNvSpPr/>
                      <p:nvPr/>
                    </p:nvSpPr>
                    <p:spPr>
                      <a:xfrm>
                        <a:off x="826920" y="4786560"/>
                        <a:ext cx="792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1" name="Oval 92"/>
                      <p:cNvSpPr/>
                      <p:nvPr/>
                    </p:nvSpPr>
                    <p:spPr>
                      <a:xfrm>
                        <a:off x="822960" y="4786560"/>
                        <a:ext cx="1620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42" name="Oval 93"/>
                    <p:cNvSpPr/>
                    <p:nvPr/>
                  </p:nvSpPr>
                  <p:spPr>
                    <a:xfrm>
                      <a:off x="822960" y="4786560"/>
                      <a:ext cx="1512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3" name="Group 66"/>
                  <p:cNvGrpSpPr/>
                  <p:nvPr/>
                </p:nvGrpSpPr>
                <p:grpSpPr>
                  <a:xfrm>
                    <a:off x="888480" y="4876200"/>
                    <a:ext cx="16920" cy="16200"/>
                    <a:chOff x="888480" y="4876200"/>
                    <a:chExt cx="16920" cy="16200"/>
                  </a:xfrm>
                </p:grpSpPr>
                <p:grpSp>
                  <p:nvGrpSpPr>
                    <p:cNvPr id="944" name="Group 67"/>
                    <p:cNvGrpSpPr/>
                    <p:nvPr/>
                  </p:nvGrpSpPr>
                  <p:grpSpPr>
                    <a:xfrm>
                      <a:off x="888480" y="4876200"/>
                      <a:ext cx="16920" cy="16200"/>
                      <a:chOff x="888480" y="4876200"/>
                      <a:chExt cx="16920" cy="16200"/>
                    </a:xfrm>
                  </p:grpSpPr>
                  <p:sp>
                    <p:nvSpPr>
                      <p:cNvPr id="945" name="Oval 96"/>
                      <p:cNvSpPr/>
                      <p:nvPr/>
                    </p:nvSpPr>
                    <p:spPr>
                      <a:xfrm>
                        <a:off x="892800" y="4876200"/>
                        <a:ext cx="828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6" name="Oval 97"/>
                      <p:cNvSpPr/>
                      <p:nvPr/>
                    </p:nvSpPr>
                    <p:spPr>
                      <a:xfrm>
                        <a:off x="888480" y="4876200"/>
                        <a:ext cx="16920" cy="16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920" bIns="-34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47" name="Oval 98"/>
                    <p:cNvSpPr/>
                    <p:nvPr/>
                  </p:nvSpPr>
                  <p:spPr>
                    <a:xfrm>
                      <a:off x="888480" y="4876200"/>
                      <a:ext cx="15840" cy="1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8" name="Group 71"/>
                  <p:cNvGrpSpPr/>
                  <p:nvPr/>
                </p:nvGrpSpPr>
                <p:grpSpPr>
                  <a:xfrm>
                    <a:off x="847800" y="4924800"/>
                    <a:ext cx="16200" cy="16560"/>
                    <a:chOff x="847800" y="4924800"/>
                    <a:chExt cx="16200" cy="16560"/>
                  </a:xfrm>
                </p:grpSpPr>
                <p:grpSp>
                  <p:nvGrpSpPr>
                    <p:cNvPr id="949" name="Group 72"/>
                    <p:cNvGrpSpPr/>
                    <p:nvPr/>
                  </p:nvGrpSpPr>
                  <p:grpSpPr>
                    <a:xfrm>
                      <a:off x="847800" y="4924800"/>
                      <a:ext cx="16200" cy="16560"/>
                      <a:chOff x="847800" y="4924800"/>
                      <a:chExt cx="16200" cy="16560"/>
                    </a:xfrm>
                  </p:grpSpPr>
                  <p:sp>
                    <p:nvSpPr>
                      <p:cNvPr id="950" name="Oval 101"/>
                      <p:cNvSpPr/>
                      <p:nvPr/>
                    </p:nvSpPr>
                    <p:spPr>
                      <a:xfrm>
                        <a:off x="851760" y="4924800"/>
                        <a:ext cx="792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1" name="Oval 102"/>
                      <p:cNvSpPr/>
                      <p:nvPr/>
                    </p:nvSpPr>
                    <p:spPr>
                      <a:xfrm>
                        <a:off x="847800" y="4924800"/>
                        <a:ext cx="16200" cy="16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2" name="Oval 103"/>
                    <p:cNvSpPr/>
                    <p:nvPr/>
                  </p:nvSpPr>
                  <p:spPr>
                    <a:xfrm>
                      <a:off x="847800" y="4924800"/>
                      <a:ext cx="1512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76"/>
                  <p:cNvGrpSpPr/>
                  <p:nvPr/>
                </p:nvGrpSpPr>
                <p:grpSpPr>
                  <a:xfrm>
                    <a:off x="954000" y="4859640"/>
                    <a:ext cx="16560" cy="16560"/>
                    <a:chOff x="954000" y="4859640"/>
                    <a:chExt cx="16560" cy="16560"/>
                  </a:xfrm>
                </p:grpSpPr>
                <p:grpSp>
                  <p:nvGrpSpPr>
                    <p:cNvPr id="954" name="Group 77"/>
                    <p:cNvGrpSpPr/>
                    <p:nvPr/>
                  </p:nvGrpSpPr>
                  <p:grpSpPr>
                    <a:xfrm>
                      <a:off x="954000" y="4859640"/>
                      <a:ext cx="16560" cy="16560"/>
                      <a:chOff x="954000" y="4859640"/>
                      <a:chExt cx="16560" cy="16560"/>
                    </a:xfrm>
                  </p:grpSpPr>
                  <p:sp>
                    <p:nvSpPr>
                      <p:cNvPr id="955" name="Oval 106"/>
                      <p:cNvSpPr/>
                      <p:nvPr/>
                    </p:nvSpPr>
                    <p:spPr>
                      <a:xfrm>
                        <a:off x="957960" y="4859640"/>
                        <a:ext cx="828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6" name="Oval 107"/>
                      <p:cNvSpPr/>
                      <p:nvPr/>
                    </p:nvSpPr>
                    <p:spPr>
                      <a:xfrm>
                        <a:off x="954000" y="4859640"/>
                        <a:ext cx="16560" cy="16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7" name="Oval 108"/>
                    <p:cNvSpPr/>
                    <p:nvPr/>
                  </p:nvSpPr>
                  <p:spPr>
                    <a:xfrm>
                      <a:off x="954000" y="4859640"/>
                      <a:ext cx="1548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8" name="Group 81"/>
                  <p:cNvGrpSpPr/>
                  <p:nvPr/>
                </p:nvGrpSpPr>
                <p:grpSpPr>
                  <a:xfrm>
                    <a:off x="888480" y="4786560"/>
                    <a:ext cx="16920" cy="15840"/>
                    <a:chOff x="888480" y="4786560"/>
                    <a:chExt cx="16920" cy="15840"/>
                  </a:xfrm>
                </p:grpSpPr>
                <p:grpSp>
                  <p:nvGrpSpPr>
                    <p:cNvPr id="959" name="Group 82"/>
                    <p:cNvGrpSpPr/>
                    <p:nvPr/>
                  </p:nvGrpSpPr>
                  <p:grpSpPr>
                    <a:xfrm>
                      <a:off x="888480" y="4786560"/>
                      <a:ext cx="16920" cy="15840"/>
                      <a:chOff x="888480" y="4786560"/>
                      <a:chExt cx="16920" cy="15840"/>
                    </a:xfrm>
                  </p:grpSpPr>
                  <p:sp>
                    <p:nvSpPr>
                      <p:cNvPr id="960" name="Oval 111"/>
                      <p:cNvSpPr/>
                      <p:nvPr/>
                    </p:nvSpPr>
                    <p:spPr>
                      <a:xfrm>
                        <a:off x="892800" y="4786560"/>
                        <a:ext cx="828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1" name="Oval 112"/>
                      <p:cNvSpPr/>
                      <p:nvPr/>
                    </p:nvSpPr>
                    <p:spPr>
                      <a:xfrm>
                        <a:off x="888480" y="4786560"/>
                        <a:ext cx="1692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62" name="Oval 113"/>
                    <p:cNvSpPr/>
                    <p:nvPr/>
                  </p:nvSpPr>
                  <p:spPr>
                    <a:xfrm>
                      <a:off x="888480" y="4786560"/>
                      <a:ext cx="1584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Group 86"/>
                  <p:cNvGrpSpPr/>
                  <p:nvPr/>
                </p:nvGrpSpPr>
                <p:grpSpPr>
                  <a:xfrm>
                    <a:off x="1019160" y="4810680"/>
                    <a:ext cx="16560" cy="16200"/>
                    <a:chOff x="1019160" y="4810680"/>
                    <a:chExt cx="16560" cy="16200"/>
                  </a:xfrm>
                </p:grpSpPr>
                <p:grpSp>
                  <p:nvGrpSpPr>
                    <p:cNvPr id="964" name="Group 87"/>
                    <p:cNvGrpSpPr/>
                    <p:nvPr/>
                  </p:nvGrpSpPr>
                  <p:grpSpPr>
                    <a:xfrm>
                      <a:off x="1019160" y="4810680"/>
                      <a:ext cx="16560" cy="16200"/>
                      <a:chOff x="1019160" y="4810680"/>
                      <a:chExt cx="16560" cy="16200"/>
                    </a:xfrm>
                  </p:grpSpPr>
                  <p:sp>
                    <p:nvSpPr>
                      <p:cNvPr id="965" name="Oval 116"/>
                      <p:cNvSpPr/>
                      <p:nvPr/>
                    </p:nvSpPr>
                    <p:spPr>
                      <a:xfrm>
                        <a:off x="1023120" y="4810680"/>
                        <a:ext cx="828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6" name="Oval 117"/>
                      <p:cNvSpPr/>
                      <p:nvPr/>
                    </p:nvSpPr>
                    <p:spPr>
                      <a:xfrm>
                        <a:off x="1019160" y="4810680"/>
                        <a:ext cx="16560" cy="16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920" bIns="-34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67" name="Oval 118"/>
                    <p:cNvSpPr/>
                    <p:nvPr/>
                  </p:nvSpPr>
                  <p:spPr>
                    <a:xfrm>
                      <a:off x="1019160" y="4810680"/>
                      <a:ext cx="15480" cy="1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8" name="Group 91"/>
                  <p:cNvGrpSpPr/>
                  <p:nvPr/>
                </p:nvGrpSpPr>
                <p:grpSpPr>
                  <a:xfrm>
                    <a:off x="938160" y="4957920"/>
                    <a:ext cx="15840" cy="15840"/>
                    <a:chOff x="938160" y="4957920"/>
                    <a:chExt cx="15840" cy="15840"/>
                  </a:xfrm>
                </p:grpSpPr>
                <p:grpSp>
                  <p:nvGrpSpPr>
                    <p:cNvPr id="969" name="Group 92"/>
                    <p:cNvGrpSpPr/>
                    <p:nvPr/>
                  </p:nvGrpSpPr>
                  <p:grpSpPr>
                    <a:xfrm>
                      <a:off x="938160" y="4957920"/>
                      <a:ext cx="15840" cy="15840"/>
                      <a:chOff x="938160" y="4957920"/>
                      <a:chExt cx="15840" cy="15840"/>
                    </a:xfrm>
                  </p:grpSpPr>
                  <p:sp>
                    <p:nvSpPr>
                      <p:cNvPr id="970" name="Oval 121"/>
                      <p:cNvSpPr/>
                      <p:nvPr/>
                    </p:nvSpPr>
                    <p:spPr>
                      <a:xfrm>
                        <a:off x="942120" y="4957920"/>
                        <a:ext cx="792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1" name="Oval 122"/>
                      <p:cNvSpPr/>
                      <p:nvPr/>
                    </p:nvSpPr>
                    <p:spPr>
                      <a:xfrm>
                        <a:off x="938160" y="4957920"/>
                        <a:ext cx="1584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72" name="Oval 123"/>
                    <p:cNvSpPr/>
                    <p:nvPr/>
                  </p:nvSpPr>
                  <p:spPr>
                    <a:xfrm>
                      <a:off x="938160" y="4957920"/>
                      <a:ext cx="1476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3" name="Group 96"/>
                  <p:cNvGrpSpPr/>
                  <p:nvPr/>
                </p:nvGrpSpPr>
                <p:grpSpPr>
                  <a:xfrm>
                    <a:off x="822960" y="4990320"/>
                    <a:ext cx="16200" cy="16200"/>
                    <a:chOff x="822960" y="4990320"/>
                    <a:chExt cx="16200" cy="16200"/>
                  </a:xfrm>
                </p:grpSpPr>
                <p:grpSp>
                  <p:nvGrpSpPr>
                    <p:cNvPr id="974" name="Group 97"/>
                    <p:cNvGrpSpPr/>
                    <p:nvPr/>
                  </p:nvGrpSpPr>
                  <p:grpSpPr>
                    <a:xfrm>
                      <a:off x="822960" y="4990320"/>
                      <a:ext cx="16200" cy="16200"/>
                      <a:chOff x="822960" y="4990320"/>
                      <a:chExt cx="16200" cy="16200"/>
                    </a:xfrm>
                  </p:grpSpPr>
                  <p:sp>
                    <p:nvSpPr>
                      <p:cNvPr id="975" name="Oval 126"/>
                      <p:cNvSpPr/>
                      <p:nvPr/>
                    </p:nvSpPr>
                    <p:spPr>
                      <a:xfrm>
                        <a:off x="826920" y="4990320"/>
                        <a:ext cx="792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6" name="Oval 127"/>
                      <p:cNvSpPr/>
                      <p:nvPr/>
                    </p:nvSpPr>
                    <p:spPr>
                      <a:xfrm>
                        <a:off x="822960" y="4990320"/>
                        <a:ext cx="16200" cy="16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920" bIns="-34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77" name="Oval 128"/>
                    <p:cNvSpPr/>
                    <p:nvPr/>
                  </p:nvSpPr>
                  <p:spPr>
                    <a:xfrm>
                      <a:off x="822960" y="4990320"/>
                      <a:ext cx="15120" cy="1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Group 101"/>
                  <p:cNvGrpSpPr/>
                  <p:nvPr/>
                </p:nvGrpSpPr>
                <p:grpSpPr>
                  <a:xfrm>
                    <a:off x="961920" y="4737600"/>
                    <a:ext cx="16560" cy="15840"/>
                    <a:chOff x="961920" y="4737600"/>
                    <a:chExt cx="16560" cy="15840"/>
                  </a:xfrm>
                </p:grpSpPr>
                <p:grpSp>
                  <p:nvGrpSpPr>
                    <p:cNvPr id="979" name="Group 102"/>
                    <p:cNvGrpSpPr/>
                    <p:nvPr/>
                  </p:nvGrpSpPr>
                  <p:grpSpPr>
                    <a:xfrm>
                      <a:off x="961920" y="4737600"/>
                      <a:ext cx="16560" cy="15840"/>
                      <a:chOff x="961920" y="4737600"/>
                      <a:chExt cx="16560" cy="15840"/>
                    </a:xfrm>
                  </p:grpSpPr>
                  <p:sp>
                    <p:nvSpPr>
                      <p:cNvPr id="980" name="Oval 131"/>
                      <p:cNvSpPr/>
                      <p:nvPr/>
                    </p:nvSpPr>
                    <p:spPr>
                      <a:xfrm>
                        <a:off x="965880" y="4737600"/>
                        <a:ext cx="828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1" name="Oval 132"/>
                      <p:cNvSpPr/>
                      <p:nvPr/>
                    </p:nvSpPr>
                    <p:spPr>
                      <a:xfrm>
                        <a:off x="961920" y="4737600"/>
                        <a:ext cx="1656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82" name="Oval 133"/>
                    <p:cNvSpPr/>
                    <p:nvPr/>
                  </p:nvSpPr>
                  <p:spPr>
                    <a:xfrm>
                      <a:off x="961920" y="4737600"/>
                      <a:ext cx="1548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3" name="Group 106"/>
                  <p:cNvGrpSpPr/>
                  <p:nvPr/>
                </p:nvGrpSpPr>
                <p:grpSpPr>
                  <a:xfrm>
                    <a:off x="1002960" y="4835520"/>
                    <a:ext cx="16200" cy="16200"/>
                    <a:chOff x="1002960" y="4835520"/>
                    <a:chExt cx="16200" cy="16200"/>
                  </a:xfrm>
                </p:grpSpPr>
                <p:grpSp>
                  <p:nvGrpSpPr>
                    <p:cNvPr id="984" name="Group 107"/>
                    <p:cNvGrpSpPr/>
                    <p:nvPr/>
                  </p:nvGrpSpPr>
                  <p:grpSpPr>
                    <a:xfrm>
                      <a:off x="1002960" y="4835520"/>
                      <a:ext cx="16200" cy="16200"/>
                      <a:chOff x="1002960" y="4835520"/>
                      <a:chExt cx="16200" cy="16200"/>
                    </a:xfrm>
                  </p:grpSpPr>
                  <p:sp>
                    <p:nvSpPr>
                      <p:cNvPr id="985" name="Oval 136"/>
                      <p:cNvSpPr/>
                      <p:nvPr/>
                    </p:nvSpPr>
                    <p:spPr>
                      <a:xfrm>
                        <a:off x="1006920" y="4835520"/>
                        <a:ext cx="792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6" name="Oval 137"/>
                      <p:cNvSpPr/>
                      <p:nvPr/>
                    </p:nvSpPr>
                    <p:spPr>
                      <a:xfrm>
                        <a:off x="1002960" y="4835520"/>
                        <a:ext cx="16200" cy="16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920" bIns="-34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87" name="Oval 138"/>
                    <p:cNvSpPr/>
                    <p:nvPr/>
                  </p:nvSpPr>
                  <p:spPr>
                    <a:xfrm>
                      <a:off x="1002960" y="4835520"/>
                      <a:ext cx="15120" cy="1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8" name="Oval 139"/>
                  <p:cNvSpPr/>
                  <p:nvPr/>
                </p:nvSpPr>
                <p:spPr>
                  <a:xfrm>
                    <a:off x="961560" y="4859640"/>
                    <a:ext cx="90720" cy="171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9" name="Group 112"/>
                  <p:cNvGrpSpPr/>
                  <p:nvPr/>
                </p:nvGrpSpPr>
                <p:grpSpPr>
                  <a:xfrm>
                    <a:off x="995040" y="4998600"/>
                    <a:ext cx="16200" cy="15840"/>
                    <a:chOff x="995040" y="4998600"/>
                    <a:chExt cx="16200" cy="15840"/>
                  </a:xfrm>
                </p:grpSpPr>
                <p:grpSp>
                  <p:nvGrpSpPr>
                    <p:cNvPr id="990" name="Group 113"/>
                    <p:cNvGrpSpPr/>
                    <p:nvPr/>
                  </p:nvGrpSpPr>
                  <p:grpSpPr>
                    <a:xfrm>
                      <a:off x="995040" y="4998600"/>
                      <a:ext cx="16200" cy="15840"/>
                      <a:chOff x="995040" y="4998600"/>
                      <a:chExt cx="16200" cy="15840"/>
                    </a:xfrm>
                  </p:grpSpPr>
                  <p:sp>
                    <p:nvSpPr>
                      <p:cNvPr id="991" name="Oval 142"/>
                      <p:cNvSpPr/>
                      <p:nvPr/>
                    </p:nvSpPr>
                    <p:spPr>
                      <a:xfrm>
                        <a:off x="999000" y="4998600"/>
                        <a:ext cx="792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2" name="Oval 143"/>
                      <p:cNvSpPr/>
                      <p:nvPr/>
                    </p:nvSpPr>
                    <p:spPr>
                      <a:xfrm>
                        <a:off x="995040" y="4998600"/>
                        <a:ext cx="1620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93" name="Oval 144"/>
                    <p:cNvSpPr/>
                    <p:nvPr/>
                  </p:nvSpPr>
                  <p:spPr>
                    <a:xfrm>
                      <a:off x="995040" y="4998600"/>
                      <a:ext cx="1512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4" name="Oval 145"/>
                  <p:cNvSpPr/>
                  <p:nvPr/>
                </p:nvSpPr>
                <p:spPr>
                  <a:xfrm>
                    <a:off x="791280" y="4867560"/>
                    <a:ext cx="56880" cy="155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be8dd"/>
                      </a:gs>
                      <a:gs pos="100000">
                        <a:srgbClr val="746b66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5" name="Group 118"/>
                  <p:cNvGrpSpPr/>
                  <p:nvPr/>
                </p:nvGrpSpPr>
                <p:grpSpPr>
                  <a:xfrm>
                    <a:off x="798840" y="4827240"/>
                    <a:ext cx="15840" cy="15840"/>
                    <a:chOff x="798840" y="4827240"/>
                    <a:chExt cx="15840" cy="15840"/>
                  </a:xfrm>
                </p:grpSpPr>
                <p:grpSp>
                  <p:nvGrpSpPr>
                    <p:cNvPr id="996" name="Group 119"/>
                    <p:cNvGrpSpPr/>
                    <p:nvPr/>
                  </p:nvGrpSpPr>
                  <p:grpSpPr>
                    <a:xfrm>
                      <a:off x="798840" y="4827240"/>
                      <a:ext cx="15840" cy="15840"/>
                      <a:chOff x="798840" y="4827240"/>
                      <a:chExt cx="15840" cy="15840"/>
                    </a:xfrm>
                  </p:grpSpPr>
                  <p:sp>
                    <p:nvSpPr>
                      <p:cNvPr id="997" name="Oval 148"/>
                      <p:cNvSpPr/>
                      <p:nvPr/>
                    </p:nvSpPr>
                    <p:spPr>
                      <a:xfrm>
                        <a:off x="802800" y="4827240"/>
                        <a:ext cx="792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8" name="Oval 149"/>
                      <p:cNvSpPr/>
                      <p:nvPr/>
                    </p:nvSpPr>
                    <p:spPr>
                      <a:xfrm>
                        <a:off x="798840" y="4827240"/>
                        <a:ext cx="1584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99" name="Oval 150"/>
                    <p:cNvSpPr/>
                    <p:nvPr/>
                  </p:nvSpPr>
                  <p:spPr>
                    <a:xfrm>
                      <a:off x="798840" y="4827240"/>
                      <a:ext cx="1476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0" name="Oval 151"/>
                  <p:cNvSpPr/>
                  <p:nvPr/>
                </p:nvSpPr>
                <p:spPr>
                  <a:xfrm>
                    <a:off x="995040" y="4869720"/>
                    <a:ext cx="56880" cy="154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3e9e5"/>
                      </a:gs>
                      <a:gs pos="100000">
                        <a:srgbClr val="706c6a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Freeform 152"/>
                  <p:cNvSpPr/>
                  <p:nvPr/>
                </p:nvSpPr>
                <p:spPr>
                  <a:xfrm>
                    <a:off x="782280" y="4868280"/>
                    <a:ext cx="3312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429">
                        <a:moveTo>
                          <a:pt x="0" y="0"/>
                        </a:moveTo>
                        <a:lnTo>
                          <a:pt x="23" y="159"/>
                        </a:lnTo>
                        <a:lnTo>
                          <a:pt x="23" y="703"/>
                        </a:lnTo>
                        <a:lnTo>
                          <a:pt x="0" y="1225"/>
                        </a:lnTo>
                        <a:lnTo>
                          <a:pt x="0" y="1429"/>
                        </a:lnTo>
                        <a:lnTo>
                          <a:pt x="68" y="1429"/>
                        </a:lnTo>
                        <a:lnTo>
                          <a:pt x="91" y="885"/>
                        </a:lnTo>
                        <a:lnTo>
                          <a:pt x="114" y="590"/>
                        </a:lnTo>
                        <a:lnTo>
                          <a:pt x="114" y="159"/>
                        </a:lnTo>
                        <a:lnTo>
                          <a:pt x="11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50000">
                        <a:srgbClr val="fff1e3"/>
                      </a:gs>
                      <a:gs pos="100000">
                        <a:srgbClr val="ffde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Freeform 153"/>
                  <p:cNvSpPr/>
                  <p:nvPr/>
                </p:nvSpPr>
                <p:spPr>
                  <a:xfrm rot="21360000">
                    <a:off x="1025280" y="4869720"/>
                    <a:ext cx="3240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429">
                        <a:moveTo>
                          <a:pt x="0" y="0"/>
                        </a:moveTo>
                        <a:lnTo>
                          <a:pt x="23" y="159"/>
                        </a:lnTo>
                        <a:lnTo>
                          <a:pt x="23" y="703"/>
                        </a:lnTo>
                        <a:lnTo>
                          <a:pt x="0" y="1225"/>
                        </a:lnTo>
                        <a:lnTo>
                          <a:pt x="0" y="1429"/>
                        </a:lnTo>
                        <a:lnTo>
                          <a:pt x="68" y="1429"/>
                        </a:lnTo>
                        <a:lnTo>
                          <a:pt x="91" y="885"/>
                        </a:lnTo>
                        <a:lnTo>
                          <a:pt x="114" y="590"/>
                        </a:lnTo>
                        <a:lnTo>
                          <a:pt x="114" y="159"/>
                        </a:lnTo>
                        <a:lnTo>
                          <a:pt x="11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50000">
                        <a:srgbClr val="fff1e3"/>
                      </a:gs>
                      <a:gs pos="100000">
                        <a:srgbClr val="ffdebd"/>
                      </a:gs>
                    </a:gsLst>
                    <a:lin ang="56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Oval 154"/>
                  <p:cNvSpPr/>
                  <p:nvPr/>
                </p:nvSpPr>
                <p:spPr>
                  <a:xfrm rot="361200">
                    <a:off x="741240" y="5270760"/>
                    <a:ext cx="258840" cy="278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66"/>
                      </a:gs>
                      <a:gs pos="100000">
                        <a:srgbClr val="1d583b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Oval 155"/>
                  <p:cNvSpPr/>
                  <p:nvPr/>
                </p:nvSpPr>
                <p:spPr>
                  <a:xfrm rot="3600000">
                    <a:off x="973080" y="5715000"/>
                    <a:ext cx="1814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e8a5c"/>
                      </a:gs>
                      <a:gs pos="100000">
                        <a:srgbClr val="1b503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Oval 156"/>
                  <p:cNvSpPr/>
                  <p:nvPr/>
                </p:nvSpPr>
                <p:spPr>
                  <a:xfrm>
                    <a:off x="831960" y="5620680"/>
                    <a:ext cx="5148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Oval 157"/>
                  <p:cNvSpPr/>
                  <p:nvPr/>
                </p:nvSpPr>
                <p:spPr>
                  <a:xfrm>
                    <a:off x="973440" y="5844600"/>
                    <a:ext cx="5184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Oval 158"/>
                  <p:cNvSpPr/>
                  <p:nvPr/>
                </p:nvSpPr>
                <p:spPr>
                  <a:xfrm>
                    <a:off x="1077840" y="5750280"/>
                    <a:ext cx="5184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Oval 159"/>
                  <p:cNvSpPr/>
                  <p:nvPr/>
                </p:nvSpPr>
                <p:spPr>
                  <a:xfrm>
                    <a:off x="728280" y="5844600"/>
                    <a:ext cx="5184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Oval 160"/>
                  <p:cNvSpPr/>
                  <p:nvPr/>
                </p:nvSpPr>
                <p:spPr>
                  <a:xfrm>
                    <a:off x="831960" y="5064120"/>
                    <a:ext cx="46080" cy="4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Oval 161"/>
                  <p:cNvSpPr/>
                  <p:nvPr/>
                </p:nvSpPr>
                <p:spPr>
                  <a:xfrm>
                    <a:off x="961560" y="5141520"/>
                    <a:ext cx="5112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Oval 162"/>
                  <p:cNvSpPr/>
                  <p:nvPr/>
                </p:nvSpPr>
                <p:spPr>
                  <a:xfrm>
                    <a:off x="818640" y="5245560"/>
                    <a:ext cx="5184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2" name="Group 135"/>
                  <p:cNvGrpSpPr/>
                  <p:nvPr/>
                </p:nvGrpSpPr>
                <p:grpSpPr>
                  <a:xfrm>
                    <a:off x="767160" y="4851720"/>
                    <a:ext cx="73440" cy="32400"/>
                    <a:chOff x="767160" y="4851720"/>
                    <a:chExt cx="73440" cy="32400"/>
                  </a:xfrm>
                </p:grpSpPr>
                <p:sp>
                  <p:nvSpPr>
                    <p:cNvPr id="1013" name="Oval 164"/>
                    <p:cNvSpPr/>
                    <p:nvPr/>
                  </p:nvSpPr>
                  <p:spPr>
                    <a:xfrm>
                      <a:off x="785160" y="4859280"/>
                      <a:ext cx="37080" cy="15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Oval 165"/>
                    <p:cNvSpPr/>
                    <p:nvPr/>
                  </p:nvSpPr>
                  <p:spPr>
                    <a:xfrm>
                      <a:off x="767160" y="4851720"/>
                      <a:ext cx="73440" cy="32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5" name="Oval 166"/>
                  <p:cNvSpPr/>
                  <p:nvPr/>
                </p:nvSpPr>
                <p:spPr>
                  <a:xfrm>
                    <a:off x="1005120" y="4856400"/>
                    <a:ext cx="41040" cy="1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2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Oval 167"/>
                  <p:cNvSpPr/>
                  <p:nvPr/>
                </p:nvSpPr>
                <p:spPr>
                  <a:xfrm>
                    <a:off x="992160" y="4851720"/>
                    <a:ext cx="60120" cy="30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2f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Oval 168"/>
                  <p:cNvSpPr/>
                  <p:nvPr/>
                </p:nvSpPr>
                <p:spPr>
                  <a:xfrm rot="21000000">
                    <a:off x="986400" y="4795560"/>
                    <a:ext cx="8280" cy="73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6c6c">
                          <a:alpha val="0"/>
                        </a:srgbClr>
                      </a:gs>
                      <a:gs pos="100000">
                        <a:srgbClr val="eaeaea"/>
                      </a:gs>
                    </a:gsLst>
                    <a:lin ang="6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AutoShape 169"/>
                  <p:cNvSpPr/>
                  <p:nvPr/>
                </p:nvSpPr>
                <p:spPr>
                  <a:xfrm>
                    <a:off x="792360" y="5374440"/>
                    <a:ext cx="246240" cy="266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a50021"/>
                      </a:gs>
                      <a:gs pos="100000">
                        <a:srgbClr val="4c000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Oval 170"/>
                  <p:cNvSpPr/>
                  <p:nvPr/>
                </p:nvSpPr>
                <p:spPr>
                  <a:xfrm>
                    <a:off x="819000" y="5367960"/>
                    <a:ext cx="220320" cy="45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Oval 171"/>
                  <p:cNvSpPr/>
                  <p:nvPr/>
                </p:nvSpPr>
                <p:spPr>
                  <a:xfrm>
                    <a:off x="806040" y="5361840"/>
                    <a:ext cx="220320" cy="45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AutoShape 172"/>
                  <p:cNvSpPr/>
                  <p:nvPr/>
                </p:nvSpPr>
                <p:spPr>
                  <a:xfrm>
                    <a:off x="689760" y="5439960"/>
                    <a:ext cx="452520" cy="3758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cc0000"/>
                      </a:gs>
                      <a:gs pos="50000">
                        <a:srgbClr val="0d0000"/>
                      </a:gs>
                      <a:gs pos="100000">
                        <a:srgbClr val="cc0000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Oval 173"/>
                  <p:cNvSpPr/>
                  <p:nvPr/>
                </p:nvSpPr>
                <p:spPr>
                  <a:xfrm rot="1739400">
                    <a:off x="1025280" y="5439960"/>
                    <a:ext cx="12960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60000"/>
                        </a:srgbClr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AutoShape 174"/>
                  <p:cNvSpPr/>
                  <p:nvPr/>
                </p:nvSpPr>
                <p:spPr>
                  <a:xfrm>
                    <a:off x="689760" y="5465160"/>
                    <a:ext cx="414000" cy="336960"/>
                  </a:xfrm>
                  <a:prstGeom prst="roundRect">
                    <a:avLst>
                      <a:gd name="adj" fmla="val 11463"/>
                    </a:avLst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b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Freeform 175"/>
                  <p:cNvSpPr/>
                  <p:nvPr/>
                </p:nvSpPr>
                <p:spPr>
                  <a:xfrm>
                    <a:off x="767160" y="5387760"/>
                    <a:ext cx="295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91">
                        <a:moveTo>
                          <a:pt x="52" y="0"/>
                        </a:moveTo>
                        <a:cubicBezTo>
                          <a:pt x="33" y="4"/>
                          <a:pt x="14" y="8"/>
                          <a:pt x="7" y="23"/>
                        </a:cubicBezTo>
                        <a:cubicBezTo>
                          <a:pt x="0" y="38"/>
                          <a:pt x="14" y="80"/>
                          <a:pt x="7" y="91"/>
                        </a:cubicBezTo>
                      </a:path>
                    </a:pathLst>
                  </a:custGeom>
                  <a:noFill/>
                  <a:ln w="6984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Oval 176"/>
                  <p:cNvSpPr/>
                  <p:nvPr/>
                </p:nvSpPr>
                <p:spPr>
                  <a:xfrm>
                    <a:off x="728280" y="5361840"/>
                    <a:ext cx="77760" cy="116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6" name="Group 149"/>
                  <p:cNvGrpSpPr/>
                  <p:nvPr/>
                </p:nvGrpSpPr>
                <p:grpSpPr>
                  <a:xfrm>
                    <a:off x="1051920" y="5387760"/>
                    <a:ext cx="37800" cy="90720"/>
                    <a:chOff x="1051920" y="5387760"/>
                    <a:chExt cx="37800" cy="90720"/>
                  </a:xfrm>
                </p:grpSpPr>
                <p:sp>
                  <p:nvSpPr>
                    <p:cNvPr id="1027" name="Freeform 178"/>
                    <p:cNvSpPr/>
                    <p:nvPr/>
                  </p:nvSpPr>
                  <p:spPr>
                    <a:xfrm flipH="1">
                      <a:off x="1057320" y="5387760"/>
                      <a:ext cx="1692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91">
                          <a:moveTo>
                            <a:pt x="52" y="0"/>
                          </a:moveTo>
                          <a:cubicBezTo>
                            <a:pt x="33" y="4"/>
                            <a:pt x="14" y="8"/>
                            <a:pt x="7" y="23"/>
                          </a:cubicBezTo>
                          <a:cubicBezTo>
                            <a:pt x="0" y="38"/>
                            <a:pt x="14" y="80"/>
                            <a:pt x="7" y="91"/>
                          </a:cubicBezTo>
                        </a:path>
                      </a:pathLst>
                    </a:custGeom>
                    <a:noFill/>
                    <a:ln w="69840">
                      <a:solidFill>
                        <a:srgbClr val="a5002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8" name="Oval 179"/>
                    <p:cNvSpPr/>
                    <p:nvPr/>
                  </p:nvSpPr>
                  <p:spPr>
                    <a:xfrm flipH="1">
                      <a:off x="1051560" y="5400720"/>
                      <a:ext cx="37800" cy="777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0000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9" name="Group 152"/>
                  <p:cNvGrpSpPr/>
                  <p:nvPr/>
                </p:nvGrpSpPr>
                <p:grpSpPr>
                  <a:xfrm>
                    <a:off x="1013040" y="5309640"/>
                    <a:ext cx="54720" cy="103320"/>
                    <a:chOff x="1013040" y="5309640"/>
                    <a:chExt cx="54720" cy="103320"/>
                  </a:xfrm>
                </p:grpSpPr>
                <p:sp>
                  <p:nvSpPr>
                    <p:cNvPr id="1030" name="Freeform 181"/>
                    <p:cNvSpPr/>
                    <p:nvPr/>
                  </p:nvSpPr>
                  <p:spPr>
                    <a:xfrm flipH="1">
                      <a:off x="1026720" y="5309640"/>
                      <a:ext cx="3816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374">
                          <a:moveTo>
                            <a:pt x="34" y="23"/>
                          </a:moveTo>
                          <a:cubicBezTo>
                            <a:pt x="34" y="46"/>
                            <a:pt x="11" y="106"/>
                            <a:pt x="11" y="159"/>
                          </a:cubicBezTo>
                          <a:cubicBezTo>
                            <a:pt x="11" y="212"/>
                            <a:pt x="23" y="306"/>
                            <a:pt x="34" y="340"/>
                          </a:cubicBezTo>
                          <a:cubicBezTo>
                            <a:pt x="45" y="374"/>
                            <a:pt x="60" y="359"/>
                            <a:pt x="79" y="363"/>
                          </a:cubicBezTo>
                          <a:cubicBezTo>
                            <a:pt x="98" y="367"/>
                            <a:pt x="129" y="367"/>
                            <a:pt x="148" y="363"/>
                          </a:cubicBezTo>
                          <a:cubicBezTo>
                            <a:pt x="167" y="359"/>
                            <a:pt x="182" y="348"/>
                            <a:pt x="193" y="340"/>
                          </a:cubicBezTo>
                          <a:cubicBezTo>
                            <a:pt x="204" y="332"/>
                            <a:pt x="212" y="326"/>
                            <a:pt x="216" y="318"/>
                          </a:cubicBezTo>
                          <a:cubicBezTo>
                            <a:pt x="220" y="310"/>
                            <a:pt x="220" y="303"/>
                            <a:pt x="216" y="295"/>
                          </a:cubicBezTo>
                          <a:cubicBezTo>
                            <a:pt x="212" y="287"/>
                            <a:pt x="201" y="287"/>
                            <a:pt x="193" y="272"/>
                          </a:cubicBezTo>
                          <a:cubicBezTo>
                            <a:pt x="185" y="257"/>
                            <a:pt x="174" y="227"/>
                            <a:pt x="170" y="204"/>
                          </a:cubicBezTo>
                          <a:cubicBezTo>
                            <a:pt x="166" y="181"/>
                            <a:pt x="177" y="162"/>
                            <a:pt x="170" y="136"/>
                          </a:cubicBezTo>
                          <a:cubicBezTo>
                            <a:pt x="163" y="110"/>
                            <a:pt x="136" y="64"/>
                            <a:pt x="125" y="45"/>
                          </a:cubicBezTo>
                          <a:cubicBezTo>
                            <a:pt x="114" y="26"/>
                            <a:pt x="121" y="27"/>
                            <a:pt x="102" y="23"/>
                          </a:cubicBezTo>
                          <a:cubicBezTo>
                            <a:pt x="83" y="19"/>
                            <a:pt x="22" y="23"/>
                            <a:pt x="11" y="23"/>
                          </a:cubicBezTo>
                          <a:cubicBezTo>
                            <a:pt x="0" y="23"/>
                            <a:pt x="34" y="0"/>
                            <a:pt x="34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1" name="Oval 182"/>
                    <p:cNvSpPr/>
                    <p:nvPr/>
                  </p:nvSpPr>
                  <p:spPr>
                    <a:xfrm flipH="1" rot="600000">
                      <a:off x="1051560" y="5387040"/>
                      <a:ext cx="1440" cy="2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Oval 183"/>
                    <p:cNvSpPr/>
                    <p:nvPr/>
                  </p:nvSpPr>
                  <p:spPr>
                    <a:xfrm flipH="1" rot="600000">
                      <a:off x="1044000" y="5387040"/>
                      <a:ext cx="1440" cy="2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Oval 184"/>
                    <p:cNvSpPr/>
                    <p:nvPr/>
                  </p:nvSpPr>
                  <p:spPr>
                    <a:xfrm flipH="1" rot="600000">
                      <a:off x="1037520" y="5382360"/>
                      <a:ext cx="1440" cy="2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Oval 185"/>
                    <p:cNvSpPr/>
                    <p:nvPr/>
                  </p:nvSpPr>
                  <p:spPr>
                    <a:xfrm flipH="1" rot="840000">
                      <a:off x="1033920" y="5377680"/>
                      <a:ext cx="1800" cy="21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5" name="Oval 186"/>
                    <p:cNvSpPr/>
                    <p:nvPr/>
                  </p:nvSpPr>
                  <p:spPr>
                    <a:xfrm flipH="1" rot="711600">
                      <a:off x="1028880" y="5391000"/>
                      <a:ext cx="6840" cy="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Oval 187"/>
                    <p:cNvSpPr/>
                    <p:nvPr/>
                  </p:nvSpPr>
                  <p:spPr>
                    <a:xfrm flipH="1" rot="967800">
                      <a:off x="1032480" y="5374800"/>
                      <a:ext cx="32040" cy="25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39393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Freeform 188"/>
                    <p:cNvSpPr/>
                    <p:nvPr/>
                  </p:nvSpPr>
                  <p:spPr>
                    <a:xfrm flipH="1">
                      <a:off x="1013040" y="5314680"/>
                      <a:ext cx="3528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336">
                          <a:moveTo>
                            <a:pt x="11" y="30"/>
                          </a:moveTo>
                          <a:cubicBezTo>
                            <a:pt x="15" y="41"/>
                            <a:pt x="23" y="45"/>
                            <a:pt x="34" y="75"/>
                          </a:cubicBezTo>
                          <a:cubicBezTo>
                            <a:pt x="45" y="105"/>
                            <a:pt x="68" y="181"/>
                            <a:pt x="79" y="211"/>
                          </a:cubicBezTo>
                          <a:cubicBezTo>
                            <a:pt x="90" y="241"/>
                            <a:pt x="91" y="237"/>
                            <a:pt x="102" y="256"/>
                          </a:cubicBezTo>
                          <a:cubicBezTo>
                            <a:pt x="113" y="275"/>
                            <a:pt x="128" y="314"/>
                            <a:pt x="147" y="325"/>
                          </a:cubicBezTo>
                          <a:cubicBezTo>
                            <a:pt x="166" y="336"/>
                            <a:pt x="208" y="329"/>
                            <a:pt x="215" y="325"/>
                          </a:cubicBezTo>
                          <a:cubicBezTo>
                            <a:pt x="222" y="321"/>
                            <a:pt x="200" y="306"/>
                            <a:pt x="192" y="302"/>
                          </a:cubicBezTo>
                          <a:cubicBezTo>
                            <a:pt x="184" y="298"/>
                            <a:pt x="177" y="310"/>
                            <a:pt x="170" y="302"/>
                          </a:cubicBezTo>
                          <a:cubicBezTo>
                            <a:pt x="163" y="294"/>
                            <a:pt x="158" y="279"/>
                            <a:pt x="147" y="256"/>
                          </a:cubicBezTo>
                          <a:cubicBezTo>
                            <a:pt x="136" y="233"/>
                            <a:pt x="113" y="196"/>
                            <a:pt x="102" y="166"/>
                          </a:cubicBezTo>
                          <a:cubicBezTo>
                            <a:pt x="91" y="136"/>
                            <a:pt x="94" y="101"/>
                            <a:pt x="79" y="75"/>
                          </a:cubicBezTo>
                          <a:cubicBezTo>
                            <a:pt x="64" y="49"/>
                            <a:pt x="22" y="14"/>
                            <a:pt x="11" y="7"/>
                          </a:cubicBezTo>
                          <a:cubicBezTo>
                            <a:pt x="0" y="0"/>
                            <a:pt x="7" y="19"/>
                            <a:pt x="11" y="3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Oval 189"/>
                    <p:cNvSpPr/>
                    <p:nvPr/>
                  </p:nvSpPr>
                  <p:spPr>
                    <a:xfrm flipH="1" rot="840000">
                      <a:off x="1037520" y="5334840"/>
                      <a:ext cx="1440" cy="21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ffd9b4">
                            <a:alpha val="4000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Oval 190"/>
                    <p:cNvSpPr/>
                    <p:nvPr/>
                  </p:nvSpPr>
                  <p:spPr>
                    <a:xfrm flipH="1" rot="711600">
                      <a:off x="1046160" y="5401800"/>
                      <a:ext cx="684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Oval 191"/>
                    <p:cNvSpPr/>
                    <p:nvPr/>
                  </p:nvSpPr>
                  <p:spPr>
                    <a:xfrm flipH="1" rot="711600">
                      <a:off x="1040040" y="5403960"/>
                      <a:ext cx="6120" cy="57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Oval 192"/>
                    <p:cNvSpPr/>
                    <p:nvPr/>
                  </p:nvSpPr>
                  <p:spPr>
                    <a:xfrm flipH="1" rot="711600">
                      <a:off x="1031040" y="5401800"/>
                      <a:ext cx="684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2" name="Oval 193"/>
                    <p:cNvSpPr/>
                    <p:nvPr/>
                  </p:nvSpPr>
                  <p:spPr>
                    <a:xfrm flipH="1" rot="711600">
                      <a:off x="1028880" y="5395680"/>
                      <a:ext cx="6840" cy="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3" name="Group 166"/>
                  <p:cNvGrpSpPr/>
                  <p:nvPr/>
                </p:nvGrpSpPr>
                <p:grpSpPr>
                  <a:xfrm>
                    <a:off x="776880" y="5309640"/>
                    <a:ext cx="53640" cy="103320"/>
                    <a:chOff x="776880" y="5309640"/>
                    <a:chExt cx="53640" cy="103320"/>
                  </a:xfrm>
                </p:grpSpPr>
                <p:sp>
                  <p:nvSpPr>
                    <p:cNvPr id="1044" name="Freeform 195"/>
                    <p:cNvSpPr/>
                    <p:nvPr/>
                  </p:nvSpPr>
                  <p:spPr>
                    <a:xfrm>
                      <a:off x="779760" y="5309640"/>
                      <a:ext cx="3744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374">
                          <a:moveTo>
                            <a:pt x="34" y="23"/>
                          </a:moveTo>
                          <a:cubicBezTo>
                            <a:pt x="34" y="46"/>
                            <a:pt x="11" y="106"/>
                            <a:pt x="11" y="159"/>
                          </a:cubicBezTo>
                          <a:cubicBezTo>
                            <a:pt x="11" y="212"/>
                            <a:pt x="23" y="306"/>
                            <a:pt x="34" y="340"/>
                          </a:cubicBezTo>
                          <a:cubicBezTo>
                            <a:pt x="45" y="374"/>
                            <a:pt x="60" y="359"/>
                            <a:pt x="79" y="363"/>
                          </a:cubicBezTo>
                          <a:cubicBezTo>
                            <a:pt x="98" y="367"/>
                            <a:pt x="129" y="367"/>
                            <a:pt x="148" y="363"/>
                          </a:cubicBezTo>
                          <a:cubicBezTo>
                            <a:pt x="167" y="359"/>
                            <a:pt x="182" y="348"/>
                            <a:pt x="193" y="340"/>
                          </a:cubicBezTo>
                          <a:cubicBezTo>
                            <a:pt x="204" y="332"/>
                            <a:pt x="212" y="326"/>
                            <a:pt x="216" y="318"/>
                          </a:cubicBezTo>
                          <a:cubicBezTo>
                            <a:pt x="220" y="310"/>
                            <a:pt x="220" y="303"/>
                            <a:pt x="216" y="295"/>
                          </a:cubicBezTo>
                          <a:cubicBezTo>
                            <a:pt x="212" y="287"/>
                            <a:pt x="201" y="287"/>
                            <a:pt x="193" y="272"/>
                          </a:cubicBezTo>
                          <a:cubicBezTo>
                            <a:pt x="185" y="257"/>
                            <a:pt x="174" y="227"/>
                            <a:pt x="170" y="204"/>
                          </a:cubicBezTo>
                          <a:cubicBezTo>
                            <a:pt x="166" y="181"/>
                            <a:pt x="177" y="162"/>
                            <a:pt x="170" y="136"/>
                          </a:cubicBezTo>
                          <a:cubicBezTo>
                            <a:pt x="163" y="110"/>
                            <a:pt x="136" y="64"/>
                            <a:pt x="125" y="45"/>
                          </a:cubicBezTo>
                          <a:cubicBezTo>
                            <a:pt x="114" y="26"/>
                            <a:pt x="121" y="27"/>
                            <a:pt x="102" y="23"/>
                          </a:cubicBezTo>
                          <a:cubicBezTo>
                            <a:pt x="83" y="19"/>
                            <a:pt x="22" y="23"/>
                            <a:pt x="11" y="23"/>
                          </a:cubicBezTo>
                          <a:cubicBezTo>
                            <a:pt x="0" y="23"/>
                            <a:pt x="34" y="0"/>
                            <a:pt x="34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Oval 196"/>
                    <p:cNvSpPr/>
                    <p:nvPr/>
                  </p:nvSpPr>
                  <p:spPr>
                    <a:xfrm rot="21000000">
                      <a:off x="790560" y="5387400"/>
                      <a:ext cx="1440" cy="2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6" name="Oval 197"/>
                    <p:cNvSpPr/>
                    <p:nvPr/>
                  </p:nvSpPr>
                  <p:spPr>
                    <a:xfrm rot="21000000">
                      <a:off x="797760" y="5387400"/>
                      <a:ext cx="1440" cy="2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Oval 198"/>
                    <p:cNvSpPr/>
                    <p:nvPr/>
                  </p:nvSpPr>
                  <p:spPr>
                    <a:xfrm rot="21000000">
                      <a:off x="804600" y="5382720"/>
                      <a:ext cx="1440" cy="2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8" name="Oval 199"/>
                    <p:cNvSpPr/>
                    <p:nvPr/>
                  </p:nvSpPr>
                  <p:spPr>
                    <a:xfrm rot="20760000">
                      <a:off x="808200" y="5377680"/>
                      <a:ext cx="1800" cy="21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Oval 200"/>
                    <p:cNvSpPr/>
                    <p:nvPr/>
                  </p:nvSpPr>
                  <p:spPr>
                    <a:xfrm rot="20888400">
                      <a:off x="808200" y="5391000"/>
                      <a:ext cx="6840" cy="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Oval 201"/>
                    <p:cNvSpPr/>
                    <p:nvPr/>
                  </p:nvSpPr>
                  <p:spPr>
                    <a:xfrm rot="20632200">
                      <a:off x="779760" y="5374800"/>
                      <a:ext cx="31680" cy="25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39393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1" name="Freeform 202"/>
                    <p:cNvSpPr/>
                    <p:nvPr/>
                  </p:nvSpPr>
                  <p:spPr>
                    <a:xfrm>
                      <a:off x="795960" y="5314680"/>
                      <a:ext cx="3456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336">
                          <a:moveTo>
                            <a:pt x="11" y="30"/>
                          </a:moveTo>
                          <a:cubicBezTo>
                            <a:pt x="15" y="41"/>
                            <a:pt x="23" y="45"/>
                            <a:pt x="34" y="75"/>
                          </a:cubicBezTo>
                          <a:cubicBezTo>
                            <a:pt x="45" y="105"/>
                            <a:pt x="68" y="181"/>
                            <a:pt x="79" y="211"/>
                          </a:cubicBezTo>
                          <a:cubicBezTo>
                            <a:pt x="90" y="241"/>
                            <a:pt x="91" y="237"/>
                            <a:pt x="102" y="256"/>
                          </a:cubicBezTo>
                          <a:cubicBezTo>
                            <a:pt x="113" y="275"/>
                            <a:pt x="128" y="314"/>
                            <a:pt x="147" y="325"/>
                          </a:cubicBezTo>
                          <a:cubicBezTo>
                            <a:pt x="166" y="336"/>
                            <a:pt x="208" y="329"/>
                            <a:pt x="215" y="325"/>
                          </a:cubicBezTo>
                          <a:cubicBezTo>
                            <a:pt x="222" y="321"/>
                            <a:pt x="200" y="306"/>
                            <a:pt x="192" y="302"/>
                          </a:cubicBezTo>
                          <a:cubicBezTo>
                            <a:pt x="184" y="298"/>
                            <a:pt x="177" y="310"/>
                            <a:pt x="170" y="302"/>
                          </a:cubicBezTo>
                          <a:cubicBezTo>
                            <a:pt x="163" y="294"/>
                            <a:pt x="158" y="279"/>
                            <a:pt x="147" y="256"/>
                          </a:cubicBezTo>
                          <a:cubicBezTo>
                            <a:pt x="136" y="233"/>
                            <a:pt x="113" y="196"/>
                            <a:pt x="102" y="166"/>
                          </a:cubicBezTo>
                          <a:cubicBezTo>
                            <a:pt x="91" y="136"/>
                            <a:pt x="94" y="101"/>
                            <a:pt x="79" y="75"/>
                          </a:cubicBezTo>
                          <a:cubicBezTo>
                            <a:pt x="64" y="49"/>
                            <a:pt x="22" y="14"/>
                            <a:pt x="11" y="7"/>
                          </a:cubicBezTo>
                          <a:cubicBezTo>
                            <a:pt x="0" y="0"/>
                            <a:pt x="7" y="19"/>
                            <a:pt x="11" y="3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2" name="Oval 203"/>
                    <p:cNvSpPr/>
                    <p:nvPr/>
                  </p:nvSpPr>
                  <p:spPr>
                    <a:xfrm rot="20760000">
                      <a:off x="804600" y="5334840"/>
                      <a:ext cx="1440" cy="21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ffd9b4">
                            <a:alpha val="4000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Oval 204"/>
                    <p:cNvSpPr/>
                    <p:nvPr/>
                  </p:nvSpPr>
                  <p:spPr>
                    <a:xfrm rot="20888400">
                      <a:off x="790560" y="5401800"/>
                      <a:ext cx="684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4" name="Oval 205"/>
                    <p:cNvSpPr/>
                    <p:nvPr/>
                  </p:nvSpPr>
                  <p:spPr>
                    <a:xfrm rot="20888400">
                      <a:off x="797760" y="5403960"/>
                      <a:ext cx="612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5" name="Oval 206"/>
                    <p:cNvSpPr/>
                    <p:nvPr/>
                  </p:nvSpPr>
                  <p:spPr>
                    <a:xfrm rot="20888400">
                      <a:off x="805320" y="5401800"/>
                      <a:ext cx="684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Oval 207"/>
                    <p:cNvSpPr/>
                    <p:nvPr/>
                  </p:nvSpPr>
                  <p:spPr>
                    <a:xfrm rot="20888400">
                      <a:off x="808200" y="5395680"/>
                      <a:ext cx="6840" cy="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7" name="AutoShape 208"/>
                  <p:cNvSpPr/>
                  <p:nvPr/>
                </p:nvSpPr>
                <p:spPr>
                  <a:xfrm>
                    <a:off x="806040" y="5569560"/>
                    <a:ext cx="21960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AutoShape 209"/>
                  <p:cNvSpPr/>
                  <p:nvPr/>
                </p:nvSpPr>
                <p:spPr>
                  <a:xfrm>
                    <a:off x="818640" y="5569560"/>
                    <a:ext cx="15480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Oval 210"/>
                  <p:cNvSpPr/>
                  <p:nvPr/>
                </p:nvSpPr>
                <p:spPr>
                  <a:xfrm>
                    <a:off x="973440" y="5400360"/>
                    <a:ext cx="51840" cy="5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Oval 211"/>
                  <p:cNvSpPr/>
                  <p:nvPr/>
                </p:nvSpPr>
                <p:spPr>
                  <a:xfrm>
                    <a:off x="909360" y="5271120"/>
                    <a:ext cx="5184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AutoShape 212"/>
                  <p:cNvSpPr/>
                  <p:nvPr/>
                </p:nvSpPr>
                <p:spPr>
                  <a:xfrm>
                    <a:off x="767160" y="5556240"/>
                    <a:ext cx="194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blipFill rotWithShape="0">
                    <a:blip r:embed="rId6">
                      <a:alphaModFix amt="40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AutoShape 213"/>
                  <p:cNvSpPr/>
                  <p:nvPr/>
                </p:nvSpPr>
                <p:spPr>
                  <a:xfrm>
                    <a:off x="728280" y="5504040"/>
                    <a:ext cx="3852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AutoShape 214"/>
                  <p:cNvSpPr/>
                  <p:nvPr/>
                </p:nvSpPr>
                <p:spPr>
                  <a:xfrm>
                    <a:off x="728280" y="5711760"/>
                    <a:ext cx="385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AutoShape 215"/>
                  <p:cNvSpPr/>
                  <p:nvPr/>
                </p:nvSpPr>
                <p:spPr>
                  <a:xfrm>
                    <a:off x="1038960" y="5504040"/>
                    <a:ext cx="3852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AutoShape 216"/>
                  <p:cNvSpPr/>
                  <p:nvPr/>
                </p:nvSpPr>
                <p:spPr>
                  <a:xfrm>
                    <a:off x="1038960" y="5711760"/>
                    <a:ext cx="385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6" name="Group 189"/>
                <p:cNvGrpSpPr/>
                <p:nvPr/>
              </p:nvGrpSpPr>
              <p:grpSpPr>
                <a:xfrm>
                  <a:off x="806040" y="4541400"/>
                  <a:ext cx="200160" cy="129960"/>
                  <a:chOff x="806040" y="4541400"/>
                  <a:chExt cx="200160" cy="129960"/>
                </a:xfrm>
              </p:grpSpPr>
              <p:grpSp>
                <p:nvGrpSpPr>
                  <p:cNvPr id="1067" name="Group 190"/>
                  <p:cNvGrpSpPr/>
                  <p:nvPr/>
                </p:nvGrpSpPr>
                <p:grpSpPr>
                  <a:xfrm>
                    <a:off x="818280" y="4541400"/>
                    <a:ext cx="45360" cy="36000"/>
                    <a:chOff x="818280" y="4541400"/>
                    <a:chExt cx="45360" cy="36000"/>
                  </a:xfrm>
                </p:grpSpPr>
                <p:sp>
                  <p:nvSpPr>
                    <p:cNvPr id="1068" name="Oval 219"/>
                    <p:cNvSpPr/>
                    <p:nvPr/>
                  </p:nvSpPr>
                  <p:spPr>
                    <a:xfrm>
                      <a:off x="827640" y="4541400"/>
                      <a:ext cx="36000" cy="36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2125"/>
                        </a:gs>
                        <a:gs pos="100000">
                          <a:srgbClr val="180f11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880" bIns="-20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9" name="Freeform 220"/>
                    <p:cNvSpPr/>
                    <p:nvPr/>
                  </p:nvSpPr>
                  <p:spPr>
                    <a:xfrm flipH="1">
                      <a:off x="817920" y="4550040"/>
                      <a:ext cx="363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102">
                          <a:moveTo>
                            <a:pt x="4" y="52"/>
                          </a:moveTo>
                          <a:cubicBezTo>
                            <a:pt x="0" y="37"/>
                            <a:pt x="31" y="14"/>
                            <a:pt x="50" y="7"/>
                          </a:cubicBezTo>
                          <a:cubicBezTo>
                            <a:pt x="69" y="0"/>
                            <a:pt x="99" y="0"/>
                            <a:pt x="118" y="7"/>
                          </a:cubicBezTo>
                          <a:cubicBezTo>
                            <a:pt x="137" y="14"/>
                            <a:pt x="171" y="37"/>
                            <a:pt x="163" y="52"/>
                          </a:cubicBezTo>
                          <a:cubicBezTo>
                            <a:pt x="155" y="67"/>
                            <a:pt x="98" y="94"/>
                            <a:pt x="72" y="98"/>
                          </a:cubicBezTo>
                          <a:cubicBezTo>
                            <a:pt x="46" y="102"/>
                            <a:pt x="8" y="67"/>
                            <a:pt x="4" y="52"/>
                          </a:cubicBez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0" name="Group 193"/>
                  <p:cNvGrpSpPr/>
                  <p:nvPr/>
                </p:nvGrpSpPr>
                <p:grpSpPr>
                  <a:xfrm>
                    <a:off x="949320" y="4549320"/>
                    <a:ext cx="44640" cy="36000"/>
                    <a:chOff x="949320" y="4549320"/>
                    <a:chExt cx="44640" cy="36000"/>
                  </a:xfrm>
                </p:grpSpPr>
                <p:sp>
                  <p:nvSpPr>
                    <p:cNvPr id="1071" name="Oval 222"/>
                    <p:cNvSpPr/>
                    <p:nvPr/>
                  </p:nvSpPr>
                  <p:spPr>
                    <a:xfrm flipH="1">
                      <a:off x="949320" y="4549320"/>
                      <a:ext cx="35280" cy="36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2125"/>
                        </a:gs>
                        <a:gs pos="100000">
                          <a:srgbClr val="180f11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880" bIns="-20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2" name="Freeform 223"/>
                    <p:cNvSpPr/>
                    <p:nvPr/>
                  </p:nvSpPr>
                  <p:spPr>
                    <a:xfrm>
                      <a:off x="958320" y="4557960"/>
                      <a:ext cx="3564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102">
                          <a:moveTo>
                            <a:pt x="4" y="52"/>
                          </a:moveTo>
                          <a:cubicBezTo>
                            <a:pt x="0" y="37"/>
                            <a:pt x="31" y="14"/>
                            <a:pt x="50" y="7"/>
                          </a:cubicBezTo>
                          <a:cubicBezTo>
                            <a:pt x="69" y="0"/>
                            <a:pt x="99" y="0"/>
                            <a:pt x="118" y="7"/>
                          </a:cubicBezTo>
                          <a:cubicBezTo>
                            <a:pt x="137" y="14"/>
                            <a:pt x="171" y="37"/>
                            <a:pt x="163" y="52"/>
                          </a:cubicBezTo>
                          <a:cubicBezTo>
                            <a:pt x="155" y="67"/>
                            <a:pt x="98" y="94"/>
                            <a:pt x="72" y="98"/>
                          </a:cubicBezTo>
                          <a:cubicBezTo>
                            <a:pt x="46" y="102"/>
                            <a:pt x="8" y="67"/>
                            <a:pt x="4" y="52"/>
                          </a:cubicBez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3" name="Oval 224"/>
                  <p:cNvSpPr/>
                  <p:nvPr/>
                </p:nvSpPr>
                <p:spPr>
                  <a:xfrm>
                    <a:off x="806040" y="4574160"/>
                    <a:ext cx="56160" cy="56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a3262">
                          <a:alpha val="70196"/>
                        </a:srgbClr>
                      </a:gs>
                      <a:gs pos="100000">
                        <a:srgbClr val="ffdeb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4" name="Group 197"/>
                  <p:cNvGrpSpPr/>
                  <p:nvPr/>
                </p:nvGrpSpPr>
                <p:grpSpPr>
                  <a:xfrm>
                    <a:off x="949680" y="4582440"/>
                    <a:ext cx="56520" cy="56160"/>
                    <a:chOff x="949680" y="4582440"/>
                    <a:chExt cx="56520" cy="56160"/>
                  </a:xfrm>
                </p:grpSpPr>
                <p:sp>
                  <p:nvSpPr>
                    <p:cNvPr id="1075" name="Oval 226"/>
                    <p:cNvSpPr/>
                    <p:nvPr/>
                  </p:nvSpPr>
                  <p:spPr>
                    <a:xfrm>
                      <a:off x="949680" y="4582440"/>
                      <a:ext cx="56520" cy="56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a3262">
                            <a:alpha val="70196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6" name="Oval 227"/>
                    <p:cNvSpPr/>
                    <p:nvPr/>
                  </p:nvSpPr>
                  <p:spPr>
                    <a:xfrm>
                      <a:off x="973440" y="4590360"/>
                      <a:ext cx="32760" cy="31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13b59">
                            <a:alpha val="30196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lin ang="189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7" name="AutoShape 228"/>
                  <p:cNvSpPr/>
                  <p:nvPr/>
                </p:nvSpPr>
                <p:spPr>
                  <a:xfrm rot="10800000">
                    <a:off x="902880" y="4590000"/>
                    <a:ext cx="864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ec0b4"/>
                      </a:gs>
                      <a:gs pos="100000">
                        <a:srgbClr val="f1cdc3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Oval 229"/>
                  <p:cNvSpPr/>
                  <p:nvPr/>
                </p:nvSpPr>
                <p:spPr>
                  <a:xfrm>
                    <a:off x="870480" y="4565520"/>
                    <a:ext cx="81720" cy="81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be8dd">
                          <a:alpha val="60000"/>
                        </a:srgbClr>
                      </a:gs>
                      <a:gs pos="100000">
                        <a:srgbClr val="ffffff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9" name="Group 202"/>
                  <p:cNvGrpSpPr/>
                  <p:nvPr/>
                </p:nvGrpSpPr>
                <p:grpSpPr>
                  <a:xfrm>
                    <a:off x="867600" y="4638960"/>
                    <a:ext cx="81720" cy="32400"/>
                    <a:chOff x="867600" y="4638960"/>
                    <a:chExt cx="81720" cy="32400"/>
                  </a:xfrm>
                </p:grpSpPr>
                <p:sp>
                  <p:nvSpPr>
                    <p:cNvPr id="1080" name="Oval 231"/>
                    <p:cNvSpPr/>
                    <p:nvPr/>
                  </p:nvSpPr>
                  <p:spPr>
                    <a:xfrm>
                      <a:off x="867600" y="4638960"/>
                      <a:ext cx="81720" cy="32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d1a3">
                            <a:alpha val="40000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1" name="Freeform 232"/>
                    <p:cNvSpPr/>
                    <p:nvPr/>
                  </p:nvSpPr>
                  <p:spPr>
                    <a:xfrm>
                      <a:off x="897120" y="4655160"/>
                      <a:ext cx="2196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4">
                          <a:moveTo>
                            <a:pt x="0" y="4"/>
                          </a:moveTo>
                          <a:cubicBezTo>
                            <a:pt x="19" y="2"/>
                            <a:pt x="38" y="0"/>
                            <a:pt x="68" y="4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f6d3a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82" name="Freeform 236"/>
          <p:cNvSpPr/>
          <p:nvPr/>
        </p:nvSpPr>
        <p:spPr>
          <a:xfrm>
            <a:off x="8209080" y="4149720"/>
            <a:ext cx="533160" cy="248616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237"/>
          <p:cNvSpPr/>
          <p:nvPr/>
        </p:nvSpPr>
        <p:spPr>
          <a:xfrm>
            <a:off x="720720" y="227808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4"/>
          <p:cNvSpPr/>
          <p:nvPr/>
        </p:nvSpPr>
        <p:spPr>
          <a:xfrm>
            <a:off x="252360" y="1089000"/>
            <a:ext cx="8604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6"/>
          <p:cNvSpPr/>
          <p:nvPr/>
        </p:nvSpPr>
        <p:spPr>
          <a:xfrm>
            <a:off x="1224000" y="5553000"/>
            <a:ext cx="253800" cy="25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AutoShape 7"/>
          <p:cNvSpPr/>
          <p:nvPr/>
        </p:nvSpPr>
        <p:spPr>
          <a:xfrm>
            <a:off x="1476360" y="5373720"/>
            <a:ext cx="38880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13"/>
          <p:cNvSpPr/>
          <p:nvPr/>
        </p:nvSpPr>
        <p:spPr>
          <a:xfrm>
            <a:off x="1044720" y="1341360"/>
            <a:ext cx="7291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威廉叔叔简直惊呆了，连连摇着头，高兴的说：“你可真是个聪明的孩子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4"/>
          <p:cNvSpPr/>
          <p:nvPr/>
        </p:nvSpPr>
        <p:spPr>
          <a:xfrm>
            <a:off x="1152360" y="2781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威廉叔叔高兴的称赞了纳塔莉，但为什么又“连连摇着头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233"/>
          <p:cNvSpPr/>
          <p:nvPr/>
        </p:nvSpPr>
        <p:spPr>
          <a:xfrm>
            <a:off x="1152360" y="4149720"/>
            <a:ext cx="69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因为威廉叔叔觉得太不可思议了，想不到纳塔莉这么小，但在歹徒面前却如此的镇定、勇敢、聪明，保护了真胶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249"/>
          <p:cNvSpPr/>
          <p:nvPr/>
        </p:nvSpPr>
        <p:spPr>
          <a:xfrm rot="14400000">
            <a:off x="7803360" y="1943640"/>
            <a:ext cx="130320" cy="44280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reeform 250"/>
          <p:cNvSpPr/>
          <p:nvPr/>
        </p:nvSpPr>
        <p:spPr>
          <a:xfrm rot="1800000">
            <a:off x="8064360" y="4832280"/>
            <a:ext cx="1461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251"/>
          <p:cNvSpPr/>
          <p:nvPr/>
        </p:nvSpPr>
        <p:spPr>
          <a:xfrm rot="5400000">
            <a:off x="8172720" y="6133320"/>
            <a:ext cx="1414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ec009d"/>
              </a:gs>
              <a:gs pos="50000">
                <a:srgbClr val="ffe5ff"/>
              </a:gs>
              <a:gs pos="100000">
                <a:srgbClr val="ec009d"/>
              </a:gs>
            </a:gsLst>
            <a:lin ang="189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252"/>
          <p:cNvSpPr/>
          <p:nvPr/>
        </p:nvSpPr>
        <p:spPr>
          <a:xfrm rot="17400000">
            <a:off x="8040600" y="3868560"/>
            <a:ext cx="181080" cy="53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253"/>
          <p:cNvSpPr/>
          <p:nvPr/>
        </p:nvSpPr>
        <p:spPr>
          <a:xfrm rot="5400000">
            <a:off x="8071920" y="2757240"/>
            <a:ext cx="1396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2"/>
          <p:cNvSpPr/>
          <p:nvPr/>
        </p:nvSpPr>
        <p:spPr>
          <a:xfrm>
            <a:off x="762120" y="1371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想象空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3"/>
          <p:cNvSpPr/>
          <p:nvPr/>
        </p:nvSpPr>
        <p:spPr>
          <a:xfrm>
            <a:off x="2057400" y="26668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假如你就是纳塔莉，面对故事中的情节你会怎样处理？动脑筋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7" name="Picture 4" descr="W020080324536696640273"/>
          <p:cNvPicPr/>
          <p:nvPr/>
        </p:nvPicPr>
        <p:blipFill>
          <a:blip r:embed="rId2"/>
          <a:stretch/>
        </p:blipFill>
        <p:spPr>
          <a:xfrm>
            <a:off x="6172200" y="4402080"/>
            <a:ext cx="923760" cy="854280"/>
          </a:xfrm>
          <a:prstGeom prst="rect">
            <a:avLst/>
          </a:prstGeom>
          <a:ln w="0">
            <a:noFill/>
          </a:ln>
        </p:spPr>
      </p:pic>
      <p:grpSp>
        <p:nvGrpSpPr>
          <p:cNvPr id="1098" name="Group 5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1099" name="Picture 6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7" descr="按扭2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Picture 8" descr="按扭3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Picture 9" descr="按扭5">
              <a:hlinkClick r:id="" action="ppaction://hlinkshowjump?jump=endshow"/>
            </p:cNvPr>
            <p:cNvPicPr/>
            <p:nvPr/>
          </p:nvPicPr>
          <p:blipFill>
            <a:blip r:embed="rId7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3" name="文本框 1"/>
          <p:cNvSpPr/>
          <p:nvPr/>
        </p:nvSpPr>
        <p:spPr>
          <a:xfrm>
            <a:off x="2003400" y="582120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Picture 4" descr="PM_05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6" name="Rectangle 5"/>
          <p:cNvSpPr/>
          <p:nvPr/>
        </p:nvSpPr>
        <p:spPr>
          <a:xfrm>
            <a:off x="4032360" y="184464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同学们，纳塔莉的机智、勇敢、聪明的确令人佩服，老师希望你在遇到问题的时候也能够保持镇定，冷静地多想办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复件 读一读"/>
          <p:cNvPicPr/>
          <p:nvPr/>
        </p:nvPicPr>
        <p:blipFill>
          <a:blip r:embed="rId2"/>
          <a:stretch/>
        </p:blipFill>
        <p:spPr>
          <a:xfrm>
            <a:off x="1042920" y="404640"/>
            <a:ext cx="211464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492360" y="1089000"/>
            <a:ext cx="5220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宋体"/>
              </a:rPr>
              <a:t>瞥  瓷  栩  寄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宋体"/>
              </a:rPr>
              <a:t>琢  眶  遮  胶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宋体"/>
              </a:rPr>
              <a:t>陌  堪  晕  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宋体"/>
              </a:rPr>
              <a:t>徒  忡  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F5B7-A33C-4A83-87FE-E915C29A10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700360" y="1160640"/>
            <a:ext cx="6048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瞥见    陶瓷   栩栩如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寄信    琢磨    眼眶   遮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胶卷    陌生   疲惫不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晕倒    歹徒   忧心忡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价值连城  喜出望外  迷惑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翻箱倒柜  洋洋得意  无能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复件 读一读"/>
          <p:cNvPicPr/>
          <p:nvPr/>
        </p:nvPicPr>
        <p:blipFill>
          <a:blip r:embed="rId2"/>
          <a:stretch/>
        </p:blipFill>
        <p:spPr>
          <a:xfrm>
            <a:off x="395280" y="476280"/>
            <a:ext cx="2114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150920" y="19890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过道若明若暗的光线里，陶瓷虎眼睛闪闪发亮，栩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栩如生，它身上似乎笼罩着一种神秘的色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676520" y="914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研读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u=2426438017,490791498&amp;fm=0&amp;gp=14"/>
          <p:cNvPicPr/>
          <p:nvPr/>
        </p:nvPicPr>
        <p:blipFill>
          <a:blip r:embed="rId2"/>
          <a:stretch/>
        </p:blipFill>
        <p:spPr>
          <a:xfrm>
            <a:off x="457200" y="533520"/>
            <a:ext cx="1346040" cy="10573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6483240" y="6581880"/>
            <a:ext cx="2660760" cy="276120"/>
            <a:chOff x="6483240" y="6581880"/>
            <a:chExt cx="2660760" cy="276120"/>
          </a:xfrm>
        </p:grpSpPr>
        <p:pic>
          <p:nvPicPr>
            <p:cNvPr id="60" name="Picture 6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48324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7" descr="按扭2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16436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8" descr="按扭3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8120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按扭5">
              <a:hlinkClick r:id="" action="ppaction://hlinkshowjump?jump=endshow"/>
            </p:cNvPr>
            <p:cNvPicPr/>
            <p:nvPr/>
          </p:nvPicPr>
          <p:blipFill>
            <a:blip r:embed="rId7"/>
            <a:stretch/>
          </p:blipFill>
          <p:spPr>
            <a:xfrm>
              <a:off x="846288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10"/>
          <p:cNvSpPr/>
          <p:nvPr/>
        </p:nvSpPr>
        <p:spPr>
          <a:xfrm>
            <a:off x="4752360" y="4257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形容生动活泼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1363320" y="4227480"/>
            <a:ext cx="25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栩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栩如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223"/>
          <p:cNvSpPr/>
          <p:nvPr/>
        </p:nvSpPr>
        <p:spPr>
          <a:xfrm>
            <a:off x="1957320" y="26686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"/>
          <p:cNvGrpSpPr/>
          <p:nvPr/>
        </p:nvGrpSpPr>
        <p:grpSpPr>
          <a:xfrm>
            <a:off x="2050920" y="1630440"/>
            <a:ext cx="541080" cy="559800"/>
            <a:chOff x="2050920" y="1630440"/>
            <a:chExt cx="541080" cy="559800"/>
          </a:xfrm>
        </p:grpSpPr>
        <p:sp>
          <p:nvSpPr>
            <p:cNvPr id="68" name="Oval 4"/>
            <p:cNvSpPr/>
            <p:nvPr/>
          </p:nvSpPr>
          <p:spPr>
            <a:xfrm>
              <a:off x="2050920" y="1630440"/>
              <a:ext cx="541080" cy="5598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5"/>
            <p:cNvSpPr/>
            <p:nvPr/>
          </p:nvSpPr>
          <p:spPr>
            <a:xfrm>
              <a:off x="2067120" y="1666440"/>
              <a:ext cx="510480" cy="48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6"/>
            <p:cNvSpPr/>
            <p:nvPr/>
          </p:nvSpPr>
          <p:spPr>
            <a:xfrm>
              <a:off x="2095920" y="1704600"/>
              <a:ext cx="448200" cy="42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Line 456"/>
          <p:cNvSpPr/>
          <p:nvPr/>
        </p:nvSpPr>
        <p:spPr>
          <a:xfrm>
            <a:off x="2556000" y="2025720"/>
            <a:ext cx="4572000" cy="0"/>
          </a:xfrm>
          <a:prstGeom prst="line">
            <a:avLst/>
          </a:prstGeom>
          <a:ln cap="rnd" w="28440">
            <a:solidFill>
              <a:srgbClr val="3892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7"/>
          <p:cNvGrpSpPr/>
          <p:nvPr/>
        </p:nvGrpSpPr>
        <p:grpSpPr>
          <a:xfrm>
            <a:off x="2050920" y="2508120"/>
            <a:ext cx="541080" cy="560160"/>
            <a:chOff x="2050920" y="2508120"/>
            <a:chExt cx="541080" cy="560160"/>
          </a:xfrm>
        </p:grpSpPr>
        <p:sp>
          <p:nvSpPr>
            <p:cNvPr id="73" name="Oval 461"/>
            <p:cNvSpPr/>
            <p:nvPr/>
          </p:nvSpPr>
          <p:spPr>
            <a:xfrm>
              <a:off x="2050920" y="2508120"/>
              <a:ext cx="541080" cy="560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462"/>
            <p:cNvSpPr/>
            <p:nvPr/>
          </p:nvSpPr>
          <p:spPr>
            <a:xfrm>
              <a:off x="2067120" y="2544120"/>
              <a:ext cx="510480" cy="48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463"/>
            <p:cNvSpPr/>
            <p:nvPr/>
          </p:nvSpPr>
          <p:spPr>
            <a:xfrm>
              <a:off x="2095920" y="2582280"/>
              <a:ext cx="448200" cy="421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464"/>
          <p:cNvSpPr/>
          <p:nvPr/>
        </p:nvSpPr>
        <p:spPr>
          <a:xfrm>
            <a:off x="2556000" y="2903400"/>
            <a:ext cx="4572000" cy="2088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65"/>
          <p:cNvSpPr/>
          <p:nvPr/>
        </p:nvSpPr>
        <p:spPr>
          <a:xfrm>
            <a:off x="2664000" y="1413000"/>
            <a:ext cx="558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讲述一件什么事？怎样分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3"/>
          <p:cNvGrpSpPr/>
          <p:nvPr/>
        </p:nvGrpSpPr>
        <p:grpSpPr>
          <a:xfrm>
            <a:off x="2052720" y="4113360"/>
            <a:ext cx="540720" cy="559800"/>
            <a:chOff x="2052720" y="4113360"/>
            <a:chExt cx="540720" cy="559800"/>
          </a:xfrm>
        </p:grpSpPr>
        <p:sp>
          <p:nvSpPr>
            <p:cNvPr id="79" name="Oval 467"/>
            <p:cNvSpPr/>
            <p:nvPr/>
          </p:nvSpPr>
          <p:spPr>
            <a:xfrm>
              <a:off x="2052720" y="4113360"/>
              <a:ext cx="540720" cy="5598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68"/>
            <p:cNvSpPr/>
            <p:nvPr/>
          </p:nvSpPr>
          <p:spPr>
            <a:xfrm>
              <a:off x="2068920" y="4149360"/>
              <a:ext cx="510120" cy="48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69"/>
            <p:cNvSpPr/>
            <p:nvPr/>
          </p:nvSpPr>
          <p:spPr>
            <a:xfrm>
              <a:off x="2097720" y="4187520"/>
              <a:ext cx="447840" cy="42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Line 470"/>
          <p:cNvSpPr/>
          <p:nvPr/>
        </p:nvSpPr>
        <p:spPr>
          <a:xfrm>
            <a:off x="2521080" y="4724280"/>
            <a:ext cx="4572000" cy="0"/>
          </a:xfrm>
          <a:prstGeom prst="line">
            <a:avLst/>
          </a:prstGeom>
          <a:ln cap="rnd" w="28440">
            <a:solidFill>
              <a:srgbClr val="3892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71"/>
          <p:cNvSpPr/>
          <p:nvPr/>
        </p:nvSpPr>
        <p:spPr>
          <a:xfrm>
            <a:off x="2519280" y="3968640"/>
            <a:ext cx="511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赞纳塔莉是个怎样的孩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6278040" y="4489560"/>
            <a:ext cx="2793960" cy="2360520"/>
            <a:chOff x="6278040" y="4489560"/>
            <a:chExt cx="2793960" cy="2360520"/>
          </a:xfrm>
        </p:grpSpPr>
        <p:sp>
          <p:nvSpPr>
            <p:cNvPr id="85" name="Oval 479"/>
            <p:cNvSpPr/>
            <p:nvPr/>
          </p:nvSpPr>
          <p:spPr>
            <a:xfrm flipH="1">
              <a:off x="6277680" y="6216840"/>
              <a:ext cx="2793960" cy="633240"/>
            </a:xfrm>
            <a:prstGeom prst="ellipse">
              <a:avLst/>
            </a:prstGeom>
            <a:gradFill rotWithShape="0">
              <a:gsLst>
                <a:gs pos="0">
                  <a:srgbClr val="005e5c">
                    <a:alpha val="60000"/>
                  </a:srgbClr>
                </a:gs>
                <a:gs pos="100000">
                  <a:srgbClr val="00363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80"/>
            <p:cNvSpPr/>
            <p:nvPr/>
          </p:nvSpPr>
          <p:spPr>
            <a:xfrm flipH="1">
              <a:off x="8300880" y="4489560"/>
              <a:ext cx="447840" cy="417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81"/>
            <p:cNvSpPr/>
            <p:nvPr/>
          </p:nvSpPr>
          <p:spPr>
            <a:xfrm flipH="1">
              <a:off x="8312760" y="4516560"/>
              <a:ext cx="422280" cy="35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82"/>
            <p:cNvSpPr/>
            <p:nvPr/>
          </p:nvSpPr>
          <p:spPr>
            <a:xfrm flipH="1">
              <a:off x="8340480" y="4545000"/>
              <a:ext cx="371520" cy="31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483"/>
            <p:cNvSpPr/>
            <p:nvPr/>
          </p:nvSpPr>
          <p:spPr>
            <a:xfrm flipH="1" rot="20880000">
              <a:off x="8420040" y="4590720"/>
              <a:ext cx="209520" cy="192240"/>
            </a:xfrm>
            <a:custGeom>
              <a:avLst/>
              <a:gdLst/>
              <a:ahLst/>
              <a:rect l="l" t="t" r="r" b="b"/>
              <a:pathLst>
                <a:path w="132" h="121">
                  <a:moveTo>
                    <a:pt x="0" y="46"/>
                  </a:moveTo>
                  <a:lnTo>
                    <a:pt x="50" y="46"/>
                  </a:lnTo>
                  <a:lnTo>
                    <a:pt x="66" y="0"/>
                  </a:lnTo>
                  <a:lnTo>
                    <a:pt x="82" y="46"/>
                  </a:lnTo>
                  <a:lnTo>
                    <a:pt x="132" y="46"/>
                  </a:lnTo>
                  <a:lnTo>
                    <a:pt x="91" y="75"/>
                  </a:lnTo>
                  <a:lnTo>
                    <a:pt x="107" y="121"/>
                  </a:lnTo>
                  <a:lnTo>
                    <a:pt x="66" y="92"/>
                  </a:lnTo>
                  <a:lnTo>
                    <a:pt x="25" y="121"/>
                  </a:lnTo>
                  <a:lnTo>
                    <a:pt x="41" y="75"/>
                  </a:lnTo>
                  <a:lnTo>
                    <a:pt x="0" y="46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84"/>
            <p:cNvSpPr/>
            <p:nvPr/>
          </p:nvSpPr>
          <p:spPr>
            <a:xfrm flipH="1">
              <a:off x="8364240" y="6316920"/>
              <a:ext cx="338400" cy="10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85"/>
            <p:cNvSpPr/>
            <p:nvPr/>
          </p:nvSpPr>
          <p:spPr>
            <a:xfrm flipH="1">
              <a:off x="8532720" y="4907160"/>
              <a:ext cx="92160" cy="1338120"/>
            </a:xfrm>
            <a:custGeom>
              <a:avLst/>
              <a:gdLst/>
              <a:ahLst/>
              <a:rect l="l" t="t" r="r" b="b"/>
              <a:pathLst>
                <a:path w="151" h="2291">
                  <a:moveTo>
                    <a:pt x="105" y="0"/>
                  </a:moveTo>
                  <a:cubicBezTo>
                    <a:pt x="90" y="70"/>
                    <a:pt x="75" y="140"/>
                    <a:pt x="60" y="295"/>
                  </a:cubicBezTo>
                  <a:cubicBezTo>
                    <a:pt x="45" y="450"/>
                    <a:pt x="0" y="597"/>
                    <a:pt x="15" y="930"/>
                  </a:cubicBezTo>
                  <a:cubicBezTo>
                    <a:pt x="30" y="1263"/>
                    <a:pt x="121" y="2068"/>
                    <a:pt x="151" y="2291"/>
                  </a:cubicBezTo>
                </a:path>
              </a:pathLst>
            </a:custGeom>
            <a:noFill/>
            <a:ln w="3492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27"/>
            <p:cNvGrpSpPr/>
            <p:nvPr/>
          </p:nvGrpSpPr>
          <p:grpSpPr>
            <a:xfrm>
              <a:off x="8470800" y="6230880"/>
              <a:ext cx="123840" cy="130320"/>
              <a:chOff x="8470800" y="6230880"/>
              <a:chExt cx="123840" cy="130320"/>
            </a:xfrm>
          </p:grpSpPr>
          <p:sp>
            <p:nvSpPr>
              <p:cNvPr id="93" name="Freeform 500"/>
              <p:cNvSpPr/>
              <p:nvPr/>
            </p:nvSpPr>
            <p:spPr>
              <a:xfrm flipH="1">
                <a:off x="8470800" y="6230880"/>
                <a:ext cx="123840" cy="65520"/>
              </a:xfrm>
              <a:custGeom>
                <a:avLst/>
                <a:gdLst/>
                <a:ahLst/>
                <a:rect l="l" t="t" r="r" b="b"/>
                <a:pathLst>
                  <a:path w="839" h="485">
                    <a:moveTo>
                      <a:pt x="250" y="9"/>
                    </a:moveTo>
                    <a:lnTo>
                      <a:pt x="545" y="0"/>
                    </a:lnTo>
                    <a:lnTo>
                      <a:pt x="839" y="485"/>
                    </a:lnTo>
                    <a:lnTo>
                      <a:pt x="0" y="485"/>
                    </a:lnTo>
                    <a:lnTo>
                      <a:pt x="250" y="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501"/>
              <p:cNvSpPr/>
              <p:nvPr/>
            </p:nvSpPr>
            <p:spPr>
              <a:xfrm flipH="1">
                <a:off x="8470800" y="6296400"/>
                <a:ext cx="123840" cy="64800"/>
              </a:xfrm>
              <a:prstGeom prst="rect">
                <a:avLst/>
              </a:pr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30"/>
            <p:cNvGrpSpPr/>
            <p:nvPr/>
          </p:nvGrpSpPr>
          <p:grpSpPr>
            <a:xfrm>
              <a:off x="7801920" y="4776840"/>
              <a:ext cx="545040" cy="1866960"/>
              <a:chOff x="7801920" y="4776840"/>
              <a:chExt cx="545040" cy="1866960"/>
            </a:xfrm>
          </p:grpSpPr>
          <p:sp>
            <p:nvSpPr>
              <p:cNvPr id="96" name="AutoShape 503"/>
              <p:cNvSpPr/>
              <p:nvPr/>
            </p:nvSpPr>
            <p:spPr>
              <a:xfrm flipH="1">
                <a:off x="7899480" y="6442560"/>
                <a:ext cx="370800" cy="201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504"/>
              <p:cNvSpPr/>
              <p:nvPr/>
            </p:nvSpPr>
            <p:spPr>
              <a:xfrm flipH="1">
                <a:off x="7992720" y="6470280"/>
                <a:ext cx="184680" cy="100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505"/>
              <p:cNvSpPr/>
              <p:nvPr/>
            </p:nvSpPr>
            <p:spPr>
              <a:xfrm rot="13156800">
                <a:off x="8100360" y="6471000"/>
                <a:ext cx="47520" cy="11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593" y="21600"/>
                    </a:lnTo>
                    <a:lnTo>
                      <a:pt x="1800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AutoShape 506"/>
              <p:cNvSpPr/>
              <p:nvPr/>
            </p:nvSpPr>
            <p:spPr>
              <a:xfrm flipH="1">
                <a:off x="8132760" y="6340680"/>
                <a:ext cx="50760" cy="15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494" y="21600"/>
                    </a:lnTo>
                    <a:lnTo>
                      <a:pt x="181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ebd"/>
                  </a:gs>
                  <a:gs pos="100000">
                    <a:srgbClr val="fff1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507"/>
              <p:cNvSpPr/>
              <p:nvPr/>
            </p:nvSpPr>
            <p:spPr>
              <a:xfrm flipH="1">
                <a:off x="8146800" y="6471000"/>
                <a:ext cx="43200" cy="43200"/>
              </a:xfrm>
              <a:prstGeom prst="ellipse">
                <a:avLst/>
              </a:prstGeom>
              <a:gradFill rotWithShape="0">
                <a:gsLst>
                  <a:gs pos="0">
                    <a:srgbClr val="ffecd9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508"/>
              <p:cNvSpPr/>
              <p:nvPr/>
            </p:nvSpPr>
            <p:spPr>
              <a:xfrm flipH="1" rot="8443200">
                <a:off x="8023320" y="6470640"/>
                <a:ext cx="47520" cy="135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593" y="21600"/>
                    </a:lnTo>
                    <a:lnTo>
                      <a:pt x="1800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509"/>
              <p:cNvSpPr/>
              <p:nvPr/>
            </p:nvSpPr>
            <p:spPr>
              <a:xfrm>
                <a:off x="7980840" y="6338520"/>
                <a:ext cx="56160" cy="15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494" y="21600"/>
                    </a:lnTo>
                    <a:lnTo>
                      <a:pt x="181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ebd"/>
                  </a:gs>
                  <a:gs pos="100000">
                    <a:srgbClr val="fff1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510"/>
              <p:cNvSpPr/>
              <p:nvPr/>
            </p:nvSpPr>
            <p:spPr>
              <a:xfrm>
                <a:off x="7980120" y="6471000"/>
                <a:ext cx="43200" cy="43200"/>
              </a:xfrm>
              <a:prstGeom prst="ellipse">
                <a:avLst/>
              </a:prstGeom>
              <a:gradFill rotWithShape="0">
                <a:gsLst>
                  <a:gs pos="0">
                    <a:srgbClr val="ffecd9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511"/>
              <p:cNvSpPr/>
              <p:nvPr/>
            </p:nvSpPr>
            <p:spPr>
              <a:xfrm flipH="1">
                <a:off x="8069760" y="6542640"/>
                <a:ext cx="46080" cy="57600"/>
              </a:xfrm>
              <a:prstGeom prst="ellipse">
                <a:avLst/>
              </a:prstGeom>
              <a:gradFill rotWithShape="0">
                <a:gsLst>
                  <a:gs pos="0">
                    <a:srgbClr val="ffe4c9"/>
                  </a:gs>
                  <a:gs pos="100000">
                    <a:srgbClr val="ffe4c9">
                      <a:alpha val="85098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512"/>
              <p:cNvSpPr/>
              <p:nvPr/>
            </p:nvSpPr>
            <p:spPr>
              <a:xfrm flipH="1">
                <a:off x="8069400" y="6542640"/>
                <a:ext cx="61560" cy="43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41"/>
              <p:cNvGrpSpPr/>
              <p:nvPr/>
            </p:nvGrpSpPr>
            <p:grpSpPr>
              <a:xfrm>
                <a:off x="7801920" y="4776840"/>
                <a:ext cx="545040" cy="1590480"/>
                <a:chOff x="7801920" y="4776840"/>
                <a:chExt cx="545040" cy="1590480"/>
              </a:xfrm>
            </p:grpSpPr>
            <p:grpSp>
              <p:nvGrpSpPr>
                <p:cNvPr id="107" name="Group 42"/>
                <p:cNvGrpSpPr/>
                <p:nvPr/>
              </p:nvGrpSpPr>
              <p:grpSpPr>
                <a:xfrm>
                  <a:off x="7801920" y="4776840"/>
                  <a:ext cx="545040" cy="1590480"/>
                  <a:chOff x="7801920" y="4776840"/>
                  <a:chExt cx="545040" cy="1590480"/>
                </a:xfrm>
              </p:grpSpPr>
              <p:sp>
                <p:nvSpPr>
                  <p:cNvPr id="108" name="Oval 515"/>
                  <p:cNvSpPr/>
                  <p:nvPr/>
                </p:nvSpPr>
                <p:spPr>
                  <a:xfrm flipH="1">
                    <a:off x="7868880" y="4885920"/>
                    <a:ext cx="456840" cy="15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516"/>
                  <p:cNvSpPr/>
                  <p:nvPr/>
                </p:nvSpPr>
                <p:spPr>
                  <a:xfrm flipH="1">
                    <a:off x="7953840" y="4910040"/>
                    <a:ext cx="301680" cy="60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065" y="21600"/>
                        </a:lnTo>
                        <a:lnTo>
                          <a:pt x="1953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332125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517"/>
                  <p:cNvSpPr/>
                  <p:nvPr/>
                </p:nvSpPr>
                <p:spPr>
                  <a:xfrm flipH="1">
                    <a:off x="7834320" y="5367240"/>
                    <a:ext cx="512640" cy="10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0" h="1505">
                        <a:moveTo>
                          <a:pt x="265" y="117"/>
                        </a:moveTo>
                        <a:cubicBezTo>
                          <a:pt x="314" y="75"/>
                          <a:pt x="416" y="140"/>
                          <a:pt x="491" y="140"/>
                        </a:cubicBezTo>
                        <a:cubicBezTo>
                          <a:pt x="566" y="140"/>
                          <a:pt x="673" y="117"/>
                          <a:pt x="718" y="117"/>
                        </a:cubicBezTo>
                        <a:cubicBezTo>
                          <a:pt x="763" y="117"/>
                          <a:pt x="726" y="0"/>
                          <a:pt x="764" y="140"/>
                        </a:cubicBezTo>
                        <a:cubicBezTo>
                          <a:pt x="802" y="280"/>
                          <a:pt x="907" y="772"/>
                          <a:pt x="945" y="957"/>
                        </a:cubicBezTo>
                        <a:cubicBezTo>
                          <a:pt x="983" y="1142"/>
                          <a:pt x="979" y="1176"/>
                          <a:pt x="990" y="1251"/>
                        </a:cubicBezTo>
                        <a:cubicBezTo>
                          <a:pt x="1001" y="1326"/>
                          <a:pt x="1020" y="1376"/>
                          <a:pt x="1013" y="1410"/>
                        </a:cubicBezTo>
                        <a:cubicBezTo>
                          <a:pt x="1006" y="1444"/>
                          <a:pt x="1005" y="1441"/>
                          <a:pt x="945" y="1456"/>
                        </a:cubicBezTo>
                        <a:cubicBezTo>
                          <a:pt x="885" y="1471"/>
                          <a:pt x="760" y="1497"/>
                          <a:pt x="650" y="1501"/>
                        </a:cubicBezTo>
                        <a:cubicBezTo>
                          <a:pt x="540" y="1505"/>
                          <a:pt x="389" y="1485"/>
                          <a:pt x="287" y="1478"/>
                        </a:cubicBezTo>
                        <a:cubicBezTo>
                          <a:pt x="185" y="1471"/>
                          <a:pt x="76" y="1486"/>
                          <a:pt x="38" y="1456"/>
                        </a:cubicBezTo>
                        <a:cubicBezTo>
                          <a:pt x="0" y="1426"/>
                          <a:pt x="45" y="1361"/>
                          <a:pt x="60" y="1297"/>
                        </a:cubicBezTo>
                        <a:cubicBezTo>
                          <a:pt x="75" y="1233"/>
                          <a:pt x="113" y="1168"/>
                          <a:pt x="128" y="1070"/>
                        </a:cubicBezTo>
                        <a:cubicBezTo>
                          <a:pt x="143" y="972"/>
                          <a:pt x="140" y="820"/>
                          <a:pt x="151" y="707"/>
                        </a:cubicBezTo>
                        <a:cubicBezTo>
                          <a:pt x="162" y="594"/>
                          <a:pt x="178" y="488"/>
                          <a:pt x="197" y="390"/>
                        </a:cubicBezTo>
                        <a:cubicBezTo>
                          <a:pt x="216" y="292"/>
                          <a:pt x="216" y="159"/>
                          <a:pt x="265" y="11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33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Oval 518"/>
                  <p:cNvSpPr/>
                  <p:nvPr/>
                </p:nvSpPr>
                <p:spPr>
                  <a:xfrm flipH="1">
                    <a:off x="7819920" y="6210000"/>
                    <a:ext cx="346680" cy="77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3b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Rectangle 519"/>
                  <p:cNvSpPr/>
                  <p:nvPr/>
                </p:nvSpPr>
                <p:spPr>
                  <a:xfrm flipH="1">
                    <a:off x="7958520" y="5457960"/>
                    <a:ext cx="263880" cy="298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>
                          <a:alpha val="4117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Oval 520"/>
                  <p:cNvSpPr/>
                  <p:nvPr/>
                </p:nvSpPr>
                <p:spPr>
                  <a:xfrm flipH="1">
                    <a:off x="7996680" y="5047920"/>
                    <a:ext cx="227160" cy="42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AutoShape 521"/>
                  <p:cNvSpPr/>
                  <p:nvPr/>
                </p:nvSpPr>
                <p:spPr>
                  <a:xfrm flipH="1" rot="10800000">
                    <a:off x="8085240" y="5097240"/>
                    <a:ext cx="34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100000">
                        <a:srgbClr val="fff1e3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Oval 522"/>
                  <p:cNvSpPr/>
                  <p:nvPr/>
                </p:nvSpPr>
                <p:spPr>
                  <a:xfrm flipH="1" rot="21363000">
                    <a:off x="7862040" y="4900320"/>
                    <a:ext cx="469800" cy="115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560" bIns="345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Oval 523"/>
                  <p:cNvSpPr/>
                  <p:nvPr/>
                </p:nvSpPr>
                <p:spPr>
                  <a:xfrm flipH="1">
                    <a:off x="7992360" y="4828680"/>
                    <a:ext cx="214200" cy="28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debd"/>
                      </a:gs>
                      <a:gs pos="100000">
                        <a:srgbClr val="fff1e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524"/>
                  <p:cNvSpPr/>
                  <p:nvPr/>
                </p:nvSpPr>
                <p:spPr>
                  <a:xfrm flipH="1">
                    <a:off x="7953120" y="4776840"/>
                    <a:ext cx="3207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918" h="628">
                        <a:moveTo>
                          <a:pt x="64" y="454"/>
                        </a:moveTo>
                        <a:cubicBezTo>
                          <a:pt x="0" y="416"/>
                          <a:pt x="57" y="424"/>
                          <a:pt x="64" y="386"/>
                        </a:cubicBezTo>
                        <a:cubicBezTo>
                          <a:pt x="71" y="348"/>
                          <a:pt x="83" y="276"/>
                          <a:pt x="109" y="227"/>
                        </a:cubicBezTo>
                        <a:cubicBezTo>
                          <a:pt x="135" y="178"/>
                          <a:pt x="165" y="125"/>
                          <a:pt x="222" y="91"/>
                        </a:cubicBezTo>
                        <a:cubicBezTo>
                          <a:pt x="279" y="57"/>
                          <a:pt x="385" y="34"/>
                          <a:pt x="449" y="23"/>
                        </a:cubicBezTo>
                        <a:cubicBezTo>
                          <a:pt x="513" y="12"/>
                          <a:pt x="547" y="0"/>
                          <a:pt x="608" y="23"/>
                        </a:cubicBezTo>
                        <a:cubicBezTo>
                          <a:pt x="669" y="46"/>
                          <a:pt x="763" y="110"/>
                          <a:pt x="812" y="159"/>
                        </a:cubicBezTo>
                        <a:cubicBezTo>
                          <a:pt x="861" y="208"/>
                          <a:pt x="888" y="261"/>
                          <a:pt x="903" y="318"/>
                        </a:cubicBezTo>
                        <a:cubicBezTo>
                          <a:pt x="918" y="375"/>
                          <a:pt x="918" y="461"/>
                          <a:pt x="903" y="499"/>
                        </a:cubicBezTo>
                        <a:cubicBezTo>
                          <a:pt x="888" y="537"/>
                          <a:pt x="888" y="526"/>
                          <a:pt x="812" y="545"/>
                        </a:cubicBezTo>
                        <a:cubicBezTo>
                          <a:pt x="736" y="564"/>
                          <a:pt x="577" y="628"/>
                          <a:pt x="449" y="613"/>
                        </a:cubicBezTo>
                        <a:cubicBezTo>
                          <a:pt x="321" y="598"/>
                          <a:pt x="128" y="492"/>
                          <a:pt x="64" y="45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Oval 525"/>
                  <p:cNvSpPr/>
                  <p:nvPr/>
                </p:nvSpPr>
                <p:spPr>
                  <a:xfrm flipH="1" rot="21238800">
                    <a:off x="8116200" y="4827600"/>
                    <a:ext cx="148680" cy="97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76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9" name="Group 54"/>
                  <p:cNvGrpSpPr/>
                  <p:nvPr/>
                </p:nvGrpSpPr>
                <p:grpSpPr>
                  <a:xfrm>
                    <a:off x="8055360" y="4779000"/>
                    <a:ext cx="106560" cy="49680"/>
                    <a:chOff x="8055360" y="4779000"/>
                    <a:chExt cx="106560" cy="49680"/>
                  </a:xfrm>
                </p:grpSpPr>
                <p:sp>
                  <p:nvSpPr>
                    <p:cNvPr id="120" name="Freeform 527"/>
                    <p:cNvSpPr/>
                    <p:nvPr/>
                  </p:nvSpPr>
                  <p:spPr>
                    <a:xfrm rot="31800">
                      <a:off x="8057160" y="4788000"/>
                      <a:ext cx="1044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124">
                          <a:moveTo>
                            <a:pt x="4" y="45"/>
                          </a:moveTo>
                          <a:cubicBezTo>
                            <a:pt x="0" y="64"/>
                            <a:pt x="42" y="102"/>
                            <a:pt x="72" y="113"/>
                          </a:cubicBezTo>
                          <a:cubicBezTo>
                            <a:pt x="102" y="124"/>
                            <a:pt x="155" y="120"/>
                            <a:pt x="185" y="113"/>
                          </a:cubicBezTo>
                          <a:cubicBezTo>
                            <a:pt x="215" y="106"/>
                            <a:pt x="246" y="83"/>
                            <a:pt x="253" y="68"/>
                          </a:cubicBezTo>
                          <a:cubicBezTo>
                            <a:pt x="260" y="53"/>
                            <a:pt x="257" y="33"/>
                            <a:pt x="230" y="22"/>
                          </a:cubicBezTo>
                          <a:cubicBezTo>
                            <a:pt x="203" y="11"/>
                            <a:pt x="132" y="0"/>
                            <a:pt x="94" y="0"/>
                          </a:cubicBezTo>
                          <a:cubicBezTo>
                            <a:pt x="56" y="0"/>
                            <a:pt x="8" y="26"/>
                            <a:pt x="4" y="45"/>
                          </a:cubicBezTo>
                          <a:close/>
                        </a:path>
                      </a:pathLst>
                    </a:custGeom>
                    <a:solidFill>
                      <a:srgbClr val="d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Freeform 528"/>
                    <p:cNvSpPr/>
                    <p:nvPr/>
                  </p:nvSpPr>
                  <p:spPr>
                    <a:xfrm rot="31800">
                      <a:off x="8055360" y="4779360"/>
                      <a:ext cx="1044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124">
                          <a:moveTo>
                            <a:pt x="4" y="45"/>
                          </a:moveTo>
                          <a:cubicBezTo>
                            <a:pt x="0" y="64"/>
                            <a:pt x="42" y="102"/>
                            <a:pt x="72" y="113"/>
                          </a:cubicBezTo>
                          <a:cubicBezTo>
                            <a:pt x="102" y="124"/>
                            <a:pt x="155" y="120"/>
                            <a:pt x="185" y="113"/>
                          </a:cubicBezTo>
                          <a:cubicBezTo>
                            <a:pt x="215" y="106"/>
                            <a:pt x="246" y="83"/>
                            <a:pt x="253" y="68"/>
                          </a:cubicBezTo>
                          <a:cubicBezTo>
                            <a:pt x="260" y="53"/>
                            <a:pt x="257" y="33"/>
                            <a:pt x="230" y="22"/>
                          </a:cubicBezTo>
                          <a:cubicBezTo>
                            <a:pt x="203" y="11"/>
                            <a:pt x="132" y="0"/>
                            <a:pt x="94" y="0"/>
                          </a:cubicBezTo>
                          <a:cubicBezTo>
                            <a:pt x="56" y="0"/>
                            <a:pt x="8" y="26"/>
                            <a:pt x="4" y="45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d0000"/>
                        </a:gs>
                        <a:gs pos="100000">
                          <a:srgbClr val="ac0000"/>
                        </a:gs>
                      </a:gsLst>
                      <a:lin ang="4722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" name="Freeform 529"/>
                  <p:cNvSpPr/>
                  <p:nvPr/>
                </p:nvSpPr>
                <p:spPr>
                  <a:xfrm flipH="1">
                    <a:off x="7947720" y="4902480"/>
                    <a:ext cx="308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1" h="117">
                        <a:moveTo>
                          <a:pt x="0" y="0"/>
                        </a:moveTo>
                        <a:cubicBezTo>
                          <a:pt x="74" y="36"/>
                          <a:pt x="148" y="72"/>
                          <a:pt x="227" y="91"/>
                        </a:cubicBezTo>
                        <a:cubicBezTo>
                          <a:pt x="306" y="110"/>
                          <a:pt x="389" y="117"/>
                          <a:pt x="476" y="113"/>
                        </a:cubicBezTo>
                        <a:cubicBezTo>
                          <a:pt x="563" y="109"/>
                          <a:pt x="695" y="83"/>
                          <a:pt x="748" y="68"/>
                        </a:cubicBezTo>
                        <a:cubicBezTo>
                          <a:pt x="801" y="53"/>
                          <a:pt x="749" y="23"/>
                          <a:pt x="794" y="23"/>
                        </a:cubicBezTo>
                      </a:path>
                    </a:pathLst>
                  </a:custGeom>
                  <a:noFill/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AutoShape 530"/>
                  <p:cNvSpPr/>
                  <p:nvPr/>
                </p:nvSpPr>
                <p:spPr>
                  <a:xfrm flipH="1">
                    <a:off x="7976880" y="4912560"/>
                    <a:ext cx="262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Oval 531"/>
                  <p:cNvSpPr/>
                  <p:nvPr/>
                </p:nvSpPr>
                <p:spPr>
                  <a:xfrm flipH="1" rot="826800">
                    <a:off x="7976160" y="4933440"/>
                    <a:ext cx="149400" cy="57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76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Oval 532"/>
                  <p:cNvSpPr/>
                  <p:nvPr/>
                </p:nvSpPr>
                <p:spPr>
                  <a:xfrm flipH="1" rot="21198600">
                    <a:off x="8223120" y="4914720"/>
                    <a:ext cx="92880" cy="29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533"/>
                  <p:cNvSpPr/>
                  <p:nvPr/>
                </p:nvSpPr>
                <p:spPr>
                  <a:xfrm flipH="1" rot="658200">
                    <a:off x="7871040" y="4929840"/>
                    <a:ext cx="114120" cy="33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534"/>
                  <p:cNvSpPr/>
                  <p:nvPr/>
                </p:nvSpPr>
                <p:spPr>
                  <a:xfrm flipH="1">
                    <a:off x="7868880" y="4911480"/>
                    <a:ext cx="431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38">
                        <a:moveTo>
                          <a:pt x="159" y="4"/>
                        </a:moveTo>
                        <a:cubicBezTo>
                          <a:pt x="125" y="8"/>
                          <a:pt x="0" y="42"/>
                          <a:pt x="0" y="49"/>
                        </a:cubicBezTo>
                        <a:cubicBezTo>
                          <a:pt x="0" y="56"/>
                          <a:pt x="99" y="30"/>
                          <a:pt x="159" y="49"/>
                        </a:cubicBezTo>
                        <a:cubicBezTo>
                          <a:pt x="219" y="68"/>
                          <a:pt x="303" y="133"/>
                          <a:pt x="363" y="163"/>
                        </a:cubicBezTo>
                        <a:cubicBezTo>
                          <a:pt x="423" y="193"/>
                          <a:pt x="465" y="224"/>
                          <a:pt x="522" y="231"/>
                        </a:cubicBezTo>
                        <a:cubicBezTo>
                          <a:pt x="579" y="238"/>
                          <a:pt x="646" y="223"/>
                          <a:pt x="703" y="208"/>
                        </a:cubicBezTo>
                        <a:cubicBezTo>
                          <a:pt x="760" y="193"/>
                          <a:pt x="820" y="159"/>
                          <a:pt x="862" y="140"/>
                        </a:cubicBezTo>
                        <a:cubicBezTo>
                          <a:pt x="904" y="121"/>
                          <a:pt x="926" y="106"/>
                          <a:pt x="953" y="95"/>
                        </a:cubicBezTo>
                        <a:cubicBezTo>
                          <a:pt x="980" y="84"/>
                          <a:pt x="995" y="72"/>
                          <a:pt x="1021" y="72"/>
                        </a:cubicBezTo>
                        <a:cubicBezTo>
                          <a:pt x="1047" y="72"/>
                          <a:pt x="1122" y="102"/>
                          <a:pt x="1111" y="95"/>
                        </a:cubicBezTo>
                        <a:cubicBezTo>
                          <a:pt x="1100" y="88"/>
                          <a:pt x="994" y="31"/>
                          <a:pt x="953" y="27"/>
                        </a:cubicBezTo>
                        <a:cubicBezTo>
                          <a:pt x="912" y="23"/>
                          <a:pt x="911" y="61"/>
                          <a:pt x="862" y="72"/>
                        </a:cubicBezTo>
                        <a:cubicBezTo>
                          <a:pt x="813" y="83"/>
                          <a:pt x="730" y="91"/>
                          <a:pt x="658" y="95"/>
                        </a:cubicBezTo>
                        <a:cubicBezTo>
                          <a:pt x="586" y="99"/>
                          <a:pt x="507" y="106"/>
                          <a:pt x="431" y="95"/>
                        </a:cubicBezTo>
                        <a:cubicBezTo>
                          <a:pt x="355" y="84"/>
                          <a:pt x="249" y="42"/>
                          <a:pt x="204" y="27"/>
                        </a:cubicBezTo>
                        <a:cubicBezTo>
                          <a:pt x="159" y="12"/>
                          <a:pt x="193" y="0"/>
                          <a:pt x="159" y="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535"/>
                  <p:cNvSpPr/>
                  <p:nvPr/>
                </p:nvSpPr>
                <p:spPr>
                  <a:xfrm flipH="1">
                    <a:off x="7953480" y="5169240"/>
                    <a:ext cx="28008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760" h="839">
                        <a:moveTo>
                          <a:pt x="250" y="4"/>
                        </a:moveTo>
                        <a:cubicBezTo>
                          <a:pt x="197" y="8"/>
                          <a:pt x="174" y="0"/>
                          <a:pt x="136" y="26"/>
                        </a:cubicBezTo>
                        <a:cubicBezTo>
                          <a:pt x="98" y="52"/>
                          <a:pt x="46" y="117"/>
                          <a:pt x="23" y="162"/>
                        </a:cubicBezTo>
                        <a:cubicBezTo>
                          <a:pt x="0" y="207"/>
                          <a:pt x="0" y="264"/>
                          <a:pt x="0" y="298"/>
                        </a:cubicBezTo>
                        <a:cubicBezTo>
                          <a:pt x="0" y="332"/>
                          <a:pt x="8" y="355"/>
                          <a:pt x="23" y="366"/>
                        </a:cubicBezTo>
                        <a:cubicBezTo>
                          <a:pt x="38" y="377"/>
                          <a:pt x="80" y="309"/>
                          <a:pt x="91" y="366"/>
                        </a:cubicBezTo>
                        <a:cubicBezTo>
                          <a:pt x="102" y="423"/>
                          <a:pt x="98" y="631"/>
                          <a:pt x="91" y="707"/>
                        </a:cubicBezTo>
                        <a:cubicBezTo>
                          <a:pt x="84" y="783"/>
                          <a:pt x="4" y="801"/>
                          <a:pt x="46" y="820"/>
                        </a:cubicBezTo>
                        <a:cubicBezTo>
                          <a:pt x="88" y="839"/>
                          <a:pt x="235" y="820"/>
                          <a:pt x="341" y="820"/>
                        </a:cubicBezTo>
                        <a:cubicBezTo>
                          <a:pt x="447" y="820"/>
                          <a:pt x="632" y="831"/>
                          <a:pt x="681" y="820"/>
                        </a:cubicBezTo>
                        <a:cubicBezTo>
                          <a:pt x="730" y="809"/>
                          <a:pt x="646" y="779"/>
                          <a:pt x="635" y="752"/>
                        </a:cubicBezTo>
                        <a:cubicBezTo>
                          <a:pt x="624" y="725"/>
                          <a:pt x="617" y="725"/>
                          <a:pt x="613" y="661"/>
                        </a:cubicBezTo>
                        <a:cubicBezTo>
                          <a:pt x="609" y="597"/>
                          <a:pt x="602" y="411"/>
                          <a:pt x="613" y="366"/>
                        </a:cubicBezTo>
                        <a:cubicBezTo>
                          <a:pt x="624" y="321"/>
                          <a:pt x="658" y="385"/>
                          <a:pt x="681" y="389"/>
                        </a:cubicBezTo>
                        <a:cubicBezTo>
                          <a:pt x="704" y="393"/>
                          <a:pt x="738" y="408"/>
                          <a:pt x="749" y="389"/>
                        </a:cubicBezTo>
                        <a:cubicBezTo>
                          <a:pt x="760" y="370"/>
                          <a:pt x="757" y="317"/>
                          <a:pt x="749" y="276"/>
                        </a:cubicBezTo>
                        <a:cubicBezTo>
                          <a:pt x="741" y="235"/>
                          <a:pt x="726" y="182"/>
                          <a:pt x="703" y="140"/>
                        </a:cubicBezTo>
                        <a:cubicBezTo>
                          <a:pt x="680" y="98"/>
                          <a:pt x="654" y="49"/>
                          <a:pt x="613" y="26"/>
                        </a:cubicBezTo>
                        <a:cubicBezTo>
                          <a:pt x="572" y="3"/>
                          <a:pt x="514" y="4"/>
                          <a:pt x="454" y="4"/>
                        </a:cubicBezTo>
                        <a:cubicBezTo>
                          <a:pt x="394" y="4"/>
                          <a:pt x="303" y="0"/>
                          <a:pt x="250" y="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9" name="Group 64"/>
                  <p:cNvGrpSpPr/>
                  <p:nvPr/>
                </p:nvGrpSpPr>
                <p:grpSpPr>
                  <a:xfrm>
                    <a:off x="7981200" y="5106240"/>
                    <a:ext cx="167400" cy="135000"/>
                    <a:chOff x="7981200" y="5106240"/>
                    <a:chExt cx="167400" cy="135000"/>
                  </a:xfrm>
                </p:grpSpPr>
                <p:sp>
                  <p:nvSpPr>
                    <p:cNvPr id="130" name="Freeform 537"/>
                    <p:cNvSpPr/>
                    <p:nvPr/>
                  </p:nvSpPr>
                  <p:spPr>
                    <a:xfrm flipH="1" rot="18000000">
                      <a:off x="8017200" y="5094720"/>
                      <a:ext cx="33840" cy="10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344">
                          <a:moveTo>
                            <a:pt x="49" y="23"/>
                          </a:moveTo>
                          <a:cubicBezTo>
                            <a:pt x="34" y="0"/>
                            <a:pt x="34" y="61"/>
                            <a:pt x="27" y="91"/>
                          </a:cubicBezTo>
                          <a:cubicBezTo>
                            <a:pt x="20" y="121"/>
                            <a:pt x="0" y="163"/>
                            <a:pt x="4" y="204"/>
                          </a:cubicBezTo>
                          <a:cubicBezTo>
                            <a:pt x="8" y="245"/>
                            <a:pt x="30" y="336"/>
                            <a:pt x="49" y="340"/>
                          </a:cubicBezTo>
                          <a:cubicBezTo>
                            <a:pt x="68" y="344"/>
                            <a:pt x="117" y="280"/>
                            <a:pt x="117" y="227"/>
                          </a:cubicBezTo>
                          <a:cubicBezTo>
                            <a:pt x="117" y="174"/>
                            <a:pt x="64" y="46"/>
                            <a:pt x="49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006600"/>
                        </a:gs>
                      </a:gsLst>
                      <a:lin ang="1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Oval 538"/>
                    <p:cNvSpPr/>
                    <p:nvPr/>
                  </p:nvSpPr>
                  <p:spPr>
                    <a:xfrm flipH="1" rot="18000000">
                      <a:off x="8007480" y="5109840"/>
                      <a:ext cx="32760" cy="51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0ff89"/>
                        </a:gs>
                        <a:gs pos="100000">
                          <a:srgbClr val="81934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Freeform 539"/>
                    <p:cNvSpPr/>
                    <p:nvPr/>
                  </p:nvSpPr>
                  <p:spPr>
                    <a:xfrm flipH="1" rot="597600">
                      <a:off x="8075160" y="5146200"/>
                      <a:ext cx="702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91">
                          <a:moveTo>
                            <a:pt x="23" y="0"/>
                          </a:moveTo>
                          <a:lnTo>
                            <a:pt x="0" y="46"/>
                          </a:lnTo>
                          <a:lnTo>
                            <a:pt x="46" y="69"/>
                          </a:lnTo>
                          <a:lnTo>
                            <a:pt x="136" y="91"/>
                          </a:lnTo>
                          <a:lnTo>
                            <a:pt x="182" y="69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3300"/>
                        </a:gs>
                      </a:gsLst>
                      <a:lin ang="19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Freeform 540"/>
                    <p:cNvSpPr/>
                    <p:nvPr/>
                  </p:nvSpPr>
                  <p:spPr>
                    <a:xfrm flipH="1">
                      <a:off x="8058240" y="5163120"/>
                      <a:ext cx="36360" cy="6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344">
                          <a:moveTo>
                            <a:pt x="49" y="23"/>
                          </a:moveTo>
                          <a:cubicBezTo>
                            <a:pt x="34" y="0"/>
                            <a:pt x="34" y="61"/>
                            <a:pt x="27" y="91"/>
                          </a:cubicBezTo>
                          <a:cubicBezTo>
                            <a:pt x="20" y="121"/>
                            <a:pt x="0" y="163"/>
                            <a:pt x="4" y="204"/>
                          </a:cubicBezTo>
                          <a:cubicBezTo>
                            <a:pt x="8" y="245"/>
                            <a:pt x="30" y="336"/>
                            <a:pt x="49" y="340"/>
                          </a:cubicBezTo>
                          <a:cubicBezTo>
                            <a:pt x="68" y="344"/>
                            <a:pt x="117" y="280"/>
                            <a:pt x="117" y="227"/>
                          </a:cubicBezTo>
                          <a:cubicBezTo>
                            <a:pt x="117" y="174"/>
                            <a:pt x="64" y="46"/>
                            <a:pt x="49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Oval 541"/>
                    <p:cNvSpPr/>
                    <p:nvPr/>
                  </p:nvSpPr>
                  <p:spPr>
                    <a:xfrm flipH="1" rot="18000000">
                      <a:off x="8023680" y="5101200"/>
                      <a:ext cx="16560" cy="1047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2f00">
                            <a:alpha val="0"/>
                          </a:srgbClr>
                        </a:gs>
                        <a:gs pos="100000">
                          <a:srgbClr val="006600"/>
                        </a:gs>
                      </a:gsLst>
                      <a:lin ang="1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Oval 542"/>
                    <p:cNvSpPr/>
                    <p:nvPr/>
                  </p:nvSpPr>
                  <p:spPr>
                    <a:xfrm flipH="1">
                      <a:off x="8128440" y="5163120"/>
                      <a:ext cx="864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Oval 543"/>
                    <p:cNvSpPr/>
                    <p:nvPr/>
                  </p:nvSpPr>
                  <p:spPr>
                    <a:xfrm flipH="1">
                      <a:off x="8084880" y="5203800"/>
                      <a:ext cx="864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Oval 544"/>
                    <p:cNvSpPr/>
                    <p:nvPr/>
                  </p:nvSpPr>
                  <p:spPr>
                    <a:xfrm flipH="1">
                      <a:off x="8084520" y="5171400"/>
                      <a:ext cx="828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Oval 545"/>
                    <p:cNvSpPr/>
                    <p:nvPr/>
                  </p:nvSpPr>
                  <p:spPr>
                    <a:xfrm flipH="1">
                      <a:off x="8041320" y="5163120"/>
                      <a:ext cx="864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Oval 546"/>
                    <p:cNvSpPr/>
                    <p:nvPr/>
                  </p:nvSpPr>
                  <p:spPr>
                    <a:xfrm flipH="1">
                      <a:off x="8067600" y="5187600"/>
                      <a:ext cx="864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Oval 547"/>
                    <p:cNvSpPr/>
                    <p:nvPr/>
                  </p:nvSpPr>
                  <p:spPr>
                    <a:xfrm flipH="1">
                      <a:off x="8067240" y="5163120"/>
                      <a:ext cx="17280" cy="16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5b4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Oval 548"/>
                    <p:cNvSpPr/>
                    <p:nvPr/>
                  </p:nvSpPr>
                  <p:spPr>
                    <a:xfrm flipH="1" rot="18000000">
                      <a:off x="8056800" y="5198040"/>
                      <a:ext cx="39960" cy="34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0ff89"/>
                        </a:gs>
                        <a:gs pos="100000">
                          <a:srgbClr val="81934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" name="Oval 549"/>
                  <p:cNvSpPr/>
                  <p:nvPr/>
                </p:nvSpPr>
                <p:spPr>
                  <a:xfrm flipH="1" rot="21000000">
                    <a:off x="8179920" y="5235840"/>
                    <a:ext cx="10440" cy="6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6c6c">
                          <a:alpha val="0"/>
                        </a:srgbClr>
                      </a:gs>
                      <a:gs pos="100000">
                        <a:srgbClr val="eaeaea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3" name="Group 78"/>
                  <p:cNvGrpSpPr/>
                  <p:nvPr/>
                </p:nvGrpSpPr>
                <p:grpSpPr>
                  <a:xfrm>
                    <a:off x="8172720" y="5220000"/>
                    <a:ext cx="17280" cy="15840"/>
                    <a:chOff x="8172720" y="5220000"/>
                    <a:chExt cx="17280" cy="15840"/>
                  </a:xfrm>
                </p:grpSpPr>
                <p:grpSp>
                  <p:nvGrpSpPr>
                    <p:cNvPr id="144" name="Group 79"/>
                    <p:cNvGrpSpPr/>
                    <p:nvPr/>
                  </p:nvGrpSpPr>
                  <p:grpSpPr>
                    <a:xfrm>
                      <a:off x="8172720" y="5220000"/>
                      <a:ext cx="17280" cy="15840"/>
                      <a:chOff x="8172720" y="5220000"/>
                      <a:chExt cx="17280" cy="15840"/>
                    </a:xfrm>
                  </p:grpSpPr>
                  <p:sp>
                    <p:nvSpPr>
                      <p:cNvPr id="145" name="Oval 552"/>
                      <p:cNvSpPr/>
                      <p:nvPr/>
                    </p:nvSpPr>
                    <p:spPr>
                      <a:xfrm flipH="1">
                        <a:off x="8177040" y="5220000"/>
                        <a:ext cx="864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6" name="Oval 553"/>
                      <p:cNvSpPr/>
                      <p:nvPr/>
                    </p:nvSpPr>
                    <p:spPr>
                      <a:xfrm flipH="1">
                        <a:off x="8172720" y="5220000"/>
                        <a:ext cx="1728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7" name="Oval 554"/>
                    <p:cNvSpPr/>
                    <p:nvPr/>
                  </p:nvSpPr>
                  <p:spPr>
                    <a:xfrm flipH="1">
                      <a:off x="8173440" y="5220000"/>
                      <a:ext cx="1620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" name="Group 83"/>
                  <p:cNvGrpSpPr/>
                  <p:nvPr/>
                </p:nvGrpSpPr>
                <p:grpSpPr>
                  <a:xfrm>
                    <a:off x="8101800" y="5309640"/>
                    <a:ext cx="18000" cy="16200"/>
                    <a:chOff x="8101800" y="5309640"/>
                    <a:chExt cx="18000" cy="16200"/>
                  </a:xfrm>
                </p:grpSpPr>
                <p:grpSp>
                  <p:nvGrpSpPr>
                    <p:cNvPr id="149" name="Group 84"/>
                    <p:cNvGrpSpPr/>
                    <p:nvPr/>
                  </p:nvGrpSpPr>
                  <p:grpSpPr>
                    <a:xfrm>
                      <a:off x="8101800" y="5309640"/>
                      <a:ext cx="18000" cy="16200"/>
                      <a:chOff x="8101800" y="5309640"/>
                      <a:chExt cx="18000" cy="16200"/>
                    </a:xfrm>
                  </p:grpSpPr>
                  <p:sp>
                    <p:nvSpPr>
                      <p:cNvPr id="150" name="Oval 557"/>
                      <p:cNvSpPr/>
                      <p:nvPr/>
                    </p:nvSpPr>
                    <p:spPr>
                      <a:xfrm flipH="1">
                        <a:off x="8106120" y="5309640"/>
                        <a:ext cx="900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" name="Oval 558"/>
                      <p:cNvSpPr/>
                      <p:nvPr/>
                    </p:nvSpPr>
                    <p:spPr>
                      <a:xfrm flipH="1">
                        <a:off x="8101800" y="5309640"/>
                        <a:ext cx="18000" cy="16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920" bIns="-34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2" name="Oval 559"/>
                    <p:cNvSpPr/>
                    <p:nvPr/>
                  </p:nvSpPr>
                  <p:spPr>
                    <a:xfrm flipH="1">
                      <a:off x="8102520" y="5309640"/>
                      <a:ext cx="16920" cy="1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" name="Group 88"/>
                  <p:cNvGrpSpPr/>
                  <p:nvPr/>
                </p:nvGrpSpPr>
                <p:grpSpPr>
                  <a:xfrm>
                    <a:off x="8146080" y="5358240"/>
                    <a:ext cx="17280" cy="16560"/>
                    <a:chOff x="8146080" y="5358240"/>
                    <a:chExt cx="17280" cy="16560"/>
                  </a:xfrm>
                </p:grpSpPr>
                <p:grpSp>
                  <p:nvGrpSpPr>
                    <p:cNvPr id="154" name="Group 89"/>
                    <p:cNvGrpSpPr/>
                    <p:nvPr/>
                  </p:nvGrpSpPr>
                  <p:grpSpPr>
                    <a:xfrm>
                      <a:off x="8146080" y="5358240"/>
                      <a:ext cx="17280" cy="16560"/>
                      <a:chOff x="8146080" y="5358240"/>
                      <a:chExt cx="17280" cy="16560"/>
                    </a:xfrm>
                  </p:grpSpPr>
                  <p:sp>
                    <p:nvSpPr>
                      <p:cNvPr id="155" name="Oval 562"/>
                      <p:cNvSpPr/>
                      <p:nvPr/>
                    </p:nvSpPr>
                    <p:spPr>
                      <a:xfrm flipH="1">
                        <a:off x="8150400" y="5358240"/>
                        <a:ext cx="864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" name="Oval 563"/>
                      <p:cNvSpPr/>
                      <p:nvPr/>
                    </p:nvSpPr>
                    <p:spPr>
                      <a:xfrm flipH="1">
                        <a:off x="8146080" y="5358240"/>
                        <a:ext cx="17280" cy="16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7" name="Oval 564"/>
                    <p:cNvSpPr/>
                    <p:nvPr/>
                  </p:nvSpPr>
                  <p:spPr>
                    <a:xfrm flipH="1">
                      <a:off x="8146800" y="5358240"/>
                      <a:ext cx="1620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8" name="Group 93"/>
                  <p:cNvGrpSpPr/>
                  <p:nvPr/>
                </p:nvGrpSpPr>
                <p:grpSpPr>
                  <a:xfrm>
                    <a:off x="8032320" y="5293080"/>
                    <a:ext cx="17640" cy="16560"/>
                    <a:chOff x="8032320" y="5293080"/>
                    <a:chExt cx="17640" cy="16560"/>
                  </a:xfrm>
                </p:grpSpPr>
                <p:grpSp>
                  <p:nvGrpSpPr>
                    <p:cNvPr id="159" name="Group 94"/>
                    <p:cNvGrpSpPr/>
                    <p:nvPr/>
                  </p:nvGrpSpPr>
                  <p:grpSpPr>
                    <a:xfrm>
                      <a:off x="8032320" y="5293080"/>
                      <a:ext cx="17640" cy="16560"/>
                      <a:chOff x="8032320" y="5293080"/>
                      <a:chExt cx="17640" cy="16560"/>
                    </a:xfrm>
                  </p:grpSpPr>
                  <p:sp>
                    <p:nvSpPr>
                      <p:cNvPr id="160" name="Oval 567"/>
                      <p:cNvSpPr/>
                      <p:nvPr/>
                    </p:nvSpPr>
                    <p:spPr>
                      <a:xfrm flipH="1">
                        <a:off x="8037000" y="5293080"/>
                        <a:ext cx="864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" name="Oval 568"/>
                      <p:cNvSpPr/>
                      <p:nvPr/>
                    </p:nvSpPr>
                    <p:spPr>
                      <a:xfrm flipH="1">
                        <a:off x="8031960" y="5293080"/>
                        <a:ext cx="17640" cy="16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2" name="Oval 569"/>
                    <p:cNvSpPr/>
                    <p:nvPr/>
                  </p:nvSpPr>
                  <p:spPr>
                    <a:xfrm flipH="1">
                      <a:off x="8033400" y="5293080"/>
                      <a:ext cx="1656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" name="Group 98"/>
                  <p:cNvGrpSpPr/>
                  <p:nvPr/>
                </p:nvGrpSpPr>
                <p:grpSpPr>
                  <a:xfrm>
                    <a:off x="8101800" y="5220000"/>
                    <a:ext cx="18000" cy="15840"/>
                    <a:chOff x="8101800" y="5220000"/>
                    <a:chExt cx="18000" cy="15840"/>
                  </a:xfrm>
                </p:grpSpPr>
                <p:grpSp>
                  <p:nvGrpSpPr>
                    <p:cNvPr id="164" name="Group 99"/>
                    <p:cNvGrpSpPr/>
                    <p:nvPr/>
                  </p:nvGrpSpPr>
                  <p:grpSpPr>
                    <a:xfrm>
                      <a:off x="8101800" y="5220000"/>
                      <a:ext cx="18000" cy="15840"/>
                      <a:chOff x="8101800" y="5220000"/>
                      <a:chExt cx="18000" cy="15840"/>
                    </a:xfrm>
                  </p:grpSpPr>
                  <p:sp>
                    <p:nvSpPr>
                      <p:cNvPr id="165" name="Oval 572"/>
                      <p:cNvSpPr/>
                      <p:nvPr/>
                    </p:nvSpPr>
                    <p:spPr>
                      <a:xfrm flipH="1">
                        <a:off x="8106120" y="5220000"/>
                        <a:ext cx="900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" name="Oval 573"/>
                      <p:cNvSpPr/>
                      <p:nvPr/>
                    </p:nvSpPr>
                    <p:spPr>
                      <a:xfrm flipH="1">
                        <a:off x="8101800" y="5220000"/>
                        <a:ext cx="1800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7" name="Oval 574"/>
                    <p:cNvSpPr/>
                    <p:nvPr/>
                  </p:nvSpPr>
                  <p:spPr>
                    <a:xfrm flipH="1">
                      <a:off x="8102520" y="5220000"/>
                      <a:ext cx="1692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Group 103"/>
                  <p:cNvGrpSpPr/>
                  <p:nvPr/>
                </p:nvGrpSpPr>
                <p:grpSpPr>
                  <a:xfrm>
                    <a:off x="7962120" y="5244120"/>
                    <a:ext cx="17640" cy="16200"/>
                    <a:chOff x="7962120" y="5244120"/>
                    <a:chExt cx="17640" cy="16200"/>
                  </a:xfrm>
                </p:grpSpPr>
                <p:grpSp>
                  <p:nvGrpSpPr>
                    <p:cNvPr id="169" name="Group 104"/>
                    <p:cNvGrpSpPr/>
                    <p:nvPr/>
                  </p:nvGrpSpPr>
                  <p:grpSpPr>
                    <a:xfrm>
                      <a:off x="7962120" y="5244120"/>
                      <a:ext cx="17640" cy="16200"/>
                      <a:chOff x="7962120" y="5244120"/>
                      <a:chExt cx="17640" cy="16200"/>
                    </a:xfrm>
                  </p:grpSpPr>
                  <p:sp>
                    <p:nvSpPr>
                      <p:cNvPr id="170" name="Oval 577"/>
                      <p:cNvSpPr/>
                      <p:nvPr/>
                    </p:nvSpPr>
                    <p:spPr>
                      <a:xfrm flipH="1">
                        <a:off x="7966800" y="5244120"/>
                        <a:ext cx="864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" name="Oval 578"/>
                      <p:cNvSpPr/>
                      <p:nvPr/>
                    </p:nvSpPr>
                    <p:spPr>
                      <a:xfrm flipH="1">
                        <a:off x="7961760" y="5244120"/>
                        <a:ext cx="17640" cy="16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920" bIns="-34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2" name="Oval 579"/>
                    <p:cNvSpPr/>
                    <p:nvPr/>
                  </p:nvSpPr>
                  <p:spPr>
                    <a:xfrm flipH="1">
                      <a:off x="7963200" y="5244120"/>
                      <a:ext cx="16560" cy="1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3" name="Group 108"/>
                  <p:cNvGrpSpPr/>
                  <p:nvPr/>
                </p:nvGrpSpPr>
                <p:grpSpPr>
                  <a:xfrm>
                    <a:off x="8049960" y="5391360"/>
                    <a:ext cx="16920" cy="15840"/>
                    <a:chOff x="8049960" y="5391360"/>
                    <a:chExt cx="16920" cy="15840"/>
                  </a:xfrm>
                </p:grpSpPr>
                <p:grpSp>
                  <p:nvGrpSpPr>
                    <p:cNvPr id="174" name="Group 109"/>
                    <p:cNvGrpSpPr/>
                    <p:nvPr/>
                  </p:nvGrpSpPr>
                  <p:grpSpPr>
                    <a:xfrm>
                      <a:off x="8049960" y="5391360"/>
                      <a:ext cx="16920" cy="15840"/>
                      <a:chOff x="8049960" y="5391360"/>
                      <a:chExt cx="16920" cy="15840"/>
                    </a:xfrm>
                  </p:grpSpPr>
                  <p:sp>
                    <p:nvSpPr>
                      <p:cNvPr id="175" name="Oval 582"/>
                      <p:cNvSpPr/>
                      <p:nvPr/>
                    </p:nvSpPr>
                    <p:spPr>
                      <a:xfrm flipH="1">
                        <a:off x="8053920" y="5391360"/>
                        <a:ext cx="828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Oval 583"/>
                      <p:cNvSpPr/>
                      <p:nvPr/>
                    </p:nvSpPr>
                    <p:spPr>
                      <a:xfrm flipH="1">
                        <a:off x="8049600" y="5391360"/>
                        <a:ext cx="1692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7" name="Oval 584"/>
                    <p:cNvSpPr/>
                    <p:nvPr/>
                  </p:nvSpPr>
                  <p:spPr>
                    <a:xfrm flipH="1">
                      <a:off x="8051040" y="5391360"/>
                      <a:ext cx="1584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Group 113"/>
                  <p:cNvGrpSpPr/>
                  <p:nvPr/>
                </p:nvGrpSpPr>
                <p:grpSpPr>
                  <a:xfrm>
                    <a:off x="8172720" y="5423760"/>
                    <a:ext cx="17280" cy="16200"/>
                    <a:chOff x="8172720" y="5423760"/>
                    <a:chExt cx="17280" cy="16200"/>
                  </a:xfrm>
                </p:grpSpPr>
                <p:grpSp>
                  <p:nvGrpSpPr>
                    <p:cNvPr id="179" name="Group 114"/>
                    <p:cNvGrpSpPr/>
                    <p:nvPr/>
                  </p:nvGrpSpPr>
                  <p:grpSpPr>
                    <a:xfrm>
                      <a:off x="8172720" y="5423760"/>
                      <a:ext cx="17280" cy="16200"/>
                      <a:chOff x="8172720" y="5423760"/>
                      <a:chExt cx="17280" cy="16200"/>
                    </a:xfrm>
                  </p:grpSpPr>
                  <p:sp>
                    <p:nvSpPr>
                      <p:cNvPr id="180" name="Oval 587"/>
                      <p:cNvSpPr/>
                      <p:nvPr/>
                    </p:nvSpPr>
                    <p:spPr>
                      <a:xfrm flipH="1">
                        <a:off x="8177040" y="5423760"/>
                        <a:ext cx="864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" name="Oval 588"/>
                      <p:cNvSpPr/>
                      <p:nvPr/>
                    </p:nvSpPr>
                    <p:spPr>
                      <a:xfrm flipH="1">
                        <a:off x="8172720" y="5423760"/>
                        <a:ext cx="17280" cy="16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920" bIns="-34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2" name="Oval 589"/>
                    <p:cNvSpPr/>
                    <p:nvPr/>
                  </p:nvSpPr>
                  <p:spPr>
                    <a:xfrm flipH="1">
                      <a:off x="8173440" y="5423760"/>
                      <a:ext cx="16200" cy="1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" name="Group 118"/>
                  <p:cNvGrpSpPr/>
                  <p:nvPr/>
                </p:nvGrpSpPr>
                <p:grpSpPr>
                  <a:xfrm>
                    <a:off x="8023320" y="5171040"/>
                    <a:ext cx="17640" cy="15840"/>
                    <a:chOff x="8023320" y="5171040"/>
                    <a:chExt cx="17640" cy="15840"/>
                  </a:xfrm>
                </p:grpSpPr>
                <p:grpSp>
                  <p:nvGrpSpPr>
                    <p:cNvPr id="184" name="Group 119"/>
                    <p:cNvGrpSpPr/>
                    <p:nvPr/>
                  </p:nvGrpSpPr>
                  <p:grpSpPr>
                    <a:xfrm>
                      <a:off x="8023320" y="5171040"/>
                      <a:ext cx="17640" cy="15840"/>
                      <a:chOff x="8023320" y="5171040"/>
                      <a:chExt cx="17640" cy="15840"/>
                    </a:xfrm>
                  </p:grpSpPr>
                  <p:sp>
                    <p:nvSpPr>
                      <p:cNvPr id="185" name="Oval 592"/>
                      <p:cNvSpPr/>
                      <p:nvPr/>
                    </p:nvSpPr>
                    <p:spPr>
                      <a:xfrm flipH="1">
                        <a:off x="8028000" y="5171040"/>
                        <a:ext cx="864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Oval 593"/>
                      <p:cNvSpPr/>
                      <p:nvPr/>
                    </p:nvSpPr>
                    <p:spPr>
                      <a:xfrm flipH="1">
                        <a:off x="8022960" y="5171040"/>
                        <a:ext cx="1764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7" name="Oval 594"/>
                    <p:cNvSpPr/>
                    <p:nvPr/>
                  </p:nvSpPr>
                  <p:spPr>
                    <a:xfrm flipH="1">
                      <a:off x="8024400" y="5171040"/>
                      <a:ext cx="1656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" name="Group 123"/>
                  <p:cNvGrpSpPr/>
                  <p:nvPr/>
                </p:nvGrpSpPr>
                <p:grpSpPr>
                  <a:xfrm>
                    <a:off x="7980120" y="5268960"/>
                    <a:ext cx="17280" cy="16200"/>
                    <a:chOff x="7980120" y="5268960"/>
                    <a:chExt cx="17280" cy="16200"/>
                  </a:xfrm>
                </p:grpSpPr>
                <p:grpSp>
                  <p:nvGrpSpPr>
                    <p:cNvPr id="189" name="Group 124"/>
                    <p:cNvGrpSpPr/>
                    <p:nvPr/>
                  </p:nvGrpSpPr>
                  <p:grpSpPr>
                    <a:xfrm>
                      <a:off x="7980120" y="5268960"/>
                      <a:ext cx="17280" cy="16200"/>
                      <a:chOff x="7980120" y="5268960"/>
                      <a:chExt cx="17280" cy="16200"/>
                    </a:xfrm>
                  </p:grpSpPr>
                  <p:sp>
                    <p:nvSpPr>
                      <p:cNvPr id="190" name="Oval 597"/>
                      <p:cNvSpPr/>
                      <p:nvPr/>
                    </p:nvSpPr>
                    <p:spPr>
                      <a:xfrm flipH="1">
                        <a:off x="7984440" y="5268960"/>
                        <a:ext cx="864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" name="Oval 598"/>
                      <p:cNvSpPr/>
                      <p:nvPr/>
                    </p:nvSpPr>
                    <p:spPr>
                      <a:xfrm flipH="1">
                        <a:off x="7980120" y="5268960"/>
                        <a:ext cx="17280" cy="16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920" bIns="-34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2" name="Oval 599"/>
                    <p:cNvSpPr/>
                    <p:nvPr/>
                  </p:nvSpPr>
                  <p:spPr>
                    <a:xfrm flipH="1">
                      <a:off x="7980840" y="5268960"/>
                      <a:ext cx="16200" cy="1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3" name="Oval 600"/>
                  <p:cNvSpPr/>
                  <p:nvPr/>
                </p:nvSpPr>
                <p:spPr>
                  <a:xfrm flipH="1">
                    <a:off x="7944480" y="5293080"/>
                    <a:ext cx="97200" cy="171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4" name="Group 129"/>
                  <p:cNvGrpSpPr/>
                  <p:nvPr/>
                </p:nvGrpSpPr>
                <p:grpSpPr>
                  <a:xfrm>
                    <a:off x="7988400" y="5432040"/>
                    <a:ext cx="17280" cy="15840"/>
                    <a:chOff x="7988400" y="5432040"/>
                    <a:chExt cx="17280" cy="15840"/>
                  </a:xfrm>
                </p:grpSpPr>
                <p:grpSp>
                  <p:nvGrpSpPr>
                    <p:cNvPr id="195" name="Group 130"/>
                    <p:cNvGrpSpPr/>
                    <p:nvPr/>
                  </p:nvGrpSpPr>
                  <p:grpSpPr>
                    <a:xfrm>
                      <a:off x="7988400" y="5432040"/>
                      <a:ext cx="17280" cy="15840"/>
                      <a:chOff x="7988400" y="5432040"/>
                      <a:chExt cx="17280" cy="15840"/>
                    </a:xfrm>
                  </p:grpSpPr>
                  <p:sp>
                    <p:nvSpPr>
                      <p:cNvPr id="196" name="Oval 603"/>
                      <p:cNvSpPr/>
                      <p:nvPr/>
                    </p:nvSpPr>
                    <p:spPr>
                      <a:xfrm flipH="1">
                        <a:off x="7992720" y="5432040"/>
                        <a:ext cx="864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7" name="Oval 604"/>
                      <p:cNvSpPr/>
                      <p:nvPr/>
                    </p:nvSpPr>
                    <p:spPr>
                      <a:xfrm flipH="1">
                        <a:off x="7988400" y="5432040"/>
                        <a:ext cx="1728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8" name="Oval 605"/>
                    <p:cNvSpPr/>
                    <p:nvPr/>
                  </p:nvSpPr>
                  <p:spPr>
                    <a:xfrm flipH="1">
                      <a:off x="7989120" y="5432040"/>
                      <a:ext cx="1620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9" name="Oval 606"/>
                  <p:cNvSpPr/>
                  <p:nvPr/>
                </p:nvSpPr>
                <p:spPr>
                  <a:xfrm flipH="1">
                    <a:off x="8163000" y="5301000"/>
                    <a:ext cx="61200" cy="155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be8dd"/>
                      </a:gs>
                      <a:gs pos="100000">
                        <a:srgbClr val="746b66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0" name="Group 135"/>
                  <p:cNvGrpSpPr/>
                  <p:nvPr/>
                </p:nvGrpSpPr>
                <p:grpSpPr>
                  <a:xfrm>
                    <a:off x="8199000" y="5260680"/>
                    <a:ext cx="16920" cy="15840"/>
                    <a:chOff x="8199000" y="5260680"/>
                    <a:chExt cx="16920" cy="15840"/>
                  </a:xfrm>
                </p:grpSpPr>
                <p:grpSp>
                  <p:nvGrpSpPr>
                    <p:cNvPr id="201" name="Group 136"/>
                    <p:cNvGrpSpPr/>
                    <p:nvPr/>
                  </p:nvGrpSpPr>
                  <p:grpSpPr>
                    <a:xfrm>
                      <a:off x="8199000" y="5260680"/>
                      <a:ext cx="16920" cy="15840"/>
                      <a:chOff x="8199000" y="5260680"/>
                      <a:chExt cx="16920" cy="15840"/>
                    </a:xfrm>
                  </p:grpSpPr>
                  <p:sp>
                    <p:nvSpPr>
                      <p:cNvPr id="202" name="Oval 609"/>
                      <p:cNvSpPr/>
                      <p:nvPr/>
                    </p:nvSpPr>
                    <p:spPr>
                      <a:xfrm flipH="1">
                        <a:off x="8202960" y="5260680"/>
                        <a:ext cx="828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Oval 610"/>
                      <p:cNvSpPr/>
                      <p:nvPr/>
                    </p:nvSpPr>
                    <p:spPr>
                      <a:xfrm flipH="1">
                        <a:off x="8198640" y="5260680"/>
                        <a:ext cx="1692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4" name="Oval 611"/>
                    <p:cNvSpPr/>
                    <p:nvPr/>
                  </p:nvSpPr>
                  <p:spPr>
                    <a:xfrm flipH="1">
                      <a:off x="8200080" y="5260680"/>
                      <a:ext cx="1584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5" name="Oval 612"/>
                  <p:cNvSpPr/>
                  <p:nvPr/>
                </p:nvSpPr>
                <p:spPr>
                  <a:xfrm flipH="1">
                    <a:off x="7944480" y="5303160"/>
                    <a:ext cx="61200" cy="154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3e9e5"/>
                      </a:gs>
                      <a:gs pos="100000">
                        <a:srgbClr val="706c6a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613"/>
                  <p:cNvSpPr/>
                  <p:nvPr/>
                </p:nvSpPr>
                <p:spPr>
                  <a:xfrm flipH="1">
                    <a:off x="8198280" y="5301720"/>
                    <a:ext cx="3528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429">
                        <a:moveTo>
                          <a:pt x="0" y="0"/>
                        </a:moveTo>
                        <a:lnTo>
                          <a:pt x="23" y="159"/>
                        </a:lnTo>
                        <a:lnTo>
                          <a:pt x="23" y="703"/>
                        </a:lnTo>
                        <a:lnTo>
                          <a:pt x="0" y="1225"/>
                        </a:lnTo>
                        <a:lnTo>
                          <a:pt x="0" y="1429"/>
                        </a:lnTo>
                        <a:lnTo>
                          <a:pt x="68" y="1429"/>
                        </a:lnTo>
                        <a:lnTo>
                          <a:pt x="91" y="885"/>
                        </a:lnTo>
                        <a:lnTo>
                          <a:pt x="114" y="590"/>
                        </a:lnTo>
                        <a:lnTo>
                          <a:pt x="114" y="159"/>
                        </a:lnTo>
                        <a:lnTo>
                          <a:pt x="11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50000">
                        <a:srgbClr val="fff1e3"/>
                      </a:gs>
                      <a:gs pos="100000">
                        <a:srgbClr val="ffde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614"/>
                  <p:cNvSpPr/>
                  <p:nvPr/>
                </p:nvSpPr>
                <p:spPr>
                  <a:xfrm flipH="1" rot="240000">
                    <a:off x="7937280" y="5302800"/>
                    <a:ext cx="3456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429">
                        <a:moveTo>
                          <a:pt x="0" y="0"/>
                        </a:moveTo>
                        <a:lnTo>
                          <a:pt x="23" y="159"/>
                        </a:lnTo>
                        <a:lnTo>
                          <a:pt x="23" y="703"/>
                        </a:lnTo>
                        <a:lnTo>
                          <a:pt x="0" y="1225"/>
                        </a:lnTo>
                        <a:lnTo>
                          <a:pt x="0" y="1429"/>
                        </a:lnTo>
                        <a:lnTo>
                          <a:pt x="68" y="1429"/>
                        </a:lnTo>
                        <a:lnTo>
                          <a:pt x="91" y="885"/>
                        </a:lnTo>
                        <a:lnTo>
                          <a:pt x="114" y="590"/>
                        </a:lnTo>
                        <a:lnTo>
                          <a:pt x="114" y="159"/>
                        </a:lnTo>
                        <a:lnTo>
                          <a:pt x="11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50000">
                        <a:srgbClr val="fff1e3"/>
                      </a:gs>
                      <a:gs pos="100000">
                        <a:srgbClr val="ffdebd"/>
                      </a:gs>
                    </a:gsLst>
                    <a:lin ang="56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615"/>
                  <p:cNvSpPr/>
                  <p:nvPr/>
                </p:nvSpPr>
                <p:spPr>
                  <a:xfrm flipH="1" rot="21238800">
                    <a:off x="7999920" y="5704560"/>
                    <a:ext cx="277200" cy="278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66"/>
                      </a:gs>
                      <a:gs pos="100000">
                        <a:srgbClr val="1d583b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Oval 616"/>
                  <p:cNvSpPr/>
                  <p:nvPr/>
                </p:nvSpPr>
                <p:spPr>
                  <a:xfrm flipH="1" rot="18000000">
                    <a:off x="7840800" y="6141960"/>
                    <a:ext cx="181440" cy="19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e8a5c"/>
                      </a:gs>
                      <a:gs pos="100000">
                        <a:srgbClr val="1b503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Oval 617"/>
                  <p:cNvSpPr/>
                  <p:nvPr/>
                </p:nvSpPr>
                <p:spPr>
                  <a:xfrm flipH="1">
                    <a:off x="8125200" y="6054120"/>
                    <a:ext cx="5508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Oval 618"/>
                  <p:cNvSpPr/>
                  <p:nvPr/>
                </p:nvSpPr>
                <p:spPr>
                  <a:xfrm flipH="1">
                    <a:off x="7973280" y="6278040"/>
                    <a:ext cx="5544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619"/>
                  <p:cNvSpPr/>
                  <p:nvPr/>
                </p:nvSpPr>
                <p:spPr>
                  <a:xfrm flipH="1">
                    <a:off x="7860960" y="6183720"/>
                    <a:ext cx="5580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Oval 620"/>
                  <p:cNvSpPr/>
                  <p:nvPr/>
                </p:nvSpPr>
                <p:spPr>
                  <a:xfrm flipH="1">
                    <a:off x="8235720" y="6278040"/>
                    <a:ext cx="5544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Oval 621"/>
                  <p:cNvSpPr/>
                  <p:nvPr/>
                </p:nvSpPr>
                <p:spPr>
                  <a:xfrm flipH="1">
                    <a:off x="8130960" y="5497560"/>
                    <a:ext cx="49320" cy="4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Oval 622"/>
                  <p:cNvSpPr/>
                  <p:nvPr/>
                </p:nvSpPr>
                <p:spPr>
                  <a:xfrm flipH="1">
                    <a:off x="7986960" y="5574960"/>
                    <a:ext cx="5472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Oval 623"/>
                  <p:cNvSpPr/>
                  <p:nvPr/>
                </p:nvSpPr>
                <p:spPr>
                  <a:xfrm flipH="1">
                    <a:off x="8139240" y="5679000"/>
                    <a:ext cx="5544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7" name="Group 152"/>
                  <p:cNvGrpSpPr/>
                  <p:nvPr/>
                </p:nvGrpSpPr>
                <p:grpSpPr>
                  <a:xfrm>
                    <a:off x="8171280" y="5285160"/>
                    <a:ext cx="78480" cy="32400"/>
                    <a:chOff x="8171280" y="5285160"/>
                    <a:chExt cx="78480" cy="32400"/>
                  </a:xfrm>
                </p:grpSpPr>
                <p:sp>
                  <p:nvSpPr>
                    <p:cNvPr id="218" name="Oval 625"/>
                    <p:cNvSpPr/>
                    <p:nvPr/>
                  </p:nvSpPr>
                  <p:spPr>
                    <a:xfrm flipH="1">
                      <a:off x="8190720" y="5292720"/>
                      <a:ext cx="39600" cy="15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Oval 626"/>
                    <p:cNvSpPr/>
                    <p:nvPr/>
                  </p:nvSpPr>
                  <p:spPr>
                    <a:xfrm flipH="1">
                      <a:off x="8171280" y="5285160"/>
                      <a:ext cx="78480" cy="32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0" name="Oval 627"/>
                  <p:cNvSpPr/>
                  <p:nvPr/>
                </p:nvSpPr>
                <p:spPr>
                  <a:xfrm flipH="1">
                    <a:off x="7950960" y="5289840"/>
                    <a:ext cx="43920" cy="1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2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628"/>
                  <p:cNvSpPr/>
                  <p:nvPr/>
                </p:nvSpPr>
                <p:spPr>
                  <a:xfrm flipH="1">
                    <a:off x="7944120" y="5285160"/>
                    <a:ext cx="64440" cy="30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2f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629"/>
                  <p:cNvSpPr/>
                  <p:nvPr/>
                </p:nvSpPr>
                <p:spPr>
                  <a:xfrm flipH="1" rot="600000">
                    <a:off x="8006040" y="5229360"/>
                    <a:ext cx="8640" cy="73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6c6c">
                          <a:alpha val="0"/>
                        </a:srgbClr>
                      </a:gs>
                      <a:gs pos="100000">
                        <a:srgbClr val="eaeaea"/>
                      </a:gs>
                    </a:gsLst>
                    <a:lin ang="6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630"/>
                  <p:cNvSpPr/>
                  <p:nvPr/>
                </p:nvSpPr>
                <p:spPr>
                  <a:xfrm flipH="1">
                    <a:off x="7958520" y="5807880"/>
                    <a:ext cx="263880" cy="266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a50021"/>
                      </a:gs>
                      <a:gs pos="100000">
                        <a:srgbClr val="4c000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631"/>
                  <p:cNvSpPr/>
                  <p:nvPr/>
                </p:nvSpPr>
                <p:spPr>
                  <a:xfrm flipH="1">
                    <a:off x="7957800" y="5801400"/>
                    <a:ext cx="235800" cy="45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632"/>
                  <p:cNvSpPr/>
                  <p:nvPr/>
                </p:nvSpPr>
                <p:spPr>
                  <a:xfrm flipH="1">
                    <a:off x="7972200" y="5795280"/>
                    <a:ext cx="235800" cy="45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633"/>
                  <p:cNvSpPr/>
                  <p:nvPr/>
                </p:nvSpPr>
                <p:spPr>
                  <a:xfrm flipH="1">
                    <a:off x="7847640" y="5873400"/>
                    <a:ext cx="484920" cy="3758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cc0000"/>
                      </a:gs>
                      <a:gs pos="50000">
                        <a:srgbClr val="0d0000"/>
                      </a:gs>
                      <a:gs pos="100000">
                        <a:srgbClr val="cc0000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Oval 634"/>
                  <p:cNvSpPr/>
                  <p:nvPr/>
                </p:nvSpPr>
                <p:spPr>
                  <a:xfrm flipH="1" rot="19860600">
                    <a:off x="7833600" y="5873400"/>
                    <a:ext cx="13860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60000"/>
                        </a:srgbClr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AutoShape 635"/>
                  <p:cNvSpPr/>
                  <p:nvPr/>
                </p:nvSpPr>
                <p:spPr>
                  <a:xfrm flipH="1">
                    <a:off x="7889400" y="5898600"/>
                    <a:ext cx="443160" cy="336960"/>
                  </a:xfrm>
                  <a:prstGeom prst="roundRect">
                    <a:avLst>
                      <a:gd name="adj" fmla="val 11463"/>
                    </a:avLst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b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636"/>
                  <p:cNvSpPr/>
                  <p:nvPr/>
                </p:nvSpPr>
                <p:spPr>
                  <a:xfrm flipH="1">
                    <a:off x="8218080" y="5821200"/>
                    <a:ext cx="316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91">
                        <a:moveTo>
                          <a:pt x="52" y="0"/>
                        </a:moveTo>
                        <a:cubicBezTo>
                          <a:pt x="33" y="4"/>
                          <a:pt x="14" y="8"/>
                          <a:pt x="7" y="23"/>
                        </a:cubicBezTo>
                        <a:cubicBezTo>
                          <a:pt x="0" y="38"/>
                          <a:pt x="14" y="80"/>
                          <a:pt x="7" y="91"/>
                        </a:cubicBezTo>
                      </a:path>
                    </a:pathLst>
                  </a:custGeom>
                  <a:noFill/>
                  <a:ln w="6984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Oval 637"/>
                  <p:cNvSpPr/>
                  <p:nvPr/>
                </p:nvSpPr>
                <p:spPr>
                  <a:xfrm flipH="1">
                    <a:off x="8207640" y="5795280"/>
                    <a:ext cx="83520" cy="116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1" name="Group 166"/>
                  <p:cNvGrpSpPr/>
                  <p:nvPr/>
                </p:nvGrpSpPr>
                <p:grpSpPr>
                  <a:xfrm>
                    <a:off x="7904160" y="5821200"/>
                    <a:ext cx="40680" cy="90720"/>
                    <a:chOff x="7904160" y="5821200"/>
                    <a:chExt cx="40680" cy="90720"/>
                  </a:xfrm>
                </p:grpSpPr>
                <p:sp>
                  <p:nvSpPr>
                    <p:cNvPr id="232" name="Freeform 639"/>
                    <p:cNvSpPr/>
                    <p:nvPr/>
                  </p:nvSpPr>
                  <p:spPr>
                    <a:xfrm>
                      <a:off x="7920360" y="5821200"/>
                      <a:ext cx="1836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91">
                          <a:moveTo>
                            <a:pt x="52" y="0"/>
                          </a:moveTo>
                          <a:cubicBezTo>
                            <a:pt x="33" y="4"/>
                            <a:pt x="14" y="8"/>
                            <a:pt x="7" y="23"/>
                          </a:cubicBezTo>
                          <a:cubicBezTo>
                            <a:pt x="0" y="38"/>
                            <a:pt x="14" y="80"/>
                            <a:pt x="7" y="91"/>
                          </a:cubicBezTo>
                        </a:path>
                      </a:pathLst>
                    </a:custGeom>
                    <a:noFill/>
                    <a:ln w="69840">
                      <a:solidFill>
                        <a:srgbClr val="a5002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Oval 640"/>
                    <p:cNvSpPr/>
                    <p:nvPr/>
                  </p:nvSpPr>
                  <p:spPr>
                    <a:xfrm>
                      <a:off x="7904160" y="5834160"/>
                      <a:ext cx="40680" cy="777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0000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Group 169"/>
                  <p:cNvGrpSpPr/>
                  <p:nvPr/>
                </p:nvGrpSpPr>
                <p:grpSpPr>
                  <a:xfrm>
                    <a:off x="7928280" y="5743080"/>
                    <a:ext cx="58680" cy="103320"/>
                    <a:chOff x="7928280" y="5743080"/>
                    <a:chExt cx="58680" cy="103320"/>
                  </a:xfrm>
                </p:grpSpPr>
                <p:sp>
                  <p:nvSpPr>
                    <p:cNvPr id="235" name="Freeform 642"/>
                    <p:cNvSpPr/>
                    <p:nvPr/>
                  </p:nvSpPr>
                  <p:spPr>
                    <a:xfrm>
                      <a:off x="7931160" y="5743080"/>
                      <a:ext cx="4104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374">
                          <a:moveTo>
                            <a:pt x="34" y="23"/>
                          </a:moveTo>
                          <a:cubicBezTo>
                            <a:pt x="34" y="46"/>
                            <a:pt x="11" y="106"/>
                            <a:pt x="11" y="159"/>
                          </a:cubicBezTo>
                          <a:cubicBezTo>
                            <a:pt x="11" y="212"/>
                            <a:pt x="23" y="306"/>
                            <a:pt x="34" y="340"/>
                          </a:cubicBezTo>
                          <a:cubicBezTo>
                            <a:pt x="45" y="374"/>
                            <a:pt x="60" y="359"/>
                            <a:pt x="79" y="363"/>
                          </a:cubicBezTo>
                          <a:cubicBezTo>
                            <a:pt x="98" y="367"/>
                            <a:pt x="129" y="367"/>
                            <a:pt x="148" y="363"/>
                          </a:cubicBezTo>
                          <a:cubicBezTo>
                            <a:pt x="167" y="359"/>
                            <a:pt x="182" y="348"/>
                            <a:pt x="193" y="340"/>
                          </a:cubicBezTo>
                          <a:cubicBezTo>
                            <a:pt x="204" y="332"/>
                            <a:pt x="212" y="326"/>
                            <a:pt x="216" y="318"/>
                          </a:cubicBezTo>
                          <a:cubicBezTo>
                            <a:pt x="220" y="310"/>
                            <a:pt x="220" y="303"/>
                            <a:pt x="216" y="295"/>
                          </a:cubicBezTo>
                          <a:cubicBezTo>
                            <a:pt x="212" y="287"/>
                            <a:pt x="201" y="287"/>
                            <a:pt x="193" y="272"/>
                          </a:cubicBezTo>
                          <a:cubicBezTo>
                            <a:pt x="185" y="257"/>
                            <a:pt x="174" y="227"/>
                            <a:pt x="170" y="204"/>
                          </a:cubicBezTo>
                          <a:cubicBezTo>
                            <a:pt x="166" y="181"/>
                            <a:pt x="177" y="162"/>
                            <a:pt x="170" y="136"/>
                          </a:cubicBezTo>
                          <a:cubicBezTo>
                            <a:pt x="163" y="110"/>
                            <a:pt x="136" y="64"/>
                            <a:pt x="125" y="45"/>
                          </a:cubicBezTo>
                          <a:cubicBezTo>
                            <a:pt x="114" y="26"/>
                            <a:pt x="121" y="27"/>
                            <a:pt x="102" y="23"/>
                          </a:cubicBezTo>
                          <a:cubicBezTo>
                            <a:pt x="83" y="19"/>
                            <a:pt x="22" y="23"/>
                            <a:pt x="11" y="23"/>
                          </a:cubicBezTo>
                          <a:cubicBezTo>
                            <a:pt x="0" y="23"/>
                            <a:pt x="34" y="0"/>
                            <a:pt x="34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Oval 643"/>
                    <p:cNvSpPr/>
                    <p:nvPr/>
                  </p:nvSpPr>
                  <p:spPr>
                    <a:xfrm rot="21000000">
                      <a:off x="7942680" y="5820480"/>
                      <a:ext cx="1800" cy="2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Oval 644"/>
                    <p:cNvSpPr/>
                    <p:nvPr/>
                  </p:nvSpPr>
                  <p:spPr>
                    <a:xfrm rot="21000000">
                      <a:off x="7950960" y="5820480"/>
                      <a:ext cx="1800" cy="2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Oval 645"/>
                    <p:cNvSpPr/>
                    <p:nvPr/>
                  </p:nvSpPr>
                  <p:spPr>
                    <a:xfrm rot="21000000">
                      <a:off x="7958520" y="5815800"/>
                      <a:ext cx="1800" cy="2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Oval 646"/>
                    <p:cNvSpPr/>
                    <p:nvPr/>
                  </p:nvSpPr>
                  <p:spPr>
                    <a:xfrm rot="20760000">
                      <a:off x="7961400" y="5811120"/>
                      <a:ext cx="1800" cy="21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Oval 647"/>
                    <p:cNvSpPr/>
                    <p:nvPr/>
                  </p:nvSpPr>
                  <p:spPr>
                    <a:xfrm rot="20888400">
                      <a:off x="7962120" y="5824440"/>
                      <a:ext cx="7200" cy="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Oval 648"/>
                    <p:cNvSpPr/>
                    <p:nvPr/>
                  </p:nvSpPr>
                  <p:spPr>
                    <a:xfrm rot="20632200">
                      <a:off x="7931160" y="5808240"/>
                      <a:ext cx="34560" cy="25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39393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649"/>
                    <p:cNvSpPr/>
                    <p:nvPr/>
                  </p:nvSpPr>
                  <p:spPr>
                    <a:xfrm>
                      <a:off x="7949160" y="5748120"/>
                      <a:ext cx="3780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336">
                          <a:moveTo>
                            <a:pt x="11" y="30"/>
                          </a:moveTo>
                          <a:cubicBezTo>
                            <a:pt x="15" y="41"/>
                            <a:pt x="23" y="45"/>
                            <a:pt x="34" y="75"/>
                          </a:cubicBezTo>
                          <a:cubicBezTo>
                            <a:pt x="45" y="105"/>
                            <a:pt x="68" y="181"/>
                            <a:pt x="79" y="211"/>
                          </a:cubicBezTo>
                          <a:cubicBezTo>
                            <a:pt x="90" y="241"/>
                            <a:pt x="91" y="237"/>
                            <a:pt x="102" y="256"/>
                          </a:cubicBezTo>
                          <a:cubicBezTo>
                            <a:pt x="113" y="275"/>
                            <a:pt x="128" y="314"/>
                            <a:pt x="147" y="325"/>
                          </a:cubicBezTo>
                          <a:cubicBezTo>
                            <a:pt x="166" y="336"/>
                            <a:pt x="208" y="329"/>
                            <a:pt x="215" y="325"/>
                          </a:cubicBezTo>
                          <a:cubicBezTo>
                            <a:pt x="222" y="321"/>
                            <a:pt x="200" y="306"/>
                            <a:pt x="192" y="302"/>
                          </a:cubicBezTo>
                          <a:cubicBezTo>
                            <a:pt x="184" y="298"/>
                            <a:pt x="177" y="310"/>
                            <a:pt x="170" y="302"/>
                          </a:cubicBezTo>
                          <a:cubicBezTo>
                            <a:pt x="163" y="294"/>
                            <a:pt x="158" y="279"/>
                            <a:pt x="147" y="256"/>
                          </a:cubicBezTo>
                          <a:cubicBezTo>
                            <a:pt x="136" y="233"/>
                            <a:pt x="113" y="196"/>
                            <a:pt x="102" y="166"/>
                          </a:cubicBezTo>
                          <a:cubicBezTo>
                            <a:pt x="91" y="136"/>
                            <a:pt x="94" y="101"/>
                            <a:pt x="79" y="75"/>
                          </a:cubicBezTo>
                          <a:cubicBezTo>
                            <a:pt x="64" y="49"/>
                            <a:pt x="22" y="14"/>
                            <a:pt x="11" y="7"/>
                          </a:cubicBezTo>
                          <a:cubicBezTo>
                            <a:pt x="0" y="0"/>
                            <a:pt x="7" y="19"/>
                            <a:pt x="11" y="3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Oval 650"/>
                    <p:cNvSpPr/>
                    <p:nvPr/>
                  </p:nvSpPr>
                  <p:spPr>
                    <a:xfrm rot="20760000">
                      <a:off x="7957800" y="5768280"/>
                      <a:ext cx="1800" cy="21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ffd9b4">
                            <a:alpha val="4000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Oval 651"/>
                    <p:cNvSpPr/>
                    <p:nvPr/>
                  </p:nvSpPr>
                  <p:spPr>
                    <a:xfrm rot="20888400">
                      <a:off x="7942680" y="5835240"/>
                      <a:ext cx="720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Oval 652"/>
                    <p:cNvSpPr/>
                    <p:nvPr/>
                  </p:nvSpPr>
                  <p:spPr>
                    <a:xfrm rot="20888400">
                      <a:off x="7950960" y="5837040"/>
                      <a:ext cx="684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Oval 653"/>
                    <p:cNvSpPr/>
                    <p:nvPr/>
                  </p:nvSpPr>
                  <p:spPr>
                    <a:xfrm rot="20888400">
                      <a:off x="7958880" y="5835240"/>
                      <a:ext cx="720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Oval 654"/>
                    <p:cNvSpPr/>
                    <p:nvPr/>
                  </p:nvSpPr>
                  <p:spPr>
                    <a:xfrm rot="20888400">
                      <a:off x="7962120" y="5829120"/>
                      <a:ext cx="7200" cy="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183"/>
                  <p:cNvGrpSpPr/>
                  <p:nvPr/>
                </p:nvGrpSpPr>
                <p:grpSpPr>
                  <a:xfrm>
                    <a:off x="8181360" y="5743080"/>
                    <a:ext cx="57600" cy="103320"/>
                    <a:chOff x="8181360" y="5743080"/>
                    <a:chExt cx="57600" cy="103320"/>
                  </a:xfrm>
                </p:grpSpPr>
                <p:sp>
                  <p:nvSpPr>
                    <p:cNvPr id="249" name="Freeform 656"/>
                    <p:cNvSpPr/>
                    <p:nvPr/>
                  </p:nvSpPr>
                  <p:spPr>
                    <a:xfrm flipH="1">
                      <a:off x="8195760" y="5743080"/>
                      <a:ext cx="3996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374">
                          <a:moveTo>
                            <a:pt x="34" y="23"/>
                          </a:moveTo>
                          <a:cubicBezTo>
                            <a:pt x="34" y="46"/>
                            <a:pt x="11" y="106"/>
                            <a:pt x="11" y="159"/>
                          </a:cubicBezTo>
                          <a:cubicBezTo>
                            <a:pt x="11" y="212"/>
                            <a:pt x="23" y="306"/>
                            <a:pt x="34" y="340"/>
                          </a:cubicBezTo>
                          <a:cubicBezTo>
                            <a:pt x="45" y="374"/>
                            <a:pt x="60" y="359"/>
                            <a:pt x="79" y="363"/>
                          </a:cubicBezTo>
                          <a:cubicBezTo>
                            <a:pt x="98" y="367"/>
                            <a:pt x="129" y="367"/>
                            <a:pt x="148" y="363"/>
                          </a:cubicBezTo>
                          <a:cubicBezTo>
                            <a:pt x="167" y="359"/>
                            <a:pt x="182" y="348"/>
                            <a:pt x="193" y="340"/>
                          </a:cubicBezTo>
                          <a:cubicBezTo>
                            <a:pt x="204" y="332"/>
                            <a:pt x="212" y="326"/>
                            <a:pt x="216" y="318"/>
                          </a:cubicBezTo>
                          <a:cubicBezTo>
                            <a:pt x="220" y="310"/>
                            <a:pt x="220" y="303"/>
                            <a:pt x="216" y="295"/>
                          </a:cubicBezTo>
                          <a:cubicBezTo>
                            <a:pt x="212" y="287"/>
                            <a:pt x="201" y="287"/>
                            <a:pt x="193" y="272"/>
                          </a:cubicBezTo>
                          <a:cubicBezTo>
                            <a:pt x="185" y="257"/>
                            <a:pt x="174" y="227"/>
                            <a:pt x="170" y="204"/>
                          </a:cubicBezTo>
                          <a:cubicBezTo>
                            <a:pt x="166" y="181"/>
                            <a:pt x="177" y="162"/>
                            <a:pt x="170" y="136"/>
                          </a:cubicBezTo>
                          <a:cubicBezTo>
                            <a:pt x="163" y="110"/>
                            <a:pt x="136" y="64"/>
                            <a:pt x="125" y="45"/>
                          </a:cubicBezTo>
                          <a:cubicBezTo>
                            <a:pt x="114" y="26"/>
                            <a:pt x="121" y="27"/>
                            <a:pt x="102" y="23"/>
                          </a:cubicBezTo>
                          <a:cubicBezTo>
                            <a:pt x="83" y="19"/>
                            <a:pt x="22" y="23"/>
                            <a:pt x="11" y="23"/>
                          </a:cubicBezTo>
                          <a:cubicBezTo>
                            <a:pt x="0" y="23"/>
                            <a:pt x="34" y="0"/>
                            <a:pt x="34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Oval 657"/>
                    <p:cNvSpPr/>
                    <p:nvPr/>
                  </p:nvSpPr>
                  <p:spPr>
                    <a:xfrm flipH="1" rot="600000">
                      <a:off x="8222040" y="5820480"/>
                      <a:ext cx="1440" cy="2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Oval 658"/>
                    <p:cNvSpPr/>
                    <p:nvPr/>
                  </p:nvSpPr>
                  <p:spPr>
                    <a:xfrm flipH="1" rot="600000">
                      <a:off x="8214120" y="5820480"/>
                      <a:ext cx="1440" cy="2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Oval 659"/>
                    <p:cNvSpPr/>
                    <p:nvPr/>
                  </p:nvSpPr>
                  <p:spPr>
                    <a:xfrm flipH="1" rot="600000">
                      <a:off x="8207280" y="5815800"/>
                      <a:ext cx="1440" cy="2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Oval 660"/>
                    <p:cNvSpPr/>
                    <p:nvPr/>
                  </p:nvSpPr>
                  <p:spPr>
                    <a:xfrm flipH="1" rot="840000">
                      <a:off x="8203680" y="5811120"/>
                      <a:ext cx="1800" cy="21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Oval 661"/>
                    <p:cNvSpPr/>
                    <p:nvPr/>
                  </p:nvSpPr>
                  <p:spPr>
                    <a:xfrm flipH="1" rot="711600">
                      <a:off x="8197920" y="5824440"/>
                      <a:ext cx="7200" cy="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662"/>
                    <p:cNvSpPr/>
                    <p:nvPr/>
                  </p:nvSpPr>
                  <p:spPr>
                    <a:xfrm flipH="1" rot="967800">
                      <a:off x="8202240" y="5807880"/>
                      <a:ext cx="33840" cy="25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39393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663"/>
                    <p:cNvSpPr/>
                    <p:nvPr/>
                  </p:nvSpPr>
                  <p:spPr>
                    <a:xfrm flipH="1">
                      <a:off x="8181000" y="5748120"/>
                      <a:ext cx="3708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336">
                          <a:moveTo>
                            <a:pt x="11" y="30"/>
                          </a:moveTo>
                          <a:cubicBezTo>
                            <a:pt x="15" y="41"/>
                            <a:pt x="23" y="45"/>
                            <a:pt x="34" y="75"/>
                          </a:cubicBezTo>
                          <a:cubicBezTo>
                            <a:pt x="45" y="105"/>
                            <a:pt x="68" y="181"/>
                            <a:pt x="79" y="211"/>
                          </a:cubicBezTo>
                          <a:cubicBezTo>
                            <a:pt x="90" y="241"/>
                            <a:pt x="91" y="237"/>
                            <a:pt x="102" y="256"/>
                          </a:cubicBezTo>
                          <a:cubicBezTo>
                            <a:pt x="113" y="275"/>
                            <a:pt x="128" y="314"/>
                            <a:pt x="147" y="325"/>
                          </a:cubicBezTo>
                          <a:cubicBezTo>
                            <a:pt x="166" y="336"/>
                            <a:pt x="208" y="329"/>
                            <a:pt x="215" y="325"/>
                          </a:cubicBezTo>
                          <a:cubicBezTo>
                            <a:pt x="222" y="321"/>
                            <a:pt x="200" y="306"/>
                            <a:pt x="192" y="302"/>
                          </a:cubicBezTo>
                          <a:cubicBezTo>
                            <a:pt x="184" y="298"/>
                            <a:pt x="177" y="310"/>
                            <a:pt x="170" y="302"/>
                          </a:cubicBezTo>
                          <a:cubicBezTo>
                            <a:pt x="163" y="294"/>
                            <a:pt x="158" y="279"/>
                            <a:pt x="147" y="256"/>
                          </a:cubicBezTo>
                          <a:cubicBezTo>
                            <a:pt x="136" y="233"/>
                            <a:pt x="113" y="196"/>
                            <a:pt x="102" y="166"/>
                          </a:cubicBezTo>
                          <a:cubicBezTo>
                            <a:pt x="91" y="136"/>
                            <a:pt x="94" y="101"/>
                            <a:pt x="79" y="75"/>
                          </a:cubicBezTo>
                          <a:cubicBezTo>
                            <a:pt x="64" y="49"/>
                            <a:pt x="22" y="14"/>
                            <a:pt x="11" y="7"/>
                          </a:cubicBezTo>
                          <a:cubicBezTo>
                            <a:pt x="0" y="0"/>
                            <a:pt x="7" y="19"/>
                            <a:pt x="11" y="3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664"/>
                    <p:cNvSpPr/>
                    <p:nvPr/>
                  </p:nvSpPr>
                  <p:spPr>
                    <a:xfrm flipH="1" rot="840000">
                      <a:off x="8207280" y="5768280"/>
                      <a:ext cx="1440" cy="21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ffd9b4">
                            <a:alpha val="4000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Oval 665"/>
                    <p:cNvSpPr/>
                    <p:nvPr/>
                  </p:nvSpPr>
                  <p:spPr>
                    <a:xfrm flipH="1" rot="711600">
                      <a:off x="8216640" y="5835240"/>
                      <a:ext cx="720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Oval 666"/>
                    <p:cNvSpPr/>
                    <p:nvPr/>
                  </p:nvSpPr>
                  <p:spPr>
                    <a:xfrm flipH="1" rot="711600">
                      <a:off x="8209440" y="5837040"/>
                      <a:ext cx="648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Oval 667"/>
                    <p:cNvSpPr/>
                    <p:nvPr/>
                  </p:nvSpPr>
                  <p:spPr>
                    <a:xfrm flipH="1" rot="711600">
                      <a:off x="8200800" y="5835240"/>
                      <a:ext cx="720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Oval 668"/>
                    <p:cNvSpPr/>
                    <p:nvPr/>
                  </p:nvSpPr>
                  <p:spPr>
                    <a:xfrm flipH="1" rot="711600">
                      <a:off x="8197920" y="5829120"/>
                      <a:ext cx="7200" cy="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2" name="AutoShape 669"/>
                  <p:cNvSpPr/>
                  <p:nvPr/>
                </p:nvSpPr>
                <p:spPr>
                  <a:xfrm flipH="1">
                    <a:off x="7972920" y="6003000"/>
                    <a:ext cx="23508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AutoShape 670"/>
                  <p:cNvSpPr/>
                  <p:nvPr/>
                </p:nvSpPr>
                <p:spPr>
                  <a:xfrm flipH="1">
                    <a:off x="8028360" y="6003000"/>
                    <a:ext cx="1659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Oval 671"/>
                  <p:cNvSpPr/>
                  <p:nvPr/>
                </p:nvSpPr>
                <p:spPr>
                  <a:xfrm flipH="1">
                    <a:off x="7973280" y="5833800"/>
                    <a:ext cx="55440" cy="5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Oval 672"/>
                  <p:cNvSpPr/>
                  <p:nvPr/>
                </p:nvSpPr>
                <p:spPr>
                  <a:xfrm flipH="1">
                    <a:off x="8041320" y="5704560"/>
                    <a:ext cx="5580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AutoShape 673"/>
                  <p:cNvSpPr/>
                  <p:nvPr/>
                </p:nvSpPr>
                <p:spPr>
                  <a:xfrm flipH="1">
                    <a:off x="8041680" y="5989680"/>
                    <a:ext cx="20808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blipFill rotWithShape="0">
                    <a:blip r:embed="rId9">
                      <a:alphaModFix amt="40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AutoShape 674"/>
                  <p:cNvSpPr/>
                  <p:nvPr/>
                </p:nvSpPr>
                <p:spPr>
                  <a:xfrm flipH="1">
                    <a:off x="8249400" y="5937480"/>
                    <a:ext cx="414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AutoShape 675"/>
                  <p:cNvSpPr/>
                  <p:nvPr/>
                </p:nvSpPr>
                <p:spPr>
                  <a:xfrm flipH="1">
                    <a:off x="8249400" y="6145200"/>
                    <a:ext cx="414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676"/>
                  <p:cNvSpPr/>
                  <p:nvPr/>
                </p:nvSpPr>
                <p:spPr>
                  <a:xfrm flipH="1">
                    <a:off x="7917120" y="5937480"/>
                    <a:ext cx="414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AutoShape 677"/>
                  <p:cNvSpPr/>
                  <p:nvPr/>
                </p:nvSpPr>
                <p:spPr>
                  <a:xfrm flipH="1">
                    <a:off x="7917120" y="6145200"/>
                    <a:ext cx="414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206"/>
                <p:cNvGrpSpPr/>
                <p:nvPr/>
              </p:nvGrpSpPr>
              <p:grpSpPr>
                <a:xfrm>
                  <a:off x="7993440" y="4974840"/>
                  <a:ext cx="214920" cy="129960"/>
                  <a:chOff x="7993440" y="4974840"/>
                  <a:chExt cx="214920" cy="129960"/>
                </a:xfrm>
              </p:grpSpPr>
              <p:grpSp>
                <p:nvGrpSpPr>
                  <p:cNvPr id="272" name="Group 207"/>
                  <p:cNvGrpSpPr/>
                  <p:nvPr/>
                </p:nvGrpSpPr>
                <p:grpSpPr>
                  <a:xfrm>
                    <a:off x="8146800" y="4974840"/>
                    <a:ext cx="48240" cy="36000"/>
                    <a:chOff x="8146800" y="4974840"/>
                    <a:chExt cx="48240" cy="36000"/>
                  </a:xfrm>
                </p:grpSpPr>
                <p:sp>
                  <p:nvSpPr>
                    <p:cNvPr id="273" name="Oval 680"/>
                    <p:cNvSpPr/>
                    <p:nvPr/>
                  </p:nvSpPr>
                  <p:spPr>
                    <a:xfrm flipH="1">
                      <a:off x="8146440" y="4974840"/>
                      <a:ext cx="38520" cy="36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2125"/>
                        </a:gs>
                        <a:gs pos="100000">
                          <a:srgbClr val="180f11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880" bIns="-20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681"/>
                    <p:cNvSpPr/>
                    <p:nvPr/>
                  </p:nvSpPr>
                  <p:spPr>
                    <a:xfrm>
                      <a:off x="8156160" y="4983480"/>
                      <a:ext cx="3888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102">
                          <a:moveTo>
                            <a:pt x="4" y="52"/>
                          </a:moveTo>
                          <a:cubicBezTo>
                            <a:pt x="0" y="37"/>
                            <a:pt x="31" y="14"/>
                            <a:pt x="50" y="7"/>
                          </a:cubicBezTo>
                          <a:cubicBezTo>
                            <a:pt x="69" y="0"/>
                            <a:pt x="99" y="0"/>
                            <a:pt x="118" y="7"/>
                          </a:cubicBezTo>
                          <a:cubicBezTo>
                            <a:pt x="137" y="14"/>
                            <a:pt x="171" y="37"/>
                            <a:pt x="163" y="52"/>
                          </a:cubicBezTo>
                          <a:cubicBezTo>
                            <a:pt x="155" y="67"/>
                            <a:pt x="98" y="94"/>
                            <a:pt x="72" y="98"/>
                          </a:cubicBezTo>
                          <a:cubicBezTo>
                            <a:pt x="46" y="102"/>
                            <a:pt x="8" y="67"/>
                            <a:pt x="4" y="52"/>
                          </a:cubicBez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210"/>
                  <p:cNvGrpSpPr/>
                  <p:nvPr/>
                </p:nvGrpSpPr>
                <p:grpSpPr>
                  <a:xfrm>
                    <a:off x="8006760" y="4982760"/>
                    <a:ext cx="47160" cy="36000"/>
                    <a:chOff x="8006760" y="4982760"/>
                    <a:chExt cx="47160" cy="36000"/>
                  </a:xfrm>
                </p:grpSpPr>
                <p:sp>
                  <p:nvSpPr>
                    <p:cNvPr id="276" name="Oval 683"/>
                    <p:cNvSpPr/>
                    <p:nvPr/>
                  </p:nvSpPr>
                  <p:spPr>
                    <a:xfrm>
                      <a:off x="8016120" y="4982760"/>
                      <a:ext cx="37800" cy="36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2125"/>
                        </a:gs>
                        <a:gs pos="100000">
                          <a:srgbClr val="180f11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880" bIns="-20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84"/>
                    <p:cNvSpPr/>
                    <p:nvPr/>
                  </p:nvSpPr>
                  <p:spPr>
                    <a:xfrm flipH="1">
                      <a:off x="8006760" y="4991400"/>
                      <a:ext cx="38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102">
                          <a:moveTo>
                            <a:pt x="4" y="52"/>
                          </a:moveTo>
                          <a:cubicBezTo>
                            <a:pt x="0" y="37"/>
                            <a:pt x="31" y="14"/>
                            <a:pt x="50" y="7"/>
                          </a:cubicBezTo>
                          <a:cubicBezTo>
                            <a:pt x="69" y="0"/>
                            <a:pt x="99" y="0"/>
                            <a:pt x="118" y="7"/>
                          </a:cubicBezTo>
                          <a:cubicBezTo>
                            <a:pt x="137" y="14"/>
                            <a:pt x="171" y="37"/>
                            <a:pt x="163" y="52"/>
                          </a:cubicBezTo>
                          <a:cubicBezTo>
                            <a:pt x="155" y="67"/>
                            <a:pt x="98" y="94"/>
                            <a:pt x="72" y="98"/>
                          </a:cubicBezTo>
                          <a:cubicBezTo>
                            <a:pt x="46" y="102"/>
                            <a:pt x="8" y="67"/>
                            <a:pt x="4" y="52"/>
                          </a:cubicBez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8" name="Oval 685"/>
                  <p:cNvSpPr/>
                  <p:nvPr/>
                </p:nvSpPr>
                <p:spPr>
                  <a:xfrm flipH="1">
                    <a:off x="8147880" y="5007600"/>
                    <a:ext cx="60120" cy="56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a3262">
                          <a:alpha val="70196"/>
                        </a:srgbClr>
                      </a:gs>
                      <a:gs pos="100000">
                        <a:srgbClr val="ffdeb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9" name="Group 214"/>
                  <p:cNvGrpSpPr/>
                  <p:nvPr/>
                </p:nvGrpSpPr>
                <p:grpSpPr>
                  <a:xfrm>
                    <a:off x="7993440" y="5015880"/>
                    <a:ext cx="60840" cy="56160"/>
                    <a:chOff x="7993440" y="5015880"/>
                    <a:chExt cx="60840" cy="56160"/>
                  </a:xfrm>
                </p:grpSpPr>
                <p:sp>
                  <p:nvSpPr>
                    <p:cNvPr id="280" name="Oval 687"/>
                    <p:cNvSpPr/>
                    <p:nvPr/>
                  </p:nvSpPr>
                  <p:spPr>
                    <a:xfrm flipH="1">
                      <a:off x="7993800" y="5015880"/>
                      <a:ext cx="60480" cy="56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a3262">
                            <a:alpha val="70196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Oval 688"/>
                    <p:cNvSpPr/>
                    <p:nvPr/>
                  </p:nvSpPr>
                  <p:spPr>
                    <a:xfrm flipH="1">
                      <a:off x="7993440" y="5023800"/>
                      <a:ext cx="35280" cy="31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13b59">
                            <a:alpha val="30196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lin ang="189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2" name="AutoShape 689"/>
                  <p:cNvSpPr/>
                  <p:nvPr/>
                </p:nvSpPr>
                <p:spPr>
                  <a:xfrm flipH="1" rot="10800000">
                    <a:off x="8094960" y="5023440"/>
                    <a:ext cx="93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ec0b4"/>
                      </a:gs>
                      <a:gs pos="100000">
                        <a:srgbClr val="f1cdc3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690"/>
                  <p:cNvSpPr/>
                  <p:nvPr/>
                </p:nvSpPr>
                <p:spPr>
                  <a:xfrm flipH="1">
                    <a:off x="8051400" y="4998960"/>
                    <a:ext cx="87480" cy="81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be8dd">
                          <a:alpha val="60000"/>
                        </a:srgbClr>
                      </a:gs>
                      <a:gs pos="100000">
                        <a:srgbClr val="ffffff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4" name="Group 219"/>
                  <p:cNvGrpSpPr/>
                  <p:nvPr/>
                </p:nvGrpSpPr>
                <p:grpSpPr>
                  <a:xfrm>
                    <a:off x="8055000" y="5072400"/>
                    <a:ext cx="87480" cy="32400"/>
                    <a:chOff x="8055000" y="5072400"/>
                    <a:chExt cx="87480" cy="32400"/>
                  </a:xfrm>
                </p:grpSpPr>
                <p:sp>
                  <p:nvSpPr>
                    <p:cNvPr id="285" name="Oval 692"/>
                    <p:cNvSpPr/>
                    <p:nvPr/>
                  </p:nvSpPr>
                  <p:spPr>
                    <a:xfrm flipH="1">
                      <a:off x="8054640" y="5072400"/>
                      <a:ext cx="87480" cy="32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d1a3">
                            <a:alpha val="40000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693"/>
                    <p:cNvSpPr/>
                    <p:nvPr/>
                  </p:nvSpPr>
                  <p:spPr>
                    <a:xfrm flipH="1">
                      <a:off x="8087040" y="5088600"/>
                      <a:ext cx="234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4">
                          <a:moveTo>
                            <a:pt x="0" y="4"/>
                          </a:moveTo>
                          <a:cubicBezTo>
                            <a:pt x="19" y="2"/>
                            <a:pt x="38" y="0"/>
                            <a:pt x="68" y="4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f6d3a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87" name="Rectangle 222"/>
          <p:cNvSpPr/>
          <p:nvPr/>
        </p:nvSpPr>
        <p:spPr>
          <a:xfrm>
            <a:off x="2918160" y="2044800"/>
            <a:ext cx="3115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按什么顺序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2050920" y="1630440"/>
            <a:ext cx="541080" cy="559800"/>
            <a:chOff x="2050920" y="1630440"/>
            <a:chExt cx="541080" cy="559800"/>
          </a:xfrm>
        </p:grpSpPr>
        <p:sp>
          <p:nvSpPr>
            <p:cNvPr id="289" name="Oval 4"/>
            <p:cNvSpPr/>
            <p:nvPr/>
          </p:nvSpPr>
          <p:spPr>
            <a:xfrm>
              <a:off x="2050920" y="1630440"/>
              <a:ext cx="541080" cy="5598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5"/>
            <p:cNvSpPr/>
            <p:nvPr/>
          </p:nvSpPr>
          <p:spPr>
            <a:xfrm>
              <a:off x="2067120" y="1666440"/>
              <a:ext cx="510480" cy="48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6"/>
            <p:cNvSpPr/>
            <p:nvPr/>
          </p:nvSpPr>
          <p:spPr>
            <a:xfrm>
              <a:off x="2095920" y="1704600"/>
              <a:ext cx="448200" cy="42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56"/>
          <p:cNvSpPr/>
          <p:nvPr/>
        </p:nvSpPr>
        <p:spPr>
          <a:xfrm>
            <a:off x="2556000" y="2025720"/>
            <a:ext cx="4572000" cy="0"/>
          </a:xfrm>
          <a:prstGeom prst="line">
            <a:avLst/>
          </a:prstGeom>
          <a:ln cap="rnd" w="28440">
            <a:solidFill>
              <a:srgbClr val="3892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65"/>
          <p:cNvSpPr/>
          <p:nvPr/>
        </p:nvSpPr>
        <p:spPr>
          <a:xfrm>
            <a:off x="1727280" y="1452600"/>
            <a:ext cx="558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讲述一件什么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9"/>
          <p:cNvGrpSpPr/>
          <p:nvPr/>
        </p:nvGrpSpPr>
        <p:grpSpPr>
          <a:xfrm>
            <a:off x="6278040" y="4489560"/>
            <a:ext cx="2793960" cy="2360520"/>
            <a:chOff x="6278040" y="4489560"/>
            <a:chExt cx="2793960" cy="2360520"/>
          </a:xfrm>
        </p:grpSpPr>
        <p:sp>
          <p:nvSpPr>
            <p:cNvPr id="295" name="Oval 479"/>
            <p:cNvSpPr/>
            <p:nvPr/>
          </p:nvSpPr>
          <p:spPr>
            <a:xfrm flipH="1">
              <a:off x="6277680" y="6216840"/>
              <a:ext cx="2793960" cy="633240"/>
            </a:xfrm>
            <a:prstGeom prst="ellipse">
              <a:avLst/>
            </a:prstGeom>
            <a:gradFill rotWithShape="0">
              <a:gsLst>
                <a:gs pos="0">
                  <a:srgbClr val="005e5c">
                    <a:alpha val="60000"/>
                  </a:srgbClr>
                </a:gs>
                <a:gs pos="100000">
                  <a:srgbClr val="00363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80"/>
            <p:cNvSpPr/>
            <p:nvPr/>
          </p:nvSpPr>
          <p:spPr>
            <a:xfrm flipH="1">
              <a:off x="8300880" y="4489560"/>
              <a:ext cx="447840" cy="417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81"/>
            <p:cNvSpPr/>
            <p:nvPr/>
          </p:nvSpPr>
          <p:spPr>
            <a:xfrm flipH="1">
              <a:off x="8312760" y="4516560"/>
              <a:ext cx="422280" cy="35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82"/>
            <p:cNvSpPr/>
            <p:nvPr/>
          </p:nvSpPr>
          <p:spPr>
            <a:xfrm flipH="1">
              <a:off x="8340480" y="4545000"/>
              <a:ext cx="371520" cy="31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483"/>
            <p:cNvSpPr/>
            <p:nvPr/>
          </p:nvSpPr>
          <p:spPr>
            <a:xfrm flipH="1" rot="20880000">
              <a:off x="8420040" y="4590720"/>
              <a:ext cx="209520" cy="192240"/>
            </a:xfrm>
            <a:custGeom>
              <a:avLst/>
              <a:gdLst/>
              <a:ahLst/>
              <a:rect l="l" t="t" r="r" b="b"/>
              <a:pathLst>
                <a:path w="132" h="121">
                  <a:moveTo>
                    <a:pt x="0" y="46"/>
                  </a:moveTo>
                  <a:lnTo>
                    <a:pt x="50" y="46"/>
                  </a:lnTo>
                  <a:lnTo>
                    <a:pt x="66" y="0"/>
                  </a:lnTo>
                  <a:lnTo>
                    <a:pt x="82" y="46"/>
                  </a:lnTo>
                  <a:lnTo>
                    <a:pt x="132" y="46"/>
                  </a:lnTo>
                  <a:lnTo>
                    <a:pt x="91" y="75"/>
                  </a:lnTo>
                  <a:lnTo>
                    <a:pt x="107" y="121"/>
                  </a:lnTo>
                  <a:lnTo>
                    <a:pt x="66" y="92"/>
                  </a:lnTo>
                  <a:lnTo>
                    <a:pt x="25" y="121"/>
                  </a:lnTo>
                  <a:lnTo>
                    <a:pt x="41" y="75"/>
                  </a:lnTo>
                  <a:lnTo>
                    <a:pt x="0" y="46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84"/>
            <p:cNvSpPr/>
            <p:nvPr/>
          </p:nvSpPr>
          <p:spPr>
            <a:xfrm flipH="1">
              <a:off x="8364240" y="6316920"/>
              <a:ext cx="338400" cy="10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485"/>
            <p:cNvSpPr/>
            <p:nvPr/>
          </p:nvSpPr>
          <p:spPr>
            <a:xfrm flipH="1">
              <a:off x="8532720" y="4907160"/>
              <a:ext cx="92160" cy="1338120"/>
            </a:xfrm>
            <a:custGeom>
              <a:avLst/>
              <a:gdLst/>
              <a:ahLst/>
              <a:rect l="l" t="t" r="r" b="b"/>
              <a:pathLst>
                <a:path w="151" h="2291">
                  <a:moveTo>
                    <a:pt x="105" y="0"/>
                  </a:moveTo>
                  <a:cubicBezTo>
                    <a:pt x="90" y="70"/>
                    <a:pt x="75" y="140"/>
                    <a:pt x="60" y="295"/>
                  </a:cubicBezTo>
                  <a:cubicBezTo>
                    <a:pt x="45" y="450"/>
                    <a:pt x="0" y="597"/>
                    <a:pt x="15" y="930"/>
                  </a:cubicBezTo>
                  <a:cubicBezTo>
                    <a:pt x="30" y="1263"/>
                    <a:pt x="121" y="2068"/>
                    <a:pt x="151" y="2291"/>
                  </a:cubicBezTo>
                </a:path>
              </a:pathLst>
            </a:custGeom>
            <a:noFill/>
            <a:ln w="3492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27"/>
            <p:cNvGrpSpPr/>
            <p:nvPr/>
          </p:nvGrpSpPr>
          <p:grpSpPr>
            <a:xfrm>
              <a:off x="8470800" y="6230880"/>
              <a:ext cx="123840" cy="130320"/>
              <a:chOff x="8470800" y="6230880"/>
              <a:chExt cx="123840" cy="130320"/>
            </a:xfrm>
          </p:grpSpPr>
          <p:sp>
            <p:nvSpPr>
              <p:cNvPr id="303" name="Freeform 500"/>
              <p:cNvSpPr/>
              <p:nvPr/>
            </p:nvSpPr>
            <p:spPr>
              <a:xfrm flipH="1">
                <a:off x="8470800" y="6230880"/>
                <a:ext cx="123840" cy="65520"/>
              </a:xfrm>
              <a:custGeom>
                <a:avLst/>
                <a:gdLst/>
                <a:ahLst/>
                <a:rect l="l" t="t" r="r" b="b"/>
                <a:pathLst>
                  <a:path w="839" h="485">
                    <a:moveTo>
                      <a:pt x="250" y="9"/>
                    </a:moveTo>
                    <a:lnTo>
                      <a:pt x="545" y="0"/>
                    </a:lnTo>
                    <a:lnTo>
                      <a:pt x="839" y="485"/>
                    </a:lnTo>
                    <a:lnTo>
                      <a:pt x="0" y="485"/>
                    </a:lnTo>
                    <a:lnTo>
                      <a:pt x="250" y="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01"/>
              <p:cNvSpPr/>
              <p:nvPr/>
            </p:nvSpPr>
            <p:spPr>
              <a:xfrm flipH="1">
                <a:off x="8470800" y="6296400"/>
                <a:ext cx="123840" cy="64800"/>
              </a:xfrm>
              <a:prstGeom prst="rect">
                <a:avLst/>
              </a:pr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30"/>
            <p:cNvGrpSpPr/>
            <p:nvPr/>
          </p:nvGrpSpPr>
          <p:grpSpPr>
            <a:xfrm>
              <a:off x="7801920" y="4776840"/>
              <a:ext cx="545040" cy="1866960"/>
              <a:chOff x="7801920" y="4776840"/>
              <a:chExt cx="545040" cy="1866960"/>
            </a:xfrm>
          </p:grpSpPr>
          <p:sp>
            <p:nvSpPr>
              <p:cNvPr id="306" name="AutoShape 503"/>
              <p:cNvSpPr/>
              <p:nvPr/>
            </p:nvSpPr>
            <p:spPr>
              <a:xfrm flipH="1">
                <a:off x="7899480" y="6442560"/>
                <a:ext cx="370800" cy="201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504"/>
              <p:cNvSpPr/>
              <p:nvPr/>
            </p:nvSpPr>
            <p:spPr>
              <a:xfrm flipH="1">
                <a:off x="7992720" y="6470280"/>
                <a:ext cx="184680" cy="100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utoShape 505"/>
              <p:cNvSpPr/>
              <p:nvPr/>
            </p:nvSpPr>
            <p:spPr>
              <a:xfrm rot="13156800">
                <a:off x="8100360" y="6471000"/>
                <a:ext cx="47520" cy="115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593" y="21600"/>
                    </a:lnTo>
                    <a:lnTo>
                      <a:pt x="1800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AutoShape 506"/>
              <p:cNvSpPr/>
              <p:nvPr/>
            </p:nvSpPr>
            <p:spPr>
              <a:xfrm flipH="1">
                <a:off x="8132760" y="6340680"/>
                <a:ext cx="50760" cy="15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494" y="21600"/>
                    </a:lnTo>
                    <a:lnTo>
                      <a:pt x="181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ebd"/>
                  </a:gs>
                  <a:gs pos="100000">
                    <a:srgbClr val="fff1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507"/>
              <p:cNvSpPr/>
              <p:nvPr/>
            </p:nvSpPr>
            <p:spPr>
              <a:xfrm flipH="1">
                <a:off x="8146800" y="6471000"/>
                <a:ext cx="43200" cy="43200"/>
              </a:xfrm>
              <a:prstGeom prst="ellipse">
                <a:avLst/>
              </a:prstGeom>
              <a:gradFill rotWithShape="0">
                <a:gsLst>
                  <a:gs pos="0">
                    <a:srgbClr val="ffecd9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AutoShape 508"/>
              <p:cNvSpPr/>
              <p:nvPr/>
            </p:nvSpPr>
            <p:spPr>
              <a:xfrm flipH="1" rot="8443200">
                <a:off x="8023320" y="6470640"/>
                <a:ext cx="47520" cy="135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593" y="21600"/>
                    </a:lnTo>
                    <a:lnTo>
                      <a:pt x="1800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AutoShape 509"/>
              <p:cNvSpPr/>
              <p:nvPr/>
            </p:nvSpPr>
            <p:spPr>
              <a:xfrm>
                <a:off x="7980840" y="6338520"/>
                <a:ext cx="56160" cy="15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3494" y="21600"/>
                    </a:lnTo>
                    <a:lnTo>
                      <a:pt x="181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ebd"/>
                  </a:gs>
                  <a:gs pos="100000">
                    <a:srgbClr val="fff1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Oval 510"/>
              <p:cNvSpPr/>
              <p:nvPr/>
            </p:nvSpPr>
            <p:spPr>
              <a:xfrm>
                <a:off x="7980120" y="6471000"/>
                <a:ext cx="43200" cy="43200"/>
              </a:xfrm>
              <a:prstGeom prst="ellipse">
                <a:avLst/>
              </a:prstGeom>
              <a:gradFill rotWithShape="0">
                <a:gsLst>
                  <a:gs pos="0">
                    <a:srgbClr val="ffecd9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511"/>
              <p:cNvSpPr/>
              <p:nvPr/>
            </p:nvSpPr>
            <p:spPr>
              <a:xfrm flipH="1">
                <a:off x="8069760" y="6542640"/>
                <a:ext cx="46080" cy="57600"/>
              </a:xfrm>
              <a:prstGeom prst="ellipse">
                <a:avLst/>
              </a:prstGeom>
              <a:gradFill rotWithShape="0">
                <a:gsLst>
                  <a:gs pos="0">
                    <a:srgbClr val="ffe4c9"/>
                  </a:gs>
                  <a:gs pos="100000">
                    <a:srgbClr val="ffe4c9">
                      <a:alpha val="85098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512"/>
              <p:cNvSpPr/>
              <p:nvPr/>
            </p:nvSpPr>
            <p:spPr>
              <a:xfrm flipH="1">
                <a:off x="8069400" y="6542640"/>
                <a:ext cx="61560" cy="43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6" name="Group 41"/>
              <p:cNvGrpSpPr/>
              <p:nvPr/>
            </p:nvGrpSpPr>
            <p:grpSpPr>
              <a:xfrm>
                <a:off x="7801920" y="4776840"/>
                <a:ext cx="545040" cy="1590480"/>
                <a:chOff x="7801920" y="4776840"/>
                <a:chExt cx="545040" cy="1590480"/>
              </a:xfrm>
            </p:grpSpPr>
            <p:grpSp>
              <p:nvGrpSpPr>
                <p:cNvPr id="317" name="Group 42"/>
                <p:cNvGrpSpPr/>
                <p:nvPr/>
              </p:nvGrpSpPr>
              <p:grpSpPr>
                <a:xfrm>
                  <a:off x="7801920" y="4776840"/>
                  <a:ext cx="545040" cy="1590480"/>
                  <a:chOff x="7801920" y="4776840"/>
                  <a:chExt cx="545040" cy="1590480"/>
                </a:xfrm>
              </p:grpSpPr>
              <p:sp>
                <p:nvSpPr>
                  <p:cNvPr id="318" name="Oval 515"/>
                  <p:cNvSpPr/>
                  <p:nvPr/>
                </p:nvSpPr>
                <p:spPr>
                  <a:xfrm flipH="1">
                    <a:off x="7868880" y="4885920"/>
                    <a:ext cx="456840" cy="15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AutoShape 516"/>
                  <p:cNvSpPr/>
                  <p:nvPr/>
                </p:nvSpPr>
                <p:spPr>
                  <a:xfrm flipH="1">
                    <a:off x="7953840" y="4910040"/>
                    <a:ext cx="301680" cy="60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2065" y="21600"/>
                        </a:lnTo>
                        <a:lnTo>
                          <a:pt x="1953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332125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517"/>
                  <p:cNvSpPr/>
                  <p:nvPr/>
                </p:nvSpPr>
                <p:spPr>
                  <a:xfrm flipH="1">
                    <a:off x="7834320" y="5367240"/>
                    <a:ext cx="512640" cy="10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0" h="1505">
                        <a:moveTo>
                          <a:pt x="265" y="117"/>
                        </a:moveTo>
                        <a:cubicBezTo>
                          <a:pt x="314" y="75"/>
                          <a:pt x="416" y="140"/>
                          <a:pt x="491" y="140"/>
                        </a:cubicBezTo>
                        <a:cubicBezTo>
                          <a:pt x="566" y="140"/>
                          <a:pt x="673" y="117"/>
                          <a:pt x="718" y="117"/>
                        </a:cubicBezTo>
                        <a:cubicBezTo>
                          <a:pt x="763" y="117"/>
                          <a:pt x="726" y="0"/>
                          <a:pt x="764" y="140"/>
                        </a:cubicBezTo>
                        <a:cubicBezTo>
                          <a:pt x="802" y="280"/>
                          <a:pt x="907" y="772"/>
                          <a:pt x="945" y="957"/>
                        </a:cubicBezTo>
                        <a:cubicBezTo>
                          <a:pt x="983" y="1142"/>
                          <a:pt x="979" y="1176"/>
                          <a:pt x="990" y="1251"/>
                        </a:cubicBezTo>
                        <a:cubicBezTo>
                          <a:pt x="1001" y="1326"/>
                          <a:pt x="1020" y="1376"/>
                          <a:pt x="1013" y="1410"/>
                        </a:cubicBezTo>
                        <a:cubicBezTo>
                          <a:pt x="1006" y="1444"/>
                          <a:pt x="1005" y="1441"/>
                          <a:pt x="945" y="1456"/>
                        </a:cubicBezTo>
                        <a:cubicBezTo>
                          <a:pt x="885" y="1471"/>
                          <a:pt x="760" y="1497"/>
                          <a:pt x="650" y="1501"/>
                        </a:cubicBezTo>
                        <a:cubicBezTo>
                          <a:pt x="540" y="1505"/>
                          <a:pt x="389" y="1485"/>
                          <a:pt x="287" y="1478"/>
                        </a:cubicBezTo>
                        <a:cubicBezTo>
                          <a:pt x="185" y="1471"/>
                          <a:pt x="76" y="1486"/>
                          <a:pt x="38" y="1456"/>
                        </a:cubicBezTo>
                        <a:cubicBezTo>
                          <a:pt x="0" y="1426"/>
                          <a:pt x="45" y="1361"/>
                          <a:pt x="60" y="1297"/>
                        </a:cubicBezTo>
                        <a:cubicBezTo>
                          <a:pt x="75" y="1233"/>
                          <a:pt x="113" y="1168"/>
                          <a:pt x="128" y="1070"/>
                        </a:cubicBezTo>
                        <a:cubicBezTo>
                          <a:pt x="143" y="972"/>
                          <a:pt x="140" y="820"/>
                          <a:pt x="151" y="707"/>
                        </a:cubicBezTo>
                        <a:cubicBezTo>
                          <a:pt x="162" y="594"/>
                          <a:pt x="178" y="488"/>
                          <a:pt x="197" y="390"/>
                        </a:cubicBezTo>
                        <a:cubicBezTo>
                          <a:pt x="216" y="292"/>
                          <a:pt x="216" y="159"/>
                          <a:pt x="265" y="11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33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Oval 518"/>
                  <p:cNvSpPr/>
                  <p:nvPr/>
                </p:nvSpPr>
                <p:spPr>
                  <a:xfrm flipH="1">
                    <a:off x="7819920" y="6210000"/>
                    <a:ext cx="346680" cy="77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3b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Rectangle 519"/>
                  <p:cNvSpPr/>
                  <p:nvPr/>
                </p:nvSpPr>
                <p:spPr>
                  <a:xfrm flipH="1">
                    <a:off x="7958520" y="5457960"/>
                    <a:ext cx="263880" cy="298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>
                          <a:alpha val="4117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Oval 520"/>
                  <p:cNvSpPr/>
                  <p:nvPr/>
                </p:nvSpPr>
                <p:spPr>
                  <a:xfrm flipH="1">
                    <a:off x="7996680" y="5047920"/>
                    <a:ext cx="227160" cy="42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AutoShape 521"/>
                  <p:cNvSpPr/>
                  <p:nvPr/>
                </p:nvSpPr>
                <p:spPr>
                  <a:xfrm flipH="1" rot="10800000">
                    <a:off x="8085240" y="5097240"/>
                    <a:ext cx="34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100000">
                        <a:srgbClr val="fff1e3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Oval 522"/>
                  <p:cNvSpPr/>
                  <p:nvPr/>
                </p:nvSpPr>
                <p:spPr>
                  <a:xfrm flipH="1" rot="21363000">
                    <a:off x="7862040" y="4900320"/>
                    <a:ext cx="469800" cy="115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560" bIns="345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523"/>
                  <p:cNvSpPr/>
                  <p:nvPr/>
                </p:nvSpPr>
                <p:spPr>
                  <a:xfrm flipH="1">
                    <a:off x="7992360" y="4828680"/>
                    <a:ext cx="214200" cy="28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debd"/>
                      </a:gs>
                      <a:gs pos="100000">
                        <a:srgbClr val="fff1e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Freeform 524"/>
                  <p:cNvSpPr/>
                  <p:nvPr/>
                </p:nvSpPr>
                <p:spPr>
                  <a:xfrm flipH="1">
                    <a:off x="7953120" y="4776840"/>
                    <a:ext cx="3207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918" h="628">
                        <a:moveTo>
                          <a:pt x="64" y="454"/>
                        </a:moveTo>
                        <a:cubicBezTo>
                          <a:pt x="0" y="416"/>
                          <a:pt x="57" y="424"/>
                          <a:pt x="64" y="386"/>
                        </a:cubicBezTo>
                        <a:cubicBezTo>
                          <a:pt x="71" y="348"/>
                          <a:pt x="83" y="276"/>
                          <a:pt x="109" y="227"/>
                        </a:cubicBezTo>
                        <a:cubicBezTo>
                          <a:pt x="135" y="178"/>
                          <a:pt x="165" y="125"/>
                          <a:pt x="222" y="91"/>
                        </a:cubicBezTo>
                        <a:cubicBezTo>
                          <a:pt x="279" y="57"/>
                          <a:pt x="385" y="34"/>
                          <a:pt x="449" y="23"/>
                        </a:cubicBezTo>
                        <a:cubicBezTo>
                          <a:pt x="513" y="12"/>
                          <a:pt x="547" y="0"/>
                          <a:pt x="608" y="23"/>
                        </a:cubicBezTo>
                        <a:cubicBezTo>
                          <a:pt x="669" y="46"/>
                          <a:pt x="763" y="110"/>
                          <a:pt x="812" y="159"/>
                        </a:cubicBezTo>
                        <a:cubicBezTo>
                          <a:pt x="861" y="208"/>
                          <a:pt x="888" y="261"/>
                          <a:pt x="903" y="318"/>
                        </a:cubicBezTo>
                        <a:cubicBezTo>
                          <a:pt x="918" y="375"/>
                          <a:pt x="918" y="461"/>
                          <a:pt x="903" y="499"/>
                        </a:cubicBezTo>
                        <a:cubicBezTo>
                          <a:pt x="888" y="537"/>
                          <a:pt x="888" y="526"/>
                          <a:pt x="812" y="545"/>
                        </a:cubicBezTo>
                        <a:cubicBezTo>
                          <a:pt x="736" y="564"/>
                          <a:pt x="577" y="628"/>
                          <a:pt x="449" y="613"/>
                        </a:cubicBezTo>
                        <a:cubicBezTo>
                          <a:pt x="321" y="598"/>
                          <a:pt x="128" y="492"/>
                          <a:pt x="64" y="45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Oval 525"/>
                  <p:cNvSpPr/>
                  <p:nvPr/>
                </p:nvSpPr>
                <p:spPr>
                  <a:xfrm flipH="1" rot="21238800">
                    <a:off x="8116200" y="4827600"/>
                    <a:ext cx="148680" cy="97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76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9" name="Group 54"/>
                  <p:cNvGrpSpPr/>
                  <p:nvPr/>
                </p:nvGrpSpPr>
                <p:grpSpPr>
                  <a:xfrm>
                    <a:off x="8055360" y="4779000"/>
                    <a:ext cx="106560" cy="49680"/>
                    <a:chOff x="8055360" y="4779000"/>
                    <a:chExt cx="106560" cy="49680"/>
                  </a:xfrm>
                </p:grpSpPr>
                <p:sp>
                  <p:nvSpPr>
                    <p:cNvPr id="330" name="Freeform 527"/>
                    <p:cNvSpPr/>
                    <p:nvPr/>
                  </p:nvSpPr>
                  <p:spPr>
                    <a:xfrm rot="31800">
                      <a:off x="8057160" y="4788000"/>
                      <a:ext cx="1044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124">
                          <a:moveTo>
                            <a:pt x="4" y="45"/>
                          </a:moveTo>
                          <a:cubicBezTo>
                            <a:pt x="0" y="64"/>
                            <a:pt x="42" y="102"/>
                            <a:pt x="72" y="113"/>
                          </a:cubicBezTo>
                          <a:cubicBezTo>
                            <a:pt x="102" y="124"/>
                            <a:pt x="155" y="120"/>
                            <a:pt x="185" y="113"/>
                          </a:cubicBezTo>
                          <a:cubicBezTo>
                            <a:pt x="215" y="106"/>
                            <a:pt x="246" y="83"/>
                            <a:pt x="253" y="68"/>
                          </a:cubicBezTo>
                          <a:cubicBezTo>
                            <a:pt x="260" y="53"/>
                            <a:pt x="257" y="33"/>
                            <a:pt x="230" y="22"/>
                          </a:cubicBezTo>
                          <a:cubicBezTo>
                            <a:pt x="203" y="11"/>
                            <a:pt x="132" y="0"/>
                            <a:pt x="94" y="0"/>
                          </a:cubicBezTo>
                          <a:cubicBezTo>
                            <a:pt x="56" y="0"/>
                            <a:pt x="8" y="26"/>
                            <a:pt x="4" y="45"/>
                          </a:cubicBezTo>
                          <a:close/>
                        </a:path>
                      </a:pathLst>
                    </a:custGeom>
                    <a:solidFill>
                      <a:srgbClr val="d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528"/>
                    <p:cNvSpPr/>
                    <p:nvPr/>
                  </p:nvSpPr>
                  <p:spPr>
                    <a:xfrm rot="31800">
                      <a:off x="8055360" y="4779360"/>
                      <a:ext cx="1044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124">
                          <a:moveTo>
                            <a:pt x="4" y="45"/>
                          </a:moveTo>
                          <a:cubicBezTo>
                            <a:pt x="0" y="64"/>
                            <a:pt x="42" y="102"/>
                            <a:pt x="72" y="113"/>
                          </a:cubicBezTo>
                          <a:cubicBezTo>
                            <a:pt x="102" y="124"/>
                            <a:pt x="155" y="120"/>
                            <a:pt x="185" y="113"/>
                          </a:cubicBezTo>
                          <a:cubicBezTo>
                            <a:pt x="215" y="106"/>
                            <a:pt x="246" y="83"/>
                            <a:pt x="253" y="68"/>
                          </a:cubicBezTo>
                          <a:cubicBezTo>
                            <a:pt x="260" y="53"/>
                            <a:pt x="257" y="33"/>
                            <a:pt x="230" y="22"/>
                          </a:cubicBezTo>
                          <a:cubicBezTo>
                            <a:pt x="203" y="11"/>
                            <a:pt x="132" y="0"/>
                            <a:pt x="94" y="0"/>
                          </a:cubicBezTo>
                          <a:cubicBezTo>
                            <a:pt x="56" y="0"/>
                            <a:pt x="8" y="26"/>
                            <a:pt x="4" y="45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d0000"/>
                        </a:gs>
                        <a:gs pos="100000">
                          <a:srgbClr val="ac0000"/>
                        </a:gs>
                      </a:gsLst>
                      <a:lin ang="4722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2" name="Freeform 529"/>
                  <p:cNvSpPr/>
                  <p:nvPr/>
                </p:nvSpPr>
                <p:spPr>
                  <a:xfrm flipH="1">
                    <a:off x="7947720" y="4902480"/>
                    <a:ext cx="308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01" h="117">
                        <a:moveTo>
                          <a:pt x="0" y="0"/>
                        </a:moveTo>
                        <a:cubicBezTo>
                          <a:pt x="74" y="36"/>
                          <a:pt x="148" y="72"/>
                          <a:pt x="227" y="91"/>
                        </a:cubicBezTo>
                        <a:cubicBezTo>
                          <a:pt x="306" y="110"/>
                          <a:pt x="389" y="117"/>
                          <a:pt x="476" y="113"/>
                        </a:cubicBezTo>
                        <a:cubicBezTo>
                          <a:pt x="563" y="109"/>
                          <a:pt x="695" y="83"/>
                          <a:pt x="748" y="68"/>
                        </a:cubicBezTo>
                        <a:cubicBezTo>
                          <a:pt x="801" y="53"/>
                          <a:pt x="749" y="23"/>
                          <a:pt x="794" y="23"/>
                        </a:cubicBezTo>
                      </a:path>
                    </a:pathLst>
                  </a:custGeom>
                  <a:noFill/>
                  <a:ln w="1908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AutoShape 530"/>
                  <p:cNvSpPr/>
                  <p:nvPr/>
                </p:nvSpPr>
                <p:spPr>
                  <a:xfrm flipH="1">
                    <a:off x="7976880" y="4912560"/>
                    <a:ext cx="262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Oval 531"/>
                  <p:cNvSpPr/>
                  <p:nvPr/>
                </p:nvSpPr>
                <p:spPr>
                  <a:xfrm flipH="1" rot="826800">
                    <a:off x="7976160" y="4933440"/>
                    <a:ext cx="149400" cy="57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76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Oval 532"/>
                  <p:cNvSpPr/>
                  <p:nvPr/>
                </p:nvSpPr>
                <p:spPr>
                  <a:xfrm flipH="1" rot="21198600">
                    <a:off x="8223120" y="4914720"/>
                    <a:ext cx="92880" cy="29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Oval 533"/>
                  <p:cNvSpPr/>
                  <p:nvPr/>
                </p:nvSpPr>
                <p:spPr>
                  <a:xfrm flipH="1" rot="658200">
                    <a:off x="7871040" y="4929840"/>
                    <a:ext cx="114120" cy="33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Freeform 534"/>
                  <p:cNvSpPr/>
                  <p:nvPr/>
                </p:nvSpPr>
                <p:spPr>
                  <a:xfrm flipH="1">
                    <a:off x="7868880" y="4911480"/>
                    <a:ext cx="431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2" h="238">
                        <a:moveTo>
                          <a:pt x="159" y="4"/>
                        </a:moveTo>
                        <a:cubicBezTo>
                          <a:pt x="125" y="8"/>
                          <a:pt x="0" y="42"/>
                          <a:pt x="0" y="49"/>
                        </a:cubicBezTo>
                        <a:cubicBezTo>
                          <a:pt x="0" y="56"/>
                          <a:pt x="99" y="30"/>
                          <a:pt x="159" y="49"/>
                        </a:cubicBezTo>
                        <a:cubicBezTo>
                          <a:pt x="219" y="68"/>
                          <a:pt x="303" y="133"/>
                          <a:pt x="363" y="163"/>
                        </a:cubicBezTo>
                        <a:cubicBezTo>
                          <a:pt x="423" y="193"/>
                          <a:pt x="465" y="224"/>
                          <a:pt x="522" y="231"/>
                        </a:cubicBezTo>
                        <a:cubicBezTo>
                          <a:pt x="579" y="238"/>
                          <a:pt x="646" y="223"/>
                          <a:pt x="703" y="208"/>
                        </a:cubicBezTo>
                        <a:cubicBezTo>
                          <a:pt x="760" y="193"/>
                          <a:pt x="820" y="159"/>
                          <a:pt x="862" y="140"/>
                        </a:cubicBezTo>
                        <a:cubicBezTo>
                          <a:pt x="904" y="121"/>
                          <a:pt x="926" y="106"/>
                          <a:pt x="953" y="95"/>
                        </a:cubicBezTo>
                        <a:cubicBezTo>
                          <a:pt x="980" y="84"/>
                          <a:pt x="995" y="72"/>
                          <a:pt x="1021" y="72"/>
                        </a:cubicBezTo>
                        <a:cubicBezTo>
                          <a:pt x="1047" y="72"/>
                          <a:pt x="1122" y="102"/>
                          <a:pt x="1111" y="95"/>
                        </a:cubicBezTo>
                        <a:cubicBezTo>
                          <a:pt x="1100" y="88"/>
                          <a:pt x="994" y="31"/>
                          <a:pt x="953" y="27"/>
                        </a:cubicBezTo>
                        <a:cubicBezTo>
                          <a:pt x="912" y="23"/>
                          <a:pt x="911" y="61"/>
                          <a:pt x="862" y="72"/>
                        </a:cubicBezTo>
                        <a:cubicBezTo>
                          <a:pt x="813" y="83"/>
                          <a:pt x="730" y="91"/>
                          <a:pt x="658" y="95"/>
                        </a:cubicBezTo>
                        <a:cubicBezTo>
                          <a:pt x="586" y="99"/>
                          <a:pt x="507" y="106"/>
                          <a:pt x="431" y="95"/>
                        </a:cubicBezTo>
                        <a:cubicBezTo>
                          <a:pt x="355" y="84"/>
                          <a:pt x="249" y="42"/>
                          <a:pt x="204" y="27"/>
                        </a:cubicBezTo>
                        <a:cubicBezTo>
                          <a:pt x="159" y="12"/>
                          <a:pt x="193" y="0"/>
                          <a:pt x="159" y="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535"/>
                  <p:cNvSpPr/>
                  <p:nvPr/>
                </p:nvSpPr>
                <p:spPr>
                  <a:xfrm flipH="1">
                    <a:off x="7953480" y="5169240"/>
                    <a:ext cx="28008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760" h="839">
                        <a:moveTo>
                          <a:pt x="250" y="4"/>
                        </a:moveTo>
                        <a:cubicBezTo>
                          <a:pt x="197" y="8"/>
                          <a:pt x="174" y="0"/>
                          <a:pt x="136" y="26"/>
                        </a:cubicBezTo>
                        <a:cubicBezTo>
                          <a:pt x="98" y="52"/>
                          <a:pt x="46" y="117"/>
                          <a:pt x="23" y="162"/>
                        </a:cubicBezTo>
                        <a:cubicBezTo>
                          <a:pt x="0" y="207"/>
                          <a:pt x="0" y="264"/>
                          <a:pt x="0" y="298"/>
                        </a:cubicBezTo>
                        <a:cubicBezTo>
                          <a:pt x="0" y="332"/>
                          <a:pt x="8" y="355"/>
                          <a:pt x="23" y="366"/>
                        </a:cubicBezTo>
                        <a:cubicBezTo>
                          <a:pt x="38" y="377"/>
                          <a:pt x="80" y="309"/>
                          <a:pt x="91" y="366"/>
                        </a:cubicBezTo>
                        <a:cubicBezTo>
                          <a:pt x="102" y="423"/>
                          <a:pt x="98" y="631"/>
                          <a:pt x="91" y="707"/>
                        </a:cubicBezTo>
                        <a:cubicBezTo>
                          <a:pt x="84" y="783"/>
                          <a:pt x="4" y="801"/>
                          <a:pt x="46" y="820"/>
                        </a:cubicBezTo>
                        <a:cubicBezTo>
                          <a:pt x="88" y="839"/>
                          <a:pt x="235" y="820"/>
                          <a:pt x="341" y="820"/>
                        </a:cubicBezTo>
                        <a:cubicBezTo>
                          <a:pt x="447" y="820"/>
                          <a:pt x="632" y="831"/>
                          <a:pt x="681" y="820"/>
                        </a:cubicBezTo>
                        <a:cubicBezTo>
                          <a:pt x="730" y="809"/>
                          <a:pt x="646" y="779"/>
                          <a:pt x="635" y="752"/>
                        </a:cubicBezTo>
                        <a:cubicBezTo>
                          <a:pt x="624" y="725"/>
                          <a:pt x="617" y="725"/>
                          <a:pt x="613" y="661"/>
                        </a:cubicBezTo>
                        <a:cubicBezTo>
                          <a:pt x="609" y="597"/>
                          <a:pt x="602" y="411"/>
                          <a:pt x="613" y="366"/>
                        </a:cubicBezTo>
                        <a:cubicBezTo>
                          <a:pt x="624" y="321"/>
                          <a:pt x="658" y="385"/>
                          <a:pt x="681" y="389"/>
                        </a:cubicBezTo>
                        <a:cubicBezTo>
                          <a:pt x="704" y="393"/>
                          <a:pt x="738" y="408"/>
                          <a:pt x="749" y="389"/>
                        </a:cubicBezTo>
                        <a:cubicBezTo>
                          <a:pt x="760" y="370"/>
                          <a:pt x="757" y="317"/>
                          <a:pt x="749" y="276"/>
                        </a:cubicBezTo>
                        <a:cubicBezTo>
                          <a:pt x="741" y="235"/>
                          <a:pt x="726" y="182"/>
                          <a:pt x="703" y="140"/>
                        </a:cubicBezTo>
                        <a:cubicBezTo>
                          <a:pt x="680" y="98"/>
                          <a:pt x="654" y="49"/>
                          <a:pt x="613" y="26"/>
                        </a:cubicBezTo>
                        <a:cubicBezTo>
                          <a:pt x="572" y="3"/>
                          <a:pt x="514" y="4"/>
                          <a:pt x="454" y="4"/>
                        </a:cubicBezTo>
                        <a:cubicBezTo>
                          <a:pt x="394" y="4"/>
                          <a:pt x="303" y="0"/>
                          <a:pt x="250" y="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9" name="Group 64"/>
                  <p:cNvGrpSpPr/>
                  <p:nvPr/>
                </p:nvGrpSpPr>
                <p:grpSpPr>
                  <a:xfrm>
                    <a:off x="7981200" y="5106240"/>
                    <a:ext cx="167400" cy="135000"/>
                    <a:chOff x="7981200" y="5106240"/>
                    <a:chExt cx="167400" cy="135000"/>
                  </a:xfrm>
                </p:grpSpPr>
                <p:sp>
                  <p:nvSpPr>
                    <p:cNvPr id="340" name="Freeform 537"/>
                    <p:cNvSpPr/>
                    <p:nvPr/>
                  </p:nvSpPr>
                  <p:spPr>
                    <a:xfrm flipH="1" rot="18000000">
                      <a:off x="8017200" y="5094720"/>
                      <a:ext cx="33840" cy="10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344">
                          <a:moveTo>
                            <a:pt x="49" y="23"/>
                          </a:moveTo>
                          <a:cubicBezTo>
                            <a:pt x="34" y="0"/>
                            <a:pt x="34" y="61"/>
                            <a:pt x="27" y="91"/>
                          </a:cubicBezTo>
                          <a:cubicBezTo>
                            <a:pt x="20" y="121"/>
                            <a:pt x="0" y="163"/>
                            <a:pt x="4" y="204"/>
                          </a:cubicBezTo>
                          <a:cubicBezTo>
                            <a:pt x="8" y="245"/>
                            <a:pt x="30" y="336"/>
                            <a:pt x="49" y="340"/>
                          </a:cubicBezTo>
                          <a:cubicBezTo>
                            <a:pt x="68" y="344"/>
                            <a:pt x="117" y="280"/>
                            <a:pt x="117" y="227"/>
                          </a:cubicBezTo>
                          <a:cubicBezTo>
                            <a:pt x="117" y="174"/>
                            <a:pt x="64" y="46"/>
                            <a:pt x="49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006600"/>
                        </a:gs>
                      </a:gsLst>
                      <a:lin ang="1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Oval 538"/>
                    <p:cNvSpPr/>
                    <p:nvPr/>
                  </p:nvSpPr>
                  <p:spPr>
                    <a:xfrm flipH="1" rot="18000000">
                      <a:off x="8007480" y="5109840"/>
                      <a:ext cx="32760" cy="51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0ff89"/>
                        </a:gs>
                        <a:gs pos="100000">
                          <a:srgbClr val="81934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Freeform 539"/>
                    <p:cNvSpPr/>
                    <p:nvPr/>
                  </p:nvSpPr>
                  <p:spPr>
                    <a:xfrm flipH="1" rot="597600">
                      <a:off x="8075160" y="5146200"/>
                      <a:ext cx="702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91">
                          <a:moveTo>
                            <a:pt x="23" y="0"/>
                          </a:moveTo>
                          <a:lnTo>
                            <a:pt x="0" y="46"/>
                          </a:lnTo>
                          <a:lnTo>
                            <a:pt x="46" y="69"/>
                          </a:lnTo>
                          <a:lnTo>
                            <a:pt x="136" y="91"/>
                          </a:lnTo>
                          <a:lnTo>
                            <a:pt x="182" y="69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3300"/>
                        </a:gs>
                      </a:gsLst>
                      <a:lin ang="19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540"/>
                    <p:cNvSpPr/>
                    <p:nvPr/>
                  </p:nvSpPr>
                  <p:spPr>
                    <a:xfrm flipH="1">
                      <a:off x="8058240" y="5163120"/>
                      <a:ext cx="36360" cy="6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344">
                          <a:moveTo>
                            <a:pt x="49" y="23"/>
                          </a:moveTo>
                          <a:cubicBezTo>
                            <a:pt x="34" y="0"/>
                            <a:pt x="34" y="61"/>
                            <a:pt x="27" y="91"/>
                          </a:cubicBezTo>
                          <a:cubicBezTo>
                            <a:pt x="20" y="121"/>
                            <a:pt x="0" y="163"/>
                            <a:pt x="4" y="204"/>
                          </a:cubicBezTo>
                          <a:cubicBezTo>
                            <a:pt x="8" y="245"/>
                            <a:pt x="30" y="336"/>
                            <a:pt x="49" y="340"/>
                          </a:cubicBezTo>
                          <a:cubicBezTo>
                            <a:pt x="68" y="344"/>
                            <a:pt x="117" y="280"/>
                            <a:pt x="117" y="227"/>
                          </a:cubicBezTo>
                          <a:cubicBezTo>
                            <a:pt x="117" y="174"/>
                            <a:pt x="64" y="46"/>
                            <a:pt x="49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Oval 541"/>
                    <p:cNvSpPr/>
                    <p:nvPr/>
                  </p:nvSpPr>
                  <p:spPr>
                    <a:xfrm flipH="1" rot="18000000">
                      <a:off x="8023680" y="5101200"/>
                      <a:ext cx="16560" cy="1047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2f00">
                            <a:alpha val="0"/>
                          </a:srgbClr>
                        </a:gs>
                        <a:gs pos="100000">
                          <a:srgbClr val="006600"/>
                        </a:gs>
                      </a:gsLst>
                      <a:lin ang="1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Oval 542"/>
                    <p:cNvSpPr/>
                    <p:nvPr/>
                  </p:nvSpPr>
                  <p:spPr>
                    <a:xfrm flipH="1">
                      <a:off x="8128440" y="5163120"/>
                      <a:ext cx="864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Oval 543"/>
                    <p:cNvSpPr/>
                    <p:nvPr/>
                  </p:nvSpPr>
                  <p:spPr>
                    <a:xfrm flipH="1">
                      <a:off x="8084880" y="5203800"/>
                      <a:ext cx="864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Oval 544"/>
                    <p:cNvSpPr/>
                    <p:nvPr/>
                  </p:nvSpPr>
                  <p:spPr>
                    <a:xfrm flipH="1">
                      <a:off x="8084520" y="5171400"/>
                      <a:ext cx="828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Oval 545"/>
                    <p:cNvSpPr/>
                    <p:nvPr/>
                  </p:nvSpPr>
                  <p:spPr>
                    <a:xfrm flipH="1">
                      <a:off x="8041320" y="5163120"/>
                      <a:ext cx="864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Oval 546"/>
                    <p:cNvSpPr/>
                    <p:nvPr/>
                  </p:nvSpPr>
                  <p:spPr>
                    <a:xfrm flipH="1">
                      <a:off x="8067600" y="5187600"/>
                      <a:ext cx="8640" cy="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>
                            <a:alpha val="26274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Oval 547"/>
                    <p:cNvSpPr/>
                    <p:nvPr/>
                  </p:nvSpPr>
                  <p:spPr>
                    <a:xfrm flipH="1">
                      <a:off x="8067240" y="5163120"/>
                      <a:ext cx="17280" cy="16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5b4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Oval 548"/>
                    <p:cNvSpPr/>
                    <p:nvPr/>
                  </p:nvSpPr>
                  <p:spPr>
                    <a:xfrm flipH="1" rot="18000000">
                      <a:off x="8056800" y="5198040"/>
                      <a:ext cx="39960" cy="34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0ff89"/>
                        </a:gs>
                        <a:gs pos="100000">
                          <a:srgbClr val="81934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2" name="Oval 549"/>
                  <p:cNvSpPr/>
                  <p:nvPr/>
                </p:nvSpPr>
                <p:spPr>
                  <a:xfrm flipH="1" rot="21000000">
                    <a:off x="8179920" y="5235840"/>
                    <a:ext cx="10440" cy="6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6c6c">
                          <a:alpha val="0"/>
                        </a:srgbClr>
                      </a:gs>
                      <a:gs pos="100000">
                        <a:srgbClr val="eaeaea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3" name="Group 78"/>
                  <p:cNvGrpSpPr/>
                  <p:nvPr/>
                </p:nvGrpSpPr>
                <p:grpSpPr>
                  <a:xfrm>
                    <a:off x="8172720" y="5220000"/>
                    <a:ext cx="17280" cy="15840"/>
                    <a:chOff x="8172720" y="5220000"/>
                    <a:chExt cx="17280" cy="15840"/>
                  </a:xfrm>
                </p:grpSpPr>
                <p:grpSp>
                  <p:nvGrpSpPr>
                    <p:cNvPr id="354" name="Group 79"/>
                    <p:cNvGrpSpPr/>
                    <p:nvPr/>
                  </p:nvGrpSpPr>
                  <p:grpSpPr>
                    <a:xfrm>
                      <a:off x="8172720" y="5220000"/>
                      <a:ext cx="17280" cy="15840"/>
                      <a:chOff x="8172720" y="5220000"/>
                      <a:chExt cx="17280" cy="15840"/>
                    </a:xfrm>
                  </p:grpSpPr>
                  <p:sp>
                    <p:nvSpPr>
                      <p:cNvPr id="355" name="Oval 552"/>
                      <p:cNvSpPr/>
                      <p:nvPr/>
                    </p:nvSpPr>
                    <p:spPr>
                      <a:xfrm flipH="1">
                        <a:off x="8177040" y="5220000"/>
                        <a:ext cx="864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6" name="Oval 553"/>
                      <p:cNvSpPr/>
                      <p:nvPr/>
                    </p:nvSpPr>
                    <p:spPr>
                      <a:xfrm flipH="1">
                        <a:off x="8172720" y="5220000"/>
                        <a:ext cx="1728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7" name="Oval 554"/>
                    <p:cNvSpPr/>
                    <p:nvPr/>
                  </p:nvSpPr>
                  <p:spPr>
                    <a:xfrm flipH="1">
                      <a:off x="8173440" y="5220000"/>
                      <a:ext cx="1620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83"/>
                  <p:cNvGrpSpPr/>
                  <p:nvPr/>
                </p:nvGrpSpPr>
                <p:grpSpPr>
                  <a:xfrm>
                    <a:off x="8101800" y="5309640"/>
                    <a:ext cx="18000" cy="16200"/>
                    <a:chOff x="8101800" y="5309640"/>
                    <a:chExt cx="18000" cy="16200"/>
                  </a:xfrm>
                </p:grpSpPr>
                <p:grpSp>
                  <p:nvGrpSpPr>
                    <p:cNvPr id="359" name="Group 84"/>
                    <p:cNvGrpSpPr/>
                    <p:nvPr/>
                  </p:nvGrpSpPr>
                  <p:grpSpPr>
                    <a:xfrm>
                      <a:off x="8101800" y="5309640"/>
                      <a:ext cx="18000" cy="16200"/>
                      <a:chOff x="8101800" y="5309640"/>
                      <a:chExt cx="18000" cy="16200"/>
                    </a:xfrm>
                  </p:grpSpPr>
                  <p:sp>
                    <p:nvSpPr>
                      <p:cNvPr id="360" name="Oval 557"/>
                      <p:cNvSpPr/>
                      <p:nvPr/>
                    </p:nvSpPr>
                    <p:spPr>
                      <a:xfrm flipH="1">
                        <a:off x="8106120" y="5309640"/>
                        <a:ext cx="900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1" name="Oval 558"/>
                      <p:cNvSpPr/>
                      <p:nvPr/>
                    </p:nvSpPr>
                    <p:spPr>
                      <a:xfrm flipH="1">
                        <a:off x="8101800" y="5309640"/>
                        <a:ext cx="18000" cy="16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920" bIns="-34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62" name="Oval 559"/>
                    <p:cNvSpPr/>
                    <p:nvPr/>
                  </p:nvSpPr>
                  <p:spPr>
                    <a:xfrm flipH="1">
                      <a:off x="8102520" y="5309640"/>
                      <a:ext cx="16920" cy="1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88"/>
                  <p:cNvGrpSpPr/>
                  <p:nvPr/>
                </p:nvGrpSpPr>
                <p:grpSpPr>
                  <a:xfrm>
                    <a:off x="8146080" y="5358240"/>
                    <a:ext cx="17280" cy="16560"/>
                    <a:chOff x="8146080" y="5358240"/>
                    <a:chExt cx="17280" cy="16560"/>
                  </a:xfrm>
                </p:grpSpPr>
                <p:grpSp>
                  <p:nvGrpSpPr>
                    <p:cNvPr id="364" name="Group 89"/>
                    <p:cNvGrpSpPr/>
                    <p:nvPr/>
                  </p:nvGrpSpPr>
                  <p:grpSpPr>
                    <a:xfrm>
                      <a:off x="8146080" y="5358240"/>
                      <a:ext cx="17280" cy="16560"/>
                      <a:chOff x="8146080" y="5358240"/>
                      <a:chExt cx="17280" cy="16560"/>
                    </a:xfrm>
                  </p:grpSpPr>
                  <p:sp>
                    <p:nvSpPr>
                      <p:cNvPr id="365" name="Oval 562"/>
                      <p:cNvSpPr/>
                      <p:nvPr/>
                    </p:nvSpPr>
                    <p:spPr>
                      <a:xfrm flipH="1">
                        <a:off x="8150400" y="5358240"/>
                        <a:ext cx="864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6" name="Oval 563"/>
                      <p:cNvSpPr/>
                      <p:nvPr/>
                    </p:nvSpPr>
                    <p:spPr>
                      <a:xfrm flipH="1">
                        <a:off x="8146080" y="5358240"/>
                        <a:ext cx="17280" cy="16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67" name="Oval 564"/>
                    <p:cNvSpPr/>
                    <p:nvPr/>
                  </p:nvSpPr>
                  <p:spPr>
                    <a:xfrm flipH="1">
                      <a:off x="8146800" y="5358240"/>
                      <a:ext cx="1620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Group 93"/>
                  <p:cNvGrpSpPr/>
                  <p:nvPr/>
                </p:nvGrpSpPr>
                <p:grpSpPr>
                  <a:xfrm>
                    <a:off x="8032320" y="5293080"/>
                    <a:ext cx="17640" cy="16560"/>
                    <a:chOff x="8032320" y="5293080"/>
                    <a:chExt cx="17640" cy="16560"/>
                  </a:xfrm>
                </p:grpSpPr>
                <p:grpSp>
                  <p:nvGrpSpPr>
                    <p:cNvPr id="369" name="Group 94"/>
                    <p:cNvGrpSpPr/>
                    <p:nvPr/>
                  </p:nvGrpSpPr>
                  <p:grpSpPr>
                    <a:xfrm>
                      <a:off x="8032320" y="5293080"/>
                      <a:ext cx="17640" cy="16560"/>
                      <a:chOff x="8032320" y="5293080"/>
                      <a:chExt cx="17640" cy="16560"/>
                    </a:xfrm>
                  </p:grpSpPr>
                  <p:sp>
                    <p:nvSpPr>
                      <p:cNvPr id="370" name="Oval 567"/>
                      <p:cNvSpPr/>
                      <p:nvPr/>
                    </p:nvSpPr>
                    <p:spPr>
                      <a:xfrm flipH="1">
                        <a:off x="8037000" y="5293080"/>
                        <a:ext cx="864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Oval 568"/>
                      <p:cNvSpPr/>
                      <p:nvPr/>
                    </p:nvSpPr>
                    <p:spPr>
                      <a:xfrm flipH="1">
                        <a:off x="8031960" y="5293080"/>
                        <a:ext cx="17640" cy="16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2" name="Oval 569"/>
                    <p:cNvSpPr/>
                    <p:nvPr/>
                  </p:nvSpPr>
                  <p:spPr>
                    <a:xfrm flipH="1">
                      <a:off x="8033400" y="5293080"/>
                      <a:ext cx="16560" cy="14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Group 98"/>
                  <p:cNvGrpSpPr/>
                  <p:nvPr/>
                </p:nvGrpSpPr>
                <p:grpSpPr>
                  <a:xfrm>
                    <a:off x="8101800" y="5220000"/>
                    <a:ext cx="18000" cy="15840"/>
                    <a:chOff x="8101800" y="5220000"/>
                    <a:chExt cx="18000" cy="15840"/>
                  </a:xfrm>
                </p:grpSpPr>
                <p:grpSp>
                  <p:nvGrpSpPr>
                    <p:cNvPr id="374" name="Group 99"/>
                    <p:cNvGrpSpPr/>
                    <p:nvPr/>
                  </p:nvGrpSpPr>
                  <p:grpSpPr>
                    <a:xfrm>
                      <a:off x="8101800" y="5220000"/>
                      <a:ext cx="18000" cy="15840"/>
                      <a:chOff x="8101800" y="5220000"/>
                      <a:chExt cx="18000" cy="15840"/>
                    </a:xfrm>
                  </p:grpSpPr>
                  <p:sp>
                    <p:nvSpPr>
                      <p:cNvPr id="375" name="Oval 572"/>
                      <p:cNvSpPr/>
                      <p:nvPr/>
                    </p:nvSpPr>
                    <p:spPr>
                      <a:xfrm flipH="1">
                        <a:off x="8106120" y="5220000"/>
                        <a:ext cx="900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Oval 573"/>
                      <p:cNvSpPr/>
                      <p:nvPr/>
                    </p:nvSpPr>
                    <p:spPr>
                      <a:xfrm flipH="1">
                        <a:off x="8101800" y="5220000"/>
                        <a:ext cx="1800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7" name="Oval 574"/>
                    <p:cNvSpPr/>
                    <p:nvPr/>
                  </p:nvSpPr>
                  <p:spPr>
                    <a:xfrm flipH="1">
                      <a:off x="8102520" y="5220000"/>
                      <a:ext cx="1692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Group 103"/>
                  <p:cNvGrpSpPr/>
                  <p:nvPr/>
                </p:nvGrpSpPr>
                <p:grpSpPr>
                  <a:xfrm>
                    <a:off x="7962120" y="5244120"/>
                    <a:ext cx="17640" cy="16200"/>
                    <a:chOff x="7962120" y="5244120"/>
                    <a:chExt cx="17640" cy="16200"/>
                  </a:xfrm>
                </p:grpSpPr>
                <p:grpSp>
                  <p:nvGrpSpPr>
                    <p:cNvPr id="379" name="Group 104"/>
                    <p:cNvGrpSpPr/>
                    <p:nvPr/>
                  </p:nvGrpSpPr>
                  <p:grpSpPr>
                    <a:xfrm>
                      <a:off x="7962120" y="5244120"/>
                      <a:ext cx="17640" cy="16200"/>
                      <a:chOff x="7962120" y="5244120"/>
                      <a:chExt cx="17640" cy="16200"/>
                    </a:xfrm>
                  </p:grpSpPr>
                  <p:sp>
                    <p:nvSpPr>
                      <p:cNvPr id="380" name="Oval 577"/>
                      <p:cNvSpPr/>
                      <p:nvPr/>
                    </p:nvSpPr>
                    <p:spPr>
                      <a:xfrm flipH="1">
                        <a:off x="7966800" y="5244120"/>
                        <a:ext cx="864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1" name="Oval 578"/>
                      <p:cNvSpPr/>
                      <p:nvPr/>
                    </p:nvSpPr>
                    <p:spPr>
                      <a:xfrm flipH="1">
                        <a:off x="7961760" y="5244120"/>
                        <a:ext cx="17640" cy="16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920" bIns="-34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82" name="Oval 579"/>
                    <p:cNvSpPr/>
                    <p:nvPr/>
                  </p:nvSpPr>
                  <p:spPr>
                    <a:xfrm flipH="1">
                      <a:off x="7963200" y="5244120"/>
                      <a:ext cx="16560" cy="1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108"/>
                  <p:cNvGrpSpPr/>
                  <p:nvPr/>
                </p:nvGrpSpPr>
                <p:grpSpPr>
                  <a:xfrm>
                    <a:off x="8049960" y="5391360"/>
                    <a:ext cx="16920" cy="15840"/>
                    <a:chOff x="8049960" y="5391360"/>
                    <a:chExt cx="16920" cy="15840"/>
                  </a:xfrm>
                </p:grpSpPr>
                <p:grpSp>
                  <p:nvGrpSpPr>
                    <p:cNvPr id="384" name="Group 109"/>
                    <p:cNvGrpSpPr/>
                    <p:nvPr/>
                  </p:nvGrpSpPr>
                  <p:grpSpPr>
                    <a:xfrm>
                      <a:off x="8049960" y="5391360"/>
                      <a:ext cx="16920" cy="15840"/>
                      <a:chOff x="8049960" y="5391360"/>
                      <a:chExt cx="16920" cy="15840"/>
                    </a:xfrm>
                  </p:grpSpPr>
                  <p:sp>
                    <p:nvSpPr>
                      <p:cNvPr id="385" name="Oval 582"/>
                      <p:cNvSpPr/>
                      <p:nvPr/>
                    </p:nvSpPr>
                    <p:spPr>
                      <a:xfrm flipH="1">
                        <a:off x="8053920" y="5391360"/>
                        <a:ext cx="828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6" name="Oval 583"/>
                      <p:cNvSpPr/>
                      <p:nvPr/>
                    </p:nvSpPr>
                    <p:spPr>
                      <a:xfrm flipH="1">
                        <a:off x="8049600" y="5391360"/>
                        <a:ext cx="1692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87" name="Oval 584"/>
                    <p:cNvSpPr/>
                    <p:nvPr/>
                  </p:nvSpPr>
                  <p:spPr>
                    <a:xfrm flipH="1">
                      <a:off x="8051040" y="5391360"/>
                      <a:ext cx="1584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Group 113"/>
                  <p:cNvGrpSpPr/>
                  <p:nvPr/>
                </p:nvGrpSpPr>
                <p:grpSpPr>
                  <a:xfrm>
                    <a:off x="8172720" y="5423760"/>
                    <a:ext cx="17280" cy="16200"/>
                    <a:chOff x="8172720" y="5423760"/>
                    <a:chExt cx="17280" cy="16200"/>
                  </a:xfrm>
                </p:grpSpPr>
                <p:grpSp>
                  <p:nvGrpSpPr>
                    <p:cNvPr id="389" name="Group 114"/>
                    <p:cNvGrpSpPr/>
                    <p:nvPr/>
                  </p:nvGrpSpPr>
                  <p:grpSpPr>
                    <a:xfrm>
                      <a:off x="8172720" y="5423760"/>
                      <a:ext cx="17280" cy="16200"/>
                      <a:chOff x="8172720" y="5423760"/>
                      <a:chExt cx="17280" cy="16200"/>
                    </a:xfrm>
                  </p:grpSpPr>
                  <p:sp>
                    <p:nvSpPr>
                      <p:cNvPr id="390" name="Oval 587"/>
                      <p:cNvSpPr/>
                      <p:nvPr/>
                    </p:nvSpPr>
                    <p:spPr>
                      <a:xfrm flipH="1">
                        <a:off x="8177040" y="5423760"/>
                        <a:ext cx="864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Oval 588"/>
                      <p:cNvSpPr/>
                      <p:nvPr/>
                    </p:nvSpPr>
                    <p:spPr>
                      <a:xfrm flipH="1">
                        <a:off x="8172720" y="5423760"/>
                        <a:ext cx="17280" cy="16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920" bIns="-34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92" name="Oval 589"/>
                    <p:cNvSpPr/>
                    <p:nvPr/>
                  </p:nvSpPr>
                  <p:spPr>
                    <a:xfrm flipH="1">
                      <a:off x="8173440" y="5423760"/>
                      <a:ext cx="16200" cy="1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118"/>
                  <p:cNvGrpSpPr/>
                  <p:nvPr/>
                </p:nvGrpSpPr>
                <p:grpSpPr>
                  <a:xfrm>
                    <a:off x="8023320" y="5171040"/>
                    <a:ext cx="17640" cy="15840"/>
                    <a:chOff x="8023320" y="5171040"/>
                    <a:chExt cx="17640" cy="15840"/>
                  </a:xfrm>
                </p:grpSpPr>
                <p:grpSp>
                  <p:nvGrpSpPr>
                    <p:cNvPr id="394" name="Group 119"/>
                    <p:cNvGrpSpPr/>
                    <p:nvPr/>
                  </p:nvGrpSpPr>
                  <p:grpSpPr>
                    <a:xfrm>
                      <a:off x="8023320" y="5171040"/>
                      <a:ext cx="17640" cy="15840"/>
                      <a:chOff x="8023320" y="5171040"/>
                      <a:chExt cx="17640" cy="15840"/>
                    </a:xfrm>
                  </p:grpSpPr>
                  <p:sp>
                    <p:nvSpPr>
                      <p:cNvPr id="395" name="Oval 592"/>
                      <p:cNvSpPr/>
                      <p:nvPr/>
                    </p:nvSpPr>
                    <p:spPr>
                      <a:xfrm flipH="1">
                        <a:off x="8028000" y="5171040"/>
                        <a:ext cx="864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6" name="Oval 593"/>
                      <p:cNvSpPr/>
                      <p:nvPr/>
                    </p:nvSpPr>
                    <p:spPr>
                      <a:xfrm flipH="1">
                        <a:off x="8022960" y="5171040"/>
                        <a:ext cx="1764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97" name="Oval 594"/>
                    <p:cNvSpPr/>
                    <p:nvPr/>
                  </p:nvSpPr>
                  <p:spPr>
                    <a:xfrm flipH="1">
                      <a:off x="8024400" y="5171040"/>
                      <a:ext cx="1656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Group 123"/>
                  <p:cNvGrpSpPr/>
                  <p:nvPr/>
                </p:nvGrpSpPr>
                <p:grpSpPr>
                  <a:xfrm>
                    <a:off x="7980120" y="5268960"/>
                    <a:ext cx="17280" cy="16200"/>
                    <a:chOff x="7980120" y="5268960"/>
                    <a:chExt cx="17280" cy="16200"/>
                  </a:xfrm>
                </p:grpSpPr>
                <p:grpSp>
                  <p:nvGrpSpPr>
                    <p:cNvPr id="399" name="Group 124"/>
                    <p:cNvGrpSpPr/>
                    <p:nvPr/>
                  </p:nvGrpSpPr>
                  <p:grpSpPr>
                    <a:xfrm>
                      <a:off x="7980120" y="5268960"/>
                      <a:ext cx="17280" cy="16200"/>
                      <a:chOff x="7980120" y="5268960"/>
                      <a:chExt cx="17280" cy="16200"/>
                    </a:xfrm>
                  </p:grpSpPr>
                  <p:sp>
                    <p:nvSpPr>
                      <p:cNvPr id="400" name="Oval 597"/>
                      <p:cNvSpPr/>
                      <p:nvPr/>
                    </p:nvSpPr>
                    <p:spPr>
                      <a:xfrm flipH="1">
                        <a:off x="7984440" y="5268960"/>
                        <a:ext cx="8640" cy="10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1" name="Oval 598"/>
                      <p:cNvSpPr/>
                      <p:nvPr/>
                    </p:nvSpPr>
                    <p:spPr>
                      <a:xfrm flipH="1">
                        <a:off x="7980120" y="5268960"/>
                        <a:ext cx="17280" cy="16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920" bIns="-34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02" name="Oval 599"/>
                    <p:cNvSpPr/>
                    <p:nvPr/>
                  </p:nvSpPr>
                  <p:spPr>
                    <a:xfrm flipH="1">
                      <a:off x="7980840" y="5268960"/>
                      <a:ext cx="16200" cy="13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720" bIns="-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3" name="Oval 600"/>
                  <p:cNvSpPr/>
                  <p:nvPr/>
                </p:nvSpPr>
                <p:spPr>
                  <a:xfrm flipH="1">
                    <a:off x="7944480" y="5293080"/>
                    <a:ext cx="97200" cy="171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4" name="Group 129"/>
                  <p:cNvGrpSpPr/>
                  <p:nvPr/>
                </p:nvGrpSpPr>
                <p:grpSpPr>
                  <a:xfrm>
                    <a:off x="7988400" y="5432040"/>
                    <a:ext cx="17280" cy="15840"/>
                    <a:chOff x="7988400" y="5432040"/>
                    <a:chExt cx="17280" cy="15840"/>
                  </a:xfrm>
                </p:grpSpPr>
                <p:grpSp>
                  <p:nvGrpSpPr>
                    <p:cNvPr id="405" name="Group 130"/>
                    <p:cNvGrpSpPr/>
                    <p:nvPr/>
                  </p:nvGrpSpPr>
                  <p:grpSpPr>
                    <a:xfrm>
                      <a:off x="7988400" y="5432040"/>
                      <a:ext cx="17280" cy="15840"/>
                      <a:chOff x="7988400" y="5432040"/>
                      <a:chExt cx="17280" cy="15840"/>
                    </a:xfrm>
                  </p:grpSpPr>
                  <p:sp>
                    <p:nvSpPr>
                      <p:cNvPr id="406" name="Oval 603"/>
                      <p:cNvSpPr/>
                      <p:nvPr/>
                    </p:nvSpPr>
                    <p:spPr>
                      <a:xfrm flipH="1">
                        <a:off x="7992720" y="5432040"/>
                        <a:ext cx="864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" name="Oval 604"/>
                      <p:cNvSpPr/>
                      <p:nvPr/>
                    </p:nvSpPr>
                    <p:spPr>
                      <a:xfrm flipH="1">
                        <a:off x="7988400" y="5432040"/>
                        <a:ext cx="1728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08" name="Oval 605"/>
                    <p:cNvSpPr/>
                    <p:nvPr/>
                  </p:nvSpPr>
                  <p:spPr>
                    <a:xfrm flipH="1">
                      <a:off x="7989120" y="5432040"/>
                      <a:ext cx="1620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Oval 606"/>
                  <p:cNvSpPr/>
                  <p:nvPr/>
                </p:nvSpPr>
                <p:spPr>
                  <a:xfrm flipH="1">
                    <a:off x="8163000" y="5301000"/>
                    <a:ext cx="61200" cy="155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be8dd"/>
                      </a:gs>
                      <a:gs pos="100000">
                        <a:srgbClr val="746b66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0" name="Group 135"/>
                  <p:cNvGrpSpPr/>
                  <p:nvPr/>
                </p:nvGrpSpPr>
                <p:grpSpPr>
                  <a:xfrm>
                    <a:off x="8199000" y="5260680"/>
                    <a:ext cx="16920" cy="15840"/>
                    <a:chOff x="8199000" y="5260680"/>
                    <a:chExt cx="16920" cy="15840"/>
                  </a:xfrm>
                </p:grpSpPr>
                <p:grpSp>
                  <p:nvGrpSpPr>
                    <p:cNvPr id="411" name="Group 136"/>
                    <p:cNvGrpSpPr/>
                    <p:nvPr/>
                  </p:nvGrpSpPr>
                  <p:grpSpPr>
                    <a:xfrm>
                      <a:off x="8199000" y="5260680"/>
                      <a:ext cx="16920" cy="15840"/>
                      <a:chOff x="8199000" y="5260680"/>
                      <a:chExt cx="16920" cy="15840"/>
                    </a:xfrm>
                  </p:grpSpPr>
                  <p:sp>
                    <p:nvSpPr>
                      <p:cNvPr id="412" name="Oval 609"/>
                      <p:cNvSpPr/>
                      <p:nvPr/>
                    </p:nvSpPr>
                    <p:spPr>
                      <a:xfrm flipH="1">
                        <a:off x="8202960" y="5260680"/>
                        <a:ext cx="8280" cy="10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6000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240" bIns="-39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3" name="Oval 610"/>
                      <p:cNvSpPr/>
                      <p:nvPr/>
                    </p:nvSpPr>
                    <p:spPr>
                      <a:xfrm flipH="1">
                        <a:off x="8198640" y="5260680"/>
                        <a:ext cx="16920" cy="15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6600"/>
                          </a:gs>
                          <a:gs pos="100000">
                            <a:srgbClr val="002f00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280" bIns="-3528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14" name="Oval 611"/>
                    <p:cNvSpPr/>
                    <p:nvPr/>
                  </p:nvSpPr>
                  <p:spPr>
                    <a:xfrm flipH="1">
                      <a:off x="8200080" y="5260680"/>
                      <a:ext cx="15840" cy="13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0000"/>
                          </a:srgbClr>
                        </a:gs>
                        <a:gs pos="100000">
                          <a:srgbClr val="ffffff">
                            <a:alpha val="2000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080" bIns="-37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5" name="Oval 612"/>
                  <p:cNvSpPr/>
                  <p:nvPr/>
                </p:nvSpPr>
                <p:spPr>
                  <a:xfrm flipH="1">
                    <a:off x="7944480" y="5303160"/>
                    <a:ext cx="61200" cy="154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3e9e5"/>
                      </a:gs>
                      <a:gs pos="100000">
                        <a:srgbClr val="706c6a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Freeform 613"/>
                  <p:cNvSpPr/>
                  <p:nvPr/>
                </p:nvSpPr>
                <p:spPr>
                  <a:xfrm flipH="1">
                    <a:off x="8198280" y="5301720"/>
                    <a:ext cx="3528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429">
                        <a:moveTo>
                          <a:pt x="0" y="0"/>
                        </a:moveTo>
                        <a:lnTo>
                          <a:pt x="23" y="159"/>
                        </a:lnTo>
                        <a:lnTo>
                          <a:pt x="23" y="703"/>
                        </a:lnTo>
                        <a:lnTo>
                          <a:pt x="0" y="1225"/>
                        </a:lnTo>
                        <a:lnTo>
                          <a:pt x="0" y="1429"/>
                        </a:lnTo>
                        <a:lnTo>
                          <a:pt x="68" y="1429"/>
                        </a:lnTo>
                        <a:lnTo>
                          <a:pt x="91" y="885"/>
                        </a:lnTo>
                        <a:lnTo>
                          <a:pt x="114" y="590"/>
                        </a:lnTo>
                        <a:lnTo>
                          <a:pt x="114" y="159"/>
                        </a:lnTo>
                        <a:lnTo>
                          <a:pt x="11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50000">
                        <a:srgbClr val="fff1e3"/>
                      </a:gs>
                      <a:gs pos="100000">
                        <a:srgbClr val="ffdeb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Freeform 614"/>
                  <p:cNvSpPr/>
                  <p:nvPr/>
                </p:nvSpPr>
                <p:spPr>
                  <a:xfrm flipH="1" rot="240000">
                    <a:off x="7937280" y="5302800"/>
                    <a:ext cx="3456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429">
                        <a:moveTo>
                          <a:pt x="0" y="0"/>
                        </a:moveTo>
                        <a:lnTo>
                          <a:pt x="23" y="159"/>
                        </a:lnTo>
                        <a:lnTo>
                          <a:pt x="23" y="703"/>
                        </a:lnTo>
                        <a:lnTo>
                          <a:pt x="0" y="1225"/>
                        </a:lnTo>
                        <a:lnTo>
                          <a:pt x="0" y="1429"/>
                        </a:lnTo>
                        <a:lnTo>
                          <a:pt x="68" y="1429"/>
                        </a:lnTo>
                        <a:lnTo>
                          <a:pt x="91" y="885"/>
                        </a:lnTo>
                        <a:lnTo>
                          <a:pt x="114" y="590"/>
                        </a:lnTo>
                        <a:lnTo>
                          <a:pt x="114" y="159"/>
                        </a:lnTo>
                        <a:lnTo>
                          <a:pt x="11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debd"/>
                      </a:gs>
                      <a:gs pos="50000">
                        <a:srgbClr val="fff1e3"/>
                      </a:gs>
                      <a:gs pos="100000">
                        <a:srgbClr val="ffdebd"/>
                      </a:gs>
                    </a:gsLst>
                    <a:lin ang="56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Oval 615"/>
                  <p:cNvSpPr/>
                  <p:nvPr/>
                </p:nvSpPr>
                <p:spPr>
                  <a:xfrm flipH="1" rot="21238800">
                    <a:off x="7999920" y="5704560"/>
                    <a:ext cx="277200" cy="278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9966"/>
                      </a:gs>
                      <a:gs pos="100000">
                        <a:srgbClr val="1d583b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Oval 616"/>
                  <p:cNvSpPr/>
                  <p:nvPr/>
                </p:nvSpPr>
                <p:spPr>
                  <a:xfrm flipH="1" rot="18000000">
                    <a:off x="7840800" y="6141960"/>
                    <a:ext cx="181440" cy="19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e8a5c"/>
                      </a:gs>
                      <a:gs pos="100000">
                        <a:srgbClr val="1b503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617"/>
                  <p:cNvSpPr/>
                  <p:nvPr/>
                </p:nvSpPr>
                <p:spPr>
                  <a:xfrm flipH="1">
                    <a:off x="8125200" y="6054120"/>
                    <a:ext cx="5508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618"/>
                  <p:cNvSpPr/>
                  <p:nvPr/>
                </p:nvSpPr>
                <p:spPr>
                  <a:xfrm flipH="1">
                    <a:off x="7973280" y="6278040"/>
                    <a:ext cx="5544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619"/>
                  <p:cNvSpPr/>
                  <p:nvPr/>
                </p:nvSpPr>
                <p:spPr>
                  <a:xfrm flipH="1">
                    <a:off x="7860960" y="6183720"/>
                    <a:ext cx="5580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620"/>
                  <p:cNvSpPr/>
                  <p:nvPr/>
                </p:nvSpPr>
                <p:spPr>
                  <a:xfrm flipH="1">
                    <a:off x="8235720" y="6278040"/>
                    <a:ext cx="5544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621"/>
                  <p:cNvSpPr/>
                  <p:nvPr/>
                </p:nvSpPr>
                <p:spPr>
                  <a:xfrm flipH="1">
                    <a:off x="8130960" y="5497560"/>
                    <a:ext cx="49320" cy="4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622"/>
                  <p:cNvSpPr/>
                  <p:nvPr/>
                </p:nvSpPr>
                <p:spPr>
                  <a:xfrm flipH="1">
                    <a:off x="7986960" y="5574960"/>
                    <a:ext cx="5472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623"/>
                  <p:cNvSpPr/>
                  <p:nvPr/>
                </p:nvSpPr>
                <p:spPr>
                  <a:xfrm flipH="1">
                    <a:off x="8139240" y="5679000"/>
                    <a:ext cx="5544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7" name="Group 152"/>
                  <p:cNvGrpSpPr/>
                  <p:nvPr/>
                </p:nvGrpSpPr>
                <p:grpSpPr>
                  <a:xfrm>
                    <a:off x="8171280" y="5285160"/>
                    <a:ext cx="78480" cy="32400"/>
                    <a:chOff x="8171280" y="5285160"/>
                    <a:chExt cx="78480" cy="32400"/>
                  </a:xfrm>
                </p:grpSpPr>
                <p:sp>
                  <p:nvSpPr>
                    <p:cNvPr id="428" name="Oval 625"/>
                    <p:cNvSpPr/>
                    <p:nvPr/>
                  </p:nvSpPr>
                  <p:spPr>
                    <a:xfrm flipH="1">
                      <a:off x="8190720" y="5292720"/>
                      <a:ext cx="39600" cy="15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Oval 626"/>
                    <p:cNvSpPr/>
                    <p:nvPr/>
                  </p:nvSpPr>
                  <p:spPr>
                    <a:xfrm flipH="1">
                      <a:off x="8171280" y="5285160"/>
                      <a:ext cx="78480" cy="32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6600"/>
                        </a:gs>
                        <a:gs pos="100000">
                          <a:srgbClr val="002f00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Oval 627"/>
                  <p:cNvSpPr/>
                  <p:nvPr/>
                </p:nvSpPr>
                <p:spPr>
                  <a:xfrm flipH="1">
                    <a:off x="7950960" y="5289840"/>
                    <a:ext cx="43920" cy="1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2f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628"/>
                  <p:cNvSpPr/>
                  <p:nvPr/>
                </p:nvSpPr>
                <p:spPr>
                  <a:xfrm flipH="1">
                    <a:off x="7944120" y="5285160"/>
                    <a:ext cx="64440" cy="30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002f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629"/>
                  <p:cNvSpPr/>
                  <p:nvPr/>
                </p:nvSpPr>
                <p:spPr>
                  <a:xfrm flipH="1" rot="600000">
                    <a:off x="8006040" y="5229360"/>
                    <a:ext cx="8640" cy="73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6c6c">
                          <a:alpha val="0"/>
                        </a:srgbClr>
                      </a:gs>
                      <a:gs pos="100000">
                        <a:srgbClr val="eaeaea"/>
                      </a:gs>
                    </a:gsLst>
                    <a:lin ang="6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AutoShape 630"/>
                  <p:cNvSpPr/>
                  <p:nvPr/>
                </p:nvSpPr>
                <p:spPr>
                  <a:xfrm flipH="1">
                    <a:off x="7958520" y="5807880"/>
                    <a:ext cx="263880" cy="266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a50021"/>
                      </a:gs>
                      <a:gs pos="100000">
                        <a:srgbClr val="4c000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631"/>
                  <p:cNvSpPr/>
                  <p:nvPr/>
                </p:nvSpPr>
                <p:spPr>
                  <a:xfrm flipH="1">
                    <a:off x="7957800" y="5801400"/>
                    <a:ext cx="235800" cy="45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632"/>
                  <p:cNvSpPr/>
                  <p:nvPr/>
                </p:nvSpPr>
                <p:spPr>
                  <a:xfrm flipH="1">
                    <a:off x="7972200" y="5795280"/>
                    <a:ext cx="235800" cy="45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AutoShape 633"/>
                  <p:cNvSpPr/>
                  <p:nvPr/>
                </p:nvSpPr>
                <p:spPr>
                  <a:xfrm flipH="1">
                    <a:off x="7847640" y="5873400"/>
                    <a:ext cx="484920" cy="3758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cc0000"/>
                      </a:gs>
                      <a:gs pos="50000">
                        <a:srgbClr val="0d0000"/>
                      </a:gs>
                      <a:gs pos="100000">
                        <a:srgbClr val="cc0000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634"/>
                  <p:cNvSpPr/>
                  <p:nvPr/>
                </p:nvSpPr>
                <p:spPr>
                  <a:xfrm flipH="1" rot="19860600">
                    <a:off x="7833600" y="5873400"/>
                    <a:ext cx="138600" cy="5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60000"/>
                        </a:srgbClr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AutoShape 635"/>
                  <p:cNvSpPr/>
                  <p:nvPr/>
                </p:nvSpPr>
                <p:spPr>
                  <a:xfrm flipH="1">
                    <a:off x="7889400" y="5898600"/>
                    <a:ext cx="443160" cy="336960"/>
                  </a:xfrm>
                  <a:prstGeom prst="roundRect">
                    <a:avLst>
                      <a:gd name="adj" fmla="val 11463"/>
                    </a:avLst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b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Freeform 636"/>
                  <p:cNvSpPr/>
                  <p:nvPr/>
                </p:nvSpPr>
                <p:spPr>
                  <a:xfrm flipH="1">
                    <a:off x="8218080" y="5821200"/>
                    <a:ext cx="316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91">
                        <a:moveTo>
                          <a:pt x="52" y="0"/>
                        </a:moveTo>
                        <a:cubicBezTo>
                          <a:pt x="33" y="4"/>
                          <a:pt x="14" y="8"/>
                          <a:pt x="7" y="23"/>
                        </a:cubicBezTo>
                        <a:cubicBezTo>
                          <a:pt x="0" y="38"/>
                          <a:pt x="14" y="80"/>
                          <a:pt x="7" y="91"/>
                        </a:cubicBezTo>
                      </a:path>
                    </a:pathLst>
                  </a:custGeom>
                  <a:noFill/>
                  <a:ln w="6984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Oval 637"/>
                  <p:cNvSpPr/>
                  <p:nvPr/>
                </p:nvSpPr>
                <p:spPr>
                  <a:xfrm flipH="1">
                    <a:off x="8207640" y="5795280"/>
                    <a:ext cx="83520" cy="116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1" name="Group 166"/>
                  <p:cNvGrpSpPr/>
                  <p:nvPr/>
                </p:nvGrpSpPr>
                <p:grpSpPr>
                  <a:xfrm>
                    <a:off x="7904160" y="5821200"/>
                    <a:ext cx="40680" cy="90720"/>
                    <a:chOff x="7904160" y="5821200"/>
                    <a:chExt cx="40680" cy="90720"/>
                  </a:xfrm>
                </p:grpSpPr>
                <p:sp>
                  <p:nvSpPr>
                    <p:cNvPr id="442" name="Freeform 639"/>
                    <p:cNvSpPr/>
                    <p:nvPr/>
                  </p:nvSpPr>
                  <p:spPr>
                    <a:xfrm>
                      <a:off x="7920360" y="5821200"/>
                      <a:ext cx="1836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91">
                          <a:moveTo>
                            <a:pt x="52" y="0"/>
                          </a:moveTo>
                          <a:cubicBezTo>
                            <a:pt x="33" y="4"/>
                            <a:pt x="14" y="8"/>
                            <a:pt x="7" y="23"/>
                          </a:cubicBezTo>
                          <a:cubicBezTo>
                            <a:pt x="0" y="38"/>
                            <a:pt x="14" y="80"/>
                            <a:pt x="7" y="91"/>
                          </a:cubicBezTo>
                        </a:path>
                      </a:pathLst>
                    </a:custGeom>
                    <a:noFill/>
                    <a:ln w="69840">
                      <a:solidFill>
                        <a:srgbClr val="a5002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Oval 640"/>
                    <p:cNvSpPr/>
                    <p:nvPr/>
                  </p:nvSpPr>
                  <p:spPr>
                    <a:xfrm>
                      <a:off x="7904160" y="5834160"/>
                      <a:ext cx="40680" cy="777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0000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4" name="Group 169"/>
                  <p:cNvGrpSpPr/>
                  <p:nvPr/>
                </p:nvGrpSpPr>
                <p:grpSpPr>
                  <a:xfrm>
                    <a:off x="7928280" y="5743080"/>
                    <a:ext cx="58680" cy="103320"/>
                    <a:chOff x="7928280" y="5743080"/>
                    <a:chExt cx="58680" cy="103320"/>
                  </a:xfrm>
                </p:grpSpPr>
                <p:sp>
                  <p:nvSpPr>
                    <p:cNvPr id="445" name="Freeform 642"/>
                    <p:cNvSpPr/>
                    <p:nvPr/>
                  </p:nvSpPr>
                  <p:spPr>
                    <a:xfrm>
                      <a:off x="7931160" y="5743080"/>
                      <a:ext cx="4104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374">
                          <a:moveTo>
                            <a:pt x="34" y="23"/>
                          </a:moveTo>
                          <a:cubicBezTo>
                            <a:pt x="34" y="46"/>
                            <a:pt x="11" y="106"/>
                            <a:pt x="11" y="159"/>
                          </a:cubicBezTo>
                          <a:cubicBezTo>
                            <a:pt x="11" y="212"/>
                            <a:pt x="23" y="306"/>
                            <a:pt x="34" y="340"/>
                          </a:cubicBezTo>
                          <a:cubicBezTo>
                            <a:pt x="45" y="374"/>
                            <a:pt x="60" y="359"/>
                            <a:pt x="79" y="363"/>
                          </a:cubicBezTo>
                          <a:cubicBezTo>
                            <a:pt x="98" y="367"/>
                            <a:pt x="129" y="367"/>
                            <a:pt x="148" y="363"/>
                          </a:cubicBezTo>
                          <a:cubicBezTo>
                            <a:pt x="167" y="359"/>
                            <a:pt x="182" y="348"/>
                            <a:pt x="193" y="340"/>
                          </a:cubicBezTo>
                          <a:cubicBezTo>
                            <a:pt x="204" y="332"/>
                            <a:pt x="212" y="326"/>
                            <a:pt x="216" y="318"/>
                          </a:cubicBezTo>
                          <a:cubicBezTo>
                            <a:pt x="220" y="310"/>
                            <a:pt x="220" y="303"/>
                            <a:pt x="216" y="295"/>
                          </a:cubicBezTo>
                          <a:cubicBezTo>
                            <a:pt x="212" y="287"/>
                            <a:pt x="201" y="287"/>
                            <a:pt x="193" y="272"/>
                          </a:cubicBezTo>
                          <a:cubicBezTo>
                            <a:pt x="185" y="257"/>
                            <a:pt x="174" y="227"/>
                            <a:pt x="170" y="204"/>
                          </a:cubicBezTo>
                          <a:cubicBezTo>
                            <a:pt x="166" y="181"/>
                            <a:pt x="177" y="162"/>
                            <a:pt x="170" y="136"/>
                          </a:cubicBezTo>
                          <a:cubicBezTo>
                            <a:pt x="163" y="110"/>
                            <a:pt x="136" y="64"/>
                            <a:pt x="125" y="45"/>
                          </a:cubicBezTo>
                          <a:cubicBezTo>
                            <a:pt x="114" y="26"/>
                            <a:pt x="121" y="27"/>
                            <a:pt x="102" y="23"/>
                          </a:cubicBezTo>
                          <a:cubicBezTo>
                            <a:pt x="83" y="19"/>
                            <a:pt x="22" y="23"/>
                            <a:pt x="11" y="23"/>
                          </a:cubicBezTo>
                          <a:cubicBezTo>
                            <a:pt x="0" y="23"/>
                            <a:pt x="34" y="0"/>
                            <a:pt x="34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Oval 643"/>
                    <p:cNvSpPr/>
                    <p:nvPr/>
                  </p:nvSpPr>
                  <p:spPr>
                    <a:xfrm rot="21000000">
                      <a:off x="7942680" y="5820480"/>
                      <a:ext cx="1800" cy="2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Oval 644"/>
                    <p:cNvSpPr/>
                    <p:nvPr/>
                  </p:nvSpPr>
                  <p:spPr>
                    <a:xfrm rot="21000000">
                      <a:off x="7950960" y="5820480"/>
                      <a:ext cx="1800" cy="2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Oval 645"/>
                    <p:cNvSpPr/>
                    <p:nvPr/>
                  </p:nvSpPr>
                  <p:spPr>
                    <a:xfrm rot="21000000">
                      <a:off x="7958520" y="5815800"/>
                      <a:ext cx="1800" cy="2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Oval 646"/>
                    <p:cNvSpPr/>
                    <p:nvPr/>
                  </p:nvSpPr>
                  <p:spPr>
                    <a:xfrm rot="20760000">
                      <a:off x="7961400" y="5811120"/>
                      <a:ext cx="1800" cy="21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Oval 647"/>
                    <p:cNvSpPr/>
                    <p:nvPr/>
                  </p:nvSpPr>
                  <p:spPr>
                    <a:xfrm rot="20888400">
                      <a:off x="7962120" y="5824440"/>
                      <a:ext cx="7200" cy="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Oval 648"/>
                    <p:cNvSpPr/>
                    <p:nvPr/>
                  </p:nvSpPr>
                  <p:spPr>
                    <a:xfrm rot="20632200">
                      <a:off x="7931160" y="5808240"/>
                      <a:ext cx="34560" cy="25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39393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Freeform 649"/>
                    <p:cNvSpPr/>
                    <p:nvPr/>
                  </p:nvSpPr>
                  <p:spPr>
                    <a:xfrm>
                      <a:off x="7949160" y="5748120"/>
                      <a:ext cx="3780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336">
                          <a:moveTo>
                            <a:pt x="11" y="30"/>
                          </a:moveTo>
                          <a:cubicBezTo>
                            <a:pt x="15" y="41"/>
                            <a:pt x="23" y="45"/>
                            <a:pt x="34" y="75"/>
                          </a:cubicBezTo>
                          <a:cubicBezTo>
                            <a:pt x="45" y="105"/>
                            <a:pt x="68" y="181"/>
                            <a:pt x="79" y="211"/>
                          </a:cubicBezTo>
                          <a:cubicBezTo>
                            <a:pt x="90" y="241"/>
                            <a:pt x="91" y="237"/>
                            <a:pt x="102" y="256"/>
                          </a:cubicBezTo>
                          <a:cubicBezTo>
                            <a:pt x="113" y="275"/>
                            <a:pt x="128" y="314"/>
                            <a:pt x="147" y="325"/>
                          </a:cubicBezTo>
                          <a:cubicBezTo>
                            <a:pt x="166" y="336"/>
                            <a:pt x="208" y="329"/>
                            <a:pt x="215" y="325"/>
                          </a:cubicBezTo>
                          <a:cubicBezTo>
                            <a:pt x="222" y="321"/>
                            <a:pt x="200" y="306"/>
                            <a:pt x="192" y="302"/>
                          </a:cubicBezTo>
                          <a:cubicBezTo>
                            <a:pt x="184" y="298"/>
                            <a:pt x="177" y="310"/>
                            <a:pt x="170" y="302"/>
                          </a:cubicBezTo>
                          <a:cubicBezTo>
                            <a:pt x="163" y="294"/>
                            <a:pt x="158" y="279"/>
                            <a:pt x="147" y="256"/>
                          </a:cubicBezTo>
                          <a:cubicBezTo>
                            <a:pt x="136" y="233"/>
                            <a:pt x="113" y="196"/>
                            <a:pt x="102" y="166"/>
                          </a:cubicBezTo>
                          <a:cubicBezTo>
                            <a:pt x="91" y="136"/>
                            <a:pt x="94" y="101"/>
                            <a:pt x="79" y="75"/>
                          </a:cubicBezTo>
                          <a:cubicBezTo>
                            <a:pt x="64" y="49"/>
                            <a:pt x="22" y="14"/>
                            <a:pt x="11" y="7"/>
                          </a:cubicBezTo>
                          <a:cubicBezTo>
                            <a:pt x="0" y="0"/>
                            <a:pt x="7" y="19"/>
                            <a:pt x="11" y="3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Oval 650"/>
                    <p:cNvSpPr/>
                    <p:nvPr/>
                  </p:nvSpPr>
                  <p:spPr>
                    <a:xfrm rot="20760000">
                      <a:off x="7957800" y="5768280"/>
                      <a:ext cx="1800" cy="21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ffd9b4">
                            <a:alpha val="4000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Oval 651"/>
                    <p:cNvSpPr/>
                    <p:nvPr/>
                  </p:nvSpPr>
                  <p:spPr>
                    <a:xfrm rot="20888400">
                      <a:off x="7942680" y="5835240"/>
                      <a:ext cx="720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Oval 652"/>
                    <p:cNvSpPr/>
                    <p:nvPr/>
                  </p:nvSpPr>
                  <p:spPr>
                    <a:xfrm rot="20888400">
                      <a:off x="7950960" y="5837040"/>
                      <a:ext cx="684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Oval 653"/>
                    <p:cNvSpPr/>
                    <p:nvPr/>
                  </p:nvSpPr>
                  <p:spPr>
                    <a:xfrm rot="20888400">
                      <a:off x="7958880" y="5835240"/>
                      <a:ext cx="720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Oval 654"/>
                    <p:cNvSpPr/>
                    <p:nvPr/>
                  </p:nvSpPr>
                  <p:spPr>
                    <a:xfrm rot="20888400">
                      <a:off x="7962120" y="5829120"/>
                      <a:ext cx="7200" cy="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Group 183"/>
                  <p:cNvGrpSpPr/>
                  <p:nvPr/>
                </p:nvGrpSpPr>
                <p:grpSpPr>
                  <a:xfrm>
                    <a:off x="8181360" y="5743080"/>
                    <a:ext cx="57600" cy="103320"/>
                    <a:chOff x="8181360" y="5743080"/>
                    <a:chExt cx="57600" cy="103320"/>
                  </a:xfrm>
                </p:grpSpPr>
                <p:sp>
                  <p:nvSpPr>
                    <p:cNvPr id="459" name="Freeform 656"/>
                    <p:cNvSpPr/>
                    <p:nvPr/>
                  </p:nvSpPr>
                  <p:spPr>
                    <a:xfrm flipH="1">
                      <a:off x="8195760" y="5743080"/>
                      <a:ext cx="3996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374">
                          <a:moveTo>
                            <a:pt x="34" y="23"/>
                          </a:moveTo>
                          <a:cubicBezTo>
                            <a:pt x="34" y="46"/>
                            <a:pt x="11" y="106"/>
                            <a:pt x="11" y="159"/>
                          </a:cubicBezTo>
                          <a:cubicBezTo>
                            <a:pt x="11" y="212"/>
                            <a:pt x="23" y="306"/>
                            <a:pt x="34" y="340"/>
                          </a:cubicBezTo>
                          <a:cubicBezTo>
                            <a:pt x="45" y="374"/>
                            <a:pt x="60" y="359"/>
                            <a:pt x="79" y="363"/>
                          </a:cubicBezTo>
                          <a:cubicBezTo>
                            <a:pt x="98" y="367"/>
                            <a:pt x="129" y="367"/>
                            <a:pt x="148" y="363"/>
                          </a:cubicBezTo>
                          <a:cubicBezTo>
                            <a:pt x="167" y="359"/>
                            <a:pt x="182" y="348"/>
                            <a:pt x="193" y="340"/>
                          </a:cubicBezTo>
                          <a:cubicBezTo>
                            <a:pt x="204" y="332"/>
                            <a:pt x="212" y="326"/>
                            <a:pt x="216" y="318"/>
                          </a:cubicBezTo>
                          <a:cubicBezTo>
                            <a:pt x="220" y="310"/>
                            <a:pt x="220" y="303"/>
                            <a:pt x="216" y="295"/>
                          </a:cubicBezTo>
                          <a:cubicBezTo>
                            <a:pt x="212" y="287"/>
                            <a:pt x="201" y="287"/>
                            <a:pt x="193" y="272"/>
                          </a:cubicBezTo>
                          <a:cubicBezTo>
                            <a:pt x="185" y="257"/>
                            <a:pt x="174" y="227"/>
                            <a:pt x="170" y="204"/>
                          </a:cubicBezTo>
                          <a:cubicBezTo>
                            <a:pt x="166" y="181"/>
                            <a:pt x="177" y="162"/>
                            <a:pt x="170" y="136"/>
                          </a:cubicBezTo>
                          <a:cubicBezTo>
                            <a:pt x="163" y="110"/>
                            <a:pt x="136" y="64"/>
                            <a:pt x="125" y="45"/>
                          </a:cubicBezTo>
                          <a:cubicBezTo>
                            <a:pt x="114" y="26"/>
                            <a:pt x="121" y="27"/>
                            <a:pt x="102" y="23"/>
                          </a:cubicBezTo>
                          <a:cubicBezTo>
                            <a:pt x="83" y="19"/>
                            <a:pt x="22" y="23"/>
                            <a:pt x="11" y="23"/>
                          </a:cubicBezTo>
                          <a:cubicBezTo>
                            <a:pt x="0" y="23"/>
                            <a:pt x="34" y="0"/>
                            <a:pt x="34" y="2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Oval 657"/>
                    <p:cNvSpPr/>
                    <p:nvPr/>
                  </p:nvSpPr>
                  <p:spPr>
                    <a:xfrm flipH="1" rot="600000">
                      <a:off x="8222040" y="5820480"/>
                      <a:ext cx="1440" cy="2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Oval 658"/>
                    <p:cNvSpPr/>
                    <p:nvPr/>
                  </p:nvSpPr>
                  <p:spPr>
                    <a:xfrm flipH="1" rot="600000">
                      <a:off x="8214120" y="5820480"/>
                      <a:ext cx="1440" cy="2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680" bIns="-31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Oval 659"/>
                    <p:cNvSpPr/>
                    <p:nvPr/>
                  </p:nvSpPr>
                  <p:spPr>
                    <a:xfrm flipH="1" rot="600000">
                      <a:off x="8207280" y="5815800"/>
                      <a:ext cx="1440" cy="2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0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Oval 660"/>
                    <p:cNvSpPr/>
                    <p:nvPr/>
                  </p:nvSpPr>
                  <p:spPr>
                    <a:xfrm flipH="1" rot="840000">
                      <a:off x="8203680" y="5811120"/>
                      <a:ext cx="1800" cy="21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dcb084">
                            <a:alpha val="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Oval 661"/>
                    <p:cNvSpPr/>
                    <p:nvPr/>
                  </p:nvSpPr>
                  <p:spPr>
                    <a:xfrm flipH="1" rot="711600">
                      <a:off x="8197920" y="5824440"/>
                      <a:ext cx="7200" cy="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Oval 662"/>
                    <p:cNvSpPr/>
                    <p:nvPr/>
                  </p:nvSpPr>
                  <p:spPr>
                    <a:xfrm flipH="1" rot="967800">
                      <a:off x="8202240" y="5807880"/>
                      <a:ext cx="33840" cy="25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39393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Freeform 663"/>
                    <p:cNvSpPr/>
                    <p:nvPr/>
                  </p:nvSpPr>
                  <p:spPr>
                    <a:xfrm flipH="1">
                      <a:off x="8181000" y="5748120"/>
                      <a:ext cx="3708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336">
                          <a:moveTo>
                            <a:pt x="11" y="30"/>
                          </a:moveTo>
                          <a:cubicBezTo>
                            <a:pt x="15" y="41"/>
                            <a:pt x="23" y="45"/>
                            <a:pt x="34" y="75"/>
                          </a:cubicBezTo>
                          <a:cubicBezTo>
                            <a:pt x="45" y="105"/>
                            <a:pt x="68" y="181"/>
                            <a:pt x="79" y="211"/>
                          </a:cubicBezTo>
                          <a:cubicBezTo>
                            <a:pt x="90" y="241"/>
                            <a:pt x="91" y="237"/>
                            <a:pt x="102" y="256"/>
                          </a:cubicBezTo>
                          <a:cubicBezTo>
                            <a:pt x="113" y="275"/>
                            <a:pt x="128" y="314"/>
                            <a:pt x="147" y="325"/>
                          </a:cubicBezTo>
                          <a:cubicBezTo>
                            <a:pt x="166" y="336"/>
                            <a:pt x="208" y="329"/>
                            <a:pt x="215" y="325"/>
                          </a:cubicBezTo>
                          <a:cubicBezTo>
                            <a:pt x="222" y="321"/>
                            <a:pt x="200" y="306"/>
                            <a:pt x="192" y="302"/>
                          </a:cubicBezTo>
                          <a:cubicBezTo>
                            <a:pt x="184" y="298"/>
                            <a:pt x="177" y="310"/>
                            <a:pt x="170" y="302"/>
                          </a:cubicBezTo>
                          <a:cubicBezTo>
                            <a:pt x="163" y="294"/>
                            <a:pt x="158" y="279"/>
                            <a:pt x="147" y="256"/>
                          </a:cubicBezTo>
                          <a:cubicBezTo>
                            <a:pt x="136" y="233"/>
                            <a:pt x="113" y="196"/>
                            <a:pt x="102" y="166"/>
                          </a:cubicBezTo>
                          <a:cubicBezTo>
                            <a:pt x="91" y="136"/>
                            <a:pt x="94" y="101"/>
                            <a:pt x="79" y="75"/>
                          </a:cubicBezTo>
                          <a:cubicBezTo>
                            <a:pt x="64" y="49"/>
                            <a:pt x="22" y="14"/>
                            <a:pt x="11" y="7"/>
                          </a:cubicBezTo>
                          <a:cubicBezTo>
                            <a:pt x="0" y="0"/>
                            <a:pt x="7" y="19"/>
                            <a:pt x="11" y="3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debd"/>
                        </a:gs>
                        <a:gs pos="100000">
                          <a:srgbClr val="fff1e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Oval 664"/>
                    <p:cNvSpPr/>
                    <p:nvPr/>
                  </p:nvSpPr>
                  <p:spPr>
                    <a:xfrm flipH="1" rot="840000">
                      <a:off x="8207280" y="5768280"/>
                      <a:ext cx="1440" cy="21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cc99">
                            <a:alpha val="30196"/>
                          </a:srgbClr>
                        </a:gs>
                        <a:gs pos="100000">
                          <a:srgbClr val="ffd9b4">
                            <a:alpha val="40000"/>
                          </a:srgbClr>
                        </a:gs>
                      </a:gsLst>
                      <a:lin ang="624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Oval 665"/>
                    <p:cNvSpPr/>
                    <p:nvPr/>
                  </p:nvSpPr>
                  <p:spPr>
                    <a:xfrm flipH="1" rot="711600">
                      <a:off x="8216640" y="5835240"/>
                      <a:ext cx="720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Oval 666"/>
                    <p:cNvSpPr/>
                    <p:nvPr/>
                  </p:nvSpPr>
                  <p:spPr>
                    <a:xfrm flipH="1" rot="711600">
                      <a:off x="8209440" y="5837040"/>
                      <a:ext cx="648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ead5">
                            <a:alpha val="8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Oval 667"/>
                    <p:cNvSpPr/>
                    <p:nvPr/>
                  </p:nvSpPr>
                  <p:spPr>
                    <a:xfrm flipH="1" rot="711600">
                      <a:off x="8200800" y="5835240"/>
                      <a:ext cx="7200" cy="6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Oval 668"/>
                    <p:cNvSpPr/>
                    <p:nvPr/>
                  </p:nvSpPr>
                  <p:spPr>
                    <a:xfrm flipH="1" rot="711600">
                      <a:off x="8197920" y="5829120"/>
                      <a:ext cx="7200" cy="5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6ed">
                            <a:alpha val="0"/>
                          </a:srgbClr>
                        </a:gs>
                        <a:gs pos="100000">
                          <a:srgbClr val="ffead5">
                            <a:alpha val="60000"/>
                          </a:srgbClr>
                        </a:gs>
                      </a:gsLst>
                      <a:lin ang="6114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2" name="AutoShape 669"/>
                  <p:cNvSpPr/>
                  <p:nvPr/>
                </p:nvSpPr>
                <p:spPr>
                  <a:xfrm flipH="1">
                    <a:off x="7972920" y="6003000"/>
                    <a:ext cx="23508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AutoShape 670"/>
                  <p:cNvSpPr/>
                  <p:nvPr/>
                </p:nvSpPr>
                <p:spPr>
                  <a:xfrm flipH="1">
                    <a:off x="8028360" y="6003000"/>
                    <a:ext cx="1659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Oval 671"/>
                  <p:cNvSpPr/>
                  <p:nvPr/>
                </p:nvSpPr>
                <p:spPr>
                  <a:xfrm flipH="1">
                    <a:off x="7973280" y="5833800"/>
                    <a:ext cx="55440" cy="5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Oval 672"/>
                  <p:cNvSpPr/>
                  <p:nvPr/>
                </p:nvSpPr>
                <p:spPr>
                  <a:xfrm flipH="1">
                    <a:off x="8041320" y="5704560"/>
                    <a:ext cx="55800" cy="5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AutoShape 673"/>
                  <p:cNvSpPr/>
                  <p:nvPr/>
                </p:nvSpPr>
                <p:spPr>
                  <a:xfrm flipH="1">
                    <a:off x="8041680" y="5989680"/>
                    <a:ext cx="20808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blipFill rotWithShape="0">
                    <a:blip r:embed="rId7">
                      <a:alphaModFix amt="40000"/>
                    </a:blip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AutoShape 674"/>
                  <p:cNvSpPr/>
                  <p:nvPr/>
                </p:nvSpPr>
                <p:spPr>
                  <a:xfrm flipH="1">
                    <a:off x="8249400" y="5937480"/>
                    <a:ext cx="414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AutoShape 675"/>
                  <p:cNvSpPr/>
                  <p:nvPr/>
                </p:nvSpPr>
                <p:spPr>
                  <a:xfrm flipH="1">
                    <a:off x="8249400" y="6145200"/>
                    <a:ext cx="414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AutoShape 676"/>
                  <p:cNvSpPr/>
                  <p:nvPr/>
                </p:nvSpPr>
                <p:spPr>
                  <a:xfrm flipH="1">
                    <a:off x="7917120" y="5937480"/>
                    <a:ext cx="414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AutoShape 677"/>
                  <p:cNvSpPr/>
                  <p:nvPr/>
                </p:nvSpPr>
                <p:spPr>
                  <a:xfrm flipH="1">
                    <a:off x="7917120" y="6145200"/>
                    <a:ext cx="4140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efef"/>
                  </a:solidFill>
                  <a:ln w="0">
                    <a:noFill/>
                  </a:ln>
                  <a:effectLst>
                    <a:outerShdw dist="12600" dir="5400000" blurRad="0" rotWithShape="0">
                      <a:srgbClr val="8a001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Group 206"/>
                <p:cNvGrpSpPr/>
                <p:nvPr/>
              </p:nvGrpSpPr>
              <p:grpSpPr>
                <a:xfrm>
                  <a:off x="7993440" y="4974840"/>
                  <a:ext cx="214920" cy="129960"/>
                  <a:chOff x="7993440" y="4974840"/>
                  <a:chExt cx="214920" cy="129960"/>
                </a:xfrm>
              </p:grpSpPr>
              <p:grpSp>
                <p:nvGrpSpPr>
                  <p:cNvPr id="482" name="Group 207"/>
                  <p:cNvGrpSpPr/>
                  <p:nvPr/>
                </p:nvGrpSpPr>
                <p:grpSpPr>
                  <a:xfrm>
                    <a:off x="8146800" y="4974840"/>
                    <a:ext cx="48240" cy="36000"/>
                    <a:chOff x="8146800" y="4974840"/>
                    <a:chExt cx="48240" cy="36000"/>
                  </a:xfrm>
                </p:grpSpPr>
                <p:sp>
                  <p:nvSpPr>
                    <p:cNvPr id="483" name="Oval 680"/>
                    <p:cNvSpPr/>
                    <p:nvPr/>
                  </p:nvSpPr>
                  <p:spPr>
                    <a:xfrm flipH="1">
                      <a:off x="8146440" y="4974840"/>
                      <a:ext cx="38520" cy="36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2125"/>
                        </a:gs>
                        <a:gs pos="100000">
                          <a:srgbClr val="180f11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880" bIns="-20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Freeform 681"/>
                    <p:cNvSpPr/>
                    <p:nvPr/>
                  </p:nvSpPr>
                  <p:spPr>
                    <a:xfrm>
                      <a:off x="8156160" y="4983480"/>
                      <a:ext cx="3888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102">
                          <a:moveTo>
                            <a:pt x="4" y="52"/>
                          </a:moveTo>
                          <a:cubicBezTo>
                            <a:pt x="0" y="37"/>
                            <a:pt x="31" y="14"/>
                            <a:pt x="50" y="7"/>
                          </a:cubicBezTo>
                          <a:cubicBezTo>
                            <a:pt x="69" y="0"/>
                            <a:pt x="99" y="0"/>
                            <a:pt x="118" y="7"/>
                          </a:cubicBezTo>
                          <a:cubicBezTo>
                            <a:pt x="137" y="14"/>
                            <a:pt x="171" y="37"/>
                            <a:pt x="163" y="52"/>
                          </a:cubicBezTo>
                          <a:cubicBezTo>
                            <a:pt x="155" y="67"/>
                            <a:pt x="98" y="94"/>
                            <a:pt x="72" y="98"/>
                          </a:cubicBezTo>
                          <a:cubicBezTo>
                            <a:pt x="46" y="102"/>
                            <a:pt x="8" y="67"/>
                            <a:pt x="4" y="52"/>
                          </a:cubicBez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5" name="Group 210"/>
                  <p:cNvGrpSpPr/>
                  <p:nvPr/>
                </p:nvGrpSpPr>
                <p:grpSpPr>
                  <a:xfrm>
                    <a:off x="8006760" y="4982760"/>
                    <a:ext cx="47160" cy="36000"/>
                    <a:chOff x="8006760" y="4982760"/>
                    <a:chExt cx="47160" cy="36000"/>
                  </a:xfrm>
                </p:grpSpPr>
                <p:sp>
                  <p:nvSpPr>
                    <p:cNvPr id="486" name="Oval 683"/>
                    <p:cNvSpPr/>
                    <p:nvPr/>
                  </p:nvSpPr>
                  <p:spPr>
                    <a:xfrm>
                      <a:off x="8016120" y="4982760"/>
                      <a:ext cx="37800" cy="36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2125"/>
                        </a:gs>
                        <a:gs pos="100000">
                          <a:srgbClr val="180f11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880" bIns="-20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Freeform 684"/>
                    <p:cNvSpPr/>
                    <p:nvPr/>
                  </p:nvSpPr>
                  <p:spPr>
                    <a:xfrm flipH="1">
                      <a:off x="8006760" y="4991400"/>
                      <a:ext cx="38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102">
                          <a:moveTo>
                            <a:pt x="4" y="52"/>
                          </a:moveTo>
                          <a:cubicBezTo>
                            <a:pt x="0" y="37"/>
                            <a:pt x="31" y="14"/>
                            <a:pt x="50" y="7"/>
                          </a:cubicBezTo>
                          <a:cubicBezTo>
                            <a:pt x="69" y="0"/>
                            <a:pt x="99" y="0"/>
                            <a:pt x="118" y="7"/>
                          </a:cubicBezTo>
                          <a:cubicBezTo>
                            <a:pt x="137" y="14"/>
                            <a:pt x="171" y="37"/>
                            <a:pt x="163" y="52"/>
                          </a:cubicBezTo>
                          <a:cubicBezTo>
                            <a:pt x="155" y="67"/>
                            <a:pt x="98" y="94"/>
                            <a:pt x="72" y="98"/>
                          </a:cubicBezTo>
                          <a:cubicBezTo>
                            <a:pt x="46" y="102"/>
                            <a:pt x="8" y="67"/>
                            <a:pt x="4" y="52"/>
                          </a:cubicBez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8" name="Oval 685"/>
                  <p:cNvSpPr/>
                  <p:nvPr/>
                </p:nvSpPr>
                <p:spPr>
                  <a:xfrm flipH="1">
                    <a:off x="8147880" y="5007600"/>
                    <a:ext cx="60120" cy="56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a3262">
                          <a:alpha val="70196"/>
                        </a:srgbClr>
                      </a:gs>
                      <a:gs pos="100000">
                        <a:srgbClr val="ffdeb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9" name="Group 214"/>
                  <p:cNvGrpSpPr/>
                  <p:nvPr/>
                </p:nvGrpSpPr>
                <p:grpSpPr>
                  <a:xfrm>
                    <a:off x="7993440" y="5015880"/>
                    <a:ext cx="60840" cy="56160"/>
                    <a:chOff x="7993440" y="5015880"/>
                    <a:chExt cx="60840" cy="56160"/>
                  </a:xfrm>
                </p:grpSpPr>
                <p:sp>
                  <p:nvSpPr>
                    <p:cNvPr id="490" name="Oval 687"/>
                    <p:cNvSpPr/>
                    <p:nvPr/>
                  </p:nvSpPr>
                  <p:spPr>
                    <a:xfrm flipH="1">
                      <a:off x="7993800" y="5015880"/>
                      <a:ext cx="60480" cy="56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a3262">
                            <a:alpha val="70196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Oval 688"/>
                    <p:cNvSpPr/>
                    <p:nvPr/>
                  </p:nvSpPr>
                  <p:spPr>
                    <a:xfrm flipH="1">
                      <a:off x="7993440" y="5023800"/>
                      <a:ext cx="35280" cy="31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13b59">
                            <a:alpha val="30196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lin ang="189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2" name="AutoShape 689"/>
                  <p:cNvSpPr/>
                  <p:nvPr/>
                </p:nvSpPr>
                <p:spPr>
                  <a:xfrm flipH="1" rot="10800000">
                    <a:off x="8094960" y="5023440"/>
                    <a:ext cx="93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0"/>
                        </a:moveTo>
                        <a:lnTo>
                          <a:pt x="5400" y="21600"/>
                        </a:lnTo>
                        <a:lnTo>
                          <a:pt x="16200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ec0b4"/>
                      </a:gs>
                      <a:gs pos="100000">
                        <a:srgbClr val="f1cdc3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Oval 690"/>
                  <p:cNvSpPr/>
                  <p:nvPr/>
                </p:nvSpPr>
                <p:spPr>
                  <a:xfrm flipH="1">
                    <a:off x="8051400" y="4998960"/>
                    <a:ext cx="87480" cy="81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be8dd">
                          <a:alpha val="60000"/>
                        </a:srgbClr>
                      </a:gs>
                      <a:gs pos="100000">
                        <a:srgbClr val="ffffff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4" name="Group 219"/>
                  <p:cNvGrpSpPr/>
                  <p:nvPr/>
                </p:nvGrpSpPr>
                <p:grpSpPr>
                  <a:xfrm>
                    <a:off x="8055000" y="5072400"/>
                    <a:ext cx="87480" cy="32400"/>
                    <a:chOff x="8055000" y="5072400"/>
                    <a:chExt cx="87480" cy="32400"/>
                  </a:xfrm>
                </p:grpSpPr>
                <p:sp>
                  <p:nvSpPr>
                    <p:cNvPr id="495" name="Oval 692"/>
                    <p:cNvSpPr/>
                    <p:nvPr/>
                  </p:nvSpPr>
                  <p:spPr>
                    <a:xfrm flipH="1">
                      <a:off x="8054640" y="5072400"/>
                      <a:ext cx="87480" cy="32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d1a3">
                            <a:alpha val="40000"/>
                          </a:srgbClr>
                        </a:gs>
                        <a:gs pos="100000">
                          <a:srgbClr val="ffdebd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Freeform 693"/>
                    <p:cNvSpPr/>
                    <p:nvPr/>
                  </p:nvSpPr>
                  <p:spPr>
                    <a:xfrm flipH="1">
                      <a:off x="8087040" y="5088600"/>
                      <a:ext cx="234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4">
                          <a:moveTo>
                            <a:pt x="0" y="4"/>
                          </a:moveTo>
                          <a:cubicBezTo>
                            <a:pt x="19" y="2"/>
                            <a:pt x="38" y="0"/>
                            <a:pt x="68" y="4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f6d3a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97" name="Rectangle 223"/>
          <p:cNvSpPr/>
          <p:nvPr/>
        </p:nvSpPr>
        <p:spPr>
          <a:xfrm>
            <a:off x="1871640" y="336672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讲的是小姑娘纳塔俐在十分危急的情况下，机敏地将陶瓷虎口里藏的宝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胶卷进行调包，躲过了歹徒的搜查，保护了胶卷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719280" y="907920"/>
            <a:ext cx="7866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全文围绕着“藏”字，分几部分来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一部分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—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写纳塔莉从陶瓷虎口中发现了一卷胶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二部分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—2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写陌生人搜查胶卷、纳塔莉藏起胶卷、歹徒抢走被调了包的胶卷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三部分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8—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写威廉叔叔知道纳塔莉巧妙地保住了胶卷，高兴地夸奖纳塔莉“真是个聪明的孩子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按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事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发展顺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"/>
          <p:cNvSpPr/>
          <p:nvPr/>
        </p:nvSpPr>
        <p:spPr>
          <a:xfrm>
            <a:off x="2124000" y="2673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60360" y="2384280"/>
            <a:ext cx="18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现胶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3060720" y="23842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歹徒搜查胶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6"/>
          <p:cNvSpPr/>
          <p:nvPr/>
        </p:nvSpPr>
        <p:spPr>
          <a:xfrm>
            <a:off x="5472000" y="263700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6227640" y="2384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掉包胶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8"/>
          <p:cNvSpPr/>
          <p:nvPr/>
        </p:nvSpPr>
        <p:spPr>
          <a:xfrm>
            <a:off x="7380360" y="2924280"/>
            <a:ext cx="144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"/>
          <p:cNvSpPr/>
          <p:nvPr/>
        </p:nvSpPr>
        <p:spPr>
          <a:xfrm>
            <a:off x="6156360" y="375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住胶卷，获得称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6117120" y="1567080"/>
            <a:ext cx="2145960" cy="2798280"/>
            <a:chOff x="6117120" y="1567080"/>
            <a:chExt cx="2145960" cy="2798280"/>
          </a:xfrm>
        </p:grpSpPr>
        <p:sp>
          <p:nvSpPr>
            <p:cNvPr id="508" name="Freeform 9"/>
            <p:cNvSpPr/>
            <p:nvPr/>
          </p:nvSpPr>
          <p:spPr>
            <a:xfrm>
              <a:off x="6958080" y="1620720"/>
              <a:ext cx="533520" cy="2486160"/>
            </a:xfrm>
            <a:custGeom>
              <a:avLst/>
              <a:gdLst/>
              <a:ahLst/>
              <a:rect l="l" t="t" r="r" b="b"/>
              <a:pathLst>
                <a:path w="336" h="1566">
                  <a:moveTo>
                    <a:pt x="325" y="0"/>
                  </a:moveTo>
                  <a:cubicBezTo>
                    <a:pt x="289" y="70"/>
                    <a:pt x="253" y="141"/>
                    <a:pt x="212" y="273"/>
                  </a:cubicBezTo>
                  <a:cubicBezTo>
                    <a:pt x="171" y="405"/>
                    <a:pt x="110" y="609"/>
                    <a:pt x="76" y="794"/>
                  </a:cubicBezTo>
                  <a:cubicBezTo>
                    <a:pt x="42" y="979"/>
                    <a:pt x="0" y="1259"/>
                    <a:pt x="7" y="1384"/>
                  </a:cubicBezTo>
                  <a:cubicBezTo>
                    <a:pt x="14" y="1509"/>
                    <a:pt x="76" y="1520"/>
                    <a:pt x="121" y="1543"/>
                  </a:cubicBezTo>
                  <a:cubicBezTo>
                    <a:pt x="166" y="1566"/>
                    <a:pt x="246" y="1554"/>
                    <a:pt x="280" y="1520"/>
                  </a:cubicBezTo>
                  <a:cubicBezTo>
                    <a:pt x="314" y="1486"/>
                    <a:pt x="336" y="1384"/>
                    <a:pt x="325" y="1339"/>
                  </a:cubicBezTo>
                  <a:cubicBezTo>
                    <a:pt x="314" y="1294"/>
                    <a:pt x="250" y="1256"/>
                    <a:pt x="212" y="1248"/>
                  </a:cubicBezTo>
                  <a:cubicBezTo>
                    <a:pt x="174" y="1240"/>
                    <a:pt x="121" y="1267"/>
                    <a:pt x="98" y="1293"/>
                  </a:cubicBezTo>
                  <a:cubicBezTo>
                    <a:pt x="75" y="1319"/>
                    <a:pt x="65" y="1373"/>
                    <a:pt x="76" y="1407"/>
                  </a:cubicBezTo>
                  <a:cubicBezTo>
                    <a:pt x="87" y="1441"/>
                    <a:pt x="140" y="1486"/>
                    <a:pt x="166" y="1497"/>
                  </a:cubicBezTo>
                  <a:cubicBezTo>
                    <a:pt x="192" y="1508"/>
                    <a:pt x="219" y="1490"/>
                    <a:pt x="234" y="1475"/>
                  </a:cubicBezTo>
                  <a:cubicBezTo>
                    <a:pt x="249" y="1460"/>
                    <a:pt x="257" y="1430"/>
                    <a:pt x="257" y="1407"/>
                  </a:cubicBezTo>
                  <a:cubicBezTo>
                    <a:pt x="257" y="1384"/>
                    <a:pt x="249" y="1350"/>
                    <a:pt x="234" y="1339"/>
                  </a:cubicBezTo>
                  <a:cubicBezTo>
                    <a:pt x="219" y="1328"/>
                    <a:pt x="181" y="1328"/>
                    <a:pt x="166" y="1339"/>
                  </a:cubicBezTo>
                  <a:cubicBezTo>
                    <a:pt x="151" y="1350"/>
                    <a:pt x="144" y="1400"/>
                    <a:pt x="144" y="1407"/>
                  </a:cubicBezTo>
                </a:path>
              </a:pathLst>
            </a:custGeom>
            <a:noFill/>
            <a:ln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7389720" y="1585800"/>
              <a:ext cx="438120" cy="2448000"/>
            </a:xfrm>
            <a:custGeom>
              <a:avLst/>
              <a:gdLst/>
              <a:ahLst/>
              <a:rect l="l" t="t" r="r" b="b"/>
              <a:pathLst>
                <a:path w="276" h="1316">
                  <a:moveTo>
                    <a:pt x="94" y="0"/>
                  </a:moveTo>
                  <a:cubicBezTo>
                    <a:pt x="47" y="174"/>
                    <a:pt x="0" y="348"/>
                    <a:pt x="4" y="544"/>
                  </a:cubicBezTo>
                  <a:cubicBezTo>
                    <a:pt x="8" y="740"/>
                    <a:pt x="72" y="1050"/>
                    <a:pt x="117" y="1179"/>
                  </a:cubicBezTo>
                  <a:cubicBezTo>
                    <a:pt x="162" y="1308"/>
                    <a:pt x="246" y="1293"/>
                    <a:pt x="276" y="1316"/>
                  </a:cubicBezTo>
                </a:path>
              </a:pathLst>
            </a:custGeom>
            <a:noFill/>
            <a:ln w="158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"/>
            <p:cNvSpPr/>
            <p:nvPr/>
          </p:nvSpPr>
          <p:spPr>
            <a:xfrm>
              <a:off x="7785000" y="1620720"/>
              <a:ext cx="420840" cy="2016000"/>
            </a:xfrm>
            <a:custGeom>
              <a:avLst/>
              <a:gdLst/>
              <a:ahLst/>
              <a:rect l="l" t="t" r="r" b="b"/>
              <a:pathLst>
                <a:path w="514" h="2155">
                  <a:moveTo>
                    <a:pt x="287" y="0"/>
                  </a:moveTo>
                  <a:cubicBezTo>
                    <a:pt x="325" y="26"/>
                    <a:pt x="363" y="53"/>
                    <a:pt x="401" y="159"/>
                  </a:cubicBezTo>
                  <a:cubicBezTo>
                    <a:pt x="439" y="265"/>
                    <a:pt x="514" y="359"/>
                    <a:pt x="514" y="635"/>
                  </a:cubicBezTo>
                  <a:cubicBezTo>
                    <a:pt x="514" y="911"/>
                    <a:pt x="458" y="1569"/>
                    <a:pt x="401" y="1815"/>
                  </a:cubicBezTo>
                  <a:cubicBezTo>
                    <a:pt x="344" y="2061"/>
                    <a:pt x="231" y="2065"/>
                    <a:pt x="174" y="2110"/>
                  </a:cubicBezTo>
                  <a:cubicBezTo>
                    <a:pt x="117" y="2155"/>
                    <a:pt x="87" y="2113"/>
                    <a:pt x="61" y="2087"/>
                  </a:cubicBezTo>
                  <a:cubicBezTo>
                    <a:pt x="35" y="2061"/>
                    <a:pt x="0" y="1985"/>
                    <a:pt x="15" y="1951"/>
                  </a:cubicBezTo>
                  <a:cubicBezTo>
                    <a:pt x="30" y="1917"/>
                    <a:pt x="113" y="1883"/>
                    <a:pt x="151" y="1883"/>
                  </a:cubicBezTo>
                  <a:cubicBezTo>
                    <a:pt x="189" y="1883"/>
                    <a:pt x="227" y="1925"/>
                    <a:pt x="242" y="1951"/>
                  </a:cubicBezTo>
                  <a:cubicBezTo>
                    <a:pt x="257" y="1977"/>
                    <a:pt x="257" y="2023"/>
                    <a:pt x="242" y="2042"/>
                  </a:cubicBezTo>
                  <a:cubicBezTo>
                    <a:pt x="227" y="2061"/>
                    <a:pt x="177" y="2072"/>
                    <a:pt x="151" y="2064"/>
                  </a:cubicBezTo>
                  <a:cubicBezTo>
                    <a:pt x="125" y="2056"/>
                    <a:pt x="87" y="2019"/>
                    <a:pt x="83" y="1996"/>
                  </a:cubicBezTo>
                  <a:cubicBezTo>
                    <a:pt x="79" y="1973"/>
                    <a:pt x="114" y="1939"/>
                    <a:pt x="129" y="1928"/>
                  </a:cubicBezTo>
                  <a:cubicBezTo>
                    <a:pt x="144" y="1917"/>
                    <a:pt x="163" y="1917"/>
                    <a:pt x="174" y="1928"/>
                  </a:cubicBezTo>
                  <a:cubicBezTo>
                    <a:pt x="185" y="1939"/>
                    <a:pt x="201" y="1981"/>
                    <a:pt x="197" y="1996"/>
                  </a:cubicBezTo>
                  <a:cubicBezTo>
                    <a:pt x="193" y="2011"/>
                    <a:pt x="162" y="2027"/>
                    <a:pt x="151" y="2019"/>
                  </a:cubicBezTo>
                </a:path>
              </a:pathLst>
            </a:cu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"/>
            <p:cNvGrpSpPr/>
            <p:nvPr/>
          </p:nvGrpSpPr>
          <p:grpSpPr>
            <a:xfrm>
              <a:off x="7454880" y="1567080"/>
              <a:ext cx="808200" cy="2744280"/>
              <a:chOff x="7454880" y="1567080"/>
              <a:chExt cx="808200" cy="2744280"/>
            </a:xfrm>
          </p:grpSpPr>
          <p:grpSp>
            <p:nvGrpSpPr>
              <p:cNvPr id="512" name="Group 7"/>
              <p:cNvGrpSpPr/>
              <p:nvPr/>
            </p:nvGrpSpPr>
            <p:grpSpPr>
              <a:xfrm>
                <a:off x="7495200" y="1567080"/>
                <a:ext cx="407520" cy="357480"/>
                <a:chOff x="7495200" y="1567080"/>
                <a:chExt cx="407520" cy="357480"/>
              </a:xfrm>
            </p:grpSpPr>
            <p:sp>
              <p:nvSpPr>
                <p:cNvPr id="513" name="Freeform 14"/>
                <p:cNvSpPr/>
                <p:nvPr/>
              </p:nvSpPr>
              <p:spPr>
                <a:xfrm rot="1368000">
                  <a:off x="7559280" y="1605240"/>
                  <a:ext cx="254880" cy="280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15"/>
                <p:cNvSpPr/>
                <p:nvPr/>
              </p:nvSpPr>
              <p:spPr>
                <a:xfrm flipH="1" rot="5364600">
                  <a:off x="7597800" y="1562760"/>
                  <a:ext cx="201600" cy="4053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85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AutoShape 16"/>
              <p:cNvSpPr/>
              <p:nvPr/>
            </p:nvSpPr>
            <p:spPr>
              <a:xfrm>
                <a:off x="7863840" y="1612800"/>
                <a:ext cx="34920" cy="2419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6" name="Group 11"/>
              <p:cNvGrpSpPr/>
              <p:nvPr/>
            </p:nvGrpSpPr>
            <p:grpSpPr>
              <a:xfrm>
                <a:off x="7772760" y="1857960"/>
                <a:ext cx="457920" cy="329760"/>
                <a:chOff x="7772760" y="1857960"/>
                <a:chExt cx="457920" cy="329760"/>
              </a:xfrm>
            </p:grpSpPr>
            <p:sp>
              <p:nvSpPr>
                <p:cNvPr id="517" name="Freeform 18"/>
                <p:cNvSpPr/>
                <p:nvPr/>
              </p:nvSpPr>
              <p:spPr>
                <a:xfrm rot="17679600">
                  <a:off x="7918200" y="1809000"/>
                  <a:ext cx="166680" cy="427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19"/>
                <p:cNvSpPr/>
                <p:nvPr/>
              </p:nvSpPr>
              <p:spPr>
                <a:xfrm flipH="1" rot="75600">
                  <a:off x="7871400" y="1887840"/>
                  <a:ext cx="307080" cy="265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Group 14"/>
              <p:cNvGrpSpPr/>
              <p:nvPr/>
            </p:nvGrpSpPr>
            <p:grpSpPr>
              <a:xfrm>
                <a:off x="7573680" y="2558160"/>
                <a:ext cx="387720" cy="257400"/>
                <a:chOff x="7573680" y="2558160"/>
                <a:chExt cx="387720" cy="257400"/>
              </a:xfrm>
            </p:grpSpPr>
            <p:sp>
              <p:nvSpPr>
                <p:cNvPr id="520" name="Freeform 21"/>
                <p:cNvSpPr/>
                <p:nvPr/>
              </p:nvSpPr>
              <p:spPr>
                <a:xfrm rot="801000">
                  <a:off x="7637760" y="2581920"/>
                  <a:ext cx="230760" cy="2098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22"/>
                <p:cNvSpPr/>
                <p:nvPr/>
              </p:nvSpPr>
              <p:spPr>
                <a:xfrm flipH="1" rot="4797600">
                  <a:off x="7691760" y="2517120"/>
                  <a:ext cx="150840" cy="3672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Group 17"/>
              <p:cNvGrpSpPr/>
              <p:nvPr/>
            </p:nvGrpSpPr>
            <p:grpSpPr>
              <a:xfrm>
                <a:off x="7454880" y="1982520"/>
                <a:ext cx="447840" cy="367560"/>
                <a:chOff x="7454880" y="1982520"/>
                <a:chExt cx="447840" cy="367560"/>
              </a:xfrm>
            </p:grpSpPr>
            <p:sp>
              <p:nvSpPr>
                <p:cNvPr id="523" name="Freeform 24"/>
                <p:cNvSpPr/>
                <p:nvPr/>
              </p:nvSpPr>
              <p:spPr>
                <a:xfrm rot="1368000">
                  <a:off x="7524720" y="2025720"/>
                  <a:ext cx="280080" cy="280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25"/>
                <p:cNvSpPr/>
                <p:nvPr/>
              </p:nvSpPr>
              <p:spPr>
                <a:xfrm flipH="1" rot="5364600">
                  <a:off x="7577640" y="1964160"/>
                  <a:ext cx="201600" cy="445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Group 20"/>
              <p:cNvGrpSpPr/>
              <p:nvPr/>
            </p:nvGrpSpPr>
            <p:grpSpPr>
              <a:xfrm>
                <a:off x="7804800" y="2451240"/>
                <a:ext cx="458280" cy="330480"/>
                <a:chOff x="7804800" y="2451240"/>
                <a:chExt cx="458280" cy="330480"/>
              </a:xfrm>
            </p:grpSpPr>
            <p:sp>
              <p:nvSpPr>
                <p:cNvPr id="526" name="Freeform 27"/>
                <p:cNvSpPr/>
                <p:nvPr/>
              </p:nvSpPr>
              <p:spPr>
                <a:xfrm rot="17679600">
                  <a:off x="7949880" y="2402640"/>
                  <a:ext cx="167400" cy="427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28"/>
                <p:cNvSpPr/>
                <p:nvPr/>
              </p:nvSpPr>
              <p:spPr>
                <a:xfrm flipH="1" rot="75600">
                  <a:off x="7903800" y="2480400"/>
                  <a:ext cx="307080" cy="266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Group 23"/>
              <p:cNvGrpSpPr/>
              <p:nvPr/>
            </p:nvGrpSpPr>
            <p:grpSpPr>
              <a:xfrm>
                <a:off x="7798320" y="2771280"/>
                <a:ext cx="324360" cy="274680"/>
                <a:chOff x="7798320" y="2771280"/>
                <a:chExt cx="324360" cy="274680"/>
              </a:xfrm>
            </p:grpSpPr>
            <p:sp>
              <p:nvSpPr>
                <p:cNvPr id="529" name="Freeform 30"/>
                <p:cNvSpPr/>
                <p:nvPr/>
              </p:nvSpPr>
              <p:spPr>
                <a:xfrm rot="17679600">
                  <a:off x="7877160" y="2771640"/>
                  <a:ext cx="166320" cy="2804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1"/>
                <p:cNvSpPr/>
                <p:nvPr/>
              </p:nvSpPr>
              <p:spPr>
                <a:xfrm flipH="1" rot="75600">
                  <a:off x="7877520" y="2773080"/>
                  <a:ext cx="201600" cy="2649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Group 26"/>
              <p:cNvGrpSpPr/>
              <p:nvPr/>
            </p:nvGrpSpPr>
            <p:grpSpPr>
              <a:xfrm>
                <a:off x="7790760" y="3385440"/>
                <a:ext cx="320040" cy="282600"/>
                <a:chOff x="7790760" y="3385440"/>
                <a:chExt cx="320040" cy="282600"/>
              </a:xfrm>
            </p:grpSpPr>
            <p:sp>
              <p:nvSpPr>
                <p:cNvPr id="532" name="Freeform 33"/>
                <p:cNvSpPr/>
                <p:nvPr/>
              </p:nvSpPr>
              <p:spPr>
                <a:xfrm rot="17293200">
                  <a:off x="7867080" y="3393360"/>
                  <a:ext cx="166680" cy="2818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4"/>
                <p:cNvSpPr/>
                <p:nvPr/>
              </p:nvSpPr>
              <p:spPr>
                <a:xfrm flipH="1" rot="21289800">
                  <a:off x="7865640" y="3393720"/>
                  <a:ext cx="202680" cy="265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Group 29"/>
              <p:cNvGrpSpPr/>
              <p:nvPr/>
            </p:nvGrpSpPr>
            <p:grpSpPr>
              <a:xfrm>
                <a:off x="7530480" y="3078720"/>
                <a:ext cx="385560" cy="257400"/>
                <a:chOff x="7530480" y="3078720"/>
                <a:chExt cx="385560" cy="257400"/>
              </a:xfrm>
            </p:grpSpPr>
            <p:sp>
              <p:nvSpPr>
                <p:cNvPr id="535" name="Freeform 36"/>
                <p:cNvSpPr/>
                <p:nvPr/>
              </p:nvSpPr>
              <p:spPr>
                <a:xfrm rot="801000">
                  <a:off x="7594200" y="3102120"/>
                  <a:ext cx="229680" cy="2098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7"/>
                <p:cNvSpPr/>
                <p:nvPr/>
              </p:nvSpPr>
              <p:spPr>
                <a:xfrm flipH="1" rot="4797600">
                  <a:off x="7647480" y="3038760"/>
                  <a:ext cx="150840" cy="3650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Group 32"/>
              <p:cNvGrpSpPr/>
              <p:nvPr/>
            </p:nvGrpSpPr>
            <p:grpSpPr>
              <a:xfrm>
                <a:off x="7530480" y="3657600"/>
                <a:ext cx="385560" cy="258480"/>
                <a:chOff x="7530480" y="3657600"/>
                <a:chExt cx="385560" cy="258480"/>
              </a:xfrm>
            </p:grpSpPr>
            <p:sp>
              <p:nvSpPr>
                <p:cNvPr id="538" name="Freeform 39"/>
                <p:cNvSpPr/>
                <p:nvPr/>
              </p:nvSpPr>
              <p:spPr>
                <a:xfrm rot="801000">
                  <a:off x="7594200" y="3681000"/>
                  <a:ext cx="229680" cy="211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40"/>
                <p:cNvSpPr/>
                <p:nvPr/>
              </p:nvSpPr>
              <p:spPr>
                <a:xfrm flipH="1" rot="4797600">
                  <a:off x="7646760" y="3618720"/>
                  <a:ext cx="151920" cy="364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Group 35"/>
              <p:cNvGrpSpPr/>
              <p:nvPr/>
            </p:nvGrpSpPr>
            <p:grpSpPr>
              <a:xfrm>
                <a:off x="7724160" y="3968640"/>
                <a:ext cx="265320" cy="342720"/>
                <a:chOff x="7724160" y="3968640"/>
                <a:chExt cx="265320" cy="342720"/>
              </a:xfrm>
            </p:grpSpPr>
            <p:sp>
              <p:nvSpPr>
                <p:cNvPr id="541" name="Freeform 42"/>
                <p:cNvSpPr/>
                <p:nvPr/>
              </p:nvSpPr>
              <p:spPr>
                <a:xfrm rot="19112400">
                  <a:off x="7750440" y="4065480"/>
                  <a:ext cx="204840" cy="1569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43"/>
                <p:cNvSpPr/>
                <p:nvPr/>
              </p:nvSpPr>
              <p:spPr>
                <a:xfrm flipH="1" rot="1509000">
                  <a:off x="7812720" y="3976920"/>
                  <a:ext cx="112680" cy="325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3" name="Group 38"/>
              <p:cNvGrpSpPr/>
              <p:nvPr/>
            </p:nvGrpSpPr>
            <p:grpSpPr>
              <a:xfrm>
                <a:off x="7844760" y="3789360"/>
                <a:ext cx="293040" cy="285480"/>
                <a:chOff x="7844760" y="3789360"/>
                <a:chExt cx="293040" cy="285480"/>
              </a:xfrm>
            </p:grpSpPr>
            <p:sp>
              <p:nvSpPr>
                <p:cNvPr id="544" name="Freeform 45"/>
                <p:cNvSpPr/>
                <p:nvPr/>
              </p:nvSpPr>
              <p:spPr>
                <a:xfrm rot="16605000">
                  <a:off x="7916040" y="3802680"/>
                  <a:ext cx="149760" cy="2772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46"/>
                <p:cNvSpPr/>
                <p:nvPr/>
              </p:nvSpPr>
              <p:spPr>
                <a:xfrm flipH="1" rot="20601600">
                  <a:off x="7905240" y="3812760"/>
                  <a:ext cx="199440" cy="238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6" name="Group 41"/>
            <p:cNvGrpSpPr/>
            <p:nvPr/>
          </p:nvGrpSpPr>
          <p:grpSpPr>
            <a:xfrm>
              <a:off x="6663240" y="1581120"/>
              <a:ext cx="555840" cy="2614320"/>
              <a:chOff x="6663240" y="1581120"/>
              <a:chExt cx="555840" cy="2614320"/>
            </a:xfrm>
          </p:grpSpPr>
          <p:grpSp>
            <p:nvGrpSpPr>
              <p:cNvPr id="547" name="Group 42"/>
              <p:cNvGrpSpPr/>
              <p:nvPr/>
            </p:nvGrpSpPr>
            <p:grpSpPr>
              <a:xfrm>
                <a:off x="6692400" y="1581120"/>
                <a:ext cx="290160" cy="274320"/>
                <a:chOff x="6692400" y="1581120"/>
                <a:chExt cx="290160" cy="274320"/>
              </a:xfrm>
            </p:grpSpPr>
            <p:sp>
              <p:nvSpPr>
                <p:cNvPr id="548" name="Freeform 49"/>
                <p:cNvSpPr/>
                <p:nvPr/>
              </p:nvSpPr>
              <p:spPr>
                <a:xfrm rot="1368000">
                  <a:off x="6738840" y="1607400"/>
                  <a:ext cx="181080" cy="221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50"/>
                <p:cNvSpPr/>
                <p:nvPr/>
              </p:nvSpPr>
              <p:spPr>
                <a:xfrm flipH="1" rot="5364600">
                  <a:off x="6757560" y="1589040"/>
                  <a:ext cx="159120" cy="2883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85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0" name="AutoShape 51"/>
              <p:cNvSpPr/>
              <p:nvPr/>
            </p:nvSpPr>
            <p:spPr>
              <a:xfrm>
                <a:off x="6954480" y="1612800"/>
                <a:ext cx="28800" cy="2435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Group 46"/>
              <p:cNvGrpSpPr/>
              <p:nvPr/>
            </p:nvGrpSpPr>
            <p:grpSpPr>
              <a:xfrm>
                <a:off x="6874200" y="1810440"/>
                <a:ext cx="331920" cy="246960"/>
                <a:chOff x="6874200" y="1810440"/>
                <a:chExt cx="331920" cy="246960"/>
              </a:xfrm>
            </p:grpSpPr>
            <p:sp>
              <p:nvSpPr>
                <p:cNvPr id="552" name="Freeform 53"/>
                <p:cNvSpPr/>
                <p:nvPr/>
              </p:nvSpPr>
              <p:spPr>
                <a:xfrm rot="17679600">
                  <a:off x="6973920" y="1781640"/>
                  <a:ext cx="131760" cy="3045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54"/>
                <p:cNvSpPr/>
                <p:nvPr/>
              </p:nvSpPr>
              <p:spPr>
                <a:xfrm flipH="1" rot="75600">
                  <a:off x="6947640" y="1826280"/>
                  <a:ext cx="218880" cy="2098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49"/>
              <p:cNvGrpSpPr/>
              <p:nvPr/>
            </p:nvGrpSpPr>
            <p:grpSpPr>
              <a:xfrm>
                <a:off x="6747840" y="2829240"/>
                <a:ext cx="277200" cy="198720"/>
                <a:chOff x="6747840" y="2829240"/>
                <a:chExt cx="277200" cy="198720"/>
              </a:xfrm>
            </p:grpSpPr>
            <p:sp>
              <p:nvSpPr>
                <p:cNvPr id="555" name="Freeform 56"/>
                <p:cNvSpPr/>
                <p:nvPr/>
              </p:nvSpPr>
              <p:spPr>
                <a:xfrm rot="801000">
                  <a:off x="6794280" y="2845800"/>
                  <a:ext cx="163440" cy="165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57"/>
                <p:cNvSpPr/>
                <p:nvPr/>
              </p:nvSpPr>
              <p:spPr>
                <a:xfrm flipH="1" rot="4797600">
                  <a:off x="6826680" y="2808720"/>
                  <a:ext cx="119160" cy="2602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52"/>
              <p:cNvGrpSpPr/>
              <p:nvPr/>
            </p:nvGrpSpPr>
            <p:grpSpPr>
              <a:xfrm>
                <a:off x="6693480" y="2291400"/>
                <a:ext cx="289440" cy="242280"/>
                <a:chOff x="6693480" y="2291400"/>
                <a:chExt cx="289440" cy="242280"/>
              </a:xfrm>
            </p:grpSpPr>
            <p:sp>
              <p:nvSpPr>
                <p:cNvPr id="558" name="Freeform 59"/>
                <p:cNvSpPr/>
                <p:nvPr/>
              </p:nvSpPr>
              <p:spPr>
                <a:xfrm rot="1368000">
                  <a:off x="6738480" y="2319120"/>
                  <a:ext cx="181080" cy="1868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60"/>
                <p:cNvSpPr/>
                <p:nvPr/>
              </p:nvSpPr>
              <p:spPr>
                <a:xfrm flipH="1" rot="5364600">
                  <a:off x="6770880" y="2281680"/>
                  <a:ext cx="134280" cy="2880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55"/>
              <p:cNvGrpSpPr/>
              <p:nvPr/>
            </p:nvGrpSpPr>
            <p:grpSpPr>
              <a:xfrm>
                <a:off x="6663240" y="1909440"/>
                <a:ext cx="318960" cy="281160"/>
                <a:chOff x="6663240" y="1909440"/>
                <a:chExt cx="318960" cy="281160"/>
              </a:xfrm>
            </p:grpSpPr>
            <p:sp>
              <p:nvSpPr>
                <p:cNvPr id="561" name="Freeform 62"/>
                <p:cNvSpPr/>
                <p:nvPr/>
              </p:nvSpPr>
              <p:spPr>
                <a:xfrm rot="1368000">
                  <a:off x="6714000" y="1939320"/>
                  <a:ext cx="199080" cy="221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63"/>
                <p:cNvSpPr/>
                <p:nvPr/>
              </p:nvSpPr>
              <p:spPr>
                <a:xfrm flipH="1" rot="5364600">
                  <a:off x="6742800" y="1906920"/>
                  <a:ext cx="159120" cy="3171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Group 58"/>
              <p:cNvGrpSpPr/>
              <p:nvPr/>
            </p:nvGrpSpPr>
            <p:grpSpPr>
              <a:xfrm>
                <a:off x="6874200" y="2080800"/>
                <a:ext cx="331920" cy="246960"/>
                <a:chOff x="6874200" y="2080800"/>
                <a:chExt cx="331920" cy="246960"/>
              </a:xfrm>
            </p:grpSpPr>
            <p:sp>
              <p:nvSpPr>
                <p:cNvPr id="564" name="Freeform 65"/>
                <p:cNvSpPr/>
                <p:nvPr/>
              </p:nvSpPr>
              <p:spPr>
                <a:xfrm rot="17679600">
                  <a:off x="6973920" y="2052000"/>
                  <a:ext cx="131760" cy="3045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66"/>
                <p:cNvSpPr/>
                <p:nvPr/>
              </p:nvSpPr>
              <p:spPr>
                <a:xfrm flipH="1" rot="75600">
                  <a:off x="6947640" y="2096640"/>
                  <a:ext cx="218880" cy="2098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Group 61"/>
              <p:cNvGrpSpPr/>
              <p:nvPr/>
            </p:nvGrpSpPr>
            <p:grpSpPr>
              <a:xfrm>
                <a:off x="6904800" y="2545200"/>
                <a:ext cx="314280" cy="239040"/>
                <a:chOff x="6904800" y="2545200"/>
                <a:chExt cx="314280" cy="239040"/>
              </a:xfrm>
            </p:grpSpPr>
            <p:sp>
              <p:nvSpPr>
                <p:cNvPr id="567" name="Freeform 68"/>
                <p:cNvSpPr/>
                <p:nvPr/>
              </p:nvSpPr>
              <p:spPr>
                <a:xfrm rot="17679600">
                  <a:off x="6995880" y="2521800"/>
                  <a:ext cx="131760" cy="285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69"/>
                <p:cNvSpPr/>
                <p:nvPr/>
              </p:nvSpPr>
              <p:spPr>
                <a:xfrm flipH="1" rot="75600">
                  <a:off x="6975360" y="2556720"/>
                  <a:ext cx="205200" cy="2095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Group 64"/>
              <p:cNvGrpSpPr/>
              <p:nvPr/>
            </p:nvGrpSpPr>
            <p:grpSpPr>
              <a:xfrm>
                <a:off x="6904440" y="2994120"/>
                <a:ext cx="236520" cy="213120"/>
                <a:chOff x="6904440" y="2994120"/>
                <a:chExt cx="236520" cy="213120"/>
              </a:xfrm>
            </p:grpSpPr>
            <p:sp>
              <p:nvSpPr>
                <p:cNvPr id="570" name="Freeform 71"/>
                <p:cNvSpPr/>
                <p:nvPr/>
              </p:nvSpPr>
              <p:spPr>
                <a:xfrm rot="17679600">
                  <a:off x="6956640" y="3004920"/>
                  <a:ext cx="131760" cy="199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72"/>
                <p:cNvSpPr/>
                <p:nvPr/>
              </p:nvSpPr>
              <p:spPr>
                <a:xfrm flipH="1" rot="75600">
                  <a:off x="6963120" y="2995560"/>
                  <a:ext cx="143640" cy="2098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Group 67"/>
              <p:cNvGrpSpPr/>
              <p:nvPr/>
            </p:nvGrpSpPr>
            <p:grpSpPr>
              <a:xfrm>
                <a:off x="6904440" y="3483000"/>
                <a:ext cx="231120" cy="222120"/>
                <a:chOff x="6904440" y="3483000"/>
                <a:chExt cx="231120" cy="222120"/>
              </a:xfrm>
            </p:grpSpPr>
            <p:sp>
              <p:nvSpPr>
                <p:cNvPr id="573" name="Freeform 74"/>
                <p:cNvSpPr/>
                <p:nvPr/>
              </p:nvSpPr>
              <p:spPr>
                <a:xfrm rot="17293200">
                  <a:off x="6953760" y="3500280"/>
                  <a:ext cx="131760" cy="1998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75"/>
                <p:cNvSpPr/>
                <p:nvPr/>
              </p:nvSpPr>
              <p:spPr>
                <a:xfrm flipH="1" rot="21289800">
                  <a:off x="6959880" y="3488760"/>
                  <a:ext cx="143640" cy="2098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Group 70"/>
              <p:cNvGrpSpPr/>
              <p:nvPr/>
            </p:nvGrpSpPr>
            <p:grpSpPr>
              <a:xfrm>
                <a:off x="6716160" y="3239280"/>
                <a:ext cx="277200" cy="198720"/>
                <a:chOff x="6716160" y="3239280"/>
                <a:chExt cx="277200" cy="198720"/>
              </a:xfrm>
            </p:grpSpPr>
            <p:sp>
              <p:nvSpPr>
                <p:cNvPr id="576" name="Freeform 77"/>
                <p:cNvSpPr/>
                <p:nvPr/>
              </p:nvSpPr>
              <p:spPr>
                <a:xfrm rot="801000">
                  <a:off x="6762600" y="3255840"/>
                  <a:ext cx="163440" cy="165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78"/>
                <p:cNvSpPr/>
                <p:nvPr/>
              </p:nvSpPr>
              <p:spPr>
                <a:xfrm flipH="1" rot="4797600">
                  <a:off x="6795000" y="3218760"/>
                  <a:ext cx="119160" cy="2602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Group 73"/>
              <p:cNvGrpSpPr/>
              <p:nvPr/>
            </p:nvGrpSpPr>
            <p:grpSpPr>
              <a:xfrm>
                <a:off x="6716160" y="3696840"/>
                <a:ext cx="277200" cy="198720"/>
                <a:chOff x="6716160" y="3696840"/>
                <a:chExt cx="277200" cy="198720"/>
              </a:xfrm>
            </p:grpSpPr>
            <p:sp>
              <p:nvSpPr>
                <p:cNvPr id="579" name="Freeform 80"/>
                <p:cNvSpPr/>
                <p:nvPr/>
              </p:nvSpPr>
              <p:spPr>
                <a:xfrm rot="801000">
                  <a:off x="6762600" y="3713400"/>
                  <a:ext cx="163440" cy="1656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81"/>
                <p:cNvSpPr/>
                <p:nvPr/>
              </p:nvSpPr>
              <p:spPr>
                <a:xfrm flipH="1" rot="4797600">
                  <a:off x="6795000" y="3676320"/>
                  <a:ext cx="119160" cy="2602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76"/>
              <p:cNvGrpSpPr/>
              <p:nvPr/>
            </p:nvGrpSpPr>
            <p:grpSpPr>
              <a:xfrm>
                <a:off x="6851520" y="3953520"/>
                <a:ext cx="208800" cy="241920"/>
                <a:chOff x="6851520" y="3953520"/>
                <a:chExt cx="208800" cy="241920"/>
              </a:xfrm>
            </p:grpSpPr>
            <p:sp>
              <p:nvSpPr>
                <p:cNvPr id="582" name="Freeform 83"/>
                <p:cNvSpPr/>
                <p:nvPr/>
              </p:nvSpPr>
              <p:spPr>
                <a:xfrm rot="19658400">
                  <a:off x="6873480" y="4013280"/>
                  <a:ext cx="145440" cy="1245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84"/>
                <p:cNvSpPr/>
                <p:nvPr/>
              </p:nvSpPr>
              <p:spPr>
                <a:xfrm flipH="1" rot="2055000">
                  <a:off x="6913080" y="3958560"/>
                  <a:ext cx="89640" cy="2314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Group 79"/>
              <p:cNvGrpSpPr/>
              <p:nvPr/>
            </p:nvGrpSpPr>
            <p:grpSpPr>
              <a:xfrm>
                <a:off x="6940080" y="3801240"/>
                <a:ext cx="210600" cy="221400"/>
                <a:chOff x="6940080" y="3801240"/>
                <a:chExt cx="210600" cy="221400"/>
              </a:xfrm>
            </p:grpSpPr>
            <p:sp>
              <p:nvSpPr>
                <p:cNvPr id="585" name="Freeform 86"/>
                <p:cNvSpPr/>
                <p:nvPr/>
              </p:nvSpPr>
              <p:spPr>
                <a:xfrm rot="16605000">
                  <a:off x="6985440" y="3819960"/>
                  <a:ext cx="118440" cy="1972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87"/>
                <p:cNvSpPr/>
                <p:nvPr/>
              </p:nvSpPr>
              <p:spPr>
                <a:xfrm flipH="1" rot="20601600">
                  <a:off x="6984360" y="3817440"/>
                  <a:ext cx="141840" cy="1886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7" name="Rectangle 88"/>
            <p:cNvSpPr/>
            <p:nvPr/>
          </p:nvSpPr>
          <p:spPr>
            <a:xfrm>
              <a:off x="6597720" y="1620720"/>
              <a:ext cx="674640" cy="274464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8" name="Group 83"/>
            <p:cNvGrpSpPr/>
            <p:nvPr/>
          </p:nvGrpSpPr>
          <p:grpSpPr>
            <a:xfrm>
              <a:off x="6117120" y="1612800"/>
              <a:ext cx="470160" cy="1685520"/>
              <a:chOff x="6117120" y="1612800"/>
              <a:chExt cx="470160" cy="1685520"/>
            </a:xfrm>
          </p:grpSpPr>
          <p:sp>
            <p:nvSpPr>
              <p:cNvPr id="589" name="AutoShape 90"/>
              <p:cNvSpPr/>
              <p:nvPr/>
            </p:nvSpPr>
            <p:spPr>
              <a:xfrm>
                <a:off x="6372000" y="1612800"/>
                <a:ext cx="34920" cy="152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85"/>
              <p:cNvGrpSpPr/>
              <p:nvPr/>
            </p:nvGrpSpPr>
            <p:grpSpPr>
              <a:xfrm>
                <a:off x="6150960" y="1776600"/>
                <a:ext cx="296640" cy="220680"/>
                <a:chOff x="6150960" y="1776600"/>
                <a:chExt cx="296640" cy="220680"/>
              </a:xfrm>
            </p:grpSpPr>
            <p:sp>
              <p:nvSpPr>
                <p:cNvPr id="591" name="Freeform 92"/>
                <p:cNvSpPr/>
                <p:nvPr/>
              </p:nvSpPr>
              <p:spPr>
                <a:xfrm rot="801000">
                  <a:off x="6201720" y="1793880"/>
                  <a:ext cx="174240" cy="185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93"/>
                <p:cNvSpPr/>
                <p:nvPr/>
              </p:nvSpPr>
              <p:spPr>
                <a:xfrm flipH="1" rot="4797600">
                  <a:off x="6232320" y="1759680"/>
                  <a:ext cx="133200" cy="2775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Group 88"/>
              <p:cNvGrpSpPr/>
              <p:nvPr/>
            </p:nvGrpSpPr>
            <p:grpSpPr>
              <a:xfrm>
                <a:off x="6319080" y="1961640"/>
                <a:ext cx="255960" cy="238320"/>
                <a:chOff x="6319080" y="1961640"/>
                <a:chExt cx="255960" cy="238320"/>
              </a:xfrm>
            </p:grpSpPr>
            <p:sp>
              <p:nvSpPr>
                <p:cNvPr id="594" name="Freeform 95"/>
                <p:cNvSpPr/>
                <p:nvPr/>
              </p:nvSpPr>
              <p:spPr>
                <a:xfrm rot="17679600">
                  <a:off x="6373080" y="1978920"/>
                  <a:ext cx="147600" cy="2138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96"/>
                <p:cNvSpPr/>
                <p:nvPr/>
              </p:nvSpPr>
              <p:spPr>
                <a:xfrm flipH="1" rot="75600">
                  <a:off x="6383520" y="1963080"/>
                  <a:ext cx="153720" cy="2350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Group 91"/>
              <p:cNvGrpSpPr/>
              <p:nvPr/>
            </p:nvGrpSpPr>
            <p:grpSpPr>
              <a:xfrm>
                <a:off x="6312600" y="2502000"/>
                <a:ext cx="248760" cy="245520"/>
                <a:chOff x="6312600" y="2502000"/>
                <a:chExt cx="248760" cy="245520"/>
              </a:xfrm>
            </p:grpSpPr>
            <p:sp>
              <p:nvSpPr>
                <p:cNvPr id="597" name="Freeform 98"/>
                <p:cNvSpPr/>
                <p:nvPr/>
              </p:nvSpPr>
              <p:spPr>
                <a:xfrm rot="17293200">
                  <a:off x="6363720" y="2524680"/>
                  <a:ext cx="146520" cy="21384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99"/>
                <p:cNvSpPr/>
                <p:nvPr/>
              </p:nvSpPr>
              <p:spPr>
                <a:xfrm flipH="1" rot="21289800">
                  <a:off x="6373080" y="2508120"/>
                  <a:ext cx="153720" cy="2329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Group 94"/>
              <p:cNvGrpSpPr/>
              <p:nvPr/>
            </p:nvGrpSpPr>
            <p:grpSpPr>
              <a:xfrm>
                <a:off x="6117120" y="2235240"/>
                <a:ext cx="297000" cy="221040"/>
                <a:chOff x="6117120" y="2235240"/>
                <a:chExt cx="297000" cy="221040"/>
              </a:xfrm>
            </p:grpSpPr>
            <p:sp>
              <p:nvSpPr>
                <p:cNvPr id="600" name="Freeform 101"/>
                <p:cNvSpPr/>
                <p:nvPr/>
              </p:nvSpPr>
              <p:spPr>
                <a:xfrm rot="801000">
                  <a:off x="6167880" y="2252520"/>
                  <a:ext cx="174240" cy="18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102"/>
                <p:cNvSpPr/>
                <p:nvPr/>
              </p:nvSpPr>
              <p:spPr>
                <a:xfrm flipH="1" rot="4797600">
                  <a:off x="6198120" y="2217960"/>
                  <a:ext cx="133560" cy="2779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2" name="Group 97"/>
              <p:cNvGrpSpPr/>
              <p:nvPr/>
            </p:nvGrpSpPr>
            <p:grpSpPr>
              <a:xfrm>
                <a:off x="6117120" y="2746440"/>
                <a:ext cx="297000" cy="221040"/>
                <a:chOff x="6117120" y="2746440"/>
                <a:chExt cx="297000" cy="221040"/>
              </a:xfrm>
            </p:grpSpPr>
            <p:sp>
              <p:nvSpPr>
                <p:cNvPr id="603" name="Freeform 104"/>
                <p:cNvSpPr/>
                <p:nvPr/>
              </p:nvSpPr>
              <p:spPr>
                <a:xfrm rot="801000">
                  <a:off x="6167880" y="2763720"/>
                  <a:ext cx="174240" cy="18576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05"/>
                <p:cNvSpPr/>
                <p:nvPr/>
              </p:nvSpPr>
              <p:spPr>
                <a:xfrm flipH="1" rot="4797600">
                  <a:off x="6198120" y="2729160"/>
                  <a:ext cx="133560" cy="2779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5" name="Group 100"/>
              <p:cNvGrpSpPr/>
              <p:nvPr/>
            </p:nvGrpSpPr>
            <p:grpSpPr>
              <a:xfrm>
                <a:off x="6261840" y="3036960"/>
                <a:ext cx="227160" cy="261360"/>
                <a:chOff x="6261840" y="3036960"/>
                <a:chExt cx="227160" cy="261360"/>
              </a:xfrm>
            </p:grpSpPr>
            <p:sp>
              <p:nvSpPr>
                <p:cNvPr id="606" name="Freeform 107"/>
                <p:cNvSpPr/>
                <p:nvPr/>
              </p:nvSpPr>
              <p:spPr>
                <a:xfrm rot="19658400">
                  <a:off x="6287040" y="3098520"/>
                  <a:ext cx="155520" cy="139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108"/>
                <p:cNvSpPr/>
                <p:nvPr/>
              </p:nvSpPr>
              <p:spPr>
                <a:xfrm flipH="1" rot="2055000">
                  <a:off x="6327360" y="3043440"/>
                  <a:ext cx="100440" cy="24768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Group 103"/>
              <p:cNvGrpSpPr/>
              <p:nvPr/>
            </p:nvGrpSpPr>
            <p:grpSpPr>
              <a:xfrm>
                <a:off x="6359040" y="2864880"/>
                <a:ext cx="228240" cy="245880"/>
                <a:chOff x="6359040" y="2864880"/>
                <a:chExt cx="228240" cy="245880"/>
              </a:xfrm>
            </p:grpSpPr>
            <p:sp>
              <p:nvSpPr>
                <p:cNvPr id="609" name="Freeform 110"/>
                <p:cNvSpPr/>
                <p:nvPr/>
              </p:nvSpPr>
              <p:spPr>
                <a:xfrm rot="16605000">
                  <a:off x="6405840" y="2889720"/>
                  <a:ext cx="132840" cy="21240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11"/>
                <p:cNvSpPr/>
                <p:nvPr/>
              </p:nvSpPr>
              <p:spPr>
                <a:xfrm flipH="1" rot="20601600">
                  <a:off x="6407640" y="2882160"/>
                  <a:ext cx="152640" cy="211320"/>
                </a:xfrm>
                <a:custGeom>
                  <a:avLst/>
                  <a:gdLst/>
                  <a:ahLst/>
                  <a:rect l="l" t="t" r="r" b="b"/>
                  <a:pathLst>
                    <a:path w="213" h="343">
                      <a:moveTo>
                        <a:pt x="205" y="38"/>
                      </a:moveTo>
                      <a:cubicBezTo>
                        <a:pt x="213" y="0"/>
                        <a:pt x="99" y="57"/>
                        <a:pt x="69" y="106"/>
                      </a:cubicBezTo>
                      <a:cubicBezTo>
                        <a:pt x="39" y="155"/>
                        <a:pt x="0" y="343"/>
                        <a:pt x="23" y="332"/>
                      </a:cubicBezTo>
                      <a:cubicBezTo>
                        <a:pt x="46" y="321"/>
                        <a:pt x="197" y="76"/>
                        <a:pt x="205" y="3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336600"/>
                    </a:gs>
                  </a:gsLst>
                  <a:lin ang="39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1" name="Group 107"/>
          <p:cNvGrpSpPr/>
          <p:nvPr/>
        </p:nvGrpSpPr>
        <p:grpSpPr>
          <a:xfrm>
            <a:off x="781200" y="1268280"/>
            <a:ext cx="7381800" cy="4284720"/>
            <a:chOff x="781200" y="1268280"/>
            <a:chExt cx="7381800" cy="4284720"/>
          </a:xfrm>
        </p:grpSpPr>
        <p:sp>
          <p:nvSpPr>
            <p:cNvPr id="612" name="AutoShape 6"/>
            <p:cNvSpPr/>
            <p:nvPr/>
          </p:nvSpPr>
          <p:spPr>
            <a:xfrm>
              <a:off x="781200" y="1592280"/>
              <a:ext cx="7381800" cy="3960720"/>
            </a:xfrm>
            <a:prstGeom prst="roundRect">
              <a:avLst>
                <a:gd name="adj" fmla="val 5713"/>
              </a:avLst>
            </a:prstGeom>
            <a:solidFill>
              <a:srgbClr val="ffffff">
                <a:alpha val="50000"/>
              </a:srgbClr>
            </a:solidFill>
            <a:ln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5"/>
            <p:cNvSpPr/>
            <p:nvPr/>
          </p:nvSpPr>
          <p:spPr>
            <a:xfrm>
              <a:off x="1105200" y="1268280"/>
              <a:ext cx="2303280" cy="61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Rectangle 114"/>
          <p:cNvSpPr/>
          <p:nvPr/>
        </p:nvSpPr>
        <p:spPr>
          <a:xfrm>
            <a:off x="1823400" y="137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自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15"/>
          <p:cNvSpPr/>
          <p:nvPr/>
        </p:nvSpPr>
        <p:spPr>
          <a:xfrm>
            <a:off x="1195560" y="1938240"/>
            <a:ext cx="69134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用横线画出纳塔莉的心理描写的句子，从中体会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用波浪线画出纳塔莉动作的句子，从中体会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3"/>
          <p:cNvSpPr/>
          <p:nvPr/>
        </p:nvSpPr>
        <p:spPr>
          <a:xfrm>
            <a:off x="1711440" y="2193840"/>
            <a:ext cx="572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为什么威廉叔叔会疲惫不堪、忧心忡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2:32:4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0:35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