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wind.wav" ContentType="audio/x-wav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DBE-84DE-4349-9CB7-3CC5B0587F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24E3-877E-4454-BB28-D8B7CFD247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EA7-2CD0-4721-AA06-4EB48929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DA4-17B8-40B7-8D7C-24FAD48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5D5-F9E5-44E3-B6BC-ADC1A947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E8C-D6E8-4514-8F4D-4ECB47CC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C4F-ACD5-4A3C-BE63-B43F5A77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F5C-4DDC-4B93-BEB7-7F1DC1D7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6D7-F569-4FCF-AE93-24295859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81B-17DF-4EB0-8A8B-C2CE32AA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AB8-03A1-439F-A55F-6AE7A8EE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79F-FD32-4C33-BBC7-0FAC3339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251-DB64-46E8-A2A6-E503528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C63-8285-4EDB-AC70-52B57C0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2296-EB1B-4605-AA84-DFC997D62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51b58PICZ3S_1024"/>
          <p:cNvPicPr/>
          <p:nvPr/>
        </p:nvPicPr>
        <p:blipFill>
          <a:blip r:embed="rId1"/>
          <a:stretch/>
        </p:blipFill>
        <p:spPr>
          <a:xfrm>
            <a:off x="225360" y="1447920"/>
            <a:ext cx="3048120" cy="444960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3048120" y="152388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99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狐狸的清白</a:t>
            </a:r>
            <a:endParaRPr b="1" lang="en-US" sz="1800" spc="-1" strike="noStrike">
              <a:ln w="0">
                <a:noFill/>
              </a:ln>
              <a:solidFill>
                <a:srgbClr val="99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646560" y="6095880"/>
            <a:ext cx="5721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/>
          <p:cNvSpPr/>
          <p:nvPr/>
        </p:nvSpPr>
        <p:spPr>
          <a:xfrm>
            <a:off x="609480" y="609480"/>
            <a:ext cx="3048120" cy="990720"/>
          </a:xfrm>
          <a:prstGeom prst="cloudCallout">
            <a:avLst>
              <a:gd name="adj1" fmla="val 69273"/>
              <a:gd name="adj2" fmla="val 8878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中心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4280" y="2286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的清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狐狸和土拨鼠的对话，揭露了狐狸虚伪、贪婪、奸诈的本性。抨击和讽刺了像狐狸一样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28600" y="152280"/>
            <a:ext cx="70866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说你可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单是你多变的毛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那双黑夜里灼灼闪光的眼睛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祖先列那狐传奇的故事，早赢得亿万人的敬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寓言家的偏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指责你骗取乌鸦的奶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得人们总提你的劣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其实，那该怪愚蠢的乌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让它喜欢奉迎贪图便宜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至于，人们总不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在农家偷过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其实，这完全是偶尔的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410080" y="228600"/>
            <a:ext cx="37339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科学家在你胃中验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的主食是田间野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些危害人类的东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和猫头鹰配合得十分默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在白天奋力捕鼠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在黑夜闪电般出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不怨恨人类的偏颇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惧怕凶恶的天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风雨中跋涉，冰雪中奔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生存你拼搏不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赞美你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爱的小狐狸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971800" y="5867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可爱的小狐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6781680" y="5410080"/>
            <a:ext cx="2057400" cy="1143000"/>
          </a:xfrm>
          <a:prstGeom prst="cloudCallout">
            <a:avLst>
              <a:gd name="adj1" fmla="val -190740"/>
              <a:gd name="adj2" fmla="val -511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440"/>
                            </p:stCondLst>
                            <p:childTnLst>
                              <p:par>
                                <p:cTn id="17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457200" y="380880"/>
            <a:ext cx="2666880" cy="1295640"/>
          </a:xfrm>
          <a:prstGeom prst="cloudCallout">
            <a:avLst>
              <a:gd name="adj1" fmla="val 123212"/>
              <a:gd name="adj2" fmla="val 7267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90720" y="7160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5280" y="213372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是只怎样的狐狸？你怎么知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639800" y="4114800"/>
            <a:ext cx="5629320" cy="1066680"/>
          </a:xfrm>
          <a:prstGeom prst="borderCallout1">
            <a:avLst>
              <a:gd name="adj1" fmla="val 18750"/>
              <a:gd name="adj2" fmla="val -8333"/>
              <a:gd name="adj3" fmla="val 107143"/>
              <a:gd name="adj4" fmla="val -22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聪明可爱、乐于助人、拼搏不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457200" y="228600"/>
            <a:ext cx="2666880" cy="1143000"/>
          </a:xfrm>
          <a:prstGeom prst="cloudCallout">
            <a:avLst>
              <a:gd name="adj1" fmla="val 143569"/>
              <a:gd name="adj2" fmla="val 2736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5b070734fa4e9f8ea2cc2b21"/>
          <p:cNvPicPr/>
          <p:nvPr/>
        </p:nvPicPr>
        <p:blipFill>
          <a:blip r:embed="rId1"/>
          <a:stretch/>
        </p:blipFill>
        <p:spPr>
          <a:xfrm>
            <a:off x="5562720" y="914400"/>
            <a:ext cx="3200400" cy="4781520"/>
          </a:xfrm>
          <a:prstGeom prst="rect">
            <a:avLst/>
          </a:prstGeom>
          <a:ln w="0">
            <a:noFill/>
          </a:ln>
        </p:spPr>
      </p:pic>
      <p:sp>
        <p:nvSpPr>
          <p:cNvPr id="105" name="Oval 8"/>
          <p:cNvSpPr/>
          <p:nvPr/>
        </p:nvSpPr>
        <p:spPr>
          <a:xfrm>
            <a:off x="349200" y="4495680"/>
            <a:ext cx="209880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066680" y="1676520"/>
            <a:ext cx="44960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寓言家的偏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责你骗取乌鸦的奶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得人们总提你的劣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，那该怪愚蠢的乌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让它喜欢奉迎贪图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228600" y="0"/>
            <a:ext cx="2666880" cy="1523880"/>
          </a:xfrm>
          <a:prstGeom prst="cloudCallout">
            <a:avLst>
              <a:gd name="adj1" fmla="val 141430"/>
              <a:gd name="adj2" fmla="val 4145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9ed0d080593f7dec6c8119af"/>
          <p:cNvPicPr/>
          <p:nvPr/>
        </p:nvPicPr>
        <p:blipFill>
          <a:blip r:embed="rId1"/>
          <a:stretch/>
        </p:blipFill>
        <p:spPr>
          <a:xfrm>
            <a:off x="6019920" y="457200"/>
            <a:ext cx="2819160" cy="2590920"/>
          </a:xfrm>
          <a:prstGeom prst="rect">
            <a:avLst/>
          </a:prstGeom>
          <a:ln w="0">
            <a:noFill/>
          </a:ln>
        </p:spPr>
      </p:pic>
      <p:sp>
        <p:nvSpPr>
          <p:cNvPr id="109" name="Oval 8"/>
          <p:cNvSpPr/>
          <p:nvPr/>
        </p:nvSpPr>
        <p:spPr>
          <a:xfrm>
            <a:off x="290520" y="4648320"/>
            <a:ext cx="1701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可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85800" y="1828800"/>
            <a:ext cx="53341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你可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单是你多变的毛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那双黑夜里灼灼闪光的眼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祖先列那狐传奇的故事，早赢得亿万人的敬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645a45215fefe71d9358077b"/>
          <p:cNvPicPr/>
          <p:nvPr/>
        </p:nvPicPr>
        <p:blipFill>
          <a:blip r:embed="rId2"/>
          <a:stretch/>
        </p:blipFill>
        <p:spPr>
          <a:xfrm>
            <a:off x="6019920" y="304812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37421d0df7be66796059f3cf"/>
          <p:cNvPicPr/>
          <p:nvPr/>
        </p:nvPicPr>
        <p:blipFill>
          <a:blip r:embed="rId1"/>
          <a:stretch/>
        </p:blipFill>
        <p:spPr>
          <a:xfrm>
            <a:off x="5334120" y="1295280"/>
            <a:ext cx="3200400" cy="4038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228600"/>
            <a:ext cx="2666880" cy="1523880"/>
          </a:xfrm>
          <a:prstGeom prst="cloudCallout">
            <a:avLst>
              <a:gd name="adj1" fmla="val 141430"/>
              <a:gd name="adj2" fmla="val 4145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173160" y="4038480"/>
            <a:ext cx="286056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乐于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6560" y="2133720"/>
            <a:ext cx="445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学家在你胃中验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主食是田间野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些危害人类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>
            <a:off x="0" y="228600"/>
            <a:ext cx="2666880" cy="1219320"/>
          </a:xfrm>
          <a:prstGeom prst="cloudCallout">
            <a:avLst>
              <a:gd name="adj1" fmla="val 141430"/>
              <a:gd name="adj2" fmla="val 6432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0" y="4724280"/>
            <a:ext cx="23083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拼搏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7c336a954a388c3e54fb965e"/>
          <p:cNvPicPr/>
          <p:nvPr/>
        </p:nvPicPr>
        <p:blipFill>
          <a:blip r:embed="rId1"/>
          <a:stretch/>
        </p:blipFill>
        <p:spPr>
          <a:xfrm>
            <a:off x="5867280" y="1371600"/>
            <a:ext cx="3124440" cy="4038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466560" y="1600200"/>
            <a:ext cx="532476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在白天奋力捕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在黑夜闪电般出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不怨恨人类的偏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惧怕凶恶的天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雨中跋涉，冰雪中奔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生存你拼搏不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80880" y="838080"/>
            <a:ext cx="53056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大声读诗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两首诗分别写了关于狐狸的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两首诗分别是怎样写狐狸的？先写了什么，再写什么，然后写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图片11"/>
          <p:cNvPicPr/>
          <p:nvPr/>
        </p:nvPicPr>
        <p:blipFill>
          <a:blip r:embed="rId1"/>
          <a:stretch/>
        </p:blipFill>
        <p:spPr>
          <a:xfrm>
            <a:off x="-4680" y="0"/>
            <a:ext cx="93009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609480" y="304920"/>
            <a:ext cx="2971800" cy="990360"/>
          </a:xfrm>
          <a:prstGeom prst="cloudCallout">
            <a:avLst>
              <a:gd name="adj1" fmla="val 69273"/>
              <a:gd name="adj2" fmla="val 8878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中心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447920" y="3581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爱的小狐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诗人为小狐狸鸣冤昭雪，热情歌颂了聪明可爱、乐于助人、拼搏不息的小狐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295280" y="1676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狐狸的清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狐狸和土拨鼠的对话，揭露了狐狸虚伪、贪婪、奸诈的本性。抨击和讽刺了像狐狸一样的  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图片11"/>
          <p:cNvPicPr/>
          <p:nvPr/>
        </p:nvPicPr>
        <p:blipFill>
          <a:blip r:embed="rId1"/>
          <a:stretch/>
        </p:blipFill>
        <p:spPr>
          <a:xfrm>
            <a:off x="-4680" y="0"/>
            <a:ext cx="93009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/>
          <p:cNvSpPr/>
          <p:nvPr/>
        </p:nvSpPr>
        <p:spPr>
          <a:xfrm>
            <a:off x="609480" y="304920"/>
            <a:ext cx="3353040" cy="990360"/>
          </a:xfrm>
          <a:prstGeom prst="cloudCallout">
            <a:avLst>
              <a:gd name="adj1" fmla="val 47583"/>
              <a:gd name="adj2" fmla="val 8878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层次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19764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狐狸的清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层：讲土拨鼠询问狐狸急急忙忙往哪儿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层：讲狐狸一个劲儿地向土拨鼠倾诉自己的“冤屈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层：讲土拨鼠回击了虚伪奸诈的狐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5410080" y="762120"/>
            <a:ext cx="1600200" cy="1371600"/>
          </a:xfrm>
          <a:prstGeom prst="wedgeEllipseCallout">
            <a:avLst>
              <a:gd name="adj1" fmla="val -47319"/>
              <a:gd name="adj2" fmla="val 49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" y="3657600"/>
            <a:ext cx="25146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狐狸的故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狐假虎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酸葡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狐狸和乌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77a1e80d992a4abeaa645751"/>
          <p:cNvPicPr/>
          <p:nvPr/>
        </p:nvPicPr>
        <p:blipFill>
          <a:blip r:embed="rId1"/>
          <a:stretch/>
        </p:blipFill>
        <p:spPr>
          <a:xfrm>
            <a:off x="609480" y="380880"/>
            <a:ext cx="3810240" cy="2819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5791320" y="1477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狡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20111015195110_yRjLt"/>
          <p:cNvPicPr/>
          <p:nvPr/>
        </p:nvPicPr>
        <p:blipFill>
          <a:blip r:embed="rId2"/>
          <a:stretch/>
        </p:blipFill>
        <p:spPr>
          <a:xfrm>
            <a:off x="4395960" y="2590920"/>
            <a:ext cx="4398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图片11"/>
          <p:cNvPicPr/>
          <p:nvPr/>
        </p:nvPicPr>
        <p:blipFill>
          <a:blip r:embed="rId1"/>
          <a:stretch/>
        </p:blipFill>
        <p:spPr>
          <a:xfrm>
            <a:off x="-4680" y="0"/>
            <a:ext cx="93009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066680" y="1992240"/>
            <a:ext cx="7467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可爱的小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层：写小狐狸十分可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层：写诗人为小狐狸鸣冤昭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层：诗人再一次赞美可爱的小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09480" y="304920"/>
            <a:ext cx="3124440" cy="990360"/>
          </a:xfrm>
          <a:prstGeom prst="cloudCallout">
            <a:avLst>
              <a:gd name="adj1" fmla="val 54726"/>
              <a:gd name="adj2" fmla="val 8878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层次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287360" y="1143000"/>
            <a:ext cx="6707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两首诗中的狐狸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的写法有什么不同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93640" y="2362320"/>
            <a:ext cx="832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狐狸的清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描写了一只虚伪、贪婪、奸诈的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可爱的小狐狸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描写了一只聪明可爱、乐于助人、拼搏不息的小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2166840" y="0"/>
            <a:ext cx="2743200" cy="1143000"/>
          </a:xfrm>
          <a:prstGeom prst="cloudCallout">
            <a:avLst>
              <a:gd name="adj1" fmla="val 92805"/>
              <a:gd name="adj2" fmla="val 7402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57200" y="4670280"/>
            <a:ext cx="8196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狐狸的清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采用的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话的直白方式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可爱的小狐狸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采用的是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述与抒情的方式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301320" cy="69343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5"/>
          <p:cNvSpPr/>
          <p:nvPr/>
        </p:nvSpPr>
        <p:spPr>
          <a:xfrm>
            <a:off x="762120" y="228600"/>
            <a:ext cx="2743200" cy="1143000"/>
          </a:xfrm>
          <a:prstGeom prst="cloudCallout">
            <a:avLst>
              <a:gd name="adj1" fmla="val 90106"/>
              <a:gd name="adj2" fmla="val 5402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62120" y="15080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是写狐狸，作者的情感为什么有这么大的差别？你有何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85800" y="2666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是写狐狸，一个批判、揭露，一个表扬，这是因为作者各自从不同的观察和理解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38080" y="41148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同一事物要从不同角度去观察认识，这样才能更全面的地认识了解事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658960" y="220968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85760" y="5740560"/>
            <a:ext cx="73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8DA9-3EB6-40E6-AB0C-24FED6168E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0"/>
          <p:cNvSpPr/>
          <p:nvPr/>
        </p:nvSpPr>
        <p:spPr>
          <a:xfrm>
            <a:off x="1981080" y="2590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0a71d22dff40996b1f3089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276720" y="1752480"/>
            <a:ext cx="5867280" cy="94716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：一种哺乳动物，形状有点像狼，但形体比狼要小一些。嘴尖面长，脸、耳朵成三角形，尾巴蓬松且长，毛一般为赤黄色。这种动物生性多疑，常昼伏夜出，生活在森林、草原、沙漠、丘陵地带，居住于树洞或土穴中。由于嗅觉和听觉极好，加上行动敏捷，所以能捕食老鼠、野兔、小鸟、蛙、蜥蜴、昆虫和蠕虫等，也吃一些野果。因为它吃鼠，偶尔才袭击家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09520" y="914400"/>
            <a:ext cx="8683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冤枉           搜刮民财         造谣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伤           中饱私囊          勾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灼灼闪光      奶酪             劣迹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愚蠢             默契             怨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偏颇              跋涉             奔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拼搏不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52280" y="289080"/>
            <a:ext cx="46483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狐大哥，你急急忙忙地往哪儿跑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土拨鼠这样问狐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唉，我亲爱的小兄弟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受了冤枉，说我搜刮民财，被革去了公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你知道，我本是鸡舍的执法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为了公务，我牺牲了安宁和健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忙得我连饭也吃不上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夜夜都睡不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289080"/>
            <a:ext cx="44197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就为这个，我激起了公愤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其实这完全是造谣中伤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噢，你自己想一想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大家都轻信谣言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世上还有谁能清白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我中饱私囊？难道我发了疯了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了，现在我要请你来作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曾见到，我参与这种罪恶勾当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拨鼠望望狐狸，说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我不大清楚，狐大哥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只是常常看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满嘴里都是鸡毛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29000" y="4724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狐狸的清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0" y="5486400"/>
            <a:ext cx="2057400" cy="1143000"/>
          </a:xfrm>
          <a:prstGeom prst="cloudCallout">
            <a:avLst>
              <a:gd name="adj1" fmla="val 112731"/>
              <a:gd name="adj2" fmla="val -7486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3"/>
          <p:cNvSpPr/>
          <p:nvPr/>
        </p:nvSpPr>
        <p:spPr>
          <a:xfrm>
            <a:off x="609480" y="304920"/>
            <a:ext cx="3353040" cy="990360"/>
          </a:xfrm>
          <a:prstGeom prst="cloudCallout">
            <a:avLst>
              <a:gd name="adj1" fmla="val 47583"/>
              <a:gd name="adj2" fmla="val 8878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层次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19764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狐狸的清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层：讲土拨鼠询问狐狸急急忙忙往哪儿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层：讲狐狸向土拨鼠倾诉自己的“冤屈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层：讲土拨鼠回击了虚伪奸诈的狐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457200" y="380880"/>
            <a:ext cx="2666880" cy="1295640"/>
          </a:xfrm>
          <a:prstGeom prst="cloudCallout">
            <a:avLst>
              <a:gd name="adj1" fmla="val 123212"/>
              <a:gd name="adj2" fmla="val 7267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90720" y="7160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295280" y="213372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是只怎样的狐狸？你怎么知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1639800" y="3962520"/>
            <a:ext cx="5699160" cy="1371600"/>
          </a:xfrm>
          <a:prstGeom prst="wedgeEllipseCallout">
            <a:avLst>
              <a:gd name="adj1" fmla="val -32657"/>
              <a:gd name="adj2" fmla="val -6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虚伪、奸诈、狡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1"/>
          <p:cNvPicPr/>
          <p:nvPr/>
        </p:nvPicPr>
        <p:blipFill>
          <a:blip r:embed="rId1"/>
          <a:stretch/>
        </p:blipFill>
        <p:spPr>
          <a:xfrm>
            <a:off x="0" y="-76320"/>
            <a:ext cx="9301320" cy="693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uli2_001"/>
          <p:cNvPicPr/>
          <p:nvPr/>
        </p:nvPicPr>
        <p:blipFill>
          <a:blip r:embed="rId2"/>
          <a:stretch/>
        </p:blipFill>
        <p:spPr>
          <a:xfrm>
            <a:off x="173160" y="12952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72" name="Oval 8"/>
          <p:cNvSpPr/>
          <p:nvPr/>
        </p:nvSpPr>
        <p:spPr>
          <a:xfrm>
            <a:off x="1346040" y="152280"/>
            <a:ext cx="18766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倾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876920" y="5335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98760" y="152280"/>
            <a:ext cx="4876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唉，我亲爱的小兄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受了冤枉，说我搜刮民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革去了公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，我本是鸡舍的执法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公务，我牺牲了安宁和健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忙得我连饭也吃不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夜夜都睡不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为这个，我激起了公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这完全是造谣中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噢，你自己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大家都轻信谣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世上还有谁能清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我中饱私囊？难道我发了疯了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了，现在我要请你来作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可曾见到，我参与这种罪恶勾当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5392800" y="2362320"/>
            <a:ext cx="2052720" cy="0"/>
          </a:xfrm>
          <a:prstGeom prst="line">
            <a:avLst/>
          </a:prstGeom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7562880" y="1981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奸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3575160" y="2743200"/>
            <a:ext cx="2286000" cy="0"/>
          </a:xfrm>
          <a:prstGeom prst="line">
            <a:avLst/>
          </a:prstGeom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3516480" y="3200400"/>
            <a:ext cx="1582560" cy="0"/>
          </a:xfrm>
          <a:prstGeom prst="line">
            <a:avLst/>
          </a:prstGeom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562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虚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516480" y="5791320"/>
            <a:ext cx="4046400" cy="0"/>
          </a:xfrm>
          <a:prstGeom prst="line">
            <a:avLst/>
          </a:prstGeom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7680240" y="403848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狡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584280" y="5257800"/>
            <a:ext cx="2052720" cy="1219320"/>
          </a:xfrm>
          <a:prstGeom prst="cloudCallout">
            <a:avLst>
              <a:gd name="adj1" fmla="val 90712"/>
              <a:gd name="adj2" fmla="val -7838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3013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457200" y="4648320"/>
            <a:ext cx="2666880" cy="1218960"/>
          </a:xfrm>
          <a:prstGeom prst="cloudCallout">
            <a:avLst>
              <a:gd name="adj1" fmla="val 90712"/>
              <a:gd name="adj2" fmla="val -7838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土拨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ce3be230f8c4a55ceac4afb5"/>
          <p:cNvPicPr/>
          <p:nvPr/>
        </p:nvPicPr>
        <p:blipFill>
          <a:blip r:embed="rId2"/>
          <a:stretch/>
        </p:blipFill>
        <p:spPr>
          <a:xfrm>
            <a:off x="457200" y="3808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86" name="Oval 7"/>
          <p:cNvSpPr/>
          <p:nvPr/>
        </p:nvSpPr>
        <p:spPr>
          <a:xfrm>
            <a:off x="3505320" y="838080"/>
            <a:ext cx="99036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3581280" y="2971800"/>
            <a:ext cx="9907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105520" y="609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724280" y="95868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狐大哥，你急急忙忙地往哪儿跑呀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4724280" y="297036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我不大清楚，狐大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只是常常看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满嘴里都是鸡毛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4160880" y="4572000"/>
            <a:ext cx="45720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搜刮民财 、中饱私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807080" y="4343400"/>
            <a:ext cx="2228760" cy="0"/>
          </a:xfrm>
          <a:prstGeom prst="line">
            <a:avLst/>
          </a:prstGeom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14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52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