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1DA9-DD51-4EE6-8D1B-58560EEE64B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708F-3B59-4D3D-AB52-644D5F68466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4500-45D5-4FCF-9162-1B6F18B36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1BF5-D89E-44E0-A9BF-6802F3E0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D46D-9755-4E8A-A1D9-8BAC2CC66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AF4B-2F1B-47A2-A24D-379A45F2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313A-CC9B-43D5-A447-DCFCF5F2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EC83-4975-48BC-ACB3-FA569660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A4F5-D94A-4217-9523-BE96B237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2664-F2F1-4081-AC1B-7F5C7DAB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9DA9-9DFB-439C-954F-E3029192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6FB3-7CBF-4A73-B2FF-15227D4D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4341-1680-405B-8691-D433E9B9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FC1B-2588-4040-BF7A-BBF0EEED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1C7F-1854-4B67-91E5-D48F319ED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2314440" y="2328840"/>
            <a:ext cx="4361040" cy="3489480"/>
          </a:xfrm>
          <a:prstGeom prst="rect">
            <a:avLst/>
          </a:prstGeom>
          <a:ln w="0">
            <a:noFill/>
          </a:ln>
        </p:spPr>
      </p:pic>
      <p:pic>
        <p:nvPicPr>
          <p:cNvPr id="49" name="矩形 2" descr=""/>
          <p:cNvPicPr/>
          <p:nvPr/>
        </p:nvPicPr>
        <p:blipFill>
          <a:blip r:embed="rId2"/>
          <a:stretch/>
        </p:blipFill>
        <p:spPr>
          <a:xfrm>
            <a:off x="1611360" y="1452600"/>
            <a:ext cx="5773680" cy="1568520"/>
          </a:xfrm>
          <a:prstGeom prst="rect">
            <a:avLst/>
          </a:prstGeom>
          <a:ln w="0">
            <a:noFill/>
          </a:ln>
        </p:spPr>
      </p:pic>
      <p:sp>
        <p:nvSpPr>
          <p:cNvPr id="50" name="矩形 7"/>
          <p:cNvSpPr/>
          <p:nvPr/>
        </p:nvSpPr>
        <p:spPr>
          <a:xfrm>
            <a:off x="2135520" y="585324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02"/>
          <p:cNvPicPr/>
          <p:nvPr/>
        </p:nvPicPr>
        <p:blipFill>
          <a:blip r:embed="rId1"/>
          <a:stretch/>
        </p:blipFill>
        <p:spPr>
          <a:xfrm>
            <a:off x="0" y="0"/>
            <a:ext cx="43434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103"/>
          <p:cNvPicPr/>
          <p:nvPr/>
        </p:nvPicPr>
        <p:blipFill>
          <a:blip r:embed="rId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104"/>
          <p:cNvPicPr/>
          <p:nvPr/>
        </p:nvPicPr>
        <p:blipFill>
          <a:blip r:embed="rId1"/>
          <a:stretch/>
        </p:blipFill>
        <p:spPr>
          <a:xfrm>
            <a:off x="1523880" y="992160"/>
            <a:ext cx="6610320" cy="498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440" y="16761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口语训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33523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朗读完课文，谁能用自己的话给大家讲讲课文里的故事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3352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老师已经准备好了道具，我们来一起演演课本剧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具体安排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黑猫警长头饰，白猫警士头饰若干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参加的人数相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老鼠玩具若干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白猫警士人数的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其中一只大老鼠作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鼠大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创设环境：老鼠偷粮打劫场面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设粮仓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纸盒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制，粮袋数个，椅子五、六把，方桌一张，这些物体的上下左右布满老鼠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鼠大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中间指挥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3459240" y="9144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趣味课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接电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进入情境，黑猫警长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刚才接到猴大伯打来的电话，说有老鼠偷吃玉米，我们派白猫警士们先侦察一下敌情，记住，侦察敌情时不要惊动老鼠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对老鼠和警长、警士的描述要以课文为蓝本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晚上，白猫警士与黑猫警长进入创设的场景中，侦察后报告敌情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角色扮演老鼠们得意的话语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黑猫警长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情况火急，白猫警土们快去抓老鼠吧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白猫警士们听到命令后立即到布置的场景中去抓老鼠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每位白猫警士抓到一只老鼠后方回到警长面前报告，在音乐背景下活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219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落幕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黑猫警长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紧急集合，白猫警士们，你们真能干，在不同的位置抓住了老鼠，我警长对你们的表现很满意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1218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拓展提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说你表演后的感受。你觉得黑猫警长是个什么样的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让我们再次唱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黑猫警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来结束本课的学习吧。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黑猫警长2.mp3" descr=""/>
          <p:cNvPicPr/>
          <p:nvPr/>
        </p:nvPicPr>
        <p:blipFill>
          <a:blip r:embed="rId1"/>
          <a:stretch/>
        </p:blipFill>
        <p:spPr>
          <a:xfrm>
            <a:off x="4191120" y="41148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3682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4760" y="6854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小练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一读，写出几个形式相同的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仔细细     吱吱叽叽    嘻嘻哈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5"/>
          <p:cNvSpPr/>
          <p:nvPr/>
        </p:nvSpPr>
        <p:spPr>
          <a:xfrm>
            <a:off x="2895480" y="28954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表演"/>
          <p:cNvPicPr/>
          <p:nvPr/>
        </p:nvPicPr>
        <p:blipFill>
          <a:blip r:embed="rId1"/>
          <a:stretch/>
        </p:blipFill>
        <p:spPr>
          <a:xfrm>
            <a:off x="1752480" y="1523880"/>
            <a:ext cx="5613480" cy="4000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认课后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生字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熟读课文，把故事讲给大家听一听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演课本剧，以自己的行动向勇敢坚强、充满智慧的黑猫警长学习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"/>
          <p:cNvSpPr/>
          <p:nvPr/>
        </p:nvSpPr>
        <p:spPr>
          <a:xfrm>
            <a:off x="1762200" y="5149800"/>
            <a:ext cx="655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黑猫警长封底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3960" y="1981080"/>
            <a:ext cx="200916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谢谢指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58E9-AA2A-4184-8490-9A9CF257B88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33520" y="175248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同学们，你们对这首歌熟悉吗？这首歌叫什么呢？谁来说一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762120" y="3886200"/>
            <a:ext cx="761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对了，这就是动画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黑猫警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主题曲，你们一定都看过吧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今天，我们就来认识这位大名鼎鼎的警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黑猫警长.mp3" descr=""/>
          <p:cNvPicPr/>
          <p:nvPr/>
        </p:nvPicPr>
        <p:blipFill>
          <a:blip r:embed="rId1"/>
          <a:stretch/>
        </p:blipFill>
        <p:spPr>
          <a:xfrm>
            <a:off x="7086600" y="26668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758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创设情境，激发兴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森林里的坏蛋们最怕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还用问，最怕赫赫有名的黑猫警长，摩托车飞到哪里，那里的坏蛋就乖乖投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黑猫警长是坏蛋的克星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黑猫警长是和平安宁的保护神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黑猫警长3"/>
          <p:cNvPicPr/>
          <p:nvPr/>
        </p:nvPicPr>
        <p:blipFill>
          <a:blip r:embed="rId1"/>
          <a:stretch/>
        </p:blipFill>
        <p:spPr>
          <a:xfrm>
            <a:off x="2276640" y="914400"/>
            <a:ext cx="4846320" cy="4952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黑猫警长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黑猫警长4"/>
          <p:cNvPicPr/>
          <p:nvPr/>
        </p:nvPicPr>
        <p:blipFill>
          <a:blip r:embed="rId1"/>
          <a:stretch/>
        </p:blipFill>
        <p:spPr>
          <a:xfrm>
            <a:off x="2133720" y="990720"/>
            <a:ext cx="5486400" cy="4948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黑猫警长5"/>
          <p:cNvPicPr/>
          <p:nvPr/>
        </p:nvPicPr>
        <p:blipFill>
          <a:blip r:embed="rId1"/>
          <a:stretch/>
        </p:blipFill>
        <p:spPr>
          <a:xfrm>
            <a:off x="2209680" y="1523880"/>
            <a:ext cx="4800600" cy="360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752120" y="1066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读课文，认生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33520" y="1955880"/>
            <a:ext cx="7391160" cy="33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uō   tǐng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āng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ú        c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撮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挺   刚   留  侧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ō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Suǒ        bì          táo       má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搜   索  蔽   逃   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5T13:22:4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55:32Z</dcterms:modified>
  <cp:revision>2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