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05FE-C7D2-4DBB-8D91-1332A4C3D8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D0BB-F2C4-40C3-9FA0-6C3D9BAF3F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E8E-4D9F-4A0D-8B56-DD6D2DFB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9763-77A3-4A34-8F6A-1534906B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CE9-DB7B-4752-8A98-FB76052C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A2CE-791C-4B41-8869-9BCF7E18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E40-7D2D-4FC7-8BCA-8BF2A5A5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11CF-03F2-4845-B65E-09CFFC2D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985-0257-440A-BFAF-B419FBF1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CC6-179F-44E9-AD0F-8F800CE2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EB7-4F60-4626-A68A-46AF8300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AF22-A53B-484E-877F-C773A19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0EC-A9ED-440C-8F17-8A1D2120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904-25CC-4B06-B3BF-227FE3AD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E6DE-A038-4BF5-A305-2FB590720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C:\Documents and Settings\Administrator\&#26700;&#38754;\&#25252;&#22763;&#22920;&#22920;\&#36731;&#38899;&#20048; - &#38634;&#20043;&#26790;.m4a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C:\Documents and Settings\Administrator\&#26700;&#38754;\&#25252;&#22763;&#22920;&#22920;\&#36731;&#38899;&#20048; - &#38634;&#20043;&#26790;.m4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-11160"/>
            <a:ext cx="6161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490680" y="260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湘教版三年级语文课件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712480" y="466560"/>
            <a:ext cx="2861640" cy="59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护士妈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87000" y="62611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1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55640" y="162864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母爱可以拯救一切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79280" y="765000"/>
            <a:ext cx="8496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我们发自内心地、真诚的地向伟大的母亲说一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谢谢！亲爱的妈妈！谢谢伟大的母亲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>
            <a:hlinkClick r:id="rId2"/>
          </p:cNvPr>
          <p:cNvSpPr/>
          <p:nvPr/>
        </p:nvSpPr>
        <p:spPr>
          <a:xfrm>
            <a:off x="6804000" y="5084640"/>
            <a:ext cx="863640" cy="8654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21600" h="21645">
                <a:moveTo>
                  <a:pt x="0" y="0"/>
                </a:moveTo>
                <a:lnTo>
                  <a:pt x="21600" y="0"/>
                </a:lnTo>
                <a:lnTo>
                  <a:pt x="21600" y="21645"/>
                </a:lnTo>
                <a:lnTo>
                  <a:pt x="0" y="21645"/>
                </a:lnTo>
                <a:close/>
              </a:path>
              <a:path fill="lightenLess" w="21600" h="216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5">
                <a:moveTo>
                  <a:pt x="21600" y="0"/>
                </a:moveTo>
                <a:lnTo>
                  <a:pt x="21600" y="21645"/>
                </a:lnTo>
                <a:lnTo>
                  <a:pt x="20200" y="20245"/>
                </a:lnTo>
                <a:lnTo>
                  <a:pt x="20200" y="1400"/>
                </a:lnTo>
                <a:close/>
              </a:path>
              <a:path fill="darkenLess" w="21600" h="21645">
                <a:moveTo>
                  <a:pt x="21600" y="21645"/>
                </a:moveTo>
                <a:lnTo>
                  <a:pt x="0" y="21645"/>
                </a:lnTo>
                <a:lnTo>
                  <a:pt x="1400" y="20245"/>
                </a:lnTo>
                <a:lnTo>
                  <a:pt x="20200" y="20245"/>
                </a:lnTo>
                <a:close/>
              </a:path>
              <a:path fill="lighten" w="21600" h="21645">
                <a:moveTo>
                  <a:pt x="0" y="216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5"/>
                </a:lnTo>
                <a:close/>
              </a:path>
              <a:path fill="darken" w="21600" h="21645">
                <a:moveTo>
                  <a:pt x="3794" y="8429"/>
                </a:moveTo>
                <a:lnTo>
                  <a:pt x="8224" y="8429"/>
                </a:lnTo>
                <a:lnTo>
                  <a:pt x="12645" y="3816"/>
                </a:lnTo>
                <a:lnTo>
                  <a:pt x="12645" y="17829"/>
                </a:lnTo>
                <a:lnTo>
                  <a:pt x="8224" y="13216"/>
                </a:lnTo>
                <a:lnTo>
                  <a:pt x="3794" y="13216"/>
                </a:lnTo>
                <a:close/>
              </a:path>
              <a:path fill="darken" w="21600" h="21645">
                <a:moveTo>
                  <a:pt x="14299" y="10823"/>
                </a:moveTo>
                <a:lnTo>
                  <a:pt x="17806" y="10823"/>
                </a:lnTo>
              </a:path>
              <a:path fill="darken" w="21600" h="21645">
                <a:moveTo>
                  <a:pt x="14299" y="8429"/>
                </a:moveTo>
                <a:lnTo>
                  <a:pt x="17806" y="5661"/>
                </a:lnTo>
              </a:path>
              <a:path fill="darken" w="21600" h="21645">
                <a:moveTo>
                  <a:pt x="14299" y="13216"/>
                </a:moveTo>
                <a:lnTo>
                  <a:pt x="17806" y="15984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51C-4811-4255-B695-4ECCE5D692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2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332000" y="1197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昏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059280" y="1197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哀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516720" y="1197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皱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332000" y="270828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握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059280" y="270828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均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859280" y="270828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苏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6588000" y="2637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攥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4859280" y="1197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渴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203640" y="3933720"/>
            <a:ext cx="26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神色凄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"/>
          <p:cNvSpPr/>
          <p:nvPr/>
        </p:nvSpPr>
        <p:spPr>
          <a:xfrm>
            <a:off x="514440" y="5610240"/>
            <a:ext cx="60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1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476360" y="54936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小女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211640" y="54936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护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55640" y="1844640"/>
            <a:ext cx="79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能用下面这个句子，将课文的主要内容说说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3500280"/>
            <a:ext cx="80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女孩（         ）不醒，一位护士（       ），后来小女孩（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755640" y="2276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自读课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~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755640" y="3500280"/>
            <a:ext cx="80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﹏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体现小女孩病重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684360" y="76500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房里，有一个女孩，自住进医院的那天起，就一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昏迷不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11280" y="2565360"/>
            <a:ext cx="8137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孩的爸爸坐在病床前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色凄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看着女儿，不知该如何帮助她，只是不停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哀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医生：“救救我女儿，救救我女儿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>
            <a:hlinkClick r:id="rId2"/>
          </p:cNvPr>
          <p:cNvSpPr/>
          <p:nvPr/>
        </p:nvSpPr>
        <p:spPr>
          <a:xfrm>
            <a:off x="7740720" y="5157720"/>
            <a:ext cx="934920" cy="71928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2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2" y="20200"/>
                </a:lnTo>
                <a:lnTo>
                  <a:pt x="26672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2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2" h="21600">
                <a:moveTo>
                  <a:pt x="7030" y="8406"/>
                </a:moveTo>
                <a:lnTo>
                  <a:pt x="11460" y="8406"/>
                </a:lnTo>
                <a:lnTo>
                  <a:pt x="15881" y="3794"/>
                </a:lnTo>
                <a:lnTo>
                  <a:pt x="15881" y="17806"/>
                </a:lnTo>
                <a:lnTo>
                  <a:pt x="11460" y="13194"/>
                </a:lnTo>
                <a:lnTo>
                  <a:pt x="7030" y="13194"/>
                </a:lnTo>
                <a:close/>
              </a:path>
              <a:path fill="darken" w="28072" h="21600">
                <a:moveTo>
                  <a:pt x="17535" y="10800"/>
                </a:moveTo>
                <a:lnTo>
                  <a:pt x="21043" y="10800"/>
                </a:lnTo>
              </a:path>
              <a:path fill="darken" w="28072" h="21600">
                <a:moveTo>
                  <a:pt x="17535" y="8406"/>
                </a:moveTo>
                <a:lnTo>
                  <a:pt x="21043" y="5639"/>
                </a:lnTo>
              </a:path>
              <a:path fill="darken" w="28072" h="21600">
                <a:moveTo>
                  <a:pt x="17535" y="13194"/>
                </a:moveTo>
                <a:lnTo>
                  <a:pt x="21043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547640" y="981000"/>
            <a:ext cx="64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渴望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95280" y="2708280"/>
            <a:ext cx="842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女孩在昏迷中不时喊着：“妈妈，妈妈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771640" y="981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强烈的期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2178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755640" y="1628640"/>
            <a:ext cx="7848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默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~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“      ”划出描写护士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反复地读你划出来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"/>
          <p:cNvSpPr/>
          <p:nvPr/>
        </p:nvSpPr>
        <p:spPr>
          <a:xfrm>
            <a:off x="2411280" y="29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539640" y="8366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护士皱了皱眉头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默默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坐下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轻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握住女孩凉凉的手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柔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：“女儿乖，妈妈在，妈妈在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39640" y="321300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护士皱了皱眉头，坐下来，握住女孩凉凉的手，说：“女儿乖，妈妈在，妈妈在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119700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女孩唤一声“妈妈”，护士答应一声。女孩像落水者抓到了救生圈，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死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攥紧护士的手，呼吸慢慢均匀下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0:39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2:54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