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92B2-14FD-4A7E-A43C-669EEC0A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8926-F1DE-47F2-B070-1B295AF9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BC9B-359E-4275-87E3-A82E63459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F9B6-B42F-44E5-B979-CDF7B3DFF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EC725-163E-4299-9F0C-BB42FF35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BC3FE-7001-4446-9305-EA73CF5B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96A1C-28D1-4807-B86C-7D2CF4FE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73D1D-EC0E-447A-B53D-B2AD122B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51D03-D58D-4F5F-98DD-831DE04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E4150-8021-4652-B4E4-42E67280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D7B6-9AFA-4D02-A022-7C56A4E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E70D2-47FF-4E10-8250-046F382A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8CD62-EEE2-4B5F-A526-B6ED4868F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567943-9421-4A7C-87CD-6B6E4E7BC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F355-7359-4BFD-98A6-D3CE711A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BB29D-5CBE-420C-9BC3-93600A12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EEBB5-D211-411A-8FAC-9D0E819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9C042-54E1-4018-9568-BAEFE7B6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D5873-887D-4267-961F-C559A0D8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C979D-E5BD-4C54-A308-475DFC8C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843B9-068B-44A8-BA25-43C15DE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4C5A9-7A7F-498A-8F2E-A1A26687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B33C0F-8A22-4E9B-8DDB-3B1FAF64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20E67-3823-4399-A1B2-0BD8739D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BA0E8-147D-43F6-8FCB-F0D6849F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4C3EE-B671-4378-A8C1-37262AA1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101D3-64F7-4A42-B4E3-B77A968C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8F699-A414-4715-B3BD-415D0C80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738EF-192E-4EC7-9A05-8CC12C065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5EAFC-F652-4858-B202-8343E906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4199F-5499-4EF9-8141-C866E2B7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F99F-8EA8-4CF0-9EFC-0FE3997F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94CE2-0B66-4D41-ACF3-08AD178C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4514E-66BE-4F2E-A9BF-CA7B2142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A8D-0473-4D09-8796-9E28DF36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6F45B-26CE-48FB-A7C1-B0DC3407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9FA18-8894-471A-A948-09234795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7B6DF-CE04-49D9-A9E2-2B1B1470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B9B00-61D3-4E31-8F2E-1ECCC8D4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2D1B8-5DAE-4AD5-AFEB-1B569189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45B9D-1A80-4405-9A66-6B523AA9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8871E-5D61-47C6-B154-869ED70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B2744-D929-409B-ABEE-EF0161F4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7B4DC3-AC4B-4F7D-9E52-F589B478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E1256-8164-4E2D-9B35-21F67ED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0328-099F-4E5F-8669-1A87FD13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EAA2-87FD-45AA-9212-F51E2AEF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2CFE4-9D28-4248-88D7-4B29697C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D85FD2-CB00-4207-90D0-74F5E8C9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735F2-13AF-46D4-9820-96BC66A2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BCD83-5150-4F90-AF29-3E0AFDCD1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0B101-2F49-42AD-846D-8D42D5DC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1130E-0245-468F-BDBC-8172C014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A8DB4-0C6F-4DDF-A7F0-4465C724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50FC0-537E-46EC-AACE-A72E116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8D31A-E29C-4AE5-899F-9D2FFB46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F75-7141-46DD-B9EB-D5F8BA6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F6196-4130-484B-B1BD-3661304D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809B4-F919-4570-A4DA-D1AE65CE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DA65E-9658-4000-8B5C-4A9D0357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E14A8-8673-40E2-BF63-6D892C1C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CFC654-DF70-4F99-9F70-2F57258B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3B491-D9FB-4077-BE6A-DD47EF7C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A4A53-2EE8-4A3A-928B-9F7AF40C0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54D89-9566-460D-A516-B83B0878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D78BB4-A8F2-45DE-A8C7-137428B7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5DCCCB-5AD5-4328-B328-E49379C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9987-F533-411F-97B7-1871D691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4B4D5-E5CC-44E0-9F07-A65BBE19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A5897-61D1-421C-9C79-78E7BC97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1B316-98E0-4486-B7DC-788F66D4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A4F34-A3C1-4D91-8602-ABAAC8DC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3775C-BB78-4504-A112-94F5177C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EF1634-5C63-4AC0-AD24-E8A76C2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5EABE-993E-4D77-AF9C-CAA412E0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E07F3-6254-424D-BDBD-5E8962233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50C85-CA8D-4658-9E03-70B7B5DB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76F4-3EF4-4692-8C5A-26BFC266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0654-E149-47CB-9D65-23F7974F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94C-849A-468C-ABC9-7712B8EC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C37-610A-4AF5-81D2-B21DDF7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E84-D6C1-43B4-8E76-82DD631C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C49D-48A3-43E3-A0FA-1DE3F898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508-546C-4B0F-A6F1-5BBD1A51B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97C7-4993-4D45-856D-575F53DF4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DD55-E5BF-4134-ABA5-BB53278A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E8F7-2B91-4828-9AD3-D162662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0ED-DA84-426E-9EE1-F1ABF68F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313F-D2CB-4006-AE99-687E04D5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FC68-E345-4640-B928-01A2070C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2D28-013E-4EA6-A175-EA0128444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7B07-4125-4F1D-924E-F4B39A8A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C28D-1911-48C9-BF9B-C57EF958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B409-9915-477D-B93A-0CA1B627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340C-E619-49FD-91BF-10385837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8AB4-2E63-44C6-9BB2-D40AFB54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A74A-3C26-4FA0-B3CD-2D01C933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8BD2B-2E8F-4B3B-BD1C-D750C542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B6798-BEE1-4B5D-8A0B-8DE46825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4B5B6-6411-4F53-81F6-B2A6D803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D0A1-3E11-4F89-A240-7FD8F211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10B9-E935-44EB-82BF-DAAA026F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D3AB0-885D-46FF-A6CB-382E50E5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89E3-7FC5-498E-8F91-4D6E28D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49A90-4E8D-46CC-8AC7-DE80CB2A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7FB29-E061-4896-8CCA-A2258AA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3B205-57A8-45E0-8AFB-EAB712A7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BD1F4-92CF-4663-9CFA-F3A3AA8E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D35CE-D306-4DB7-8921-D3398E0A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13207-020A-45DC-9C83-75159641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2B0F-DA6F-489A-8FE0-B4456B00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91BAB-21F9-434E-A0CE-AA58E5FA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3D3DD-B929-4E93-90AA-EE21FEC7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416E5-0E8B-4695-B909-BEBB270F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6017-9FB2-490D-B2F7-A4B51681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74882-4F36-4A88-AC93-63788FCC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B494-2B87-4AC7-8AF9-60AACFB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64914-97A0-4B0B-9934-D2ED54E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6CD6-0C7E-4721-B1C4-1F87DEC6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5E6EC-4C1E-4EF2-BBF4-E3F635CF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E793D-415E-4B4B-BAC6-2B0DF158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FE44-DFA6-4C65-9A12-247BC2C5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4D48E-0ADC-4DB1-A9EB-377D7F19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EF080-971A-4E35-AB36-3201B4C5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034D-2AF0-4388-9E00-B067461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E9994-67B4-4938-91D4-F7148E5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80B00-AECB-4D30-B587-8704E9F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230C5-EE0F-4235-ACA1-A93FBB38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2E0A-4EBB-4488-A66A-6DC3C95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AD87-EF0D-417E-92AF-699527B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DA0E6-0A5A-4141-9350-A6C77DD6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9281A-DB13-46FC-BFE0-C5EAC73E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FC7BD-3C8D-48D9-BAA3-01625368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DA3B-5F85-42A1-97FC-7D9CBFB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6DEB6-719F-460E-923C-C3161890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AB4C-FC84-42E3-A8F4-6E1E29C8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E3BCE-A014-42A1-915E-E428B74B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9AC63-BF5D-4B87-81FC-376F97B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088C-3AF6-4A55-8DFD-E98B117A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6A74-C388-4B29-97AF-9CC23A65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97DCB-3499-4C8E-9C00-5E18307D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519BC-9D73-4BF5-9D87-75EB64D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EA48F-ED6B-4737-8657-0C3AA190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306C-7E1B-4684-9A51-EDF175D8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494EE-3EA7-4054-B59B-ED0B7EF1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CE8A6-0C67-4D89-9F64-E4727581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1D167-6A48-4ECA-87A2-2C3D1385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C515-2E5F-4A5C-9313-3417838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36F1B-7D1B-47F6-9D91-ACCAAEDE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AD0E-8286-46B0-B7D3-865C88AA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EF3F-3837-436C-856F-8E9EE13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5995-793C-4DCF-A495-146BC7DB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4A7BD-712F-47A8-AA3C-7B454143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B934-27D9-4BF7-967A-3B105D73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CC631-8CDE-4DC5-AC46-38A7484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11A9-C9B7-496D-A16B-FF0BBC46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CB2D3-21C6-4DB7-8690-7AAC759C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69405-B5BB-4ECF-BDB6-D63EF3FF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75B07-0AD1-4D38-9A08-B69E7B20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73B66-2DDF-4A5C-A24D-E7FE49A1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roonen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43A8-8DA3-4F45-A060-4B28961033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620AA-CB59-4D94-9646-C30A124060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AA70-CC1C-4C4B-AD00-9BD7F0E8CF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FA82-8F99-4AC0-B04E-B09EB4E776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B107-3EF6-45CD-927B-A76B269B7D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E9B-8BDD-499B-A562-1D3B341CCE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公司图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661240" y="0"/>
            <a:ext cx="482760" cy="507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40E-8B4D-4612-A7EE-B7D029230C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CBA3-53BD-492D-AE18-84679C1A63F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544-31CC-411C-BC49-4747655F670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AD8-E9F8-4B81-9C3E-9E788E9549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0327-2DB3-420C-94CC-7A97584DA7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076D-9178-429B-B8F2-A14323F84A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69BF-2AAD-4909-9F91-397942A631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slide" Target="slide2.xml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WordArt 10"/>
          <p:cNvSpPr txBox="1"/>
          <p:nvPr/>
        </p:nvSpPr>
        <p:spPr>
          <a:xfrm>
            <a:off x="2448000" y="2205000"/>
            <a:ext cx="4248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微软雅黑"/>
              </a:rPr>
              <a:t>火烧云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78" name="矩形 15"/>
          <p:cNvSpPr/>
          <p:nvPr/>
        </p:nvSpPr>
        <p:spPr>
          <a:xfrm>
            <a:off x="211428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452600" y="1700280"/>
            <a:ext cx="499104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齐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3"/>
          <p:cNvSpPr/>
          <p:nvPr/>
        </p:nvSpPr>
        <p:spPr>
          <a:xfrm>
            <a:off x="468360" y="260280"/>
            <a:ext cx="1439640" cy="504720"/>
          </a:xfrm>
          <a:prstGeom prst="wedgeRoundRectCallout">
            <a:avLst>
              <a:gd name="adj1" fmla="val 73263"/>
              <a:gd name="adj2" fmla="val 1644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1258920" y="3573360"/>
            <a:ext cx="698508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几个自然段写了火烧云的形状。像马、像狗、像狮子。用了很多表示变化快的词语，如：“一会儿”、“两三秒钟”、“忽然”、“一转眼”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7"/>
          <p:cNvGrpSpPr/>
          <p:nvPr/>
        </p:nvGrpSpPr>
        <p:grpSpPr>
          <a:xfrm>
            <a:off x="539640" y="2492280"/>
            <a:ext cx="5977080" cy="720720"/>
            <a:chOff x="539640" y="2492280"/>
            <a:chExt cx="5977080" cy="720720"/>
          </a:xfrm>
        </p:grpSpPr>
        <p:sp>
          <p:nvSpPr>
            <p:cNvPr id="616" name="Text Box 8"/>
            <p:cNvSpPr/>
            <p:nvPr/>
          </p:nvSpPr>
          <p:spPr>
            <a:xfrm>
              <a:off x="2556000" y="2637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你读懂了什么 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39640" y="2492280"/>
              <a:ext cx="1800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763280" y="1267920"/>
            <a:ext cx="6551640" cy="4248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很多自然现象是瞬息万变的。在这里作者观察到火烧云的形状是不断的、快速的变化着的。说明作者观察非常仔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0" y="260280"/>
            <a:ext cx="1727280" cy="1197000"/>
          </a:xfrm>
          <a:prstGeom prst="cloudCallout">
            <a:avLst>
              <a:gd name="adj1" fmla="val 33365"/>
              <a:gd name="adj2" fmla="val 109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归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4"/>
          <p:cNvSpPr/>
          <p:nvPr/>
        </p:nvSpPr>
        <p:spPr>
          <a:xfrm>
            <a:off x="108000" y="44280"/>
            <a:ext cx="1944720" cy="1368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积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835280" y="1052640"/>
            <a:ext cx="6480000" cy="57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出文中的优美句子读一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1"/>
          <p:cNvGrpSpPr/>
          <p:nvPr/>
        </p:nvGrpSpPr>
        <p:grpSpPr>
          <a:xfrm>
            <a:off x="826920" y="1916280"/>
            <a:ext cx="7488360" cy="3173760"/>
            <a:chOff x="826920" y="1916280"/>
            <a:chExt cx="7488360" cy="3173760"/>
          </a:xfrm>
        </p:grpSpPr>
        <p:sp>
          <p:nvSpPr>
            <p:cNvPr id="623" name="Text Box 7"/>
            <p:cNvSpPr/>
            <p:nvPr/>
          </p:nvSpPr>
          <p:spPr>
            <a:xfrm>
              <a:off x="1835280" y="2349360"/>
              <a:ext cx="6480000" cy="5814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马是跪着的，像等人骑上它的背，它才站起来似的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8"/>
            <p:cNvSpPr/>
            <p:nvPr/>
          </p:nvSpPr>
          <p:spPr>
            <a:xfrm>
              <a:off x="1835280" y="3429000"/>
              <a:ext cx="6480000" cy="106884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那狗十分凶猛，在向前跑，后边似乎还跟着好几条小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 Box 9"/>
            <p:cNvSpPr/>
            <p:nvPr/>
          </p:nvSpPr>
          <p:spPr>
            <a:xfrm>
              <a:off x="1835280" y="4508640"/>
              <a:ext cx="6480000" cy="58140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接着又来了一头大狮子，跟庙门前的石头狮子一模一样，也那么大，也那样蹲着，很威武很镇静地蹲着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10"/>
            <p:cNvSpPr/>
            <p:nvPr/>
          </p:nvSpPr>
          <p:spPr>
            <a:xfrm>
              <a:off x="826920" y="1916280"/>
              <a:ext cx="1008360" cy="1150920"/>
            </a:xfrm>
            <a:prstGeom prst="flowChartAlternateProcess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68000" y="2781000"/>
            <a:ext cx="4967640" cy="863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背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1116000" y="404640"/>
            <a:ext cx="2303640" cy="158292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检查效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已录下的1627.WAV" descr=""/>
          <p:cNvPicPr/>
          <p:nvPr/>
        </p:nvPicPr>
        <p:blipFill>
          <a:blip r:embed="rId2"/>
          <a:stretch/>
        </p:blipFill>
        <p:spPr>
          <a:xfrm>
            <a:off x="6362640" y="35575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631" name="AutoShape 3"/>
          <p:cNvSpPr/>
          <p:nvPr/>
        </p:nvSpPr>
        <p:spPr>
          <a:xfrm>
            <a:off x="468360" y="547560"/>
            <a:ext cx="1439640" cy="505080"/>
          </a:xfrm>
          <a:prstGeom prst="wedgeRoundRectCallout">
            <a:avLst>
              <a:gd name="adj1" fmla="val 73263"/>
              <a:gd name="adj2" fmla="val 1644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258920" y="3573360"/>
            <a:ext cx="6985080" cy="5205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讲火烧云变化快，一会儿就下去了。其实火烧云什么也不像，像这个像那个都是作者的想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7"/>
          <p:cNvGrpSpPr/>
          <p:nvPr/>
        </p:nvGrpSpPr>
        <p:grpSpPr>
          <a:xfrm>
            <a:off x="539640" y="2492280"/>
            <a:ext cx="5977080" cy="720720"/>
            <a:chOff x="539640" y="2492280"/>
            <a:chExt cx="5977080" cy="720720"/>
          </a:xfrm>
        </p:grpSpPr>
        <p:sp>
          <p:nvSpPr>
            <p:cNvPr id="634" name="Text Box 8"/>
            <p:cNvSpPr/>
            <p:nvPr/>
          </p:nvSpPr>
          <p:spPr>
            <a:xfrm>
              <a:off x="2556000" y="2637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你读懂了什么 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9"/>
            <p:cNvSpPr/>
            <p:nvPr/>
          </p:nvSpPr>
          <p:spPr>
            <a:xfrm>
              <a:off x="539640" y="2492280"/>
              <a:ext cx="1800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3680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1108080" y="2711160"/>
            <a:ext cx="6980400" cy="2228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段主要描述火烧云变化很快，逼真地写出了观察火烧云时的感受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6"/>
          <p:cNvSpPr/>
          <p:nvPr/>
        </p:nvSpPr>
        <p:spPr>
          <a:xfrm>
            <a:off x="324000" y="260280"/>
            <a:ext cx="1944360" cy="1944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2196720" y="2065320"/>
            <a:ext cx="6216840" cy="3168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地方的火烧云变化极多，一会儿红彤彤的，一会儿金灿灿的，一会儿半紫半黄，一会儿半灰半百合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忽然又来了一条大狗。那狗十分凶猛，在向前跑，后边似乎还跟着好几条小狗。跑着跑着，小狗不知道哪里去了，大狗也不见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2124000" y="1125360"/>
            <a:ext cx="3888000" cy="52056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像火烧云的画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"/>
          <p:cNvSpPr/>
          <p:nvPr/>
        </p:nvSpPr>
        <p:spPr>
          <a:xfrm>
            <a:off x="468360" y="333360"/>
            <a:ext cx="1366920" cy="122400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意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6"/>
          <p:cNvSpPr/>
          <p:nvPr/>
        </p:nvSpPr>
        <p:spPr>
          <a:xfrm>
            <a:off x="971640" y="1844640"/>
            <a:ext cx="1224000" cy="1511280"/>
          </a:xfrm>
          <a:custGeom>
            <a:avLst/>
            <a:gdLst>
              <a:gd name="textAreaLeft" fmla="*/ 144000 w 1224000"/>
              <a:gd name="textAreaRight" fmla="*/ 1080000 w 1224000"/>
              <a:gd name="textAreaTop" fmla="*/ 144000 h 1511280"/>
              <a:gd name="textAreaBottom" fmla="*/ 1367280 h 1511280"/>
            </a:gdLst>
            <a:ahLst/>
            <a:rect l="textAreaLeft" t="textAreaTop" r="textAreaRight" b="textAreaBottom"/>
            <a:pathLst>
              <a:path w="21600" h="26668">
                <a:moveTo>
                  <a:pt x="3600" y="0"/>
                </a:moveTo>
                <a:arcTo wR="3600" hR="3600" stAng="0" swAng="5400000"/>
                <a:lnTo>
                  <a:pt x="0" y="23068"/>
                </a:lnTo>
                <a:arcTo wR="3600" hR="3600" stAng="16200000" swAng="5400000"/>
                <a:lnTo>
                  <a:pt x="18000" y="26668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句段赏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8">
            <a:hlinkClick r:id="rId2" action="ppaction://hlinksldjump"/>
          </p:cNvPr>
          <p:cNvSpPr/>
          <p:nvPr/>
        </p:nvSpPr>
        <p:spPr>
          <a:xfrm>
            <a:off x="7164360" y="5589720"/>
            <a:ext cx="1079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5"/>
          <p:cNvSpPr/>
          <p:nvPr/>
        </p:nvSpPr>
        <p:spPr>
          <a:xfrm>
            <a:off x="6261120" y="6162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17" descr="PH01265U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3" descr="AN01084_"/>
          <p:cNvPicPr/>
          <p:nvPr/>
        </p:nvPicPr>
        <p:blipFill>
          <a:blip r:embed="rId3"/>
          <a:stretch/>
        </p:blipFill>
        <p:spPr>
          <a:xfrm rot="20628600">
            <a:off x="4643280" y="620280"/>
            <a:ext cx="1944720" cy="16383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4" descr="AN01060_"/>
          <p:cNvPicPr/>
          <p:nvPr/>
        </p:nvPicPr>
        <p:blipFill>
          <a:blip r:embed="rId4"/>
          <a:stretch/>
        </p:blipFill>
        <p:spPr>
          <a:xfrm>
            <a:off x="7575480" y="2349360"/>
            <a:ext cx="1568520" cy="12448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5" descr="AN01044_"/>
          <p:cNvPicPr/>
          <p:nvPr/>
        </p:nvPicPr>
        <p:blipFill>
          <a:blip r:embed="rId5"/>
          <a:stretch/>
        </p:blipFill>
        <p:spPr>
          <a:xfrm>
            <a:off x="6732720" y="3284640"/>
            <a:ext cx="600120" cy="6030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7" descr="AN01060_"/>
          <p:cNvPicPr/>
          <p:nvPr/>
        </p:nvPicPr>
        <p:blipFill>
          <a:blip r:embed="rId6"/>
          <a:stretch/>
        </p:blipFill>
        <p:spPr>
          <a:xfrm rot="20764200">
            <a:off x="7020000" y="2133360"/>
            <a:ext cx="1081080" cy="8571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AN01084_"/>
          <p:cNvPicPr/>
          <p:nvPr/>
        </p:nvPicPr>
        <p:blipFill>
          <a:blip r:embed="rId7"/>
          <a:stretch/>
        </p:blipFill>
        <p:spPr>
          <a:xfrm rot="1045200">
            <a:off x="1618920" y="549360"/>
            <a:ext cx="1944720" cy="1638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AN01044_"/>
          <p:cNvPicPr/>
          <p:nvPr/>
        </p:nvPicPr>
        <p:blipFill>
          <a:blip r:embed="rId8"/>
          <a:stretch/>
        </p:blipFill>
        <p:spPr>
          <a:xfrm>
            <a:off x="2484360" y="3645000"/>
            <a:ext cx="887400" cy="8920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0" descr="AN01060_"/>
          <p:cNvPicPr/>
          <p:nvPr/>
        </p:nvPicPr>
        <p:blipFill>
          <a:blip r:embed="rId9"/>
          <a:stretch/>
        </p:blipFill>
        <p:spPr>
          <a:xfrm rot="20764200">
            <a:off x="684360" y="2205000"/>
            <a:ext cx="1584000" cy="12556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1" descr="AN01060_"/>
          <p:cNvPicPr/>
          <p:nvPr/>
        </p:nvPicPr>
        <p:blipFill>
          <a:blip r:embed="rId10"/>
          <a:stretch/>
        </p:blipFill>
        <p:spPr>
          <a:xfrm>
            <a:off x="3203640" y="3645000"/>
            <a:ext cx="1368360" cy="1085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2" descr="AN01044_"/>
          <p:cNvPicPr/>
          <p:nvPr/>
        </p:nvPicPr>
        <p:blipFill>
          <a:blip r:embed="rId11"/>
          <a:stretch/>
        </p:blipFill>
        <p:spPr>
          <a:xfrm>
            <a:off x="5219640" y="3500280"/>
            <a:ext cx="743040" cy="7477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AN01060_"/>
          <p:cNvPicPr/>
          <p:nvPr/>
        </p:nvPicPr>
        <p:blipFill>
          <a:blip r:embed="rId12"/>
          <a:stretch/>
        </p:blipFill>
        <p:spPr>
          <a:xfrm>
            <a:off x="5796000" y="3284640"/>
            <a:ext cx="1728720" cy="13716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图片1"/>
          <p:cNvPicPr/>
          <p:nvPr/>
        </p:nvPicPr>
        <p:blipFill>
          <a:blip r:embed="rId13"/>
          <a:stretch/>
        </p:blipFill>
        <p:spPr>
          <a:xfrm>
            <a:off x="6227640" y="836640"/>
            <a:ext cx="2521080" cy="148572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19">
            <a:hlinkClick r:id="rId14" action="ppaction://hlinksldjump"/>
          </p:cNvPr>
          <p:cNvSpPr/>
          <p:nvPr/>
        </p:nvSpPr>
        <p:spPr>
          <a:xfrm>
            <a:off x="8352000" y="5950080"/>
            <a:ext cx="792000" cy="907920"/>
          </a:xfrm>
          <a:custGeom>
            <a:avLst/>
            <a:gdLst>
              <a:gd name="textAreaLeft" fmla="*/ 105840 w 792000"/>
              <a:gd name="textAreaRight" fmla="*/ 686160 w 79200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938"/>
                <a:lnTo>
                  <a:pt x="7184" y="21170"/>
                </a:lnTo>
                <a:lnTo>
                  <a:pt x="0" y="17280"/>
                </a:lnTo>
                <a:lnTo>
                  <a:pt x="7184" y="12530"/>
                </a:lnTo>
                <a:lnTo>
                  <a:pt x="7184" y="14690"/>
                </a:lnTo>
                <a:arcTo wR="21600" hR="7560" stAng="2686938" swAng="-23295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AutoShape 5"/>
          <p:cNvSpPr/>
          <p:nvPr/>
        </p:nvSpPr>
        <p:spPr>
          <a:xfrm>
            <a:off x="1258920" y="836640"/>
            <a:ext cx="1584360" cy="9367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验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"/>
          <p:cNvSpPr/>
          <p:nvPr/>
        </p:nvSpPr>
        <p:spPr>
          <a:xfrm>
            <a:off x="2124000" y="2565360"/>
            <a:ext cx="6048360" cy="70344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本篇课文要求背诵，怎样才能背得既准确又快速呢？介绍一下自己的经验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好吗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1403280" y="1628280"/>
            <a:ext cx="6507360" cy="3434040"/>
          </a:xfrm>
          <a:prstGeom prst="rect">
            <a:avLst/>
          </a:prstGeom>
          <a:noFill/>
          <a:ln w="9360">
            <a:solidFill>
              <a:srgbClr val="00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理解课文内容、了解叙述顺序、抓住关键词语和熟读的基础上练习背诵 ，这样才能背得既准确又快速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5">
            <a:hlinkClick r:id="rId2" action="ppaction://hlinksldjump"/>
          </p:cNvPr>
          <p:cNvSpPr/>
          <p:nvPr/>
        </p:nvSpPr>
        <p:spPr>
          <a:xfrm>
            <a:off x="7740720" y="5445000"/>
            <a:ext cx="792000" cy="908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158760 h 908280"/>
              <a:gd name="textAreaBottom" fmla="*/ 6584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938"/>
                <a:lnTo>
                  <a:pt x="7184" y="21170"/>
                </a:lnTo>
                <a:lnTo>
                  <a:pt x="0" y="17280"/>
                </a:lnTo>
                <a:lnTo>
                  <a:pt x="7184" y="12530"/>
                </a:lnTo>
                <a:lnTo>
                  <a:pt x="7184" y="14690"/>
                </a:lnTo>
                <a:arcTo wR="21600" hR="7560" stAng="2686938" swAng="-23295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6">
            <a:hlinkClick r:id="rId2" action="ppaction://hlinksldjump"/>
          </p:cNvPr>
          <p:cNvSpPr/>
          <p:nvPr/>
        </p:nvSpPr>
        <p:spPr>
          <a:xfrm>
            <a:off x="1692360" y="2392200"/>
            <a:ext cx="20160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>
            <a:hlinkClick r:id="rId3" action="ppaction://hlinksldjump"/>
          </p:cNvPr>
          <p:cNvSpPr/>
          <p:nvPr/>
        </p:nvSpPr>
        <p:spPr>
          <a:xfrm>
            <a:off x="1692360" y="3327480"/>
            <a:ext cx="20160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新知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>
            <a:hlinkClick r:id="rId4" action="ppaction://hlinksldjump"/>
          </p:cNvPr>
          <p:cNvSpPr/>
          <p:nvPr/>
        </p:nvSpPr>
        <p:spPr>
          <a:xfrm>
            <a:off x="4873680" y="2421000"/>
            <a:ext cx="20160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总结拓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>
            <a:hlinkClick r:id="rId5" action="ppaction://hlinksldjump"/>
          </p:cNvPr>
          <p:cNvSpPr/>
          <p:nvPr/>
        </p:nvSpPr>
        <p:spPr>
          <a:xfrm>
            <a:off x="1692360" y="4292640"/>
            <a:ext cx="20160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经验交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WordArt 14"/>
          <p:cNvSpPr txBox="1"/>
          <p:nvPr/>
        </p:nvSpPr>
        <p:spPr>
          <a:xfrm rot="712200">
            <a:off x="2842920" y="620640"/>
            <a:ext cx="39592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3966000"/>
                </a:gradFill>
                <a:latin typeface="宋体"/>
              </a:rPr>
              <a:t>教学过程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3966000"/>
              </a:gradFill>
              <a:latin typeface="宋体"/>
              <a:ea typeface="宋体"/>
            </a:endParaRPr>
          </a:p>
        </p:txBody>
      </p:sp>
      <p:sp>
        <p:nvSpPr>
          <p:cNvPr id="584" name="Text Box 15">
            <a:hlinkClick r:id="rId6" action="ppaction://hlinksldjump"/>
          </p:cNvPr>
          <p:cNvSpPr/>
          <p:nvPr/>
        </p:nvSpPr>
        <p:spPr>
          <a:xfrm>
            <a:off x="4859280" y="3357720"/>
            <a:ext cx="201636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8">
            <a:hlinkClick r:id="rId7" action="ppaction://hlinksldjump"/>
          </p:cNvPr>
          <p:cNvSpPr/>
          <p:nvPr/>
        </p:nvSpPr>
        <p:spPr>
          <a:xfrm>
            <a:off x="4844880" y="4292640"/>
            <a:ext cx="201636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bbe0e3"/>
                </a:solidFill>
                <a:latin typeface="Arial"/>
              </a:rPr>
              <a:t>结束教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AutoShape 2"/>
          <p:cNvSpPr/>
          <p:nvPr/>
        </p:nvSpPr>
        <p:spPr>
          <a:xfrm>
            <a:off x="468360" y="333360"/>
            <a:ext cx="1008000" cy="1008000"/>
          </a:xfrm>
          <a:custGeom>
            <a:avLst/>
            <a:gdLst>
              <a:gd name="textAreaLeft" fmla="*/ 0 w 1008000"/>
              <a:gd name="textAreaRight" fmla="*/ 1008360 w 1008000"/>
              <a:gd name="textAreaTop" fmla="*/ 130680 h 1008000"/>
              <a:gd name="textAreaBottom" fmla="*/ 8773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总结拓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4"/>
          <p:cNvSpPr/>
          <p:nvPr/>
        </p:nvSpPr>
        <p:spPr>
          <a:xfrm>
            <a:off x="539640" y="981000"/>
            <a:ext cx="7777440" cy="5400720"/>
          </a:xfrm>
          <a:prstGeom prst="horizontalScroll">
            <a:avLst>
              <a:gd name="adj" fmla="val 12500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火烧云是极平常的自然现象，而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者却把它写得如此美丽，这与作者的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致观察是分不开的。希望大家以后把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的自然现象也要及时动笔写一写，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画，把最美好的景色写下来，画下来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6">
            <a:hlinkClick r:id="rId2" action="ppaction://hlinksldjump"/>
          </p:cNvPr>
          <p:cNvSpPr/>
          <p:nvPr/>
        </p:nvSpPr>
        <p:spPr>
          <a:xfrm>
            <a:off x="7812000" y="5877000"/>
            <a:ext cx="792360" cy="9079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58760 h 907920"/>
              <a:gd name="textAreaBottom" fmla="*/ 65844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938"/>
                <a:lnTo>
                  <a:pt x="7184" y="21170"/>
                </a:lnTo>
                <a:lnTo>
                  <a:pt x="0" y="17280"/>
                </a:lnTo>
                <a:lnTo>
                  <a:pt x="7184" y="12530"/>
                </a:lnTo>
                <a:lnTo>
                  <a:pt x="7184" y="14690"/>
                </a:lnTo>
                <a:arcTo wR="21600" hR="7560" stAng="2686938" swAng="-23295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 txBox="1"/>
          <p:nvPr/>
        </p:nvSpPr>
        <p:spPr>
          <a:xfrm>
            <a:off x="1983960" y="1628640"/>
            <a:ext cx="66279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照样子写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：金灿灿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4"/>
          <p:cNvSpPr/>
          <p:nvPr/>
        </p:nvSpPr>
        <p:spPr>
          <a:xfrm>
            <a:off x="395280" y="476280"/>
            <a:ext cx="2089080" cy="792000"/>
          </a:xfrm>
          <a:custGeom>
            <a:avLst/>
            <a:gdLst>
              <a:gd name="textAreaLeft" fmla="*/ 522360 w 2089080"/>
              <a:gd name="textAreaRight" fmla="*/ 1567080 w 2089080"/>
              <a:gd name="textAreaTop" fmla="*/ 0 h 792000"/>
              <a:gd name="textAreaBottom" fmla="*/ 693000 h 7920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2771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"/>
          <p:cNvSpPr/>
          <p:nvPr/>
        </p:nvSpPr>
        <p:spPr>
          <a:xfrm>
            <a:off x="4500720" y="3213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8"/>
          <p:cNvSpPr/>
          <p:nvPr/>
        </p:nvSpPr>
        <p:spPr>
          <a:xfrm>
            <a:off x="630072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2771640" y="3789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0"/>
          <p:cNvSpPr/>
          <p:nvPr/>
        </p:nvSpPr>
        <p:spPr>
          <a:xfrm>
            <a:off x="4500720" y="378936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6300720" y="3789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12">
            <a:hlinkClick r:id="rId2" action="ppaction://hlinksldjump"/>
          </p:cNvPr>
          <p:cNvSpPr/>
          <p:nvPr/>
        </p:nvSpPr>
        <p:spPr>
          <a:xfrm>
            <a:off x="7740720" y="5445000"/>
            <a:ext cx="792000" cy="908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158760 h 908280"/>
              <a:gd name="textAreaBottom" fmla="*/ 6584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938"/>
                <a:lnTo>
                  <a:pt x="7184" y="21170"/>
                </a:lnTo>
                <a:lnTo>
                  <a:pt x="0" y="17280"/>
                </a:lnTo>
                <a:lnTo>
                  <a:pt x="7184" y="12530"/>
                </a:lnTo>
                <a:lnTo>
                  <a:pt x="7184" y="14690"/>
                </a:lnTo>
                <a:arcTo wR="21600" hR="7560" stAng="2686938" swAng="-23295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文本框 1"/>
          <p:cNvSpPr/>
          <p:nvPr/>
        </p:nvSpPr>
        <p:spPr>
          <a:xfrm>
            <a:off x="2162160" y="4903920"/>
            <a:ext cx="54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1"/>
          <p:cNvSpPr/>
          <p:nvPr/>
        </p:nvSpPr>
        <p:spPr>
          <a:xfrm>
            <a:off x="3385440" y="155736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333399"/>
                </a:solidFill>
                <a:latin typeface="Arial"/>
              </a:rPr>
              <a:t>再见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FB7C-0655-427A-8A83-84C017C122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1865160" y="2690280"/>
            <a:ext cx="62611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你们写对了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?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对比一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喂猪        笑盈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凶猛        镇静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茄子        模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755640" y="981000"/>
            <a:ext cx="7201080" cy="520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们读过了本课的第一自然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么我们来说一下它的内容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1619280" y="2133720"/>
            <a:ext cx="1225440" cy="52056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听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8"/>
          <p:cNvSpPr/>
          <p:nvPr/>
        </p:nvSpPr>
        <p:spPr>
          <a:xfrm>
            <a:off x="2050920" y="3860640"/>
            <a:ext cx="568800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地下写到天上（从下到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9"/>
          <p:cNvSpPr/>
          <p:nvPr/>
        </p:nvSpPr>
        <p:spPr>
          <a:xfrm>
            <a:off x="1187280" y="2133720"/>
            <a:ext cx="720108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那么，本文写火烧云的顺序是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1258920" y="980640"/>
            <a:ext cx="643104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第一段的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7"/>
          <p:cNvGrpSpPr/>
          <p:nvPr/>
        </p:nvGrpSpPr>
        <p:grpSpPr>
          <a:xfrm>
            <a:off x="1403280" y="2276640"/>
            <a:ext cx="5832360" cy="3025440"/>
            <a:chOff x="1403280" y="2276640"/>
            <a:chExt cx="5832360" cy="3025440"/>
          </a:xfrm>
        </p:grpSpPr>
        <p:sp>
          <p:nvSpPr>
            <p:cNvPr id="593" name="Text Box 4"/>
            <p:cNvSpPr/>
            <p:nvPr/>
          </p:nvSpPr>
          <p:spPr>
            <a:xfrm>
              <a:off x="1403280" y="2276640"/>
              <a:ext cx="583236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小孩子             红红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大白狗             红的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红公鸡             金的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黑母鸡             紫檀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小白猪             小金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老爷爷             金胡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5"/>
            <p:cNvSpPr/>
            <p:nvPr/>
          </p:nvSpPr>
          <p:spPr>
            <a:xfrm>
              <a:off x="2195280" y="2349360"/>
              <a:ext cx="433440" cy="2952720"/>
            </a:xfrm>
            <a:custGeom>
              <a:avLst/>
              <a:gdLst>
                <a:gd name="textAreaLeft" fmla="*/ 276840 w 433440"/>
                <a:gd name="textAreaRight" fmla="*/ 433800 w 433440"/>
                <a:gd name="textAreaTop" fmla="*/ 76680 h 2952720"/>
                <a:gd name="textAreaBottom" fmla="*/ 2876040 h 29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6923"/>
                  </a:lnTo>
                  <a:cubicBezTo>
                    <a:pt x="10800" y="7822"/>
                    <a:pt x="5400" y="8721"/>
                    <a:pt x="0" y="8721"/>
                  </a:cubicBezTo>
                  <a:cubicBezTo>
                    <a:pt x="5400" y="8721"/>
                    <a:pt x="10800" y="9620"/>
                    <a:pt x="10800" y="10519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6"/>
          <p:cNvSpPr/>
          <p:nvPr/>
        </p:nvSpPr>
        <p:spPr>
          <a:xfrm>
            <a:off x="1547640" y="3573360"/>
            <a:ext cx="6116760" cy="7034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讲晚饭过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火烧云照着大地的一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7"/>
          <p:cNvSpPr/>
          <p:nvPr/>
        </p:nvSpPr>
        <p:spPr>
          <a:xfrm>
            <a:off x="755640" y="1052640"/>
            <a:ext cx="2736720" cy="1439640"/>
          </a:xfrm>
          <a:custGeom>
            <a:avLst/>
            <a:gdLst>
              <a:gd name="textAreaLeft" fmla="*/ 684000 w 2736720"/>
              <a:gd name="textAreaRight" fmla="*/ 2052720 w 2736720"/>
              <a:gd name="textAreaTop" fmla="*/ 0 h 1439640"/>
              <a:gd name="textAreaBottom" fmla="*/ 1260000 h 1439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答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8">
            <a:hlinkClick r:id="rId2" action="ppaction://hlinksldjump"/>
          </p:cNvPr>
          <p:cNvSpPr/>
          <p:nvPr/>
        </p:nvSpPr>
        <p:spPr>
          <a:xfrm>
            <a:off x="7740720" y="5445000"/>
            <a:ext cx="792000" cy="908280"/>
          </a:xfrm>
          <a:custGeom>
            <a:avLst/>
            <a:gdLst>
              <a:gd name="textAreaLeft" fmla="*/ 105840 w 792000"/>
              <a:gd name="textAreaRight" fmla="*/ 686160 w 792000"/>
              <a:gd name="textAreaTop" fmla="*/ 158760 h 908280"/>
              <a:gd name="textAreaBottom" fmla="*/ 6584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6938"/>
                <a:lnTo>
                  <a:pt x="7184" y="21170"/>
                </a:lnTo>
                <a:lnTo>
                  <a:pt x="0" y="17280"/>
                </a:lnTo>
                <a:lnTo>
                  <a:pt x="7184" y="12530"/>
                </a:lnTo>
                <a:lnTo>
                  <a:pt x="7184" y="14690"/>
                </a:lnTo>
                <a:arcTo wR="21600" hR="7560" stAng="2686938" swAng="-23295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3708360" y="141300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第一段描写的是什么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599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首先齐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4"/>
          <p:cNvSpPr/>
          <p:nvPr/>
        </p:nvSpPr>
        <p:spPr>
          <a:xfrm>
            <a:off x="468360" y="260280"/>
            <a:ext cx="1439640" cy="504720"/>
          </a:xfrm>
          <a:prstGeom prst="wedgeRoundRectCallout">
            <a:avLst>
              <a:gd name="adj1" fmla="val 73263"/>
              <a:gd name="adj2" fmla="val 1644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课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1258920" y="357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火烧云颜色的变化，强调天空一片红艳。连用四个“一会儿”不仅突出颜色多，而且强调变化快。“还有说也说不出来，见也没有见过的颜色。”说明颜色太多，都叫不出来。由此可以看出天空很美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15"/>
          <p:cNvGrpSpPr/>
          <p:nvPr/>
        </p:nvGrpSpPr>
        <p:grpSpPr>
          <a:xfrm>
            <a:off x="539640" y="2492280"/>
            <a:ext cx="5977080" cy="720720"/>
            <a:chOff x="539640" y="2492280"/>
            <a:chExt cx="5977080" cy="720720"/>
          </a:xfrm>
        </p:grpSpPr>
        <p:sp>
          <p:nvSpPr>
            <p:cNvPr id="603" name="Text Box 6"/>
            <p:cNvSpPr/>
            <p:nvPr/>
          </p:nvSpPr>
          <p:spPr>
            <a:xfrm>
              <a:off x="2556000" y="2637000"/>
              <a:ext cx="39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你读懂了什么 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4"/>
            <p:cNvSpPr/>
            <p:nvPr/>
          </p:nvSpPr>
          <p:spPr>
            <a:xfrm>
              <a:off x="539640" y="2492280"/>
              <a:ext cx="1800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说一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Ba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4"/>
          <p:cNvSpPr/>
          <p:nvPr/>
        </p:nvSpPr>
        <p:spPr>
          <a:xfrm>
            <a:off x="250920" y="476280"/>
            <a:ext cx="1512720" cy="1440000"/>
          </a:xfrm>
          <a:prstGeom prst="wedgeEllipseCallout">
            <a:avLst>
              <a:gd name="adj1" fmla="val 56717"/>
              <a:gd name="adj2" fmla="val 194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概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123640" y="1125360"/>
            <a:ext cx="6480360" cy="4104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红彤彤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金灿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半紫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</a:rPr>
              <a:t>半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颜 色：      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半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百合色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葡萄灰</a:t>
            </a:r>
            <a:br>
              <a:rPr sz="3200"/>
            </a:b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                    梨黄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茄子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9"/>
          <p:cNvSpPr/>
          <p:nvPr/>
        </p:nvSpPr>
        <p:spPr>
          <a:xfrm>
            <a:off x="3780000" y="1773360"/>
            <a:ext cx="215640" cy="30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0"/>
          <p:cNvSpPr/>
          <p:nvPr/>
        </p:nvSpPr>
        <p:spPr>
          <a:xfrm>
            <a:off x="6732720" y="1773360"/>
            <a:ext cx="215640" cy="3024000"/>
          </a:xfrm>
          <a:custGeom>
            <a:avLst/>
            <a:gdLst>
              <a:gd name="textAreaLeft" fmla="*/ 0 w 215640"/>
              <a:gd name="textAreaRight" fmla="*/ 77760 w 215640"/>
              <a:gd name="textAreaTop" fmla="*/ 78480 h 3024000"/>
              <a:gd name="textAreaBottom" fmla="*/ 294552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8327"/>
                </a:lnTo>
                <a:cubicBezTo>
                  <a:pt x="10800" y="9226"/>
                  <a:pt x="16200" y="10125"/>
                  <a:pt x="21600" y="10125"/>
                </a:cubicBezTo>
                <a:cubicBezTo>
                  <a:pt x="16200" y="10125"/>
                  <a:pt x="10800" y="11024"/>
                  <a:pt x="10800" y="11923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7093080" y="29052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多、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1241280" y="2079720"/>
            <a:ext cx="652176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由读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然段，边读边想像，体会一下它的意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7"/>
          <p:cNvSpPr/>
          <p:nvPr/>
        </p:nvSpPr>
        <p:spPr>
          <a:xfrm>
            <a:off x="539640" y="692280"/>
            <a:ext cx="1368360" cy="1081080"/>
          </a:xfrm>
          <a:prstGeom prst="wedgeRoundRectCallout">
            <a:avLst>
              <a:gd name="adj1" fmla="val 64847"/>
              <a:gd name="adj2" fmla="val 80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1T14:17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1:34Z</dcterms:modified>
  <cp:revision>5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