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70F5-E592-4076-BBD3-B26382384E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ACF7-B9C9-40E7-8F44-30F19FB927E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56F-AE06-4762-B65C-8A040C5A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624-B990-49DE-B71C-681827A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7E9-530F-41A0-B39F-032C3076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E2C-03E8-40FB-9321-705D9C53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352-55E8-4941-841C-331342A5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4E4C-4F1C-414A-A533-D44CF2B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D36D-C373-4021-B768-841ACAF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6A2C-D7AA-4BC1-BBE5-2E38F3C8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E05C-0DE2-46F2-8F1A-3F61DF08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8B29-7BDF-4FF3-A5FC-B213F943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1C77-651B-49E3-9558-6ACDF1B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AF2-F357-4E53-9E60-DF0C398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104C-DB18-424D-85FB-8F2FA79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A63A-B67B-4AB9-853D-ABF9095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D8E6-08EC-468B-BE3D-5D8D7DF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DBEF-61AF-402D-8F1B-BE46DC79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373D-D335-43BD-8809-32FC5B0F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9D24-C112-403F-B103-933208B1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AD68-8DD5-44C6-93F2-DC72EC9B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5D0C-B1FC-4E6F-A7BF-86211BDC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8B97-E2D8-47E7-A666-2F38132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CF9B-822C-46B0-A8AA-19E2261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EBE-013B-4115-A895-A3CDA551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AAE43-9382-4330-AA9E-60116B6A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1CDB-7F05-4F28-B832-A527420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035D-131D-491B-916B-D660740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1285-E1AC-47BD-85B1-A537854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09D4-5C6E-4A92-9450-8008EAC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6A3C-E96B-4CEF-B9AB-D0CBA102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D1B5-DFBD-4D38-AA2C-FDC8306D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5CD-92A6-4547-9CB6-E90600F0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263-A3C8-4E26-88AB-E2BA1D8C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DA2-A828-48B8-A59A-F366191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448-EA48-448C-A098-C99B1C5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112-389E-4B17-99CF-640BEBC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590-8DA9-4130-B49D-C533BFA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0F67-90E1-47C8-BA4D-46BE07FB9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C85-4F3A-4F2D-AFFF-FAC35F52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C36-9747-4B28-B410-148492915150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6"/>
          <p:cNvSpPr txBox="1"/>
          <p:nvPr/>
        </p:nvSpPr>
        <p:spPr>
          <a:xfrm rot="5400000">
            <a:off x="-612720" y="2276280"/>
            <a:ext cx="4032000" cy="23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红围裙</a:t>
            </a:r>
            <a:endParaRPr b="1" lang="en-US" sz="9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765000"/>
            <a:ext cx="83995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70604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说出下列字的偏旁部首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围（       ）     急（       ）    举（      ）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道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1822320" y="5648400"/>
            <a:ext cx="64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4B3-5C7E-430C-A28A-A2E3ECC3CB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学习目标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学习本课生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借助拼音，正确流利地朗读课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提出问题，分析问题，解决问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80720" y="24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2360" y="357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717800" y="29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81840" y="40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写红围裙的样子和它带给妈妈的快乐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219640" y="404640"/>
            <a:ext cx="57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885080" y="404640"/>
            <a:ext cx="64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5724360" y="5157720"/>
            <a:ext cx="107964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7740720" y="5157720"/>
            <a:ext cx="107928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96720" y="6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9800" y="4581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005080" y="76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00508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332000" y="2781360"/>
            <a:ext cx="107928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3564000" y="2781360"/>
            <a:ext cx="107928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250920" y="4076640"/>
            <a:ext cx="122400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973240" y="3867120"/>
            <a:ext cx="29196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妈妈做的家务又多又快又好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325440" y="47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02160" y="40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357080" y="2492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2124000" y="3068640"/>
            <a:ext cx="57636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419640" y="3068640"/>
            <a:ext cx="28872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276720" y="5445000"/>
            <a:ext cx="100800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24000" y="6742080"/>
            <a:ext cx="93492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6659640" y="3284640"/>
            <a:ext cx="1079280" cy="0"/>
          </a:xfrm>
          <a:prstGeom prst="line">
            <a:avLst/>
          </a:prstGeom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336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自由读课文，思考问题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说说妈妈吃了没放盐的面，为什么还那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开心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79280" y="3284640"/>
            <a:ext cx="85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因为这碗面是女儿亲手做的，包含了女儿对妈妈的体贴与关爱，这种爱最有滋味，最令人开心，所以即使没放盐，妈妈也觉得很开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她忙了好长时间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才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端出一碗面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才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过几分钟，妈妈就回家了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56720" y="115920"/>
            <a:ext cx="361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一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个字“才”在这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什么不同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9280" y="2637000"/>
            <a:ext cx="86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才”说明女孩做面的时间长，做面不容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50920" y="4869000"/>
            <a:ext cx="72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才”表示事情发生得快，时间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u=738001792,3539527435&amp;fm=51&amp;gp=0"/>
          <p:cNvPicPr/>
          <p:nvPr/>
        </p:nvPicPr>
        <p:blipFill>
          <a:blip r:embed="rId1"/>
          <a:stretch/>
        </p:blipFill>
        <p:spPr>
          <a:xfrm>
            <a:off x="7956720" y="4508640"/>
            <a:ext cx="118728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548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读了这篇课文，你有什么感想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179280" y="1413000"/>
            <a:ext cx="8569440" cy="3887640"/>
          </a:xfrm>
          <a:prstGeom prst="cloudCallout">
            <a:avLst>
              <a:gd name="adj1" fmla="val 42310"/>
              <a:gd name="adj2" fmla="val 58777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634480" y="1844640"/>
            <a:ext cx="3681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文章从一个红围裙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生活中普普通通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一件东西，引出了一个小故事，让我感受到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对母女之间的浓浓亲情。妈妈对女儿的爱：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私奉献，女儿对妈妈的爱：关心、体贴，让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感动。我今后也一定多体贴、孝敬父母，帮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爸妈妈多做一些力所能及的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我会组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围：包围、围巾、围裙、周围、外围、围墙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布：红布、画布、花布、布匹、棉布、布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印：脚印、印章、烙印、钢印、印记、胶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急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: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急忙    着急    心急    急切    性急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举：举行   举手    举重    举止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由：由于   理由     自由    事由   由来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道：道长  道路     街道      国道   知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5:50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48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