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C857-69FB-4A19-897D-12935B854F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D2CB-2A18-4D51-85EA-7A6616C079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7CC-9927-4BE7-83BF-88FC8074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E90-F60C-4741-9508-DEAEBDC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EF2-9878-4541-8556-A1D9F8B2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422-051A-4EF5-BE33-8B68C419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9E2-61A5-4227-9264-A6B5947D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126D-BD13-48DE-AFFE-E916E1F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A144-6F14-4244-BA18-A73AD03A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5BA-6984-4575-9263-CCD4FDC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4E6-914C-4BFB-8D0C-755DE96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797-D5A0-4B53-9561-980F58D0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3DF4-E3EB-4317-AEA2-C3106FA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7A6-5F4B-432D-9E47-B5C4032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19AD-553F-4FEB-B928-3E9BE49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650-0D57-493F-85D2-2B19CFFB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916-0B28-4D09-9233-72DF7EA9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1A2F-EE1E-4BEB-BA53-7B621AF9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ECF-C561-40C4-A86E-1786F16D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6A4-4DA4-4BDD-9F0F-D6CA187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EB2-5930-4B23-A1A4-5F16B2E6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3FE-97B5-43B3-825E-FF5407C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3F9-C37C-4B8C-A3F0-48D8119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9A7-A7F9-4336-BEAA-A993BD5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B1-E27F-4B63-B349-AB32705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285-D930-4271-90AF-F73A02A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D975-BDBE-47DE-B70F-82B33ACD05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431-C71F-4BA4-9E95-16F32888EC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8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寒夜的灯光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矩形 6" descr=""/>
          <p:cNvPicPr/>
          <p:nvPr/>
        </p:nvPicPr>
        <p:blipFill>
          <a:blip r:embed="rId1"/>
          <a:stretch/>
        </p:blipFill>
        <p:spPr>
          <a:xfrm>
            <a:off x="1733400" y="5805360"/>
            <a:ext cx="6104160" cy="560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5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19200" y="709560"/>
            <a:ext cx="62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你对这位医生有什么感受？默读课文，画出相关的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96720" y="1917720"/>
            <a:ext cx="65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）“我开着车上路了，窗外寒风呼呼地吼叫着。”“这一带，每年都有人因为夜里遇到麻烦在车里冻僵。”在如此恶劣的条件下，医生毅然出诊，说明了什么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9640" y="4365720"/>
            <a:ext cx="806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）“这时候，外面下大雪了……说不定深夜还会有人来求诊。”既然回家不方便，医生为什么坚持要走，从这儿你感受到了什么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187280" y="5877000"/>
            <a:ext cx="48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齐读课文最后一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09080" cy="6896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4160" y="404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读句子，试着换种说法，句子的意思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78000" y="1311120"/>
            <a:ext cx="69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一入夜荒野总是漆黑一片，因为那时农家用电是很节约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96720" y="2276640"/>
            <a:ext cx="47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414a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414a"/>
                </a:solidFill>
                <a:latin typeface="黑体"/>
                <a:ea typeface="黑体"/>
              </a:rPr>
              <a:t>因为那时农家用电是很节约的，所以平时一入荒野总是漆黑一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66640" y="368604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“那么复杂的乡村夜路，我怎能认得回去的路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4360" y="4941720"/>
            <a:ext cx="569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414a"/>
                </a:solidFill>
                <a:latin typeface="Times New Roman"/>
                <a:ea typeface="黑体"/>
              </a:rPr>
              <a:t>那么复杂的路，我不能认得回去的路</a:t>
            </a:r>
            <a:r>
              <a:rPr b="0" lang="zh-CN" sz="2400" spc="-1" strike="noStrike">
                <a:solidFill>
                  <a:srgbClr val="ff414a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48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400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华康布丁体W12(P)"/>
              </a:rPr>
              <a:t>同学们，我们从课文中体会到了人与人之间的相互关爱。那么，在你的身边发生过哪些充满关爱的故事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康布丁体W12(P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B28-0B44-4940-AE05-B051E31450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95280" y="18464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(P)"/>
                <a:ea typeface="华康布丁体W12(P)"/>
              </a:rPr>
              <a:t>读一读，写一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28720" y="29257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小镇     诊所     婴儿     荒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徐徐     冻僵     复杂     多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致意     熄灭     哀鸣     孤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780000" y="3068640"/>
            <a:ext cx="193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60360" y="2637000"/>
            <a:ext cx="74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260360" y="25653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è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ě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yī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h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63640" y="364500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x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jiāng                  zā                    y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817560" y="4802040"/>
            <a:ext cx="74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ì                     xī                     āi                     gū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5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01520" y="412920"/>
            <a:ext cx="91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Spilt Ink"/>
                <a:ea typeface="方正卡通简体"/>
              </a:rPr>
              <a:t>课文告诉了我们一件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6720" y="198900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一位加拿大医生在寒冷的夜晚冒着生命危险出诊。沿途的农家用一路的灯光指引，深深打动了寒夜里出诊的医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98568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070520" y="14860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、寒夜是冷的，而寒夜的灯光却让作者“浑身充满温暖和力量”。默读课文，找出描写灯光的句子，体会作者的心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5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68360" y="5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 一入夜荒野总是漆黑一片，因为那时农家用电是很节约的。今夜却如那位农民说的，沿途农家全都把灯开亮了。一路的灯光指引着我，使我顺利到了那个求医的人家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“车子开了一会儿，我发觉恐惧和忧虑是多余的。沿途农家的灯都依然开着，那通明闪亮的灯光仿佛在朝我致意，人们用他们的灯光送我前行。我的汽车每驶过一家，灯光随后就熄灭，而前面的灯光还在等待着我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7020000" y="6310440"/>
            <a:ext cx="252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>
            <a:hlinkClick r:id="rId3" action="ppaction://hlinksldjump"/>
          </p:cNvPr>
          <p:cNvSpPr/>
          <p:nvPr/>
        </p:nvSpPr>
        <p:spPr>
          <a:xfrm>
            <a:off x="7380360" y="6308640"/>
            <a:ext cx="360360" cy="360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>
            <a:hlinkClick r:id="rId4" action="ppaction://hlinksldjump"/>
          </p:cNvPr>
          <p:cNvSpPr/>
          <p:nvPr/>
        </p:nvSpPr>
        <p:spPr>
          <a:xfrm>
            <a:off x="7885080" y="6308640"/>
            <a:ext cx="358920" cy="360360"/>
          </a:xfrm>
          <a:custGeom>
            <a:avLst/>
            <a:gdLst/>
            <a:ahLst/>
            <a:rect l="l" t="t" r="r" b="b"/>
            <a:pathLst>
              <a:path w="358775" h="360362">
                <a:moveTo>
                  <a:pt x="0" y="137645"/>
                </a:moveTo>
                <a:lnTo>
                  <a:pt x="137040" y="137646"/>
                </a:lnTo>
                <a:lnTo>
                  <a:pt x="179387" y="0"/>
                </a:lnTo>
                <a:lnTo>
                  <a:pt x="221734" y="137646"/>
                </a:lnTo>
                <a:lnTo>
                  <a:pt x="358774" y="137645"/>
                </a:lnTo>
                <a:lnTo>
                  <a:pt x="247906" y="222715"/>
                </a:lnTo>
                <a:lnTo>
                  <a:pt x="290254" y="360361"/>
                </a:lnTo>
                <a:lnTo>
                  <a:pt x="179387" y="275290"/>
                </a:lnTo>
                <a:lnTo>
                  <a:pt x="68520" y="360361"/>
                </a:lnTo>
                <a:lnTo>
                  <a:pt x="110868" y="2227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>
            <a:hlinkClick r:id="rId5" action="ppaction://hlinksldjump"/>
          </p:cNvPr>
          <p:cNvSpPr/>
          <p:nvPr/>
        </p:nvSpPr>
        <p:spPr>
          <a:xfrm>
            <a:off x="8388360" y="6381720"/>
            <a:ext cx="216000" cy="2872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2400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一入夜荒野总是漆黑一片，因为那时农家用灯是很节约的……一路的灯光指引着我，使我顺利到了那个求医的人家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20560" y="201312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①</a:t>
            </a:r>
            <a:r>
              <a:rPr b="0" lang="zh-TW" sz="2800" spc="-1" strike="noStrike">
                <a:solidFill>
                  <a:srgbClr val="800000"/>
                </a:solidFill>
                <a:latin typeface="黑体"/>
                <a:ea typeface="黑体"/>
              </a:rPr>
              <a:t>荒野的夜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9640" y="256536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平时：漆黑一片，此时：一路灯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3141720"/>
            <a:ext cx="82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平时节俭的农民为谁亮起了一路灯光？此时，医生的感受又会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4360" y="4221000"/>
            <a:ext cx="260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4292640"/>
            <a:ext cx="55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③</a:t>
            </a:r>
            <a:r>
              <a:rPr b="0" lang="zh-TW" sz="2800" spc="-1" strike="noStrike">
                <a:solidFill>
                  <a:srgbClr val="800000"/>
                </a:solidFill>
                <a:latin typeface="黑体"/>
                <a:ea typeface="黑体"/>
              </a:rPr>
              <a:t>从这灯光中，你感受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39640" y="4869000"/>
            <a:ext cx="54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农民们乐于助人的精神令人感动，使人感到无限的温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0">
            <a:hlinkClick r:id="rId2" action="ppaction://hlinksldjump"/>
          </p:cNvPr>
          <p:cNvSpPr/>
          <p:nvPr/>
        </p:nvSpPr>
        <p:spPr>
          <a:xfrm>
            <a:off x="8172360" y="6093000"/>
            <a:ext cx="432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51"/>
          <p:cNvPicPr/>
          <p:nvPr/>
        </p:nvPicPr>
        <p:blipFill>
          <a:blip r:embed="rId1"/>
          <a:stretch/>
        </p:blipFill>
        <p:spPr>
          <a:xfrm>
            <a:off x="-28440" y="1197000"/>
            <a:ext cx="913428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79280" y="333360"/>
            <a:ext cx="84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 2 ) 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车子开了一会儿，我发觉恐惧和忧虑是多余的……但是，我绝不感到孤独，那种感觉就像在黑夜中望见灯塔一样，我浑身充满温暖和力量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49560" y="249228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①“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我”的恐惧和忧虑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55640" y="3017880"/>
            <a:ext cx="785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  “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我壮着胆子……驶离这户人家。”“每年都有人因为夜里遇到麻烦在车里冻僵。那么复杂的乡村夜路，我怎能认得回去的路呢？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52440" y="4363920"/>
            <a:ext cx="796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作者为什么说“恐惧和忧虑是多余的”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>
            <a:hlinkClick r:id="rId2" action="ppaction://hlinksldjump"/>
          </p:cNvPr>
          <p:cNvSpPr/>
          <p:nvPr/>
        </p:nvSpPr>
        <p:spPr>
          <a:xfrm>
            <a:off x="7453440" y="5734080"/>
            <a:ext cx="43164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6836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③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而前面的灯光还在等待着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.....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里的省略号省略了什么内容？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127008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灯光为“我”而亮，每一家的灯光在“我”的汽车驶过后熄灭，而新的灯光还在前方照亮着“我”前进的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省略号省略了循环往复的过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9640" y="314172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TW" sz="2800" spc="-1" strike="noStrike">
                <a:solidFill>
                  <a:srgbClr val="ffffff"/>
                </a:solidFill>
                <a:latin typeface="黑体"/>
                <a:ea typeface="黑体"/>
              </a:rPr>
              <a:t>此时医生有什么感受？你能用课文中的话说说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2720" y="4292640"/>
            <a:ext cx="61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但是，我绝不感到孤独，那种感觉就像在黑夜中望见灯塔一样，我浑身充满温暖和力量。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5724360" y="6308640"/>
            <a:ext cx="50508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4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96720" y="260280"/>
            <a:ext cx="828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2720" y="476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⑤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次亮起的灯光与文中第一次亮起的灯光有什么不同？你感受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00000" y="1989000"/>
            <a:ext cx="676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  <a:ea typeface="黑体"/>
              </a:rPr>
              <a:t>灯光的再次闪烁，为医生指明方向，使我们感受到一种无私的友谊，温暖的关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84360" y="3645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带着自己的感受齐读这两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">
            <a:hlinkClick r:id="rId2" action="ppaction://hlinksldjump"/>
          </p:cNvPr>
          <p:cNvSpPr/>
          <p:nvPr/>
        </p:nvSpPr>
        <p:spPr>
          <a:xfrm>
            <a:off x="4861080" y="5950080"/>
            <a:ext cx="431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"/>
          <p:cNvSpPr/>
          <p:nvPr/>
        </p:nvSpPr>
        <p:spPr>
          <a:xfrm>
            <a:off x="514440" y="6129360"/>
            <a:ext cx="62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6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47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