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6A2-C197-492A-BF2A-F9E8C77C27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FAA-4D7A-4704-B905-FDF680B7C63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F49-8200-46CE-A21E-B792B950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958-4A8C-4731-87EC-1F53AFD8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0F7-883F-4BD6-B565-249D1D5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D75-C2C9-4109-A1C6-0526B726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901-27C9-4ADB-B33D-68AECE8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1C9-FEAF-4F74-968B-1037E93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508-860C-4FE9-812E-62D3124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C42-EF0A-4C14-8879-268FFC0E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11F-43F3-43BF-A457-0D8728D1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4D4-6802-4C04-B7E3-A12D787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79E-D4B0-459F-B67D-2710928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849-1CD8-4DAE-82DD-F594BC72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6EA-216F-4542-8BBD-DFD2591FEA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y001.com/gall/html/tupian/back/20040728144238(33)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042920" y="6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Text Box 9" descr=""/>
          <p:cNvPicPr/>
          <p:nvPr/>
        </p:nvPicPr>
        <p:blipFill>
          <a:blip r:embed="rId2"/>
          <a:stretch/>
        </p:blipFill>
        <p:spPr>
          <a:xfrm>
            <a:off x="988920" y="2139840"/>
            <a:ext cx="7164360" cy="1324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3780000" y="5729400"/>
            <a:ext cx="54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矩形 8" descr=""/>
          <p:cNvPicPr/>
          <p:nvPr/>
        </p:nvPicPr>
        <p:blipFill>
          <a:blip r:embed="rId3"/>
          <a:stretch/>
        </p:blipFill>
        <p:spPr>
          <a:xfrm>
            <a:off x="1779480" y="58039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3" name="Picture 4" descr="200992522405349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116000" y="1413000"/>
            <a:ext cx="67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车子开了一会儿，我发觉恐惧和忧虑是多余的。沿途农家的灯都依然开着，那通明闪亮的灯光仿佛在朝我致意，人们用他们的灯光送我前行。我的汽车每驶过一家，灯光随后就熄灭，而前面的灯光还在等待着我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我沿途听到的，只是汽车发动机的隆隆声，以及风的哀鸣和车轮碾雪的索索声。但是，我绝不感到孤独，那种感觉就像在黑暗中望见灯塔一样，我浑身充满温暖和力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Q}EQZV[WQZDCRH107~FZX{O"/>
          <p:cNvPicPr/>
          <p:nvPr/>
        </p:nvPicPr>
        <p:blipFill>
          <a:blip r:embed="rId1"/>
          <a:stretch/>
        </p:blipFill>
        <p:spPr>
          <a:xfrm>
            <a:off x="2484360" y="1052640"/>
            <a:ext cx="3924360" cy="290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2008115195659707_2"/>
          <p:cNvPicPr/>
          <p:nvPr/>
        </p:nvPicPr>
        <p:blipFill>
          <a:blip r:embed="rId2"/>
          <a:stretch/>
        </p:blipFill>
        <p:spPr>
          <a:xfrm>
            <a:off x="1763640" y="836640"/>
            <a:ext cx="6337440" cy="49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200611320946337"/>
          <p:cNvPicPr/>
          <p:nvPr/>
        </p:nvPicPr>
        <p:blipFill>
          <a:blip r:embed="rId3"/>
          <a:stretch/>
        </p:blipFill>
        <p:spPr>
          <a:xfrm>
            <a:off x="971640" y="765000"/>
            <a:ext cx="670536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20081023221039611"/>
          <p:cNvPicPr/>
          <p:nvPr/>
        </p:nvPicPr>
        <p:blipFill>
          <a:blip r:embed="rId4"/>
          <a:stretch/>
        </p:blipFill>
        <p:spPr>
          <a:xfrm>
            <a:off x="1692360" y="105264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20090518102635946"/>
          <p:cNvPicPr/>
          <p:nvPr/>
        </p:nvPicPr>
        <p:blipFill>
          <a:blip r:embed="rId5"/>
          <a:stretch/>
        </p:blipFill>
        <p:spPr>
          <a:xfrm>
            <a:off x="2268360" y="476280"/>
            <a:ext cx="4286520" cy="561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20080526100503890"/>
          <p:cNvPicPr/>
          <p:nvPr/>
        </p:nvPicPr>
        <p:blipFill>
          <a:blip r:embed="rId6"/>
          <a:stretch/>
        </p:blipFill>
        <p:spPr>
          <a:xfrm>
            <a:off x="1692360" y="836640"/>
            <a:ext cx="5616360" cy="489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10478013"/>
          <p:cNvPicPr/>
          <p:nvPr/>
        </p:nvPicPr>
        <p:blipFill>
          <a:blip r:embed="rId7"/>
          <a:stretch/>
        </p:blipFill>
        <p:spPr>
          <a:xfrm>
            <a:off x="2190600" y="1413000"/>
            <a:ext cx="5118120" cy="353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3" descr="10477864"/>
          <p:cNvPicPr/>
          <p:nvPr/>
        </p:nvPicPr>
        <p:blipFill>
          <a:blip r:embed="rId8"/>
          <a:stretch/>
        </p:blipFill>
        <p:spPr>
          <a:xfrm>
            <a:off x="2705040" y="809640"/>
            <a:ext cx="3733920" cy="523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5" descr="10478033"/>
          <p:cNvPicPr/>
          <p:nvPr/>
        </p:nvPicPr>
        <p:blipFill>
          <a:blip r:embed="rId9"/>
          <a:stretch/>
        </p:blipFill>
        <p:spPr>
          <a:xfrm>
            <a:off x="2843280" y="105264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6XD@H)J1V825_N9S@OUR`3H"/>
          <p:cNvPicPr/>
          <p:nvPr/>
        </p:nvPicPr>
        <p:blipFill>
          <a:blip r:embed="rId10"/>
          <a:stretch/>
        </p:blipFill>
        <p:spPr>
          <a:xfrm>
            <a:off x="2843280" y="1484280"/>
            <a:ext cx="468000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123.mp3" descr=""/>
          <p:cNvPicPr/>
          <p:nvPr/>
        </p:nvPicPr>
        <p:blipFill>
          <a:blip r:embed="rId1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dur="indefinite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dur="indefinite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6" dur="indefinite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9" dur="indefinite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4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2" dur="indefinite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0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4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5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1000"/>
                            </p:stCondLst>
                            <p:childTnLst>
                              <p:par>
                                <p:cTn id="225" dur="indefinite" nodeType="after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2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6000"/>
                            </p:stCondLst>
                            <p:childTnLst>
                              <p:par>
                                <p:cTn id="22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1000"/>
                            </p:stCondLst>
                            <p:childTnLst>
                              <p:par>
                                <p:cTn id="233" dur="indefinite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1000"/>
                            </p:stCondLst>
                            <p:childTnLst>
                              <p:par>
                                <p:cTn id="242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8316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c08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16B-164C-4388-B281-813030BBCB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8" descr="NK)[U{I(WHL`)5FCKYGPF]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187280" y="3751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篇课文主要讲了一件什么事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187280" y="2859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蓝色生死恋.mp3" descr=""/>
          <p:cNvPicPr/>
          <p:nvPr/>
        </p:nvPicPr>
        <p:blipFill>
          <a:blip r:embed="rId2"/>
          <a:stretch/>
        </p:blipFill>
        <p:spPr>
          <a:xfrm>
            <a:off x="7380360" y="544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3"/>
          <p:cNvSpPr txBox="1"/>
          <p:nvPr/>
        </p:nvSpPr>
        <p:spPr>
          <a:xfrm>
            <a:off x="2556000" y="1197000"/>
            <a:ext cx="352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寒夜的灯光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228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91130310556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755640" y="134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读一读，想一想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124000" y="2276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生出诊时灯光是怎样的？回家时又是怎样一番景象？请找出相关语句并做上记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板报1"/>
          <p:cNvPicPr/>
          <p:nvPr/>
        </p:nvPicPr>
        <p:blipFill>
          <a:blip r:embed="rId2"/>
          <a:stretch/>
        </p:blipFill>
        <p:spPr>
          <a:xfrm>
            <a:off x="250920" y="242100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1908000" y="3112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523e26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523e26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天上的街市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547640" y="148428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今夜却如那位农民说的，沿途农家全都把灯开亮了。一路的灯光指引着我，使我顺利到了那个求医的人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619280" y="33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沿途农家的灯都依然开着，那通明闪亮的灯光仿佛在朝我致意，人们用他们的灯光送我前行，我的汽车每驶过一家，灯光随后就熄灭，而前面的灯光还在等待着我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009527049414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90792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今夜却如那位农民说的，沿途农家全都把灯开亮了。一路的灯光指引着我，使我顺利到了那个求医的人家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561960" y="614196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cabg0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042920" y="220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平时，一入夜荒野总是漆黑一片，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那时农家用灯是很节约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116000" y="3789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那时农家用灯是很节约的，</a:t>
            </a:r>
            <a:r>
              <a:rPr b="1" lang="zh-CN" sz="3600" spc="-1" strike="noStrike" u="sng">
                <a:solidFill>
                  <a:srgbClr val="cc00ff"/>
                </a:solidFill>
                <a:uFillTx/>
                <a:latin typeface="Arial"/>
                <a:ea typeface="楷体_GB2312"/>
              </a:rPr>
              <a:t>所以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平时，一入夜荒野总是漆黑一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3492360" y="1197000"/>
            <a:ext cx="251964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改一改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987640" y="476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那么复杂的乡村夜路，我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怎能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认得回去的路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060720" y="2060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那么复杂的乡村夜路，我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不能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认得回去的路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006.WAV" descr=""/>
          <p:cNvPicPr/>
          <p:nvPr/>
        </p:nvPicPr>
        <p:blipFill>
          <a:blip r:embed="rId2"/>
          <a:stretch/>
        </p:blipFill>
        <p:spPr>
          <a:xfrm>
            <a:off x="53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1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00841411274135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684360" y="1700280"/>
            <a:ext cx="78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沿途农家的灯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依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开着，那通明闪亮的灯光仿佛在朝我致意，人们用他们的灯光送我前行。我的汽车每驶过一家，灯光随后就熄灭，而前面的灯光还在等待着我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1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1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95,-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6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00992522405349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572000" y="692280"/>
            <a:ext cx="36003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但是，我绝不感到孤独，那种感觉就像在黑暗中望见灯塔一样，我浑身充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温暖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力量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9" descr="1_200906031639357Yrwj"/>
          <p:cNvPicPr/>
          <p:nvPr/>
        </p:nvPicPr>
        <p:blipFill>
          <a:blip r:embed="rId2"/>
          <a:stretch/>
        </p:blipFill>
        <p:spPr>
          <a:xfrm>
            <a:off x="611280" y="83664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1:29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52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