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gif" ContentType="image/gif"/>
  <Override PartName="/ppt/media/image8.jpeg" ContentType="image/jpeg"/>
  <Override PartName="/ppt/media/image10.jpeg" ContentType="image/jpeg"/>
  <Override PartName="/ppt/media/image25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image4.jpeg" ContentType="image/jpeg"/>
  <Override PartName="/ppt/media/image22.gif" ContentType="image/gif"/>
  <Override PartName="/ppt/media/image3.jpeg" ContentType="image/jpeg"/>
  <Override PartName="/ppt/media/image2.jpeg" ContentType="image/jpeg"/>
  <Override PartName="/ppt/media/image14.gif" ContentType="image/gif"/>
  <Override PartName="/ppt/media/image29.gif" ContentType="image/gif"/>
  <Override PartName="/ppt/media/image27.png" ContentType="image/png"/>
  <Override PartName="/ppt/media/image23.gif" ContentType="image/gif"/>
  <Override PartName="/ppt/media/image26.gif" ContentType="image/gif"/>
  <Override PartName="/ppt/media/image20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7.gif" ContentType="image/gif"/>
  <Override PartName="/ppt/media/image21.jpeg" ContentType="image/jpeg"/>
  <Override PartName="/ppt/media/image16.gif" ContentType="image/gif"/>
  <Override PartName="/ppt/media/image28.jpeg" ContentType="image/jpeg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62B3-D21E-4C05-A09F-1B8E77989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AD08-37FF-4FB0-AE38-328CCE884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B0C6-60A9-480A-8333-08EFE7D2D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D651-76BD-4828-BC8E-EAEFEA4F9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谜语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974-33AB-4E24-A8AB-0F82891B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BD4-68FB-4C99-A0AC-A8473121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438-AFBD-48D4-83A7-7588595C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1C3-5C6A-4329-B8CE-B7FC63A4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EEA-6050-4EBD-81B3-B0A82B87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602-A470-4D74-9336-3CEBD835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28B-1951-4634-AA7A-DE6B4140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3E8-B882-4909-B9BF-5F075E23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DB5-E6BA-4A11-A897-8B5E8C5A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B39-5C87-48C3-89F9-92654FA4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E16-73EB-477D-96A3-75EDF1DA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1AD-6AE5-4FD2-BE77-FC105104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10C5-3C28-4CE7-B89D-97FDD111E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0.xml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" Target="slide10.xml"/><Relationship Id="rId6" Type="http://schemas.openxmlformats.org/officeDocument/2006/relationships/image" Target="../media/image15.gif"/><Relationship Id="rId7" Type="http://schemas.openxmlformats.org/officeDocument/2006/relationships/slide" Target="slide4.xml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.xml"/><Relationship Id="rId3" Type="http://schemas.openxmlformats.org/officeDocument/2006/relationships/image" Target="../media/image16.gif"/><Relationship Id="rId4" Type="http://schemas.openxmlformats.org/officeDocument/2006/relationships/slide" Target="slide10.xml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hyperlink" Target="http://www.d7bbs.com/printpage.asp?BoardID=26&amp;ID=3820" TargetMode="External"/><Relationship Id="rId7" Type="http://schemas.openxmlformats.org/officeDocument/2006/relationships/image" Target="../media/image25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26.gif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300000241583122295048459961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4694400" y="1219320"/>
            <a:ext cx="4217760" cy="17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微软雅黑"/>
              </a:rPr>
              <a:t>荷叶伞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440600" y="59436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142640" y="8377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荷叶姐姐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像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一把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荷叶姐姐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像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一把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翠 绿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的伞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715000" y="2133720"/>
            <a:ext cx="13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Cuì l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>
            <a:hlinkClick r:id="rId2" action="ppaction://hlinksldjump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4课荷叶伞g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928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cc66ff"/>
                </a:solidFill>
                <a:latin typeface="Arial"/>
              </a:rPr>
              <a:t>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鱼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游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躲在她的伞下。一</a:t>
            </a:r>
            <a:r>
              <a:rPr b="1" lang="zh-CN" sz="4400" spc="-1" strike="noStrike">
                <a:solidFill>
                  <a:srgbClr val="cc66ff"/>
                </a:solidFill>
                <a:latin typeface="Arial"/>
              </a:rPr>
              <a:t>群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蜻蜓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躲在她的伞下。一</a:t>
            </a:r>
            <a:r>
              <a:rPr b="1" lang="zh-CN" sz="4400" spc="-1" strike="noStrike">
                <a:solidFill>
                  <a:srgbClr val="cc66ff"/>
                </a:solidFill>
                <a:latin typeface="Arial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青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躲在她的伞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01005100007118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5640" y="5229360"/>
            <a:ext cx="1152360" cy="108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2009080221331835"/>
          <p:cNvPicPr/>
          <p:nvPr/>
        </p:nvPicPr>
        <p:blipFill>
          <a:blip r:embed="rId4"/>
          <a:stretch/>
        </p:blipFill>
        <p:spPr>
          <a:xfrm>
            <a:off x="2700360" y="515772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00540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556000" y="6237360"/>
            <a:ext cx="936360" cy="620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05191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991640" y="6378480"/>
            <a:ext cx="115236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"/>
          <p:cNvSpPr/>
          <p:nvPr/>
        </p:nvSpPr>
        <p:spPr>
          <a:xfrm>
            <a:off x="755640" y="399960"/>
            <a:ext cx="56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4课荷叶伞gg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6000" y="620640"/>
            <a:ext cx="9540720" cy="31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荷叶姐姐为别人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了雨，自己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淋湿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5191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91640" y="6378480"/>
            <a:ext cx="1152360" cy="47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07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2135160"/>
            <a:ext cx="2142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雨后荷塘1"/>
          <p:cNvPicPr/>
          <p:nvPr/>
        </p:nvPicPr>
        <p:blipFill>
          <a:blip r:embed="rId1"/>
          <a:stretch/>
        </p:blipFill>
        <p:spPr>
          <a:xfrm>
            <a:off x="0" y="765000"/>
            <a:ext cx="4140360" cy="586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u=1746361011,2409348814&amp;gp=21"/>
          <p:cNvPicPr/>
          <p:nvPr/>
        </p:nvPicPr>
        <p:blipFill>
          <a:blip r:embed="rId2"/>
          <a:stretch/>
        </p:blipFill>
        <p:spPr>
          <a:xfrm>
            <a:off x="3564000" y="189000"/>
            <a:ext cx="121896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924360" y="1268280"/>
            <a:ext cx="52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雨停了， 阳光照在荷叶姐姐的伞上，亮闪闪的，那是荷叶姐姐在高兴地眨着眼笑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雨后荷塘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765000"/>
            <a:ext cx="4140360" cy="586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u=1746361011,2409348814&amp;gp=21"/>
          <p:cNvPicPr/>
          <p:nvPr/>
        </p:nvPicPr>
        <p:blipFill>
          <a:blip r:embed="rId3"/>
          <a:stretch/>
        </p:blipFill>
        <p:spPr>
          <a:xfrm>
            <a:off x="3564000" y="189000"/>
            <a:ext cx="1218960" cy="1208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924360" y="1268280"/>
            <a:ext cx="52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阳光照在荷叶姐姐的伞上，亮闪闪的，那是荷叶姐姐在高兴地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眨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眼笑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>
            <a:hlinkClick r:id="rId4" action="ppaction://hlinksldjump"/>
          </p:cNvPr>
          <p:cNvSpPr/>
          <p:nvPr/>
        </p:nvSpPr>
        <p:spPr>
          <a:xfrm>
            <a:off x="55627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雨后荷塘1"/>
          <p:cNvPicPr/>
          <p:nvPr/>
        </p:nvPicPr>
        <p:blipFill>
          <a:blip r:embed="rId1"/>
          <a:stretch/>
        </p:blipFill>
        <p:spPr>
          <a:xfrm>
            <a:off x="0" y="765000"/>
            <a:ext cx="4140360" cy="586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u=1746361011,2409348814&amp;gp=21"/>
          <p:cNvPicPr/>
          <p:nvPr/>
        </p:nvPicPr>
        <p:blipFill>
          <a:blip r:embed="rId2"/>
          <a:stretch/>
        </p:blipFill>
        <p:spPr>
          <a:xfrm>
            <a:off x="2666880" y="0"/>
            <a:ext cx="1219320" cy="1208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924360" y="0"/>
            <a:ext cx="52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阳光照在荷叶姐姐的伞上，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亮闪闪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，那是荷叶姐姐在高兴地眨着眼笑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20070614_03"/>
          <p:cNvPicPr/>
          <p:nvPr/>
        </p:nvPicPr>
        <p:blipFill>
          <a:blip r:embed="rId3"/>
          <a:stretch/>
        </p:blipFill>
        <p:spPr>
          <a:xfrm>
            <a:off x="4495680" y="4419720"/>
            <a:ext cx="4648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荷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蜻蜓"/>
          <p:cNvPicPr/>
          <p:nvPr/>
        </p:nvPicPr>
        <p:blipFill>
          <a:blip r:embed="rId2"/>
          <a:stretch/>
        </p:blipFill>
        <p:spPr>
          <a:xfrm>
            <a:off x="228600" y="0"/>
            <a:ext cx="3809880" cy="27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蜻蜓"/>
          <p:cNvPicPr/>
          <p:nvPr/>
        </p:nvPicPr>
        <p:blipFill>
          <a:blip r:embed="rId3"/>
          <a:stretch/>
        </p:blipFill>
        <p:spPr>
          <a:xfrm>
            <a:off x="2666880" y="457200"/>
            <a:ext cx="5200920" cy="378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%E5%B0%8F%E9%B1%BC1111111"/>
          <p:cNvPicPr/>
          <p:nvPr/>
        </p:nvPicPr>
        <p:blipFill>
          <a:blip r:embed="rId4"/>
          <a:stretch/>
        </p:blipFill>
        <p:spPr>
          <a:xfrm>
            <a:off x="3733920" y="4419720"/>
            <a:ext cx="799920" cy="1668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太阳"/>
          <p:cNvPicPr/>
          <p:nvPr/>
        </p:nvPicPr>
        <p:blipFill>
          <a:blip r:embed="rId5"/>
          <a:stretch/>
        </p:blipFill>
        <p:spPr>
          <a:xfrm>
            <a:off x="7391520" y="0"/>
            <a:ext cx="112212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rson_200441016415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00600" y="457200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蜻蜓"/>
          <p:cNvPicPr/>
          <p:nvPr/>
        </p:nvPicPr>
        <p:blipFill>
          <a:blip r:embed="rId8"/>
          <a:stretch/>
        </p:blipFill>
        <p:spPr>
          <a:xfrm>
            <a:off x="2590920" y="1295280"/>
            <a:ext cx="3429000" cy="249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蜻蜓"/>
          <p:cNvPicPr/>
          <p:nvPr/>
        </p:nvPicPr>
        <p:blipFill>
          <a:blip r:embed="rId9"/>
          <a:stretch/>
        </p:blipFill>
        <p:spPr>
          <a:xfrm>
            <a:off x="4952880" y="609480"/>
            <a:ext cx="2895840" cy="210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2004929155322879"/>
          <p:cNvPicPr/>
          <p:nvPr/>
        </p:nvPicPr>
        <p:blipFill>
          <a:blip r:embed="rId10"/>
          <a:stretch/>
        </p:blipFill>
        <p:spPr>
          <a:xfrm>
            <a:off x="685800" y="4648320"/>
            <a:ext cx="2819520" cy="16732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1"/>
          <p:cNvSpPr/>
          <p:nvPr/>
        </p:nvSpPr>
        <p:spPr>
          <a:xfrm>
            <a:off x="2556000" y="549360"/>
            <a:ext cx="3962160" cy="1828800"/>
          </a:xfrm>
          <a:prstGeom prst="cloudCallout">
            <a:avLst>
              <a:gd name="adj1" fmla="val -13018"/>
              <a:gd name="adj2" fmla="val 4210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帮助别人，快乐自己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爱就一个字.mp3" descr=""/>
          <p:cNvPicPr/>
          <p:nvPr/>
        </p:nvPicPr>
        <p:blipFill>
          <a:blip r:embed="rId11"/>
          <a:stretch/>
        </p:blipFill>
        <p:spPr>
          <a:xfrm>
            <a:off x="8101080" y="5805360"/>
            <a:ext cx="4474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6470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蝴蝶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647640" y="1752480"/>
            <a:ext cx="78487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课下练习有感情朗读课文，比一比看谁能背诵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把你最想对荷叶姐姐说的话写在写话本上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图片5"/>
          <p:cNvPicPr/>
          <p:nvPr/>
        </p:nvPicPr>
        <p:blipFill>
          <a:blip r:embed="rId2"/>
          <a:stretch/>
        </p:blipFill>
        <p:spPr>
          <a:xfrm>
            <a:off x="5867280" y="152280"/>
            <a:ext cx="1106640" cy="11509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7"/>
          <p:cNvSpPr txBox="1"/>
          <p:nvPr/>
        </p:nvSpPr>
        <p:spPr>
          <a:xfrm>
            <a:off x="1676520" y="228600"/>
            <a:ext cx="3124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能行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49E5-CCE4-4901-9A63-7FD1045914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孩子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28240" y="2895480"/>
            <a:ext cx="7056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一把大伞绿又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夏天站在水里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Arial"/>
                <a:ea typeface="黑体"/>
              </a:rPr>
              <a:t>                         </a:t>
            </a:r>
            <a:r>
              <a:rPr b="0" lang="zh-CN" sz="4800" spc="-1" strike="noStrike">
                <a:solidFill>
                  <a:srgbClr val="009900"/>
                </a:solidFill>
                <a:latin typeface="Arial"/>
                <a:ea typeface="黑体"/>
              </a:rPr>
              <a:t>（荷叶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800" spc="-1" strike="noStrike">
                <a:solidFill>
                  <a:srgbClr val="009900"/>
                </a:solidFill>
                <a:latin typeface="Arial"/>
              </a:rPr>
              <a:t>伞</a:t>
            </a:r>
            <a:endParaRPr b="0" lang="en-US" sz="2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410080" y="9907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sǎ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20090428105300236"/>
          <p:cNvPicPr/>
          <p:nvPr/>
        </p:nvPicPr>
        <p:blipFill>
          <a:blip r:embed="rId1"/>
          <a:stretch/>
        </p:blipFill>
        <p:spPr>
          <a:xfrm>
            <a:off x="0" y="380880"/>
            <a:ext cx="5105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9"/>
          <p:cNvSpPr/>
          <p:nvPr/>
        </p:nvSpPr>
        <p:spPr>
          <a:xfrm>
            <a:off x="2362320" y="20192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01680" y="1905120"/>
            <a:ext cx="8839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</a:t>
            </a: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jiě     tā        gā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姐</a:t>
            </a:r>
            <a:r>
              <a:rPr b="1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姐</a:t>
            </a:r>
            <a:r>
              <a:rPr b="1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她</a:t>
            </a:r>
            <a:r>
              <a:rPr b="1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的</a:t>
            </a:r>
            <a:r>
              <a:rPr b="1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高</a:t>
            </a:r>
            <a:r>
              <a:rPr b="1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 </a:t>
            </a:r>
            <a:r>
              <a:rPr b="0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兴</a:t>
            </a:r>
            <a:r>
              <a:rPr b="1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 </a:t>
            </a: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li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仿宋_GB2312"/>
              </a:rPr>
              <a:t>à</a:t>
            </a: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ng shǎn          qu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仿宋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亮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闪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33cc"/>
                </a:solidFill>
                <a:latin typeface="Arial"/>
              </a:rPr>
              <a:t>闪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533520" y="609480"/>
            <a:ext cx="26668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Picture 6" descr="flower"/>
          <p:cNvPicPr/>
          <p:nvPr/>
        </p:nvPicPr>
        <p:blipFill>
          <a:blip r:embed="rId2"/>
          <a:stretch/>
        </p:blipFill>
        <p:spPr>
          <a:xfrm>
            <a:off x="3809880" y="228600"/>
            <a:ext cx="1143000" cy="110016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5867280" y="609480"/>
            <a:ext cx="25909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记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80880" y="1371600"/>
            <a:ext cx="861084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h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仿宋_GB2312"/>
              </a:rPr>
              <a:t>é</a:t>
            </a: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 sǎn  cu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仿宋_GB2312"/>
              </a:rPr>
              <a:t>ì</a:t>
            </a: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Zhē  zh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仿宋_GB2312"/>
              </a:rPr>
              <a:t>à</a:t>
            </a: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zh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荷叶伞    翠绿 遮雨  照在 眨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qīng t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仿宋_GB2312"/>
              </a:rPr>
              <a:t>í</a:t>
            </a: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ng       l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仿宋_GB2312"/>
              </a:rPr>
              <a:t>í</a:t>
            </a:r>
            <a:r>
              <a:rPr b="1" lang="en-US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n sh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  </a:t>
            </a:r>
            <a:r>
              <a:rPr b="1" lang="zh-CN" sz="44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蜻    蜓</a:t>
            </a:r>
            <a:r>
              <a:rPr b="1" lang="zh-CN" sz="44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淋  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609480" y="609480"/>
            <a:ext cx="2514600" cy="113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认一认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图片 5" descr="牡丹花"/>
          <p:cNvPicPr/>
          <p:nvPr/>
        </p:nvPicPr>
        <p:blipFill>
          <a:blip r:embed="rId2"/>
          <a:stretch/>
        </p:blipFill>
        <p:spPr>
          <a:xfrm>
            <a:off x="3733920" y="41911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990720" y="1828800"/>
            <a:ext cx="767700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荷叶伞    翠绿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</a:t>
            </a:r>
            <a:r>
              <a:rPr b="1" lang="zh-CN" sz="66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遮雨  </a:t>
            </a:r>
            <a:r>
              <a:rPr b="1" lang="zh-CN" sz="60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照在   眨眼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 </a:t>
            </a:r>
            <a:r>
              <a:rPr b="1" lang="zh-CN" sz="60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蜻蜓</a:t>
            </a:r>
            <a:r>
              <a:rPr b="1" lang="zh-CN" sz="60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      </a:t>
            </a:r>
            <a:r>
              <a:rPr b="1" lang="zh-CN" sz="60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淋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609480" y="609480"/>
            <a:ext cx="2514600" cy="113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认一认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9" name="图片 5" descr="牡丹花"/>
          <p:cNvPicPr/>
          <p:nvPr/>
        </p:nvPicPr>
        <p:blipFill>
          <a:blip r:embed="rId2"/>
          <a:stretch/>
        </p:blipFill>
        <p:spPr>
          <a:xfrm>
            <a:off x="3886200" y="4800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/>
          <p:cNvSpPr/>
          <p:nvPr/>
        </p:nvSpPr>
        <p:spPr>
          <a:xfrm>
            <a:off x="6324480" y="152280"/>
            <a:ext cx="2057400" cy="1295640"/>
          </a:xfrm>
          <a:prstGeom prst="borderCallout1">
            <a:avLst>
              <a:gd name="adj1" fmla="val 18750"/>
              <a:gd name="adj2" fmla="val -8333"/>
              <a:gd name="adj3" fmla="val 58578"/>
              <a:gd name="adj4" fmla="val -37115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真棒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102005326153158"/>
          <p:cNvPicPr/>
          <p:nvPr/>
        </p:nvPicPr>
        <p:blipFill>
          <a:blip r:embed="rId3"/>
          <a:stretch/>
        </p:blipFill>
        <p:spPr>
          <a:xfrm>
            <a:off x="3886200" y="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1课山水做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3889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读句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240" y="1554120"/>
            <a:ext cx="85345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荷叶姐姐像一把翠绿的伞站在池塘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条小鱼游过来，躲在荷叶姐姐的伞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阳光照在荷叶姐姐的伞上，亮闪闪的，她正在高兴地眨着眼笑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155"/>
          <p:cNvPicPr/>
          <p:nvPr/>
        </p:nvPicPr>
        <p:blipFill>
          <a:blip r:embed="rId2"/>
          <a:stretch/>
        </p:blipFill>
        <p:spPr>
          <a:xfrm>
            <a:off x="457200" y="304920"/>
            <a:ext cx="2971800" cy="12189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7">
            <a:hlinkClick r:id="rId3" action="ppaction://hlinksldjump"/>
          </p:cNvPr>
          <p:cNvSpPr/>
          <p:nvPr/>
        </p:nvSpPr>
        <p:spPr>
          <a:xfrm>
            <a:off x="80010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54738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508720" y="0"/>
            <a:ext cx="363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荷叶姐姐像一把翠绿的伞站在池塘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5473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508720" y="0"/>
            <a:ext cx="3635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荷叶姐姐像一把</a:t>
            </a:r>
            <a:r>
              <a:rPr b="1" lang="zh-CN" sz="66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翠绿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伞站在池塘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4:48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8:3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