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3.png" ContentType="image/png"/>
  <Override PartName="/ppt/media/image8.gif" ContentType="image/gif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8E5-5479-408A-A7D2-5F282935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25E5-B903-4C8A-B45F-B66434ED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C2AD-5D79-4774-960D-CCA3977C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02D-7EB2-4A3C-881B-C04D8587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296-0249-4034-AF01-2646B88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C81-593F-45FC-8C3E-3D7B6347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8BB-A1F9-4FE7-95F9-4D68616C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98A-0F89-49FF-B894-D8E889D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03A-E255-4EA7-9D10-9535DDBA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94D-39EF-4961-9B11-CD6A525F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1DA-C353-4282-B54C-B84E451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D9A-DDDD-4E1C-96B6-506E2AFA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517-EBFF-4302-8047-93C4873A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49E-F6D8-4EB5-B573-2D9A11B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60B-18E9-4284-A620-F6E6C70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B9A-6725-49AC-ADC2-F232EDA0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92360" y="2133720"/>
            <a:ext cx="561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3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猴子和大象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8240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四年级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264200000[1]"/>
          <p:cNvPicPr/>
          <p:nvPr/>
        </p:nvPicPr>
        <p:blipFill>
          <a:blip r:embed="rId4"/>
          <a:stretch/>
        </p:blipFill>
        <p:spPr>
          <a:xfrm>
            <a:off x="755640" y="4581360"/>
            <a:ext cx="1212840" cy="12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MCj03561050000[1]"/>
          <p:cNvPicPr/>
          <p:nvPr/>
        </p:nvPicPr>
        <p:blipFill>
          <a:blip r:embed="rId5"/>
          <a:stretch/>
        </p:blipFill>
        <p:spPr>
          <a:xfrm>
            <a:off x="6372360" y="4437000"/>
            <a:ext cx="2246040" cy="155268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1753920" y="5994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79280" y="1197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说说大象和猴子谁的本领大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细读感悟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80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Cj04294430000[1]"/>
          <p:cNvPicPr/>
          <p:nvPr/>
        </p:nvPicPr>
        <p:blipFill>
          <a:blip r:embed="rId2"/>
          <a:stretch/>
        </p:blipFill>
        <p:spPr>
          <a:xfrm>
            <a:off x="7346880" y="5060880"/>
            <a:ext cx="1797120" cy="1797120"/>
          </a:xfrm>
          <a:prstGeom prst="rect">
            <a:avLst/>
          </a:prstGeom>
          <a:ln w="0">
            <a:noFill/>
          </a:ln>
        </p:spPr>
      </p:pic>
      <p:sp>
        <p:nvSpPr>
          <p:cNvPr id="98" name="Oval 7"/>
          <p:cNvSpPr/>
          <p:nvPr/>
        </p:nvSpPr>
        <p:spPr>
          <a:xfrm>
            <a:off x="4140360" y="115920"/>
            <a:ext cx="1152360" cy="86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435640" y="115920"/>
            <a:ext cx="1152360" cy="86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0" y="2133720"/>
            <a:ext cx="9113760" cy="861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大象个子大，力气也大，会游泳，但不会爬树。猴子个子小巧，很会爬树，但不会游泳。去河那边摘果子，光凭一个人的本领是不行的，只有互相合作，才能把事情做好。所以他们的本领是无法比较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细读感悟"/>
          <p:cNvPicPr/>
          <p:nvPr/>
        </p:nvPicPr>
        <p:blipFill>
          <a:blip r:embed="rId1"/>
          <a:stretch/>
        </p:blipFill>
        <p:spPr>
          <a:xfrm>
            <a:off x="0" y="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765000"/>
            <a:ext cx="91440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用为什么大象和猴子听了小鸟说的话，互相看了看，笑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大象和猴子在摘果子的过程中，已经了解了各自的长处和短处，也明白了只有互相合作、取长补短，才能办好事情的道理。所以他们不再比本领了，而是笑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文有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9162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故事告诉我们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每个人都有自己的长处，也有自己的短处，只要互相合作，扬长避短，就能把事情办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我会改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知道我是爬树冠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知道我是爬树冠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不想得奖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想得奖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　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图片1"/>
          <p:cNvPicPr/>
          <p:nvPr/>
        </p:nvPicPr>
        <p:blipFill>
          <a:blip r:embed="rId1"/>
          <a:stretch/>
        </p:blipFill>
        <p:spPr>
          <a:xfrm>
            <a:off x="0" y="115920"/>
            <a:ext cx="1116000" cy="8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042920" y="260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760800" y="1163520"/>
            <a:ext cx="91224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问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195560" y="564840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84360" y="692280"/>
            <a:ext cx="6659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8000"/>
                </a:solidFill>
                <a:latin typeface="宋体"/>
              </a:rPr>
              <a:t>猴 跳 鼻 载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MCj04294050000[1]"/>
          <p:cNvPicPr/>
          <p:nvPr/>
        </p:nvPicPr>
        <p:blipFill>
          <a:blip r:embed="rId1"/>
          <a:stretch/>
        </p:blipFill>
        <p:spPr>
          <a:xfrm>
            <a:off x="0" y="0"/>
            <a:ext cx="2589120" cy="2592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116000" y="1159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不要写错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MCj04288950000[1]"/>
          <p:cNvPicPr/>
          <p:nvPr/>
        </p:nvPicPr>
        <p:blipFill>
          <a:blip r:embed="rId2"/>
          <a:stretch/>
        </p:blipFill>
        <p:spPr>
          <a:xfrm>
            <a:off x="0" y="3573360"/>
            <a:ext cx="2340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08000" y="18900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猴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叹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跳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2"/>
          <p:cNvSpPr/>
          <p:nvPr/>
        </p:nvSpPr>
        <p:spPr>
          <a:xfrm>
            <a:off x="179280" y="407664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鼻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4"/>
          <p:cNvSpPr/>
          <p:nvPr/>
        </p:nvSpPr>
        <p:spPr>
          <a:xfrm>
            <a:off x="2411280" y="407664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胜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>
            <a:off x="6948360" y="4076640"/>
            <a:ext cx="208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败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图片1"/>
          <p:cNvPicPr/>
          <p:nvPr/>
        </p:nvPicPr>
        <p:blipFill>
          <a:blip r:embed="rId1"/>
          <a:stretch/>
        </p:blipFill>
        <p:spPr>
          <a:xfrm>
            <a:off x="108000" y="189000"/>
            <a:ext cx="1000080" cy="76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332000" y="1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052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二、比一比，再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猴（    ）    叹（    ）    跳（    ）    胜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候（    ）    咬（    ）    挑（    ）    性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三、给字注音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卷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{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空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{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背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50920" y="11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外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9079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把猴子和大象的故事讲给别人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猴子和大象"/>
          <p:cNvPicPr/>
          <p:nvPr/>
        </p:nvPicPr>
        <p:blipFill>
          <a:blip r:embed="rId1"/>
          <a:stretch/>
        </p:blipFill>
        <p:spPr>
          <a:xfrm>
            <a:off x="179280" y="1781280"/>
            <a:ext cx="8748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6040-9ED2-4E30-B6AF-E3F2AE047D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162864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其中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猴、叹、跳、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鼻、而、胜、败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白每个人都有自己长处，也有自己的短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只要互相合作，扬长避短，就能把事情办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84360" y="10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1341360"/>
            <a:ext cx="8135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掌握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个生字的音、形、义，品读课文，理解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体会课文中的蕴涵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MCj04271290000[1]"/>
          <p:cNvPicPr/>
          <p:nvPr/>
        </p:nvPicPr>
        <p:blipFill>
          <a:blip r:embed="rId1"/>
          <a:stretch/>
        </p:blipFill>
        <p:spPr>
          <a:xfrm>
            <a:off x="6516720" y="4292640"/>
            <a:ext cx="18082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205000"/>
            <a:ext cx="903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 叹气  跳高  背上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子 而且  胜利  失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50920" y="1628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95640" y="170028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0" y="1700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308720" y="170028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50920" y="4581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268360" y="4724280"/>
            <a:ext cx="15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é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72000" y="4653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è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596360" y="4653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39640" y="26028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1557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评判    犯愁    卷起   冠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捡起    满载而归     需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132000" y="9079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900000" y="836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195640" y="83664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04000" y="9079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132000" y="2781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0" y="33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788000" y="836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u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0" y="270828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00720" y="2781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0" y="5373720"/>
            <a:ext cx="884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跳到我的背上，我背你过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987640" y="479736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364000" y="472428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1125360"/>
            <a:ext cx="86774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判   范   愁   卷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冠   捡   载   需   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   鼻   而   跳   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声朗读课文，并说说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60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童话讲了（         ）和（        ）比本领， （         ）让他们到（          ）采摘（        ）的果子，猴子和大象互相帮助， 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62448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7212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1284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651640" y="32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河那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3176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307880" y="486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载而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16000" y="1844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第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自然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611280" y="28526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中，猴子为什么说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下完了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只好空手回去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男生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大象怎么回答猴子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女生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面对那么高的树，大象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39640" y="2708280"/>
            <a:ext cx="83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默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猴子怎么回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由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猴自和大象是怎么摘果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照这几个自然段议一议，仅凭猴子或大象能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到果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16000" y="1844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第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自然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21049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27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08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