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036F-84F7-4F21-BA12-0ECF92BED1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91C4-4FAF-48C2-B826-41AB9EDAA1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375-DFB6-4882-967B-3EA27851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A23-E59E-4561-A501-ABE85B45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3582-C339-4240-B1AC-5CAD3042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F14-35A5-4DFB-8B06-0029141B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0A50-31D6-4CCE-A6AA-D43036CB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35CD-A9A5-471D-8817-880CE07F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3A42-DCEF-4DA7-AD1E-187BAB62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749E-FFB2-46EC-8E40-F1192862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B86B-9CC2-43BA-A8A6-9FE4C590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5D05-4277-46DB-AFF8-446E9828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3509-372E-4182-B527-9AD8AB02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AA3F-3F7A-4FEF-81B5-9E4EA9A9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F555-290A-4604-8A2E-64F4CA24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0631-F4E8-46C8-895C-2DF32A89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E918-1142-411B-AF44-2B1372D3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E6AA-D5AF-44CA-9CEA-5EBECEE2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A748-CBCC-4919-B5C3-84366764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F91-6874-40FB-B5E2-CD09F255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FA4-5C4C-457E-B9B7-749DFB4A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8D64-07A8-4642-A1CC-B33FF32B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A09-063C-4D5D-9032-F3B3B3A2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D5D-6AED-4AA4-A3D0-A6F914D5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90B-866E-4B6E-85CD-00D5C2D9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A8C-B1F5-4DB6-91BF-BCCA6E1D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7973-8C52-4FFA-9E0E-1E517F300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DD60-D8F1-426E-9974-4B40A15B6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066680" y="7650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华佗与麻沸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3859560" y="63244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933560" y="1752480"/>
            <a:ext cx="714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华佗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896080" y="1752480"/>
            <a:ext cx="714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神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2895480" y="2124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228600" y="1828080"/>
            <a:ext cx="85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华佗常常要给病人做手术。那时候，没有麻醉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zuì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药、麻醉针，手术时，病人往往疼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ténɡ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得拳打脚踢，华佗只好把病人的手脚捆起来。看着病人痛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tònɡ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苦的样子，华佗十分心疼，可又找不到好的办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4572000" y="4343400"/>
            <a:ext cx="2819520" cy="1295280"/>
          </a:xfrm>
          <a:prstGeom prst="cloudCallout">
            <a:avLst>
              <a:gd name="adj1" fmla="val 80291"/>
              <a:gd name="adj2" fmla="val 97060"/>
            </a:avLst>
          </a:pr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说说华佗心疼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914400" y="2743200"/>
            <a:ext cx="6553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0" y="3200400"/>
            <a:ext cx="4952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990720" y="3886200"/>
            <a:ext cx="3429000" cy="838080"/>
          </a:xfrm>
          <a:prstGeom prst="wedgeRoundRectCallout">
            <a:avLst>
              <a:gd name="adj1" fmla="val 43796"/>
              <a:gd name="adj2" fmla="val -84847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从这句话中，你体会到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287280" y="2323440"/>
            <a:ext cx="85676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一天，几个人抬着一个受（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shòu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伤的汉子来求（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qiú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医。华佗一检（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jiǎn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查（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chá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，发现病人的腿摔断了，人也昏迷过去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病人伤势严（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yán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重，华佗立即给他动手术。起初，华佗怕病人乱动，就叫助手抓住病人的四肢。没想到，病人毫无挣扎［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zhá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］的意思。结果，这次手术进行得十分顺利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华佗做过不少手术，这种现象还是第一次碰到。这是怎么回事呢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忽然，病人身上那股浓烈的酒味儿使他恍（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huǎng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然大悟：人醉了会失去知觉［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jué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］，动手术时也就没有感觉，当然不知道疼啦！真是太妙了！如果能制成这样一种药，手术前让病人吃下去，他就会失去知觉，这时再动手术，不就可以减（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jiǎn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轻痛苦了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380880" y="304920"/>
            <a:ext cx="3733920" cy="1752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华佗是怎样给病人做手术的？在手术的过程中他想到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7696080" y="350532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685800" y="396252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6095880" y="4343400"/>
            <a:ext cx="2819520" cy="762120"/>
          </a:xfrm>
          <a:prstGeom prst="wedgeRoundRectCallout">
            <a:avLst>
              <a:gd name="adj1" fmla="val 14527"/>
              <a:gd name="adj2" fmla="val -128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这”指的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87280" y="2734560"/>
            <a:ext cx="85676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一天，几个人抬着一个受（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shòu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伤的汉子来求（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qiú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医。华佗一检（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jiǎn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查（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chá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，发现病人的腿摔断了，人也昏迷过去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病人伤势严（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yán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重，华佗立即给他动手术。起初，华佗怕病人乱动，就叫助手抓住病人的四肢。没想到，病人毫无挣扎［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zhá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］的意思。结果，这次手术进行得十分顺利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华佗做过不少手术，这种现象还是第一次碰到。这是怎么回事呢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忽然，病人身上那股浓烈的酒味儿使他恍（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huǎng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然大悟：人醉了会失去知觉［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jué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］，动手术时也就没有感觉，当然不知道疼啦！真是太妙了！如果能制成这样一种药，手术前让病人吃下去，他就会失去知觉，这时再动手术，不就可以减（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jiǎn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轻痛苦了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3657600" y="350532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8001000" y="350532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7848720" y="320040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80880" y="3581280"/>
            <a:ext cx="1295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1828800" y="4648320"/>
            <a:ext cx="1981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7162920" y="472428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1066680" y="5105520"/>
            <a:ext cx="5105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6324480" y="5105520"/>
            <a:ext cx="1676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2514600" y="-152280"/>
            <a:ext cx="3581280" cy="1371600"/>
          </a:xfrm>
          <a:prstGeom prst="cloudCallout">
            <a:avLst>
              <a:gd name="adj1" fmla="val 145125"/>
              <a:gd name="adj2" fmla="val 37384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华佗是受什么启发想到发明麻沸散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561960" y="380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614680" y="1812960"/>
            <a:ext cx="429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这时再动手术，不就可以减轻痛苦了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176000" y="3809880"/>
            <a:ext cx="36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这时再动手术，就可以减轻痛苦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87280" y="3945600"/>
            <a:ext cx="85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想到这儿，华佗高兴极了，恨不得立刻配出这种药来。后来，他搜集了许多种草药，配成各种药方，反复试验，终于发明了中药麻醉剂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麻沸散。从此，手术室里再也听不到呼天叫地的哭喊声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4495680" y="685800"/>
            <a:ext cx="3581640" cy="1523880"/>
          </a:xfrm>
          <a:prstGeom prst="cloudCallout">
            <a:avLst>
              <a:gd name="adj1" fmla="val -53856"/>
              <a:gd name="adj2" fmla="val 83958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华佗发明麻沸散，做了哪些工作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3276720" y="3962520"/>
            <a:ext cx="2971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685800" y="4495680"/>
            <a:ext cx="14479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7086600" y="403848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3962520" y="441972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933560" y="1752480"/>
            <a:ext cx="714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华佗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896080" y="1752480"/>
            <a:ext cx="714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神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870920" y="4556160"/>
            <a:ext cx="981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麻沸散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2895480" y="2124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2286000" y="26668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304920" y="1735920"/>
            <a:ext cx="85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华佗发明麻醉药比西方早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60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多年，是世界医学史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shǐ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上的一大奇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4419720" y="2514600"/>
            <a:ext cx="7617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933560" y="1752480"/>
            <a:ext cx="714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华佗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896080" y="1752480"/>
            <a:ext cx="714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神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870920" y="4556160"/>
            <a:ext cx="981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麻沸散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5896080" y="4556160"/>
            <a:ext cx="714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奇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2895480" y="2124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2286000" y="26668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3200400" y="4927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933560" y="1752480"/>
            <a:ext cx="714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华佗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5896080" y="1752480"/>
            <a:ext cx="714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神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870920" y="4556160"/>
            <a:ext cx="981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麻沸散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896080" y="4556160"/>
            <a:ext cx="714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楷体_GB2312"/>
              </a:rPr>
              <a:t>奇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2895480" y="2124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2286000" y="26668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3200400" y="49276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"/>
          <p:cNvSpPr/>
          <p:nvPr/>
        </p:nvSpPr>
        <p:spPr>
          <a:xfrm>
            <a:off x="449280" y="452520"/>
            <a:ext cx="57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80880" y="2057400"/>
            <a:ext cx="754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组内自由读课文，将课文读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组长带读生字、生词，并教会每位组员字形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字义，写出词语的近义词和反义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小组内，组长和组员一起讨论并划出为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华佗被誉为“神医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04920" y="847800"/>
            <a:ext cx="769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小组合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4"/>
          <p:cNvSpPr/>
          <p:nvPr/>
        </p:nvSpPr>
        <p:spPr>
          <a:xfrm>
            <a:off x="1523880" y="1219320"/>
            <a:ext cx="6096240" cy="3200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讨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你怎么理解“杰出”与“奇迹”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华佗为什么被人们誉为神医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6"/>
          <p:cNvSpPr/>
          <p:nvPr/>
        </p:nvSpPr>
        <p:spPr>
          <a:xfrm>
            <a:off x="1765800" y="1782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手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442320" y="1782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四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4966200" y="1782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起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795000" y="1782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后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765800" y="3916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发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442320" y="3916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966200" y="3916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检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6795000" y="3916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673D-EA76-4B21-87C7-05328A0D59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80880" y="2209680"/>
            <a:ext cx="754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杰出      痛苦     受伤     检查     严重     知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减轻      挣扎      收集     呼天叫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拳打脚踢     恍然大悟     求医     麻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史    医术高明      伤势严重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麻醉剂     麻沸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8600" y="905040"/>
            <a:ext cx="769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小组展示认读生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07880" y="380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W020080223587871752038"/>
          <p:cNvPicPr/>
          <p:nvPr/>
        </p:nvPicPr>
        <p:blipFill>
          <a:blip r:embed="rId1"/>
          <a:stretch/>
        </p:blipFill>
        <p:spPr>
          <a:xfrm>
            <a:off x="1333440" y="1600200"/>
            <a:ext cx="2324160" cy="3333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4114800" y="1905120"/>
            <a:ext cx="464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华佗，生于公元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世纪（在东汉和三国间）。他是沛国（在今安徽宿县西北）谯（今安徽亳州）人，他从小就刻苦钻研学问，精通各种经书，尤其喜爱研究医学和养生的方法。他医病的方法很多，而且简便易行。当时的人都称他为神医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6"/>
          <p:cNvSpPr/>
          <p:nvPr/>
        </p:nvSpPr>
        <p:spPr>
          <a:xfrm>
            <a:off x="1828800" y="52578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28600" y="3595680"/>
            <a:ext cx="8567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华［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huà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］佗是我国古代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jié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出的医学家。他医术高明，被人们誉为“神医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华佗常常要给病人做手术。那时候，没有麻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zuì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药、麻醉针，手术时，病人往往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 action="ppaction://hlinksldjump"/>
              </a:rPr>
              <a:t>疼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ténɡ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得拳打脚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5" action="ppaction://hlinksldjump"/>
              </a:rPr>
              <a:t>踢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，华佗只好把病人的手脚捆起来。看着病人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6" action="ppaction://hlinksldjump"/>
              </a:rPr>
              <a:t>痛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tònɡ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苦的样子，华佗十分心疼，可又找不到好的办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898520" y="533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华佗与麻沸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287280" y="1767240"/>
            <a:ext cx="85676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一天，几个人抬着一个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受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shòu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伤的汉子来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qiú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医。华佗一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 action="ppaction://hlinksldjump"/>
              </a:rPr>
              <a:t>检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jiǎn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5" action="ppaction://hlinksldjump"/>
              </a:rPr>
              <a:t>查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chá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，发现病人的腿摔断了，人也昏迷过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病人伤势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6" action="ppaction://hlinksldjump"/>
              </a:rPr>
              <a:t>严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yán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重，华佗立即给他动手术。起初，华佗怕病人乱动，就叫助手抓住病人的四肢。没想到，病人毫无挣扎［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zhá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］的意思。结果，这次手术进行得十分顺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87280" y="1629360"/>
            <a:ext cx="85676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华佗做过不少手术，这种现象还是第一次碰到。这是怎么回事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忽然，病人身上那股浓烈的酒味儿使他恍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huǎng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然大悟：人醉了会失去知觉［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jué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］，动手术时也就没有感觉，当然不知道疼啦！真是太妙了！如果能制成这样一种药，手术前让病人吃下去，他就会失去知觉，这时再动手术，不就可以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减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jiǎn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轻痛苦了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87280" y="3762720"/>
            <a:ext cx="85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想到这儿，华佗高兴极了，恨不得立刻配出这种药来。后来，他搜集了许多种草药，配成各种药方，反复试验，终于发明了中药麻醉剂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麻沸散。从此，手术室里再也听不到呼天叫地的哭喊声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华佗发明麻醉药比西方早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60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多年，是世界医学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史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shǐ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上的一大奇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87280" y="3123360"/>
            <a:ext cx="856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华［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huà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］佗是我国古代杰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jié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）出的医学家。他医术高明，被人们誉为“神医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898520" y="533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华佗与麻沸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4191120" y="4343400"/>
            <a:ext cx="3581280" cy="1371600"/>
          </a:xfrm>
          <a:prstGeom prst="cloudCallout">
            <a:avLst>
              <a:gd name="adj1" fmla="val 64273"/>
              <a:gd name="adj2" fmla="val 76273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华佗是是一个怎样的人？用原文回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5:13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5:37Z</dcterms:modified>
  <cp:revision>1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