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applause.wav" ContentType="audio/x-wav"/>
  <Override PartName="/ppt/media/image13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3.gif" ContentType="image/gif"/>
  <Override PartName="/ppt/media/image22.gif" ContentType="image/gif"/>
  <Override PartName="/ppt/media/image1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3E7F-6E94-4A94-B457-693B46BB63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7B77-2C9A-4556-B3DE-3E043ECBBC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36E-1FC6-43CF-AFB9-49BA367D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276-5300-4578-B51B-29F1FFCB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C39-73BE-41B2-B723-3FACD7BA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516-8AC7-41BA-8CA1-68EC08B8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338-AC4C-468D-AA17-66E15BFC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90B5-9455-458A-9F24-FFDAF8A1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454B-9E6F-409F-8FF9-1573D4CE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D50C-94F3-436F-B15B-67362530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975C-8694-4A3C-87ED-26A70485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B2C-94E7-448C-AE53-D172F9A9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8BFC-62AC-4F86-82E6-CEC0EC1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F25-E359-4625-839B-4A6797FD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A626-4E71-4FD5-A7F9-03D4159D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8570-0658-4FF3-BB93-4AC207AA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6A1E-CC86-42E8-BF19-FC7CAA1B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E09D-5465-4E1C-BD7F-7D79938F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5F84-D432-499F-A537-73C251CE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6483-6079-4000-9C6D-8F86FEE8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B647-1850-4E8B-AD79-CAEA976D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FA1F-AC8D-4CF8-BC4D-42F4CB5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F6D8-F7AF-4557-A604-E866613E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F481-599B-4191-B4D0-19D5E698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7D6-96BE-4D4A-8861-EE264E15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8DBE-5666-4E09-BF37-B9096F27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912F-85FD-4808-9626-70FB0810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284A-418D-406D-B6F5-668A02D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5DCF-C55A-4613-8D7F-F06ED2C6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0D83-C1FE-44F5-ADDE-094D4B35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CFDB-3D94-447D-A5D4-5B5575B2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066B-23CB-4C58-BE9A-9ADB1F99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FEA-85D8-4FFF-A2D9-33B6A8F3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C56-75D2-477D-B37C-8302935C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124-AC50-40E1-9F2E-735CD557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7F5-5C4E-48A5-9ECD-1CF17BB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8C6-A28B-43EF-9369-D4166B9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A0C-5497-42F5-BF2E-589B4001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2BC1-B796-4263-91C4-26BC22FD4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D3BD-CE00-484B-86BF-752E63B5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72E3-E6A5-42B9-AD9B-8323E5236C1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image" Target="../media/image23.gif"/><Relationship Id="rId14" Type="http://schemas.openxmlformats.org/officeDocument/2006/relationships/image" Target="../media/image23.gif"/><Relationship Id="rId15" Type="http://schemas.openxmlformats.org/officeDocument/2006/relationships/image" Target="../media/image22.gif"/><Relationship Id="rId16" Type="http://schemas.openxmlformats.org/officeDocument/2006/relationships/image" Target="../media/image23.gif"/><Relationship Id="rId17" Type="http://schemas.openxmlformats.org/officeDocument/2006/relationships/image" Target="../media/image23.gif"/><Relationship Id="rId18" Type="http://schemas.openxmlformats.org/officeDocument/2006/relationships/image" Target="../media/image23.gif"/><Relationship Id="rId19" Type="http://schemas.openxmlformats.org/officeDocument/2006/relationships/image" Target="../media/image24.png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下一页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381720"/>
            <a:ext cx="865080" cy="37008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13" descr=""/>
          <p:cNvPicPr/>
          <p:nvPr/>
        </p:nvPicPr>
        <p:blipFill>
          <a:blip r:embed="rId3"/>
          <a:stretch/>
        </p:blipFill>
        <p:spPr>
          <a:xfrm>
            <a:off x="1085760" y="616572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395280" y="1125360"/>
            <a:ext cx="82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命令战士喝鱼汤是的表情：小战士不肯喝鱼汤老班长眉毛拧成了疙瘩，战士们喝下了鱼汤，他的眉头舒展开，充分表现了他心中只有战友，唯独没有自己的高尚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老班长奄奄一息时的神态动作、语言：生命垂危时想的仍然是战士和革命，凸显高贵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shutter5"/>
          <p:cNvPicPr/>
          <p:nvPr/>
        </p:nvPicPr>
        <p:blipFill>
          <a:blip r:embed="rId2"/>
          <a:stretch/>
        </p:blipFill>
        <p:spPr>
          <a:xfrm>
            <a:off x="0" y="0"/>
            <a:ext cx="1979640" cy="1359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7"/>
          <p:cNvSpPr/>
          <p:nvPr/>
        </p:nvSpPr>
        <p:spPr>
          <a:xfrm>
            <a:off x="539640" y="4581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小结老班长的形象：忠于革命、舍己为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979640" y="90792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品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金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升华情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6560" y="177336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要把老班长留下的鱼钩小心的包起来，放在贴身的衣兜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3840" y="3068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鱼钩包起来，是想表达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老班长的深切怀念。是为了革命胜利后送到革命烈士纪念馆去，教育子子孙孙要学习老一辈革命家舍己为人，忠于党，忠于革命的高尚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shutter5"/>
          <p:cNvPicPr/>
          <p:nvPr/>
        </p:nvPicPr>
        <p:blipFill>
          <a:blip r:embed="rId2"/>
          <a:stretch/>
        </p:blipFill>
        <p:spPr>
          <a:xfrm>
            <a:off x="0" y="0"/>
            <a:ext cx="1979640" cy="135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39640" y="1459080"/>
            <a:ext cx="84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为什么说长满了红绣的鱼钩上，闪烁着金色的光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68360" y="28274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满了红锈的鱼钩上，凝结了老红军心中只有战友，唯独没有自己的高贵品质；长满红锈的铁画鱼钩，体现了红军战士舍己为人的伟大精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hutter5"/>
          <p:cNvPicPr/>
          <p:nvPr/>
        </p:nvPicPr>
        <p:blipFill>
          <a:blip r:embed="rId2"/>
          <a:stretch/>
        </p:blipFill>
        <p:spPr>
          <a:xfrm>
            <a:off x="0" y="0"/>
            <a:ext cx="1979640" cy="135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468360" y="1628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作者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色的鱼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题目，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68360" y="2924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色的鱼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题目含义深刻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鱼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记录着老班长的英雄历程，闪耀着老板长金子般的思想光辉，象征着老班长崇高的革命精神永垂不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shutter5"/>
          <p:cNvPicPr/>
          <p:nvPr/>
        </p:nvPicPr>
        <p:blipFill>
          <a:blip r:embed="rId2"/>
          <a:stretch/>
        </p:blipFill>
        <p:spPr>
          <a:xfrm>
            <a:off x="0" y="0"/>
            <a:ext cx="1979640" cy="1359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324000" y="692280"/>
            <a:ext cx="8497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他坐在那里，捧着搪瓷碗，嚼着几根草根和我们吃剩的鱼骨头，嚼了一会儿，就皱紧眉头硬咽下去。我觉得好像有万根钢针扎着喉管，失声喊起来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班长，你怎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22200" y="278136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赏析：这句话的前半句写出了老班长吃草根鱼骨的神态表情，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皱紧眉头硬咽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看出这些东西下咽是的痛苦，尽管如此，老班长还是不舍的喝一口鱼汤，说明老班长心中牢记党的嘱托，心里装的只有三位战士，从中可体现出老班长高贵品质。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反映完全是惊呆了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像有万根钢针扎着喉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形象地写出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事情原委时内心的痛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shutter7"/>
          <p:cNvPicPr/>
          <p:nvPr/>
        </p:nvPicPr>
        <p:blipFill>
          <a:blip r:embed="rId2"/>
          <a:stretch/>
        </p:blipFill>
        <p:spPr>
          <a:xfrm>
            <a:off x="0" y="-133200"/>
            <a:ext cx="1835280" cy="1258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44360" y="549360"/>
            <a:ext cx="896472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、擦干了眼泪，我把老班长留下的鱼钩小心地包起来，放在贴身的衣兜里。我想，等革命胜利以后，一定要把它送到革命烈士纪念馆去，让我们的子子孙孙都来瞻仰它。在这个长满了红锈的鱼钩上，闪烁着灿烂的金色的光芒。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44360" y="285588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赏析：这一段是文章的结尾，揭示了文章的主题。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把鱼钩小心地包起来，是为了让子孙后代瞻仰革命前辈的遗物，受到革命传统教育，同时也表达了自己永远向班长学习的决心，学习他忠诚革命事业、舍己为人的崇高的革命精神。鱼钩虽然极其普通、简单，长满了红锈，但是它记录着老班长英雄事迹，是老班长舍己为人的崇高品质和伟大精神的象征。他的事迹和精神将随着这个鱼钩，永远地流传，被后人所敬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shutter7"/>
          <p:cNvPicPr/>
          <p:nvPr/>
        </p:nvPicPr>
        <p:blipFill>
          <a:blip r:embed="rId2"/>
          <a:stretch/>
        </p:blipFill>
        <p:spPr>
          <a:xfrm>
            <a:off x="0" y="-133200"/>
            <a:ext cx="1835280" cy="1258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611280" y="2276640"/>
            <a:ext cx="7777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拟一个参观革命烈士纪念馆的场景，以讲解员的身份向前来参观的人讲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色的鱼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故事，要求能简要地复述课文，复述时条理要清楚，注意把课文中感人的场面表达出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338560" y="1484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小小讲解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shutter12"/>
          <p:cNvPicPr/>
          <p:nvPr/>
        </p:nvPicPr>
        <p:blipFill>
          <a:blip r:embed="rId2"/>
          <a:stretch/>
        </p:blipFill>
        <p:spPr>
          <a:xfrm>
            <a:off x="324000" y="0"/>
            <a:ext cx="2184120" cy="1498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9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  <p:sp>
        <p:nvSpPr>
          <p:cNvPr id="225" name="文本框 1"/>
          <p:cNvSpPr/>
          <p:nvPr/>
        </p:nvSpPr>
        <p:spPr>
          <a:xfrm>
            <a:off x="1090440" y="5416560"/>
            <a:ext cx="56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谢谢"/>
          <p:cNvPicPr/>
          <p:nvPr/>
        </p:nvPicPr>
        <p:blipFill>
          <a:blip r:embed="rId2"/>
          <a:stretch/>
        </p:blipFill>
        <p:spPr>
          <a:xfrm>
            <a:off x="185760" y="1638360"/>
            <a:ext cx="8958240" cy="2489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020t[1]"/>
          <p:cNvPicPr/>
          <p:nvPr/>
        </p:nvPicPr>
        <p:blipFill>
          <a:blip r:embed="rId3"/>
          <a:stretch/>
        </p:blipFill>
        <p:spPr>
          <a:xfrm>
            <a:off x="5219640" y="1030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007g[3]"/>
          <p:cNvPicPr/>
          <p:nvPr/>
        </p:nvPicPr>
        <p:blipFill>
          <a:blip r:embed="rId4"/>
          <a:stretch/>
        </p:blipFill>
        <p:spPr>
          <a:xfrm>
            <a:off x="7561440" y="1336680"/>
            <a:ext cx="276120" cy="237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020t[1]"/>
          <p:cNvPicPr/>
          <p:nvPr/>
        </p:nvPicPr>
        <p:blipFill>
          <a:blip r:embed="rId5"/>
          <a:stretch/>
        </p:blipFill>
        <p:spPr>
          <a:xfrm>
            <a:off x="1258920" y="2241720"/>
            <a:ext cx="245880" cy="24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007g[3]"/>
          <p:cNvPicPr/>
          <p:nvPr/>
        </p:nvPicPr>
        <p:blipFill>
          <a:blip r:embed="rId6"/>
          <a:stretch/>
        </p:blipFill>
        <p:spPr>
          <a:xfrm>
            <a:off x="1547640" y="2759040"/>
            <a:ext cx="276480" cy="238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007g[3]"/>
          <p:cNvPicPr/>
          <p:nvPr/>
        </p:nvPicPr>
        <p:blipFill>
          <a:blip r:embed="rId7"/>
          <a:stretch/>
        </p:blipFill>
        <p:spPr>
          <a:xfrm>
            <a:off x="3995640" y="3983040"/>
            <a:ext cx="231840" cy="200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007g[3]"/>
          <p:cNvPicPr/>
          <p:nvPr/>
        </p:nvPicPr>
        <p:blipFill>
          <a:blip r:embed="rId8"/>
          <a:stretch/>
        </p:blipFill>
        <p:spPr>
          <a:xfrm>
            <a:off x="7596360" y="2457360"/>
            <a:ext cx="207720" cy="17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020t[1]"/>
          <p:cNvPicPr/>
          <p:nvPr/>
        </p:nvPicPr>
        <p:blipFill>
          <a:blip r:embed="rId9"/>
          <a:stretch/>
        </p:blipFill>
        <p:spPr>
          <a:xfrm>
            <a:off x="6659640" y="290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020t[1]"/>
          <p:cNvPicPr/>
          <p:nvPr/>
        </p:nvPicPr>
        <p:blipFill>
          <a:blip r:embed="rId10"/>
          <a:stretch/>
        </p:blipFill>
        <p:spPr>
          <a:xfrm>
            <a:off x="7020000" y="484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007g[3]"/>
          <p:cNvPicPr/>
          <p:nvPr/>
        </p:nvPicPr>
        <p:blipFill>
          <a:blip r:embed="rId11"/>
          <a:stretch/>
        </p:blipFill>
        <p:spPr>
          <a:xfrm>
            <a:off x="7596360" y="2975040"/>
            <a:ext cx="276120" cy="23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007g[3]"/>
          <p:cNvPicPr/>
          <p:nvPr/>
        </p:nvPicPr>
        <p:blipFill>
          <a:blip r:embed="rId12"/>
          <a:stretch/>
        </p:blipFill>
        <p:spPr>
          <a:xfrm>
            <a:off x="6227640" y="5278320"/>
            <a:ext cx="276480" cy="238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007g[3]"/>
          <p:cNvPicPr/>
          <p:nvPr/>
        </p:nvPicPr>
        <p:blipFill>
          <a:blip r:embed="rId13"/>
          <a:stretch/>
        </p:blipFill>
        <p:spPr>
          <a:xfrm>
            <a:off x="1187280" y="1030320"/>
            <a:ext cx="276480" cy="237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007g[3]"/>
          <p:cNvPicPr/>
          <p:nvPr/>
        </p:nvPicPr>
        <p:blipFill>
          <a:blip r:embed="rId14"/>
          <a:stretch/>
        </p:blipFill>
        <p:spPr>
          <a:xfrm>
            <a:off x="2484360" y="3579840"/>
            <a:ext cx="158760" cy="136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020t[1]"/>
          <p:cNvPicPr/>
          <p:nvPr/>
        </p:nvPicPr>
        <p:blipFill>
          <a:blip r:embed="rId15"/>
          <a:stretch/>
        </p:blipFill>
        <p:spPr>
          <a:xfrm>
            <a:off x="395280" y="131904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007g[3]"/>
          <p:cNvPicPr/>
          <p:nvPr/>
        </p:nvPicPr>
        <p:blipFill>
          <a:blip r:embed="rId16"/>
          <a:stretch/>
        </p:blipFill>
        <p:spPr>
          <a:xfrm>
            <a:off x="5003640" y="3191040"/>
            <a:ext cx="276480" cy="23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7" descr="007g[3]"/>
          <p:cNvPicPr/>
          <p:nvPr/>
        </p:nvPicPr>
        <p:blipFill>
          <a:blip r:embed="rId17"/>
          <a:stretch/>
        </p:blipFill>
        <p:spPr>
          <a:xfrm>
            <a:off x="3132000" y="3767040"/>
            <a:ext cx="276480" cy="238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8" descr="007g[3]"/>
          <p:cNvPicPr/>
          <p:nvPr/>
        </p:nvPicPr>
        <p:blipFill>
          <a:blip r:embed="rId18"/>
          <a:stretch/>
        </p:blipFill>
        <p:spPr>
          <a:xfrm>
            <a:off x="4211640" y="2830680"/>
            <a:ext cx="225360" cy="193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1" descr="图w6">
            <a:hlinkClick r:id="" action="ppaction://hlinkshowjump?jump=previousslide"/>
          </p:cNvPr>
          <p:cNvPicPr/>
          <p:nvPr/>
        </p:nvPicPr>
        <p:blipFill>
          <a:blip r:embed="rId19"/>
          <a:stretch/>
        </p:blipFill>
        <p:spPr>
          <a:xfrm>
            <a:off x="7238880" y="5715000"/>
            <a:ext cx="1247760" cy="1216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0" name="applause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0881-3670-4FC8-811B-93CA13C1DE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8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24000" y="1887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长征是世界军事历史上的一个伟大奇迹。这个奇迹是靠着红军战士凭着顽强的毅力、历尽千难万险创造的。其中涌现出无数可歌可泣的感人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今天就让我们一起聆听一位老班长的故事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shutter1"/>
          <p:cNvPicPr/>
          <p:nvPr/>
        </p:nvPicPr>
        <p:blipFill>
          <a:blip r:embed="rId2"/>
          <a:stretch/>
        </p:blipFill>
        <p:spPr>
          <a:xfrm>
            <a:off x="3479760" y="0"/>
            <a:ext cx="2184480" cy="1498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468360" y="11970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单音字注音、组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掣：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风驰电掣     稞：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青稞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敛：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liǎ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收敛        鬓：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68360" y="327024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多音、多义字注音、组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84360" y="436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547640" y="406224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呜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547640" y="47815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ān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427640" y="4365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435640" y="406224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咀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435640" y="47815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ji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咬文嚼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126036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148360" y="4149720"/>
            <a:ext cx="144360" cy="107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shutter2"/>
          <p:cNvPicPr/>
          <p:nvPr/>
        </p:nvPicPr>
        <p:blipFill>
          <a:blip r:embed="rId2"/>
          <a:stretch/>
        </p:blipFill>
        <p:spPr>
          <a:xfrm>
            <a:off x="0" y="0"/>
            <a:ext cx="1835280" cy="125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95280" y="141300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词语解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支    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瞻    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奄奄一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376360" y="234936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话含混躲闪；用含混的话语搪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376360" y="479736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容气息微弱，快断气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376360" y="328464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往上看或向前看，意思是怀着敬意仰起头来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shutter2"/>
          <p:cNvPicPr/>
          <p:nvPr/>
        </p:nvPicPr>
        <p:blipFill>
          <a:blip r:embed="rId2"/>
          <a:stretch/>
        </p:blipFill>
        <p:spPr>
          <a:xfrm>
            <a:off x="0" y="0"/>
            <a:ext cx="1835280" cy="1258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95280" y="1125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初读课文，整体感知课文内容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11280" y="1844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文讲了一件什么事？（用自己的话概括出来。要求：概括出时间、地点、人物、事情的起因、经过和结果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11280" y="36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秋，在二万五千里长征途中，一位老班长接受党交给的任务，尽心尽力地照顾好三个红军伤员，在即将走出草地时，自己却牺牲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shutter4"/>
          <p:cNvPicPr/>
          <p:nvPr/>
        </p:nvPicPr>
        <p:blipFill>
          <a:blip r:embed="rId2"/>
          <a:stretch/>
        </p:blipFill>
        <p:spPr>
          <a:xfrm>
            <a:off x="0" y="0"/>
            <a:ext cx="1835280" cy="125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24"/>
          <p:cNvSpPr/>
          <p:nvPr/>
        </p:nvSpPr>
        <p:spPr>
          <a:xfrm>
            <a:off x="942840" y="2011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763640" y="765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再读课文，理清课文思路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68360" y="1484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快速阅览课文，划出文章的段落，概括段落大意，理清文章的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31640" y="249228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按照事情发展顺序可以分为四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95280" y="3141720"/>
            <a:ext cx="72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段（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段（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段（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段（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861080" y="314172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接受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861080" y="3789360"/>
            <a:ext cx="42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法钓鱼给三个病号吃，自己滴口未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861080" y="48690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班长牺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859280" y="57182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保存鱼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shutter4"/>
          <p:cNvPicPr/>
          <p:nvPr/>
        </p:nvPicPr>
        <p:blipFill>
          <a:blip r:embed="rId2"/>
          <a:stretch/>
        </p:blipFill>
        <p:spPr>
          <a:xfrm>
            <a:off x="0" y="0"/>
            <a:ext cx="1835280" cy="1258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324000" y="1197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再读课文，合作交流，感受老班长的形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24000" y="206064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本文主要刻画了老班长的光辉形象，作者是怎样来描写的呢？请找出文中几处描写老班长外貌的不同的句子，这些外貌描写都说明了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50920" y="357336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十多岁的老班长有五六十岁老人的外貌特征，可以看出老班长在长征途中饱经风霜，长征的艰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shutter5"/>
          <p:cNvPicPr/>
          <p:nvPr/>
        </p:nvPicPr>
        <p:blipFill>
          <a:blip r:embed="rId2"/>
          <a:stretch/>
        </p:blipFill>
        <p:spPr>
          <a:xfrm>
            <a:off x="0" y="0"/>
            <a:ext cx="1979640" cy="135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466560" y="1276200"/>
            <a:ext cx="8209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瘦得只剩皮包骨头，眼睛深深地陷了下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说明老班长为了照顾战士自己已经衰弱到不能支撑的地步，死亡的威胁正步步朝他逼来，是高度的革命责任感，让他把生的希望让给了战友，把死的危险留给了自己，表现了一个共产党员舍己为人的高尚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shutter5"/>
          <p:cNvPicPr/>
          <p:nvPr/>
        </p:nvPicPr>
        <p:blipFill>
          <a:blip r:embed="rId2"/>
          <a:stretch/>
        </p:blipFill>
        <p:spPr>
          <a:xfrm>
            <a:off x="0" y="0"/>
            <a:ext cx="1979640" cy="1359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324000" y="1268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按照上面的方法，请同学们找出描写老班长动作、语言和神态的句子，进行分析感悟。（抓住三次喝鱼汤时的动作、神态和语言来分析，小组交流反馈，教师及时点拨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11280" y="314172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老班长偷吃鱼刺时的动作表情：“皱紧眉头”“ 硬咽”，体会老班长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老班长寻找食物：“翻了多少草皮”“一棵一棵的摸” “眼睛都瞅坏”感受老班长寻找食物的不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shutter5"/>
          <p:cNvPicPr/>
          <p:nvPr/>
        </p:nvPicPr>
        <p:blipFill>
          <a:blip r:embed="rId2"/>
          <a:stretch/>
        </p:blipFill>
        <p:spPr>
          <a:xfrm>
            <a:off x="0" y="0"/>
            <a:ext cx="1979640" cy="1359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下一页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86560" y="6381720"/>
            <a:ext cx="865440" cy="37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516720" y="6381720"/>
            <a:ext cx="865080" cy="3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9:46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7:25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