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50B-0926-400C-ACF8-F4DD35157B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4A5-67AE-40DF-8065-7CBB779F33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A44-0BB9-4B0B-B43A-A14ECCC5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F14-4E2B-447A-A675-18F44F0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AD3-D428-4823-B640-2254BB46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E69-D18A-438F-8C69-A82C9164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44F-E2E9-4142-B870-45F29C8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F38-DE03-45DD-B338-7CB65F6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F42-7CA5-4E7C-81DE-3565CC8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C6E-D5C9-4ECB-B4C2-F6F364B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B73-A2AA-4A6E-A252-32BF82C2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AE7-EE3C-4632-99E4-B84E052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899-99B1-425E-880A-571B8D1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8C2-9817-41FF-A2E9-8F2796C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CC78-DCD0-421D-93C2-67250301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971640" y="242100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教 室 里 的小 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539640" y="765000"/>
            <a:ext cx="79218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中宋"/>
              </a:rPr>
              <a:t>（湘教版）二年级语文下册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199160" y="5775480"/>
            <a:ext cx="7034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907920"/>
            <a:ext cx="86756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 视频 谈感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视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鸟在校园安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谈谈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46200" y="54936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该为动物做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5f586fd-f3d1-447b-9325-4ebb2a26f46e"/>
          <p:cNvPicPr/>
          <p:nvPr/>
        </p:nvPicPr>
        <p:blipFill>
          <a:blip r:embed="rId1"/>
          <a:stretch/>
        </p:blipFill>
        <p:spPr>
          <a:xfrm>
            <a:off x="0" y="646200"/>
            <a:ext cx="91440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784"/>
          <p:cNvPicPr/>
          <p:nvPr/>
        </p:nvPicPr>
        <p:blipFill>
          <a:blip r:embed="rId1"/>
          <a:stretch/>
        </p:blipFill>
        <p:spPr>
          <a:xfrm>
            <a:off x="0" y="0"/>
            <a:ext cx="831708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6832af7af0272df22e73b3ba"/>
          <p:cNvPicPr/>
          <p:nvPr/>
        </p:nvPicPr>
        <p:blipFill>
          <a:blip r:embed="rId1"/>
          <a:stretch/>
        </p:blipFill>
        <p:spPr>
          <a:xfrm>
            <a:off x="0" y="0"/>
            <a:ext cx="9153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爱护小鸟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关爱动物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258920" y="2498760"/>
            <a:ext cx="62658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D8F-6D3F-4B11-AFE3-FD8D469B1D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-6480" y="1601640"/>
            <a:ext cx="93553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上课铃声响了、刚才还热热闹闹的校园一下子就安静了下来，同学们都开始学习了，可是育才小学二年级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的课堂却发生了一件意想不到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家请看屏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教室里发生了什么事情？小鸟是怎么来到教室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11280" y="476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教室里，老师在给同学们上课，忽然一只小鸟从小明的课桌间飞了出来、这只小鸟的突然出现引起了同学们的兴趣，一时间，教室里开始混乱起来 、大家都七嘴八舌地说开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007092406422324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当老师和同学看到小鸟时，他们会有怎样的反应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4"/>
          <p:cNvSpPr/>
          <p:nvPr/>
        </p:nvSpPr>
        <p:spPr>
          <a:xfrm>
            <a:off x="363060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007092406421724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讶异、老师会生气了、其他小朋友们会很兴奋、很开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谈感受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果你是小明 、是你的小鸟从桌子里飞出来、你会怎么想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421000"/>
            <a:ext cx="8820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动脑筋想一想，最后老师和同学们会怎样呢？他们会做些什么？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5280" y="4508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件事的结果会怎么样？你希望老师怎样处理这件事？怎样做才是最好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0090511100110243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285920" y="1486080"/>
            <a:ext cx="62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10774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转换角色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你是那只小鸟，你会对人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5:48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5:4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