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png" ContentType="image/png"/>
  <Override PartName="/ppt/media/camera.wav" ContentType="audio/x-wav"/>
  <Override PartName="/ppt/media/image7.jpeg" ContentType="image/jpeg"/>
  <Override PartName="/ppt/media/image20.png" ContentType="image/png"/>
  <Override PartName="/ppt/media/image10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2BD-64F9-414A-8A77-9635EDD09A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BDE-0596-4D23-8829-A00506FE28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BA0-EBED-438A-AF21-61750652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61B-0DE3-4A9E-B4CB-EBC6FA4E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2E1-988C-4104-ACEC-4E6DE279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D25-658E-4D6C-A843-886C04CD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6A5-0478-4F10-B7EB-2050399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E43-97FB-44E7-A982-AD98C9CA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6B7-3D7E-494F-897E-3B1DD0F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AA6-1B23-41C6-A238-F9C5DC2A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FF0-DD21-47F0-98D8-AC5FB29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106-F4E4-415B-AD88-7BCA9C2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3D0-77EA-43B3-B77F-1230FCA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646-3FAD-4FF9-A75D-37F967F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3EF8-8699-4100-A90D-3EC152FFC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238400" y="1687680"/>
            <a:ext cx="684036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14“</a:t>
            </a: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军神”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534320" y="51577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762120" y="159876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1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，在一次战斗中，刘伯承为了救一位战士，猛扑过去，敌人的一颗飞弹射中了他的太阳穴，又从右眼飞出，刘伯承当即昏倒在地，血流如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333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补充资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762120" y="159876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病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平静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生，眼睛离大脑太近，我担心施行麻醉会影响神经。而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今后需要一个清醒的大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试试看吧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26920" y="333360"/>
            <a:ext cx="28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55640" y="0"/>
            <a:ext cx="367344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声不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双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紧攥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下的白垫单，手臂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筋暴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崭新的白垫单居然被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抓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1"/>
          <p:cNvPicPr/>
          <p:nvPr/>
        </p:nvPicPr>
        <p:blipFill>
          <a:blip r:embed="rId5"/>
          <a:stretch/>
        </p:blipFill>
        <p:spPr>
          <a:xfrm>
            <a:off x="4572000" y="333360"/>
            <a:ext cx="439272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55640" y="907920"/>
            <a:ext cx="82803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台上，一向从容镇定的沃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生额头上汗涔涔的，双手有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颤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忍不住，你可以哼叫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告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声不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双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紧攥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下的白垫单，手臂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筋暴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的白垫单居然被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抓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900000" y="134136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脸色苍白，勉强一笑，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直在数你的刀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沃克医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吓了一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些不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割了多少刀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十二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971640" y="1268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沃克惊呆了，失声嚷道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啊！你是一个真正的男子汉，一块会说话的钢板！如果你是一位军人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你就是一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军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6212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生活就像海洋，只有意志坚强的人，才能到达彼岸。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马克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814320" y="90792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感情朗读小诗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826920" y="1844640"/>
            <a:ext cx="77058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赞军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英雄壮举泣鬼神，铁骨钢筋铸军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十二刀生死痛，胜似昔日刮骨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682560" y="969840"/>
            <a:ext cx="8282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板书，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术前→手术中→手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顺序复述课文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8360" y="234936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cc99"/>
                </a:solidFill>
                <a:latin typeface="黑体"/>
                <a:ea typeface="黑体"/>
              </a:rPr>
              <a:t>沃克医生      刘伯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术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恼火 惊讶       拒绝麻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术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担忧 关心       一声不哼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术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惊讶 赞叹       细数刀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682560" y="534348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SOFTSP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"/>
          <p:cNvGrpSpPr/>
          <p:nvPr/>
        </p:nvGrpSpPr>
        <p:grpSpPr>
          <a:xfrm>
            <a:off x="0" y="0"/>
            <a:ext cx="3733920" cy="1523880"/>
            <a:chOff x="0" y="0"/>
            <a:chExt cx="3733920" cy="1523880"/>
          </a:xfrm>
        </p:grpSpPr>
        <p:pic>
          <p:nvPicPr>
            <p:cNvPr id="112" name="Picture 6" descr="A-2-06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733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7"/>
            <p:cNvSpPr/>
            <p:nvPr/>
          </p:nvSpPr>
          <p:spPr>
            <a:xfrm>
              <a:off x="304920" y="380880"/>
              <a:ext cx="320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</a:rPr>
                <a:t>老师的建议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35000" y="1766880"/>
            <a:ext cx="9009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刘伯承还有很多尊称，如“编外参谋”“武神”“教书先生” 等等，你能搜集有关资料，在认真阅读的基础上说说每个尊称的含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你能搜集有关刘伯承的故事，讲给同学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你能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军神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改编成课本剧，和同学演一演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xh080"/>
          <p:cNvPicPr/>
          <p:nvPr/>
        </p:nvPicPr>
        <p:blipFill>
          <a:blip r:embed="rId3"/>
          <a:stretch/>
        </p:blipFill>
        <p:spPr>
          <a:xfrm>
            <a:off x="7467480" y="4724280"/>
            <a:ext cx="15829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清流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24000" y="620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  “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军  神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00000" y="1844640"/>
            <a:ext cx="7696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、神话中的人物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、特别高超或出奇，令人惊异的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、精神、精力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、聪明、机灵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J1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579600" y="237960"/>
            <a:ext cx="26668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读词语</a:t>
            </a:r>
            <a:endParaRPr b="1" lang="en-US" sz="72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Picture 5" descr="读书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4495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579600" y="1222200"/>
            <a:ext cx="7984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怔住    从容    汗涔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攥住    崭新    由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勉强    赫赫有名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2410-5DF3-40E8-BEB0-3C14D0BCE4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-149400" y="0"/>
            <a:ext cx="9293400" cy="6858000"/>
            <a:chOff x="-149400" y="0"/>
            <a:chExt cx="9293400" cy="6858000"/>
          </a:xfrm>
        </p:grpSpPr>
        <p:pic>
          <p:nvPicPr>
            <p:cNvPr id="54" name="Picture 3" descr="BJ1043"/>
            <p:cNvPicPr/>
            <p:nvPr/>
          </p:nvPicPr>
          <p:blipFill>
            <a:blip r:embed="rId1"/>
            <a:stretch/>
          </p:blipFill>
          <p:spPr>
            <a:xfrm>
              <a:off x="-149400" y="0"/>
              <a:ext cx="9293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4" descr="未标题-1"/>
            <p:cNvPicPr/>
            <p:nvPr/>
          </p:nvPicPr>
          <p:blipFill>
            <a:blip r:embed="rId2"/>
            <a:stretch/>
          </p:blipFill>
          <p:spPr>
            <a:xfrm>
              <a:off x="1373760" y="380880"/>
              <a:ext cx="6474960" cy="49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5"/>
          <p:cNvSpPr/>
          <p:nvPr/>
        </p:nvSpPr>
        <p:spPr>
          <a:xfrm>
            <a:off x="1066680" y="541008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敬爱的刘伯承元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刘伯承"/>
          <p:cNvPicPr/>
          <p:nvPr/>
        </p:nvPicPr>
        <p:blipFill>
          <a:blip r:embed="rId2"/>
          <a:stretch/>
        </p:blipFill>
        <p:spPr>
          <a:xfrm>
            <a:off x="5003640" y="549360"/>
            <a:ext cx="369576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68360" y="62064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伯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率四川护国军第四支军队北伐，在攻占丰都时，头部中弹，右眼致残。当时，北洋军阀控制着政府，刘伯承隐瞒身份秘密到重庆接受手术。刘伯承，不但有勇，更善用谋，人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儒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他戎马一生，勤学一生；施计用兵，出神入化；指挥若定，雄才大略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被授予元帅军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0"/>
          <p:cNvSpPr/>
          <p:nvPr/>
        </p:nvSpPr>
        <p:spPr>
          <a:xfrm>
            <a:off x="103320" y="2565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J1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838080" y="765000"/>
            <a:ext cx="26672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习目标</a:t>
            </a:r>
            <a:endParaRPr b="1" lang="en-US" sz="72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" name="Picture 5" descr="读书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4495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838080" y="182736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由朗读课文，读准字音，读通课文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38080" y="3352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找出文中直接赞美刘伯承就是“军神”的句子，并用直线划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971640" y="134136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沃克惊呆了，失声嚷道：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啊！你是一个真正的男子汉，一块会说话的钢板！如果你是一位军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就是一个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黑体"/>
              </a:rPr>
              <a:t>‘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军神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黑体"/>
              </a:rPr>
              <a:t>’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！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9"/>
          <p:cNvSpPr/>
          <p:nvPr/>
        </p:nvSpPr>
        <p:spPr>
          <a:xfrm>
            <a:off x="755640" y="806400"/>
            <a:ext cx="806436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静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生，眼睛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太近，我担心施行麻醉会影响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。而我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后需要一个清醒的大脑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沃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怔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，你能忍受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右眼需要摘除坏死的眼球，把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一刀一刀割掉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试看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762120" y="159876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孙膑失去了双腿，依然可以指挥千军万马；我失去一只眼睛，只要还有健全的大脑，也可以驰骋疆场，为祖国效汗马之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333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补充资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008000" y="1268280"/>
            <a:ext cx="730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护士跑过来，低声告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：这位病人拒绝用麻醉剂。沃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眉毛扬了起来。他走进手术室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教训的口吻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人，在这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听医生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37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22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