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3.png" ContentType="image/png"/>
  <Override PartName="/ppt/media/chimes.wav" ContentType="audio/x-wav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911C-7BC5-4C49-B60C-35125083CF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56C3-6DB4-40F1-988E-A0A1FCF823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E66-837D-40E0-A388-296CE20B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CEE-A4EC-480D-84D3-F14FEE32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492-E8FD-4412-8945-CCCB541F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392-3C27-477F-BDA6-8766BF13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866C-B0C5-492D-9034-583240D7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12FB-BD42-43E3-8221-C617F88C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78E3-CD88-4411-A2B4-00D2540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9405-9E68-47FF-BD5B-502FB88C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0262-EE60-4A3B-87BA-AABF1E96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E1E9-F408-4468-9144-7AF4AEDA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4AAE-3DC7-4220-B1E4-7B922DA1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61A-92ED-43F8-AF17-42FB85EA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CA33-C4EA-4BA7-89DB-E5C53BD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058-BD5C-48A9-AFFC-8BBFC970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7F96-F2E8-475F-B093-9D4AF5BC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72CF-3A47-43F5-8C9D-4F57A7CF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F8B1-3BF2-49CA-9BAC-47907D16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B38-CDDA-4756-9086-1C8748CC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0BA-A767-47A5-8943-6FB09EEA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2D5-E2CC-4B58-88D2-238D2F22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0CF-0718-4572-B655-90489EF2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31B-B401-4550-B0A5-4AD5551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00E-25A0-4268-9FA5-C4948A89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87B-6536-4B01-9599-4663B155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8500-5346-435C-BD10-94DBD5A8F9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6309-3A2C-4F32-A88E-E4937BBC3E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清流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549360" y="14130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4</a:t>
            </a: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军  神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1447920" y="55166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900000" y="2003400"/>
            <a:ext cx="76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在一次战斗中，刘伯承为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一位战士，猛扑过去，敌人的一颗飞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中了他的太阳穴，又从右眼飞出，刘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承当即昏倒在地，血流如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6920" y="1052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补充资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军神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76212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沃克医生不禁失声喊道：“了不起！你是一个真正的男子汉，一块会说话的钢板！你是一位军神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685800" y="16765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沃克医生不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失声喊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“了不起！你是一个真正的男子汉，一块会说话的钢板！你是一位军神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J1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9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的一天，一位头缠绷带的年轻人走进了重庆城里一家德国人开的诊所。他对诊所的主人——著名的外科医生沃克先生说：“我的眼睛被土匪打伤了，请您给治治。”沃克医生查看了他的伤势，冷冷地问：“你叫什么名字？”“刘大川。”“干什么的？”“邮局职员。”“不，你是军人！”沃克医生有些不悦地说，“我当过军医，这么重的伤势，只有军人才能如此镇定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J1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9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的一天，一位头缠绷带的年轻人走进了重庆城里一家德国人开的诊所。他对诊所的主人——著名的外科医生沃克先生说：“我的眼睛被土匪打伤了，请您给治治。”沃克医生查看了他的伤势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冷冷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问：“你叫什么名字？”“刘大川。”“干什么的？”“邮局职员。”“不，你是军人！”沃克医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有些不悦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，“我当过军医，这么重的伤势，只有军人才能如此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镇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J1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1268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要动手术了，可年轻人却坚决不愿意使用麻醉药。他恳切地对医生说：“眼睛离脑子太近，我担心使用麻醉药会损伤脑神经。”沃克医生愣住了：“你，你能忍受得了吗？”年轻人平静地说：“能。”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J1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0" y="1268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要动手术了，可年轻人却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坚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愿意使用麻醉药。他恳切地对医生说：“眼睛离脑子太近，我担心使用麻醉药会损伤脑神经。”沃克医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愣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“你，你能忍受得了吗？”年轻人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平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说：“能。”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BJ1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1523880" y="17524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术中，一向镇定的沃克医生，这次却双手微微颤抖。他对年轻人说：“你要是挺不住，可以叫出声来。”       年轻人一声不吭，双手紧紧抓住身下的白色床单，汗如雨下。手术结束，崭新的床单竟被抓破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J1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523880" y="17524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术中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向镇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沃克医生，这次却双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微微颤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他对年轻人说：“你要是挺不住，可以叫出声来。”       年轻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声不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双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紧紧抓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身下的白色床单，汗如雨下。手术结束，崭新的床单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抓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内容占位符 3" descr="3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"/>
          <p:cNvSpPr/>
          <p:nvPr/>
        </p:nvSpPr>
        <p:spPr>
          <a:xfrm>
            <a:off x="468360" y="4767120"/>
            <a:ext cx="2484360" cy="1079640"/>
          </a:xfrm>
          <a:prstGeom prst="wedgeEllipseCallout">
            <a:avLst>
              <a:gd name="adj1" fmla="val 1819"/>
              <a:gd name="adj2" fmla="val -504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BJ1131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826920" y="40464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沃克医生擦着汗，对年轻人说：“我真担心你会晕过去。”     年轻人脸色苍白。勉强一笑：“我一直在数你的刀数。”沃克医生吓了一跳：“一共多少刀？”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刀。”沃克医生不禁失声喊道：“了不起！你是一个真正的男子汉，一块会说话的钢板！你是一位军神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沃克医生关上手术室的门，俯下身子亲切地注视着年轻人：“请告诉我，你的真名叫什么？”“刘伯承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BJ1131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792000" y="549360"/>
            <a:ext cx="7560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沃克医生擦着汗，对年轻人说：“我真担心你会晕过去。”     年轻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脸色苍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勉强一笑：“我一直在数你的刀数。”沃克医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吓了一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“一共多少刀？”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刀。”沃克医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禁失声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道：“了不起！你是一个真正的男子汉，一块会说话的钢板！你是一位军神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沃克医生关上手术室的门，俯下身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亲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注视着年轻人：“请告诉我，你的真名叫什么？”“刘伯承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82760" y="835200"/>
            <a:ext cx="8281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板书，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手术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手术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手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顺序复述课文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24000" y="23493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手术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拒绝麻醉 恼火 惊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手术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强忍疼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心 钦佩 意志坚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堪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手术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受到赞赏 惊叹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814320" y="907920"/>
            <a:ext cx="77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感情朗读小诗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6920" y="1844640"/>
            <a:ext cx="770580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赞军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英雄壮举泣鬼神，铁骨钢筋铸军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十二刀生死痛，胜似昔日刮骨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5" name="Picture 4" descr="BJ118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Group 5"/>
            <p:cNvGrpSpPr/>
            <p:nvPr/>
          </p:nvGrpSpPr>
          <p:grpSpPr>
            <a:xfrm>
              <a:off x="533520" y="297000"/>
              <a:ext cx="8305200" cy="2065320"/>
              <a:chOff x="533520" y="297000"/>
              <a:chExt cx="8305200" cy="2065320"/>
            </a:xfrm>
          </p:grpSpPr>
          <p:sp>
            <p:nvSpPr>
              <p:cNvPr id="167" name="WordArt 6"/>
              <p:cNvSpPr txBox="1"/>
              <p:nvPr/>
            </p:nvSpPr>
            <p:spPr>
              <a:xfrm>
                <a:off x="533520" y="297000"/>
                <a:ext cx="2666520" cy="19810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1" strike="noStrike">
                    <a:ln w="9360">
                      <a:solidFill>
                        <a:srgbClr val="3333cc"/>
                      </a:solidFill>
                      <a:round/>
                    </a:ln>
                    <a:solidFill>
                      <a:srgbClr val="3333cc"/>
                    </a:solidFill>
                    <a:latin typeface="宋体"/>
                  </a:rPr>
                  <a:t>想一想，写一写</a:t>
                </a:r>
                <a:endParaRPr b="1" lang="en-US" sz="6000" spc="1" strike="noStrike">
                  <a:ln w="9360">
                    <a:solidFill>
                      <a:srgbClr val="3333cc"/>
                    </a:solidFill>
                    <a:round/>
                  </a:ln>
                  <a:solidFill>
                    <a:srgbClr val="3333cc"/>
                  </a:solidFill>
                  <a:latin typeface="宋体"/>
                  <a:ea typeface="宋体"/>
                </a:endParaRPr>
              </a:p>
            </p:txBody>
          </p:sp>
          <p:pic>
            <p:nvPicPr>
              <p:cNvPr id="168" name="Picture 7" descr="xh006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609480"/>
                <a:ext cx="164736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Text Box 8"/>
              <p:cNvSpPr/>
              <p:nvPr/>
            </p:nvSpPr>
            <p:spPr>
              <a:xfrm>
                <a:off x="3504960" y="1287360"/>
                <a:ext cx="5333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同学们，如果当时你也在手术台旁，亲眼目睹了这次手术，你会怎样称赞刘伯承呢？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0" name="Picture 9" descr="CJ3113"/>
          <p:cNvPicPr/>
          <p:nvPr/>
        </p:nvPicPr>
        <p:blipFill>
          <a:blip r:embed="rId3"/>
          <a:stretch/>
        </p:blipFill>
        <p:spPr>
          <a:xfrm>
            <a:off x="7010280" y="4952880"/>
            <a:ext cx="1905120" cy="1613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343080" y="340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刘伯承爷爷，你的意志＿＿＿＿＿＿＿＿＿！真不愧是＿＿＿＿＿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971640" y="3068640"/>
            <a:ext cx="741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爷爷我想对您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627280" y="1773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一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刘伯承"/>
          <p:cNvPicPr/>
          <p:nvPr/>
        </p:nvPicPr>
        <p:blipFill>
          <a:blip r:embed="rId4"/>
          <a:stretch/>
        </p:blipFill>
        <p:spPr>
          <a:xfrm>
            <a:off x="755640" y="692280"/>
            <a:ext cx="1584360" cy="212076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1"/>
          <p:cNvSpPr/>
          <p:nvPr/>
        </p:nvSpPr>
        <p:spPr>
          <a:xfrm>
            <a:off x="366840" y="547524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835280" y="1698480"/>
            <a:ext cx="619272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55640" y="9158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组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755640" y="1125360"/>
            <a:ext cx="8064360" cy="45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抄写生字并扩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仿照下面的句子，用一句话写清楚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某件事前的准备工作（如：写毛笔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、跑步前等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家德国人开设的诊所里，医生沃克换上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术服，洗净手，戴上消毒手套，准备给一个年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做眼科手术。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11280" y="476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956C-2B05-458E-BCC6-72DEF0BDB0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19240" y="3998880"/>
            <a:ext cx="7920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wò           shì           jú       zhí      yà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dān        sǔn          dāo          gòng          ché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检查自学喽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82520" y="14842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绷带      愣住     颤抖     缠着     土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邮局      愉悦     镇定     麻醉     崭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擦汗      晕倒     钢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沃克    伤势    邮局    职员   药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担心    损失     刀     总共    刘伯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6880" y="1550880"/>
            <a:ext cx="83170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bēng        lèng          chàn       chán             fě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yóu               yuè    zhèn              zuì      zhǎ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cā             yūn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ā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189000"/>
            <a:ext cx="2484360" cy="1079280"/>
          </a:xfrm>
          <a:prstGeom prst="wedgeEllipseCallout">
            <a:avLst>
              <a:gd name="adj1" fmla="val -15430"/>
              <a:gd name="adj2" fmla="val 45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250920" y="476280"/>
            <a:ext cx="2484360" cy="1079640"/>
          </a:xfrm>
          <a:prstGeom prst="wedgeEllipseCallout">
            <a:avLst>
              <a:gd name="adj1" fmla="val -15430"/>
              <a:gd name="adj2" fmla="val 45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考考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下列词语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近义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崭新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    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损伤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    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下列词语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义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    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定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    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崭新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    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66920" y="2276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299280" y="2295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伤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266920" y="4508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338560" y="5229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破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300720" y="4581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慌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排列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  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手术前刘伯承不愿使用麻醉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    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刘伯承请沃克医生治眼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    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手术后沃克医生称刘伯承是军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    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手术中刘伯承一声不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95280" y="404640"/>
            <a:ext cx="2484360" cy="1079640"/>
          </a:xfrm>
          <a:prstGeom prst="wedgeEllipseCallout">
            <a:avLst>
              <a:gd name="adj1" fmla="val -15430"/>
              <a:gd name="adj2" fmla="val 45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一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42920" y="2205000"/>
            <a:ext cx="93672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>
            <a:hlinkClick r:id="" action="ppaction://hlinkshowjump?jump=endshow"/>
          </p:cNvPr>
          <p:cNvSpPr/>
          <p:nvPr/>
        </p:nvSpPr>
        <p:spPr>
          <a:xfrm>
            <a:off x="802800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7301"/>
                </a:moveTo>
                <a:lnTo>
                  <a:pt x="4738" y="7301"/>
                </a:lnTo>
                <a:lnTo>
                  <a:pt x="5121" y="7667"/>
                </a:lnTo>
                <a:lnTo>
                  <a:pt x="14330" y="7667"/>
                </a:lnTo>
                <a:lnTo>
                  <a:pt x="14887" y="8224"/>
                </a:lnTo>
                <a:lnTo>
                  <a:pt x="14887" y="8772"/>
                </a:lnTo>
                <a:lnTo>
                  <a:pt x="16732" y="8772"/>
                </a:lnTo>
                <a:lnTo>
                  <a:pt x="17098" y="8224"/>
                </a:lnTo>
                <a:lnTo>
                  <a:pt x="17837" y="8224"/>
                </a:lnTo>
                <a:lnTo>
                  <a:pt x="17837" y="13376"/>
                </a:lnTo>
                <a:lnTo>
                  <a:pt x="17098" y="13376"/>
                </a:lnTo>
                <a:lnTo>
                  <a:pt x="16732" y="12828"/>
                </a:lnTo>
                <a:lnTo>
                  <a:pt x="14887" y="12828"/>
                </a:lnTo>
                <a:lnTo>
                  <a:pt x="14887" y="14107"/>
                </a:lnTo>
                <a:lnTo>
                  <a:pt x="5304" y="14107"/>
                </a:lnTo>
                <a:lnTo>
                  <a:pt x="5304" y="9877"/>
                </a:lnTo>
                <a:lnTo>
                  <a:pt x="5121" y="9877"/>
                </a:lnTo>
                <a:lnTo>
                  <a:pt x="4738" y="10243"/>
                </a:lnTo>
                <a:lnTo>
                  <a:pt x="3824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39640" y="1679400"/>
            <a:ext cx="8317080" cy="28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填空：课文中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他的敬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——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划出沃克医生赞美刘伯承的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有感情的朗读句子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8431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84360" y="170028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中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他的敬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370560" y="16621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刘伯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806480" y="288144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沃克医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8"/>
          <p:cNvSpPr/>
          <p:nvPr/>
        </p:nvSpPr>
        <p:spPr>
          <a:xfrm>
            <a:off x="3132000" y="287172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BJ1043"/>
          <p:cNvPicPr/>
          <p:nvPr/>
        </p:nvPicPr>
        <p:blipFill>
          <a:blip r:embed="rId1"/>
          <a:stretch/>
        </p:blipFill>
        <p:spPr>
          <a:xfrm>
            <a:off x="-149400" y="0"/>
            <a:ext cx="92934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未标题-1"/>
          <p:cNvPicPr/>
          <p:nvPr/>
        </p:nvPicPr>
        <p:blipFill>
          <a:blip r:embed="rId2"/>
          <a:stretch/>
        </p:blipFill>
        <p:spPr>
          <a:xfrm>
            <a:off x="1374840" y="380880"/>
            <a:ext cx="6473880" cy="4980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066680" y="541008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敬爱的刘伯承元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187280" y="1676520"/>
            <a:ext cx="7417080" cy="24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你是一个真正的男子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块会说话的钢板！如果你是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军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就是一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3:33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2:26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