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EFD6-7CD7-40CC-98C7-BB521128067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CA11-90F0-4300-9EC6-054EF72F7C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94DD-FBA1-49F8-A998-103917A0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795B-8CDE-45F8-AC3B-A67BBEDD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C21D-2EEB-46FB-A530-F9FBCC71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47B4-0CDA-4D18-AA8F-3E58B5FF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170-33BB-43F9-93A8-A15CBE56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47A7-EDCB-458C-A499-5B00F382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41AE-8436-44C5-BA46-9CBF3A67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B043-D49C-4A94-88BD-441FD15D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7DF8-67E4-4AB5-8E85-D1AF4720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96C4-3B1D-4B36-BC91-F7496037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7E3E-E7B3-4E57-8CF6-7E910C9D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C90-0A3B-4026-84BA-5C3559F6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B686-F185-46CE-BAFC-A3230BB16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214720" y="2349360"/>
            <a:ext cx="487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ff"/>
                </a:solidFill>
                <a:latin typeface="华文琥珀"/>
                <a:ea typeface="华文琥珀"/>
              </a:rPr>
              <a:t>夸 一 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908000" y="1484280"/>
            <a:ext cx="60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38360" y="11923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宋体"/>
              </a:rPr>
              <a:t>湘教版一年级语文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1907640" y="5661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6C7B-A0D1-47E1-9143-7B0DCBF1DD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74页"/>
          <p:cNvPicPr/>
          <p:nvPr/>
        </p:nvPicPr>
        <p:blipFill>
          <a:blip r:embed="rId1"/>
          <a:stretch/>
        </p:blipFill>
        <p:spPr>
          <a:xfrm>
            <a:off x="0" y="0"/>
            <a:ext cx="4468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4697280" y="1509840"/>
            <a:ext cx="38880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习目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发现周围人的优点，并启发他们用语言表达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把自己想夸的人的优点与同学们交流一下，看看谁说得最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养成细心观察和善于口头表达得好习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809720" y="1442880"/>
            <a:ext cx="5524560" cy="3972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j0234131"/>
          <p:cNvPicPr/>
          <p:nvPr/>
        </p:nvPicPr>
        <p:blipFill>
          <a:blip r:embed="rId2"/>
          <a:stretch/>
        </p:blipFill>
        <p:spPr>
          <a:xfrm>
            <a:off x="179280" y="260280"/>
            <a:ext cx="151308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826920" y="1197000"/>
            <a:ext cx="6624720" cy="22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华文隶书"/>
                <a:ea typeface="华文隶书"/>
              </a:rPr>
              <a:t>交际指导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.</a:t>
            </a:r>
            <a:r>
              <a:rPr b="0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先看看课本上的图，读一读图中的小朋友都说了哪些话，他们是怎样夸别人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j0234131"/>
          <p:cNvPicPr/>
          <p:nvPr/>
        </p:nvPicPr>
        <p:blipFill>
          <a:blip r:embed="rId1"/>
          <a:stretch/>
        </p:blipFill>
        <p:spPr>
          <a:xfrm>
            <a:off x="7380360" y="260280"/>
            <a:ext cx="151272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3"/>
          <p:cNvSpPr/>
          <p:nvPr/>
        </p:nvSpPr>
        <p:spPr>
          <a:xfrm>
            <a:off x="2700360" y="1800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华文新魏"/>
                <a:ea typeface="华文新魏"/>
              </a:rPr>
              <a:t>           </a:t>
            </a:r>
            <a:r>
              <a:rPr b="0" lang="en-US" sz="4000" spc="-1" strike="noStrike">
                <a:solidFill>
                  <a:srgbClr val="9900ff"/>
                </a:solidFill>
                <a:latin typeface="华文新魏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9900ff"/>
                </a:solidFill>
                <a:latin typeface="华文新魏"/>
                <a:ea typeface="华文新魏"/>
              </a:rPr>
              <a:t>看图联系到自己的实际生活，仔细想一想：有哪些人，哪些事能让你夸一夸？仿照图中小朋友说的话，把你的话说在课堂上说给老师、同学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隶书"/>
                <a:ea typeface="隶书"/>
              </a:rPr>
              <a:t>     </a:t>
            </a:r>
            <a:r>
              <a:rPr b="0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3.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找几个同学结成一个小组，大家一起到生活中去观察，然后再一起交流，比一比，看谁说地最好，大家都要为他鼓掌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华文中宋"/>
                <a:ea typeface="华文中宋"/>
              </a:rPr>
              <a:t>         </a:t>
            </a:r>
            <a:r>
              <a:rPr b="0" lang="en-US" sz="4000" spc="-1" strike="noStrike">
                <a:solidFill>
                  <a:srgbClr val="990000"/>
                </a:solidFill>
                <a:latin typeface="华文新魏"/>
                <a:ea typeface="华文新魏"/>
              </a:rPr>
              <a:t>4.</a:t>
            </a:r>
            <a:r>
              <a:rPr b="0" lang="zh-CN" sz="4000" spc="-1" strike="noStrike">
                <a:solidFill>
                  <a:srgbClr val="990000"/>
                </a:solidFill>
                <a:latin typeface="华文新魏"/>
                <a:ea typeface="华文新魏"/>
              </a:rPr>
              <a:t>回家后，夸一夸你的爸爸、妈妈、爷爷、奶奶等亲人，他们肯定也会夸奖你的，然后记下来</a:t>
            </a:r>
            <a:r>
              <a:rPr b="0" lang="zh-CN" sz="4000" spc="-1" strike="noStrike">
                <a:solidFill>
                  <a:srgbClr val="990000"/>
                </a:solidFill>
                <a:latin typeface="华文中宋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"/>
          <p:cNvSpPr/>
          <p:nvPr/>
        </p:nvSpPr>
        <p:spPr>
          <a:xfrm>
            <a:off x="631800" y="4940280"/>
            <a:ext cx="67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4aa2ee55b06ac345d10906a0"/>
          <p:cNvPicPr/>
          <p:nvPr/>
        </p:nvPicPr>
        <p:blipFill>
          <a:blip r:embed="rId1"/>
          <a:stretch/>
        </p:blipFill>
        <p:spPr>
          <a:xfrm>
            <a:off x="1187280" y="981000"/>
            <a:ext cx="6834240" cy="51260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6988320" y="189000"/>
            <a:ext cx="197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夸 一 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20070326124227828"/>
          <p:cNvPicPr/>
          <p:nvPr/>
        </p:nvPicPr>
        <p:blipFill>
          <a:blip r:embed="rId2"/>
          <a:stretch/>
        </p:blipFill>
        <p:spPr>
          <a:xfrm>
            <a:off x="1116000" y="981000"/>
            <a:ext cx="6840720" cy="513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7267caa8e6a072d2ee1889a66729e190"/>
          <p:cNvPicPr/>
          <p:nvPr/>
        </p:nvPicPr>
        <p:blipFill>
          <a:blip r:embed="rId3"/>
          <a:stretch/>
        </p:blipFill>
        <p:spPr>
          <a:xfrm>
            <a:off x="1476360" y="1052640"/>
            <a:ext cx="6257880" cy="4694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2008050815375989281"/>
          <p:cNvPicPr/>
          <p:nvPr/>
        </p:nvPicPr>
        <p:blipFill>
          <a:blip r:embed="rId4"/>
          <a:stretch/>
        </p:blipFill>
        <p:spPr>
          <a:xfrm>
            <a:off x="971640" y="907920"/>
            <a:ext cx="7488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187280" y="2852280"/>
            <a:ext cx="6707520" cy="25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华文隶书"/>
              </a:rPr>
              <a:t>小朋友们都真诚地夸奖了别人。只要大家多观察，你会发现每个人身上都有优点值得自己学习，今后大家要多发现别人的优点，而且要学习别人的优点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3203640" y="1557360"/>
            <a:ext cx="2658960" cy="1176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课堂小结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5:05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0:45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