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7923-5625-402F-9A89-F20D6FEB91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2A7F-1E19-467E-9B2F-A07DBAF2A5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A72-9256-4C8A-85D8-440CE407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D63-7A7B-437F-B9D5-888791FE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5F8-082D-4129-A278-EB0D6DF7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732-5CA0-4DAF-B1C0-EAEB6C39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6D7-5DC7-4B80-88DC-A19F60D2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9E0-4CFA-44DA-8924-9F475FAA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B01-D594-45C7-BBD1-BA0DAC0A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485-710C-4236-89B9-7EF72D6E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531-FB69-4988-BF8A-6ADE78C5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7A0-7D63-41BA-91CB-72AE5433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99A7-3E04-4DE9-8F26-DD1410CC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D46-AD8E-4185-80B3-BD2C279B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46E0-0E45-4399-97EC-B4E73ACC5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/&#30446;&#24405;.ppt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625840" y="170964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00"/>
                </a:solidFill>
                <a:latin typeface="微软雅黑"/>
                <a:ea typeface="微软雅黑"/>
              </a:rPr>
              <a:t>柳笛和榆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1723680" y="54100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0520" y="533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隶书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吹柳笛带来的欢乐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课文通过以下几点体现欢乐之情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愿怎么吹就怎么吹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吹出的音色各不相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吹柳笛的样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边读边说自己从中怎么体会到这份欢乐之情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小组合作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钱给孩子们带来怎样的欢乐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摘榆钱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找出描写榆钱样子的句子读一读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思考：这样写说明了什么呢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你感受到了孩子们的心情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回读全文，讨论解决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开头写柳树、榆树的样子？与做柳笛、吹柳笛、吃榆钱有什么联系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导二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读课文，遇到生字多读几遍，以将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通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后点名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检测二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点名读课文段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齐读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11280" y="1904760"/>
            <a:ext cx="7632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写了什么事？先写什么，后写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笛和榆钱给孩子们的生活带来了哪些欢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661760" y="980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朗读课文思考：</a:t>
            </a: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课文朗读.mp3" descr=""/>
          <p:cNvPicPr/>
          <p:nvPr/>
        </p:nvPicPr>
        <p:blipFill>
          <a:blip r:embed="rId1"/>
          <a:stretch/>
        </p:blipFill>
        <p:spPr>
          <a:xfrm>
            <a:off x="7524720" y="549360"/>
            <a:ext cx="719280" cy="647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239220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导三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06164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00000" y="1774800"/>
            <a:ext cx="7632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写了什么事？先写什么，后写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笛和榆钱给孩子们的生活带来了哪些欢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61760" y="980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朗读课文思考：</a:t>
            </a:r>
            <a:r>
              <a:rPr b="0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11120" y="2928960"/>
            <a:ext cx="750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课文主要写了柳笛和榆钱带给孩子们的快乐。先写做柳笛，吹柳笛，后写吃榆钱的快乐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260360" y="497664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让孩子们童年生活更快乐，做柳笛，吹柳笛，吃榆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392200" y="11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检测三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755640" y="1844640"/>
            <a:ext cx="720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阅读第一自然段，想一想：这一段第二句话用了什么修辞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树的长发披散开来，自由自在地沐浴在春风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榆树常常把身子探出墙来，向我们招手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84360" y="5084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这一句话运用了拟人的修辞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946960" y="254160"/>
            <a:ext cx="27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学指导四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要求品读课文段落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50920" y="981000"/>
            <a:ext cx="8424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阅读第二、三自然段，你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们折下一根小手指粗的柳枝，拿小刀切割齐整，然后轻轻拧一拧，使绿色的树皮略略松动，猛一下把它褪出树枝，一管柳笛就温顺地呈现在手中，愿意怎么吹就怎么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181400" y="4260960"/>
            <a:ext cx="40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段文字写了如何做柳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403280" y="1844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阅读第四自然段，体会：这一段写出了什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6227640" y="6581880"/>
            <a:ext cx="2881080" cy="276120"/>
            <a:chOff x="6227640" y="6581880"/>
            <a:chExt cx="2881080" cy="276120"/>
          </a:xfrm>
        </p:grpSpPr>
        <p:pic>
          <p:nvPicPr>
            <p:cNvPr id="107" name="Picture 4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27640" y="658188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5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59520" y="6581880"/>
              <a:ext cx="68076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69752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600" y="6581880"/>
              <a:ext cx="6811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8"/>
          <p:cNvSpPr/>
          <p:nvPr/>
        </p:nvSpPr>
        <p:spPr>
          <a:xfrm>
            <a:off x="4307040" y="3933720"/>
            <a:ext cx="7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一段写出了榆钱饭的好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"/>
          <p:cNvSpPr/>
          <p:nvPr/>
        </p:nvSpPr>
        <p:spPr>
          <a:xfrm>
            <a:off x="2119320" y="5545080"/>
            <a:ext cx="60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9040912319861dcd08bead61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557400" y="234360"/>
            <a:ext cx="13993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柳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填上恰当的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5680" y="1752480"/>
            <a:ext cx="869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（   ）柳枝        一（  ）柳笛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（   ）玉荚         一（   ）榆树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（   ）树叶         一（   ）赞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堂训练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9080" y="1066680"/>
            <a:ext cx="896472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我会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亮晶晶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自在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仿写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柳树的长发披散开来，自由自在地沐浴在春风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榆树常常把身子探出墙来，向我们招手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柳笛与榆钱给孩子们带来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欢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孩子们的童年生活更快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柳笛，吹柳笛，吃榆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留下美好的回忆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A161-07CF-4A6F-A813-65DED32AAF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478_412477_9c8fa8a4f73b7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766400" y="7621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榆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38080" y="668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初步感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838080" y="1371600"/>
            <a:ext cx="769644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阅读课文并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想课文主要写了什么事？按什么顺序写的？先写什么，后写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想柳笛和榆钱给孩子们的生活带来了哪些欢乐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检测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会认。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ú           mù yù      níng               lü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榆 钱      沐 浴         拧  断      省 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éng          fèng         hùn              b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呈    现      奉  献      混 合    遮  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词语积累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钟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000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默读课文，划出你喜欢的词语，由生字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的词语必须划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沐浴     呈现     奉献      咀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550030022"/>
          <p:cNvPicPr/>
          <p:nvPr/>
        </p:nvPicPr>
        <p:blipFill>
          <a:blip r:embed="rId1"/>
          <a:stretch/>
        </p:blipFill>
        <p:spPr>
          <a:xfrm>
            <a:off x="0" y="0"/>
            <a:ext cx="30369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967920" y="431640"/>
            <a:ext cx="393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柳树的长发披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开来，自由自在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沐浴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在春风里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095000" y="3479760"/>
            <a:ext cx="376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榆树常常把身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探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出墙头，向我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招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25480" y="53020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拟人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Vector_Summer_01_103_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152280" y="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71400" y="824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粗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448800" y="8244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声音浑厚，呜呜的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-92160" y="11430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703440" y="10033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牛吼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1974960" y="1979640"/>
            <a:ext cx="540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细笛 声音尖厉，吱吱的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552320" y="290196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雏鸡叫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200400" y="32767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166640" y="33415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比喻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1219320"/>
            <a:ext cx="8352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隶书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做柳笛带来的欢乐：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找出描写做柳笛动作的词语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从动作中感悟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03:34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9:59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