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E069-6BBA-4E66-AC26-3C93A2E6BF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54D-41F0-4321-A94A-6D0C7BEF05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BC2-26B4-4592-9A90-1EA9A34ED2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9E0-09FA-4BEA-B6F9-4E45C981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563-8DF8-499F-8E10-715498C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377-F233-4F97-91BC-0EA771B8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E45-97F9-4641-8D36-27A16FC1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54B-DC38-4732-8002-269EBB04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4BA-DBE3-49B6-B7B6-5CA4071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6E2-ECBF-4377-878B-155C2E67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097-7942-47B5-8A94-D8996165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684-5FC6-4B4B-AF29-E568F8F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04D-A14E-4F2D-8DB5-FF44AD8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D6A-2661-4006-92BA-95872E0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A59-6F49-4CB0-93BD-5A57098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C16-9003-4E6D-95C4-D1EF5793A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611280" y="2171880"/>
            <a:ext cx="764388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1476360" y="1341360"/>
            <a:ext cx="61880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微软雅黑"/>
              </a:rPr>
              <a:t>楼兰的忧郁</a:t>
            </a:r>
            <a:endParaRPr b="1" lang="en-US" sz="8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45400" y="5877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357200" y="21160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阅读文章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然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1476360" y="3357720"/>
            <a:ext cx="59752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黑体"/>
              </a:rPr>
              <a:t>楼兰今昔对比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4360" y="1270080"/>
            <a:ext cx="7848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下黄河富宁夏”、“黄河两岸，沃野千里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年一场风，从春刮到冬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山多林木，民以板为室屋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万丈厚土，寸草不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132000" y="1844640"/>
            <a:ext cx="55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思考：楼兰的忧郁是什么？怎么造成？我们该如何做才能让这种现状转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小女孩"/>
          <p:cNvPicPr/>
          <p:nvPr/>
        </p:nvPicPr>
        <p:blipFill>
          <a:blip r:embed="rId1"/>
          <a:stretch/>
        </p:blipFill>
        <p:spPr>
          <a:xfrm>
            <a:off x="684360" y="2565360"/>
            <a:ext cx="1966680" cy="3279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487880" y="1711440"/>
            <a:ext cx="36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阅读文章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然段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16000" y="273096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这三十年人们经历了哪些困难？为什么这么坚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1800" y="1268280"/>
            <a:ext cx="727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什么要“领着孩子们常来看看这座人类对命运抗争的丰碑？”这丰碑告诉人们什么？文章结尾的省略号起到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4360" y="386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教育子孙后代要保护环境，保护我们赖以生存的地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以一个省略号结束全文，留给人无尽的思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629080" y="2458440"/>
            <a:ext cx="60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课文说说“楼兰的忧郁”是什么？我们该如何让楼兰不再忧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小女孩"/>
          <p:cNvPicPr/>
          <p:nvPr/>
        </p:nvPicPr>
        <p:blipFill>
          <a:blip r:embed="rId1"/>
          <a:stretch/>
        </p:blipFill>
        <p:spPr>
          <a:xfrm>
            <a:off x="611280" y="2781360"/>
            <a:ext cx="1966680" cy="32796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"/>
          <p:cNvSpPr/>
          <p:nvPr/>
        </p:nvSpPr>
        <p:spPr>
          <a:xfrm>
            <a:off x="2709720" y="4978440"/>
            <a:ext cx="58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041920" y="1556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小组合作，挖掘楼兰忧郁的深层次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141720"/>
            <a:ext cx="73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今日西部是怎样一个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过去西部是怎样一个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楼兰古国为什么消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同样的悲剧还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24224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155736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学了这一课你有什么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假如你生活在当年的楼兰，你会怎么做？假如你是当年的楼兰国王，你又会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楼兰现在的景象让你震撼，现在我们又可以做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670E-957D-4B27-B628-88D5D3DE91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55640" y="191772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解“吞噬”、“湮没”、“踩覆”、“暴戾”、“回眸”、“悲怆”、“晓谕臣民”、“络绎不绝”、“面目全非”、“追古抚今”等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解课文内容，感受自然环境被破坏给人们带来的灾难，唤起人们科学保护自然的自觉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11280" y="981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41440" y="3141720"/>
            <a:ext cx="8424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青海长云暗雪山，孤城遥望玉门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黄沙百战穿金甲，不破楼兰终不还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60720" y="155736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军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075640" y="24156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王昌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872500021340569"/>
          <p:cNvPicPr/>
          <p:nvPr/>
        </p:nvPicPr>
        <p:blipFill>
          <a:blip r:embed="rId1"/>
          <a:stretch/>
        </p:blipFill>
        <p:spPr>
          <a:xfrm>
            <a:off x="1440" y="3240"/>
            <a:ext cx="9180720" cy="681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2124000" y="29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b86c5e81dce556f1c517c1e7e29d91c0"/>
          <p:cNvPicPr/>
          <p:nvPr/>
        </p:nvPicPr>
        <p:blipFill>
          <a:blip r:embed="rId1"/>
          <a:stretch/>
        </p:blipFill>
        <p:spPr>
          <a:xfrm>
            <a:off x="1440" y="-20520"/>
            <a:ext cx="9180720" cy="6878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843280" y="192276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到这些图片，你有什么想说的吗？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小女孩"/>
          <p:cNvPicPr/>
          <p:nvPr/>
        </p:nvPicPr>
        <p:blipFill>
          <a:blip r:embed="rId1"/>
          <a:stretch/>
        </p:blipFill>
        <p:spPr>
          <a:xfrm>
            <a:off x="649440" y="2468520"/>
            <a:ext cx="1966680" cy="3279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38080" y="2781360"/>
            <a:ext cx="7704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吞噬  湮没  踩覆  暴戾  回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悲怆   晓谕臣民  络绎不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面目全非   追古抚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读一读"/>
          <p:cNvPicPr/>
          <p:nvPr/>
        </p:nvPicPr>
        <p:blipFill>
          <a:blip r:embed="rId1"/>
          <a:stretch/>
        </p:blipFill>
        <p:spPr>
          <a:xfrm>
            <a:off x="395280" y="476280"/>
            <a:ext cx="1755720" cy="208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59280" y="246924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默读课文，把课文中你感受深的句子或段落勾画出来，并做简要批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小男孩1"/>
          <p:cNvPicPr/>
          <p:nvPr/>
        </p:nvPicPr>
        <p:blipFill>
          <a:blip r:embed="rId1"/>
          <a:stretch/>
        </p:blipFill>
        <p:spPr>
          <a:xfrm>
            <a:off x="900000" y="2492280"/>
            <a:ext cx="1352520" cy="3016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1270080"/>
            <a:ext cx="763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宁夏，山里的农民世代靠挖甘草维持生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里的人们就是这样一代又一代地挖着，却不知道已经把宁夏的生存环境‘挖’的面目全非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1600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不会科学地利用资源，这是造成楼兰现状的主要原因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2:19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58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