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47EE-2336-454F-9468-FBB4C3C113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ACDE-AE4D-4FC9-A256-332F2CE934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AA7-E891-4BEE-9EA1-DED363E2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461-D7F8-45EE-BC97-8121E548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88F1-F3A4-480A-A70D-B2DCC2BB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80E-E64B-44F0-845A-67DED153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614-E690-48B7-BFA8-C9B2F5F1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913-B887-48B0-9E57-A55516C8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00A9-0148-4023-8E5B-401ABCD8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69E-77B5-4E58-A3B2-58BDC084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50D0-5C36-4F91-A839-78139789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F98-2881-47F0-B010-AC5448C6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9F05-95C8-4C7C-A042-042A265B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91B-46E8-4599-A22F-65240F71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4D45-C89C-48A0-A359-6E74EB81B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476360" y="256536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老师的话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899720" y="5548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3419640" y="189000"/>
            <a:ext cx="46083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谷的泉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点一点清清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的花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滴一滴甜甜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上的星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颗一颗亮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的话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句一句暖暖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457360" y="1268280"/>
            <a:ext cx="459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15520" y="981000"/>
            <a:ext cx="21913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老师的话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2195640" y="1197000"/>
            <a:ext cx="5040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 的泉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 的花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 的星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 的话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916360" y="119700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山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916360" y="213372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春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521000" y="2637000"/>
            <a:ext cx="458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916360" y="299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天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916360" y="3933720"/>
            <a:ext cx="12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983880" y="765000"/>
            <a:ext cx="9115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一读，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"/>
          <p:cNvSpPr/>
          <p:nvPr/>
        </p:nvSpPr>
        <p:spPr>
          <a:xfrm>
            <a:off x="971640" y="6405480"/>
            <a:ext cx="60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2195640" y="177336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  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777B-0A1E-4BBA-9DC4-EB3D1086C5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332000" y="1125360"/>
            <a:ext cx="7200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    师    语    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    甜    星    颗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    句    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044720" y="476280"/>
            <a:ext cx="6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9"/>
          <p:cNvGrpSpPr/>
          <p:nvPr/>
        </p:nvGrpSpPr>
        <p:grpSpPr>
          <a:xfrm>
            <a:off x="1187280" y="765000"/>
            <a:ext cx="6624720" cy="3046680"/>
            <a:chOff x="1187280" y="765000"/>
            <a:chExt cx="6624720" cy="3046680"/>
          </a:xfrm>
        </p:grpSpPr>
        <p:sp>
          <p:nvSpPr>
            <p:cNvPr id="53" name="Text Box 8"/>
            <p:cNvSpPr/>
            <p:nvPr/>
          </p:nvSpPr>
          <p:spPr>
            <a:xfrm>
              <a:off x="1331640" y="76500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GB Pinyinok-C"/>
                  <a:ea typeface="GB Pinyinok-C"/>
                </a:rPr>
                <a:t>lǎ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9"/>
            <p:cNvSpPr/>
            <p:nvPr/>
          </p:nvSpPr>
          <p:spPr>
            <a:xfrm>
              <a:off x="3132000" y="766440"/>
              <a:ext cx="7920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GB Pinyinok-C"/>
                  <a:ea typeface="GB Pinyinok-C"/>
                </a:rPr>
                <a:t>shī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0"/>
            <p:cNvSpPr/>
            <p:nvPr/>
          </p:nvSpPr>
          <p:spPr>
            <a:xfrm>
              <a:off x="5074920" y="76644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GB Pinyinok-C"/>
                  <a:ea typeface="GB Pinyinok-C"/>
                </a:rPr>
                <a:t>yǔ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1"/>
            <p:cNvSpPr/>
            <p:nvPr/>
          </p:nvSpPr>
          <p:spPr>
            <a:xfrm>
              <a:off x="6659280" y="766440"/>
              <a:ext cx="115272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GB Pinyinok-C"/>
                  <a:ea typeface="GB Pinyinok-C"/>
                </a:rPr>
                <a:t>quá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2"/>
            <p:cNvSpPr/>
            <p:nvPr/>
          </p:nvSpPr>
          <p:spPr>
            <a:xfrm>
              <a:off x="1187280" y="184608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GB Pinyinok-C"/>
                  <a:ea typeface="GB Pinyinok-C"/>
                </a:rPr>
                <a:t>qīn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3"/>
            <p:cNvSpPr/>
            <p:nvPr/>
          </p:nvSpPr>
          <p:spPr>
            <a:xfrm>
              <a:off x="3132000" y="184608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GB Pinyinok-C"/>
                  <a:ea typeface="GB Pinyinok-C"/>
                </a:rPr>
                <a:t>tiá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4932360" y="1846080"/>
              <a:ext cx="10080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GB Pinyinok-C"/>
                  <a:ea typeface="GB Pinyinok-C"/>
                </a:rPr>
                <a:t>xīn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5"/>
            <p:cNvSpPr/>
            <p:nvPr/>
          </p:nvSpPr>
          <p:spPr>
            <a:xfrm>
              <a:off x="6875280" y="1846080"/>
              <a:ext cx="86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GB Pinyinok-C"/>
                  <a:ea typeface="GB Pinyinok-C"/>
                </a:rPr>
                <a:t>kē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6"/>
            <p:cNvSpPr/>
            <p:nvPr/>
          </p:nvSpPr>
          <p:spPr>
            <a:xfrm>
              <a:off x="1187280" y="2925360"/>
              <a:ext cx="14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GB Pinyinok-C"/>
                  <a:ea typeface="GB Pinyinok-C"/>
                </a:rPr>
                <a:t>liàn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7"/>
            <p:cNvSpPr/>
            <p:nvPr/>
          </p:nvSpPr>
          <p:spPr>
            <a:xfrm>
              <a:off x="3203280" y="292536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GB Pinyinok-C"/>
                  <a:ea typeface="GB Pinyinok-C"/>
                </a:rPr>
                <a:t>j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8"/>
            <p:cNvSpPr/>
            <p:nvPr/>
          </p:nvSpPr>
          <p:spPr>
            <a:xfrm>
              <a:off x="4859280" y="2925360"/>
              <a:ext cx="129672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GB Pinyinok-C"/>
                  <a:ea typeface="GB Pinyinok-C"/>
                </a:rPr>
                <a:t>nuǎ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1619280" y="2060640"/>
            <a:ext cx="5329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山谷的泉水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点一点清清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692360" y="2276640"/>
            <a:ext cx="5400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春天的花蜜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滴一滴甜甜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763640" y="1989000"/>
            <a:ext cx="5400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天上的星星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颗一颗亮亮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1908000" y="1989000"/>
            <a:ext cx="5400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老师的话语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句一句暖暖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16:27:3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5:04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