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C47A-B1BB-4874-8301-89BC31342B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2DA-33CE-4744-947A-53F1D0E5DD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6E1-D028-4F50-9A20-11287BD9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A3F-74CA-4AE8-9A40-CE34BDC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80E-0565-4F5B-BA72-4308284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28D-0079-475E-B748-191B5AF5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10B-8A58-4FA9-B8CF-C8CD613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0EA-10B9-47E1-930E-CB79E49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E8E-1C8A-4AD9-9025-68D7527C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CD4-13C5-47BB-961B-6278FEED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AE3-83DA-4791-882C-2B6C53E9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911-036F-493A-977B-9B46868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7DC-54FB-41A7-801F-E72B5E7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395-015B-4B10-8139-0FD2F3C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053-478D-4C72-8E36-993014C25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652560" y="1523880"/>
            <a:ext cx="42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袖清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7092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白”是指什么？还有别的意思吗？诗人借石灰表达了自己什么样的追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白：指石灰洁白的本色，又比喻高尚的节操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借石灰表达了不怕牺牲的精神以及永留高尚品格在人间的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1675800"/>
            <a:ext cx="773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曾经在河南、山西做官。当时，地方官员每年要轮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lú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流到京城接受考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kǎo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查。一些贪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t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官为了保住自己的“乌纱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sh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帽”，就用从老百姓那里搜刮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ɡu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来的钱财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á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向京城的上司行贿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u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3657600" y="4114800"/>
            <a:ext cx="3886200" cy="1523880"/>
          </a:xfrm>
          <a:prstGeom prst="cloudCallout">
            <a:avLst>
              <a:gd name="adj1" fmla="val -57842"/>
              <a:gd name="adj2" fmla="val 93958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进京前，于谦和贪官所作的准备有什么不同？（小组讨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7391520" y="28954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7620120" y="33526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477120" y="243828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838080" y="2895480"/>
            <a:ext cx="2895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657600" y="243828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754280" y="107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贪官进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314440" y="22813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搜刮、行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14440" y="35164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讨好、巴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754280" y="47354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为保乌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1675800"/>
            <a:ext cx="773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曾经在河南、山西做官。当时，地方官员每年要轮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lú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流到京城接受考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kǎo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查。一些贪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t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官为了保住自己的“乌纱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sh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帽”，就用从老百姓那里搜刮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ɡu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来的钱财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á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向京城的上司行贿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u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1295280" y="2895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38280" y="3962520"/>
            <a:ext cx="4343400" cy="761760"/>
          </a:xfrm>
          <a:prstGeom prst="wedgeRectCallout">
            <a:avLst>
              <a:gd name="adj1" fmla="val -46782"/>
              <a:gd name="adj2" fmla="val -112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乌纱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古代官吏戴的一种帽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喻官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983d6393cdd03ff3b87ce5e"/>
          <p:cNvPicPr/>
          <p:nvPr/>
        </p:nvPicPr>
        <p:blipFill>
          <a:blip r:embed="rId1"/>
          <a:stretch/>
        </p:blipFill>
        <p:spPr>
          <a:xfrm>
            <a:off x="2038320" y="1143000"/>
            <a:ext cx="5067360" cy="3755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005360" y="548640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明代乌纱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3352320"/>
            <a:ext cx="773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轮到于谦进京了，他把自己管区内百姓的疾苦、要求写下来，并附上自己的治理方案，便准备动身。手下人拦住他说：“大人，您什么东西都不带，怎么行呢？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装作不懂，说：“我应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yīn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该带的都带齐了，还带什么呀？”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066680" y="533520"/>
            <a:ext cx="4038840" cy="2057400"/>
          </a:xfrm>
          <a:prstGeom prst="cloudCallout">
            <a:avLst>
              <a:gd name="adj1" fmla="val -59199"/>
              <a:gd name="adj2" fmla="val 54782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不肯带东西去行贿，他的手下是怎么说的？于谦又是怎样说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14400" y="4800600"/>
            <a:ext cx="4800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019920" y="5638680"/>
            <a:ext cx="2286000" cy="838440"/>
          </a:xfrm>
          <a:prstGeom prst="wedgeRoundRectCallout">
            <a:avLst>
              <a:gd name="adj1" fmla="val -50416"/>
              <a:gd name="adj2" fmla="val -141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这一句话是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77840" y="5335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这两句话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560680" y="181296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人，您什么东西都不带，是不行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560680" y="373392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人，您什么东西都不带，怎么行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95360" y="3580920"/>
            <a:ext cx="773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手下人说：“您进京不送礼，什么事情也办不成啊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说：“你看，我一年只有这些俸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fèn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禄，家里还有父母妻儿，哪里有金银去巴结上司啊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没有金银，可以带些地方特产啊！”手下人着急地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3505320" y="342900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685800" y="38862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1447920" y="5715000"/>
            <a:ext cx="5486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704880" y="1431720"/>
            <a:ext cx="773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地方特产？那都是老百姓的血汗，我怎么能拿它去讨好上司？”于谦提起两只袍袖，对手下人说，“你看，这就是我要带的东西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手下人弓着身子仔细看了看，不解地问：“您带的是什么？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两袖清风！”于谦说完，哈哈大笑起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581280" y="1447920"/>
            <a:ext cx="4572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838080" y="190512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752480" y="3809880"/>
            <a:ext cx="1447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754280" y="107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贪官进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314440" y="22813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搜刮、行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14440" y="35164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讨好、巴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830600" y="473544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为保乌纱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73640" y="107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于谦进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173640" y="2281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百姓疾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73640" y="3516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治理方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3640" y="47354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两袖清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abff"/>
            </a:gs>
            <a:gs pos="50000">
              <a:srgbClr val="ebe1ff"/>
            </a:gs>
            <a:gs pos="100000">
              <a:srgbClr val="c7a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52280" y="1100880"/>
            <a:ext cx="89917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千锤万凿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záo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出深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烈火焚烧若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děn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粉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ɡ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碎身全不怕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要留清白在人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作者：于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经过千万次锤打出深山，熊熊烈火焚烧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视平常事一样。即使粉身碎骨又何所畏惧，只为把一片青白（就像石头的颜色那样青白分明，现在多用“清白”）长留人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914400" y="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石灰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133720" y="1676520"/>
            <a:ext cx="5105160" cy="2819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通过这件事可以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映于谦有哪些优秀品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398600" y="22096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为官清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309840" y="220968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乌纱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10360" y="22096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行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139160" y="22096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贪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398600" y="38862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粉身碎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246480" y="38862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钱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310360" y="38862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应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092000" y="388620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俸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963960" y="1951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3011-F440-4358-83E9-3CC6CFCE04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4Ab051910-2Kc"/>
          <p:cNvPicPr/>
          <p:nvPr/>
        </p:nvPicPr>
        <p:blipFill>
          <a:blip r:embed="rId1"/>
          <a:stretch/>
        </p:blipFill>
        <p:spPr>
          <a:xfrm>
            <a:off x="2603520" y="457200"/>
            <a:ext cx="393552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176720" y="6095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于谦塑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933480" y="190440"/>
            <a:ext cx="62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1143000" y="4114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380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373"/>
          <p:cNvPicPr/>
          <p:nvPr/>
        </p:nvPicPr>
        <p:blipFill>
          <a:blip r:embed="rId1"/>
          <a:stretch/>
        </p:blipFill>
        <p:spPr>
          <a:xfrm>
            <a:off x="457200" y="1600200"/>
            <a:ext cx="302904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733920" y="3206160"/>
            <a:ext cx="48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(1398—1457)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，明代著名军事家、政治家，著名的民族英雄，浙江钱塘人。他自小有远大的志向。小时候，他的祖父收藏了一幅文天祥的画像。于谦十分钦佩文天祥，把那幅画像挂在书桌边，而且提上词，表示一定要向文天祥学习。长大以后，他考中进士，做了几任地方官，严格执法，廉洁奉公；后来担任河南巡抚，奖励生产，救济灾荒，关心人民疾苦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袖：古代的袖袍特别宽大，里面有口袋可以用来装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"/>
          <p:cNvPicPr/>
          <p:nvPr/>
        </p:nvPicPr>
        <p:blipFill>
          <a:blip r:embed="rId1"/>
          <a:stretch/>
        </p:blipFill>
        <p:spPr>
          <a:xfrm>
            <a:off x="3429000" y="2666880"/>
            <a:ext cx="4648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876240" y="2254680"/>
            <a:ext cx="73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qi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是我国明代一位杰出的诗人。他一生为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官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ɡu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清廉，受到百姓的爱戴。这首题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石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灰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uī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诗，就是他人品的自我写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二）初读课文，自学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组合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  骨  谦   官  灰   轮  考   贪   纱   刮   财  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清字形，如何记住字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字典理解“清廉   行贿  搜刮   不解”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三）学习第一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找出与古诗有直接联系的句段，画出相关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76240" y="2513880"/>
            <a:ext cx="735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qi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是我国明代一位杰出的诗人。他一生为官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ɡuā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清廉，受到百姓的爱戴。这首题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石灰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uī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诗，就是他人品的自我写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838080" y="304920"/>
            <a:ext cx="2971800" cy="1218960"/>
          </a:xfrm>
          <a:prstGeom prst="cloudCallout">
            <a:avLst>
              <a:gd name="adj1" fmla="val -59990"/>
              <a:gd name="adj2" fmla="val 9205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谦是一个什么样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514600" y="2819520"/>
            <a:ext cx="5257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990720" y="32767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33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49Z</dcterms:modified>
  <cp:revision>1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