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media/chimes.wav" ContentType="audio/x-wav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01C-0E97-4F7D-8F7A-A5349F8C28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514-6E0C-4CC1-B32E-C8C022E46B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D9D-695D-4341-9EE3-03952617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51B-57E6-47DF-8A7F-84F3BD2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396-9605-4FF3-8F95-E897DE5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161-7A15-4E0F-8524-583BB387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779-BA5E-430C-AA27-27B088B7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0E0-79BD-40E3-92D5-9808D88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9FE-4505-474D-B526-FC89D91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087-7C89-4413-9D6A-1105F11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E81-C4B9-4269-92CC-B43D5910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896-CEC8-4CE6-99F9-621EA21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2D3-E0B4-4EB6-9639-2D161EC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C2A-A87E-4433-8A16-4727E32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B60-6DFE-426B-A4B7-F4492CA9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/>
          <p:cNvSpPr/>
          <p:nvPr/>
        </p:nvSpPr>
        <p:spPr>
          <a:xfrm>
            <a:off x="8172360" y="44280"/>
            <a:ext cx="86364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5508720" y="189000"/>
            <a:ext cx="360360" cy="21420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6516720" y="549360"/>
            <a:ext cx="216000" cy="3585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 rot="4258800">
            <a:off x="7643160" y="788760"/>
            <a:ext cx="432000" cy="384120"/>
          </a:xfrm>
          <a:custGeom>
            <a:avLst/>
            <a:gdLst>
              <a:gd name="textAreaLeft" fmla="*/ 177840 w 432000"/>
              <a:gd name="textAreaRight" fmla="*/ 254160 w 432000"/>
              <a:gd name="textAreaTop" fmla="*/ 158400 h 384120"/>
              <a:gd name="textAreaBottom" fmla="*/ 225720 h 38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rot="20715000">
            <a:off x="8639280" y="1412640"/>
            <a:ext cx="504720" cy="4334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524720" y="115920"/>
            <a:ext cx="360360" cy="21420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2050920" y="1657440"/>
            <a:ext cx="515484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捞月亮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c00000"/>
              </a:solidFill>
              <a:latin typeface="宋体"/>
              <a:ea typeface="宋体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1832400" y="5732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2DC-EA23-4B6E-8D44-6C45637456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77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81000" y="5118120"/>
            <a:ext cx="90280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只小猴子在井边玩。他往井里一看，里面有个月亮。小猴子叫起来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啦，糟啦！月亮掉在井里啦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捞月亮1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02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610640" y="4595760"/>
            <a:ext cx="5776560" cy="2288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猴子听见了，跑过来一看，也跟着叫起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糟啦，糟啦！月亮掉进井里啦！”老猴子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了，也跟着叫起来：“糟啦，糟啦！月亮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井里啦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捞月亮2"/>
          <p:cNvPicPr/>
          <p:nvPr/>
        </p:nvPicPr>
        <p:blipFill>
          <a:blip r:embed="rId1"/>
          <a:stretch/>
        </p:blipFill>
        <p:spPr>
          <a:xfrm>
            <a:off x="0" y="0"/>
            <a:ext cx="536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435640" y="1628640"/>
            <a:ext cx="3672000" cy="3385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猴子一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，看见月亮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天上。他喘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，说：“不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捞啦，不用捞啦，月亮好好儿地挂在天上呢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5"/>
          <p:cNvSpPr/>
          <p:nvPr/>
        </p:nvSpPr>
        <p:spPr>
          <a:xfrm>
            <a:off x="1258920" y="22795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2" descr="015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39640" y="907920"/>
            <a:ext cx="25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22860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79280" y="126828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读句子，用带点的词练习说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7928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小猴子叫起来，老猴子也跟着叫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5435640" y="350208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181080" y="4435560"/>
            <a:ext cx="92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母鸡在草地上捉虫，小鸡也跟着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5364000" y="508644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216000" y="56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3._______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______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也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6"/>
          <p:cNvSpPr/>
          <p:nvPr/>
        </p:nvSpPr>
        <p:spPr>
          <a:xfrm>
            <a:off x="4570560" y="6310440"/>
            <a:ext cx="7272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6588000" y="4219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捉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c5ff"/>
            </a:gs>
            <a:gs pos="100000">
              <a:srgbClr val="eee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捞月亮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6048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4103640" y="549360"/>
            <a:ext cx="5005080" cy="2231640"/>
            <a:chOff x="4103640" y="549360"/>
            <a:chExt cx="5005080" cy="2231640"/>
          </a:xfrm>
        </p:grpSpPr>
        <p:sp>
          <p:nvSpPr>
            <p:cNvPr id="76" name="Oval 8"/>
            <p:cNvSpPr/>
            <p:nvPr/>
          </p:nvSpPr>
          <p:spPr>
            <a:xfrm>
              <a:off x="4103640" y="549360"/>
              <a:ext cx="4873320" cy="22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4302360" y="856440"/>
              <a:ext cx="480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找出猴子们捞月亮时动作的词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Picture 11" descr="weed草"/>
          <p:cNvPicPr/>
          <p:nvPr/>
        </p:nvPicPr>
        <p:blipFill>
          <a:blip r:embed="rId2"/>
          <a:stretch/>
        </p:blipFill>
        <p:spPr>
          <a:xfrm>
            <a:off x="6372360" y="6165720"/>
            <a:ext cx="57600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花"/>
          <p:cNvPicPr/>
          <p:nvPr/>
        </p:nvPicPr>
        <p:blipFill>
          <a:blip r:embed="rId3"/>
          <a:stretch/>
        </p:blipFill>
        <p:spPr>
          <a:xfrm>
            <a:off x="5292720" y="6494400"/>
            <a:ext cx="863640" cy="3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weed草"/>
          <p:cNvPicPr/>
          <p:nvPr/>
        </p:nvPicPr>
        <p:blipFill>
          <a:blip r:embed="rId4"/>
          <a:stretch/>
        </p:blipFill>
        <p:spPr>
          <a:xfrm rot="20345400">
            <a:off x="8675640" y="6165360"/>
            <a:ext cx="57636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花"/>
          <p:cNvPicPr/>
          <p:nvPr/>
        </p:nvPicPr>
        <p:blipFill>
          <a:blip r:embed="rId5"/>
          <a:stretch/>
        </p:blipFill>
        <p:spPr>
          <a:xfrm>
            <a:off x="5867280" y="4692600"/>
            <a:ext cx="433440" cy="23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花"/>
          <p:cNvPicPr/>
          <p:nvPr/>
        </p:nvPicPr>
        <p:blipFill>
          <a:blip r:embed="rId6"/>
          <a:stretch/>
        </p:blipFill>
        <p:spPr>
          <a:xfrm>
            <a:off x="7596360" y="6453360"/>
            <a:ext cx="360360" cy="40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捞月亮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"/>
          <p:cNvGrpSpPr/>
          <p:nvPr/>
        </p:nvGrpSpPr>
        <p:grpSpPr>
          <a:xfrm>
            <a:off x="34920" y="-27000"/>
            <a:ext cx="9108720" cy="720720"/>
            <a:chOff x="34920" y="-27000"/>
            <a:chExt cx="9108720" cy="720720"/>
          </a:xfrm>
        </p:grpSpPr>
        <p:sp>
          <p:nvSpPr>
            <p:cNvPr id="85" name="Rectangle 4"/>
            <p:cNvSpPr/>
            <p:nvPr/>
          </p:nvSpPr>
          <p:spPr>
            <a:xfrm>
              <a:off x="34920" y="18360"/>
              <a:ext cx="9108720" cy="67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5"/>
            <p:cNvSpPr/>
            <p:nvPr/>
          </p:nvSpPr>
          <p:spPr>
            <a:xfrm>
              <a:off x="124560" y="-27000"/>
              <a:ext cx="8929800" cy="642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猴子刚伸手捞月亮时，月亮怎么不见啦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未命名4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3" descr=""/>
          <p:cNvPicPr/>
          <p:nvPr/>
        </p:nvPicPr>
        <p:blipFill>
          <a:blip r:embed="rId2"/>
          <a:stretch/>
        </p:blipFill>
        <p:spPr>
          <a:xfrm>
            <a:off x="1327320" y="328680"/>
            <a:ext cx="7200720" cy="514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82692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聪明吗？想想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2363760"/>
            <a:ext cx="82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听到老猴子说月亮还好好地挂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天上时，下面那些倒挂着的猴子有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么反映？他们会说什么？怎么做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992160" y="511020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6:45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1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