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B415-2D80-4D9A-BEAC-714B63DBC5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0C3C-7743-4578-934A-6C77480C19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4507-D743-49C1-A222-16F17E94AD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BEA-A0EB-4109-87DA-CE123A3A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668-BB15-4AD6-AD65-1285E71B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A580-2F30-456A-B73E-43F23EF3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879-30BA-4402-A611-AC419627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F1E-B87E-4606-85F0-B61AB668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62A-6479-4DB4-A961-F4B3837D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6B4-D2FF-490B-9365-6596AEA7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D4E-78ED-499E-BFE1-EA831078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4AD-BC06-400E-9807-8A6E878C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4E3-A79A-4F8C-8263-571A2432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BA7-BDB6-4735-AB88-E002B93D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5C7-F333-430D-8AAF-4CE37A0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F5CC-8823-413D-BB4E-D4F855B36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773000"/>
            <a:ext cx="822960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华文隶书"/>
                <a:ea typeface="华文隶书"/>
              </a:rPr>
              <a:t>美的回答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750680" y="58309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0f75622ae2c3516fe3465407e4a7171e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72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的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植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种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爱护燕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保护青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热爱大自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自然就给我们美的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间田野长满绿树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城市乡村开遍鲜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燕子为我们跳起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青蛙说我们顶呱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美的回答-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993600" y="1890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扫除生字障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24000" y="234936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    植    种    护    保     蛙     然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    野    城    市    乡     顶     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50920" y="1628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á     zhí zhòng  hù    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 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92760" y="3514680"/>
            <a:ext cx="74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iù     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héng shì  x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g  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g  g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bac368e93676cdf5bad5f37dfaff3f7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答   植树    种花    保护    青蛙    大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   田野   城市    乡村       顶呱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82dc8c0cd0df5c764ddb4d7e95e55ba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451480" y="0"/>
            <a:ext cx="36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读课文想一想：我们为大自然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3355d86e634bf9f0a372d0cb2ac530b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187280" y="836640"/>
            <a:ext cx="22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植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556000" y="134136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种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427640" y="226692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爱护燕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408560" y="303696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保护青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755640" y="4653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热爱大自然，大自然就给我们美的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图片0016"/>
          <p:cNvPicPr/>
          <p:nvPr/>
        </p:nvPicPr>
        <p:blipFill>
          <a:blip r:embed="rId2"/>
          <a:stretch/>
        </p:blipFill>
        <p:spPr>
          <a:xfrm>
            <a:off x="4680" y="-14400"/>
            <a:ext cx="9139320" cy="6872400"/>
          </a:xfrm>
          <a:prstGeom prst="rect">
            <a:avLst/>
          </a:prstGeom>
          <a:ln w="0">
            <a:noFill/>
          </a:ln>
        </p:spPr>
      </p:pic>
      <p:sp>
        <p:nvSpPr>
          <p:cNvPr id="95" name="WordArt 4"/>
          <p:cNvSpPr txBox="1"/>
          <p:nvPr/>
        </p:nvSpPr>
        <p:spPr>
          <a:xfrm>
            <a:off x="826920" y="836640"/>
            <a:ext cx="2664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想一想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816200" y="190332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大自然美的回答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258920" y="285264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54764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564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492360" y="2924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间田野长满绿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1403280" y="3597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3419640" y="3573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城市乡村开遍鲜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187280" y="4221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护燕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348000" y="4292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燕子为我们跳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1258920" y="4941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护青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3203640" y="4941720"/>
            <a:ext cx="38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青蛙说我们顶呱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开动脑筋想一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们还能为大自然做那些事情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怎样做才能使大自然给我们美的回答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a8c7618964f26a365d1e6e9796949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我们爱护小草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自然给我们的美的回答是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赋予我们一片绿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我们爱护动物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大自然给我们美的回答是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动物成为我们亲密的朋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爱护植物，大自然给我们的回答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403280" y="47242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535120" y="496584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爱护花园，大自然给我们的回答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1332000" y="587700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0bac368e93676cdf5bad5f37dfaff3f7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7044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仿写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12682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植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种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爱护燕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保护青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热爱大自然，大自然就给我们美的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278720" y="2637000"/>
            <a:ext cx="566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（    ），我们（    ），我们（            ），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热爱大自然，大自然就给我们美的回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900000" y="2637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2572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施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684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捉蝴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644040" y="306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逮青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d64b7b34909e52179772c70ab2e6f663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7"/>
          <p:cNvSpPr txBox="1"/>
          <p:nvPr/>
        </p:nvSpPr>
        <p:spPr>
          <a:xfrm>
            <a:off x="876240" y="981000"/>
            <a:ext cx="7391520" cy="32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跟老师一起学汉字</a:t>
            </a:r>
            <a:endParaRPr b="1" lang="en-US" sz="72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树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5148360" y="189000"/>
            <a:ext cx="3390840" cy="12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森林之美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1844280"/>
            <a:ext cx="417672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美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1187280" y="1557360"/>
            <a:ext cx="4753080" cy="4754520"/>
            <a:chOff x="1187280" y="1557360"/>
            <a:chExt cx="4753080" cy="4754520"/>
          </a:xfrm>
        </p:grpSpPr>
        <p:sp>
          <p:nvSpPr>
            <p:cNvPr id="130" name="Rectangle 4"/>
            <p:cNvSpPr/>
            <p:nvPr/>
          </p:nvSpPr>
          <p:spPr>
            <a:xfrm>
              <a:off x="1187280" y="1557360"/>
              <a:ext cx="475308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1187280" y="3931920"/>
              <a:ext cx="4753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3564000" y="155736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矩形 8"/>
          <p:cNvSpPr/>
          <p:nvPr/>
        </p:nvSpPr>
        <p:spPr>
          <a:xfrm>
            <a:off x="2195640" y="0"/>
            <a:ext cx="24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8800" spc="-1" strike="noStrike">
                <a:solidFill>
                  <a:srgbClr val="000000"/>
                </a:solidFill>
                <a:latin typeface="宋体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6732720" y="2924280"/>
            <a:ext cx="24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美好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美丽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1844280"/>
            <a:ext cx="417672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种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1187280" y="1557360"/>
            <a:ext cx="4753080" cy="4754520"/>
            <a:chOff x="1187280" y="1557360"/>
            <a:chExt cx="4753080" cy="4754520"/>
          </a:xfrm>
        </p:grpSpPr>
        <p:sp>
          <p:nvSpPr>
            <p:cNvPr id="137" name="Rectangle 4"/>
            <p:cNvSpPr/>
            <p:nvPr/>
          </p:nvSpPr>
          <p:spPr>
            <a:xfrm>
              <a:off x="1187280" y="1557360"/>
              <a:ext cx="475308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187280" y="3931920"/>
              <a:ext cx="4753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>
              <a:off x="3564000" y="155736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8"/>
          <p:cNvSpPr/>
          <p:nvPr/>
        </p:nvSpPr>
        <p:spPr>
          <a:xfrm>
            <a:off x="2195640" y="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1" lang="en-US" sz="8800" spc="-1" strike="noStrike">
                <a:solidFill>
                  <a:srgbClr val="000000"/>
                </a:solidFill>
                <a:latin typeface="宋体"/>
              </a:rPr>
              <a:t>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6732720" y="2924280"/>
            <a:ext cx="24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种树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种子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1844280"/>
            <a:ext cx="417672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爱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187280" y="1557360"/>
            <a:ext cx="4753080" cy="4754520"/>
            <a:chOff x="1187280" y="1557360"/>
            <a:chExt cx="4753080" cy="4754520"/>
          </a:xfrm>
        </p:grpSpPr>
        <p:sp>
          <p:nvSpPr>
            <p:cNvPr id="144" name="Rectangle 4"/>
            <p:cNvSpPr/>
            <p:nvPr/>
          </p:nvSpPr>
          <p:spPr>
            <a:xfrm>
              <a:off x="1187280" y="1557360"/>
              <a:ext cx="475308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1187280" y="3931920"/>
              <a:ext cx="4753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3564000" y="155736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矩形 8"/>
          <p:cNvSpPr/>
          <p:nvPr/>
        </p:nvSpPr>
        <p:spPr>
          <a:xfrm>
            <a:off x="2195640" y="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8800" spc="-1" strike="noStrike">
                <a:solidFill>
                  <a:srgbClr val="000000"/>
                </a:solidFill>
                <a:latin typeface="宋体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"/>
          <p:cNvSpPr/>
          <p:nvPr/>
        </p:nvSpPr>
        <p:spPr>
          <a:xfrm>
            <a:off x="6732720" y="2924280"/>
            <a:ext cx="24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爱护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喜爱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1844280"/>
            <a:ext cx="417672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1187280" y="1557360"/>
            <a:ext cx="4753080" cy="4754520"/>
            <a:chOff x="1187280" y="1557360"/>
            <a:chExt cx="4753080" cy="4754520"/>
          </a:xfrm>
        </p:grpSpPr>
        <p:sp>
          <p:nvSpPr>
            <p:cNvPr id="151" name="Rectangle 4"/>
            <p:cNvSpPr/>
            <p:nvPr/>
          </p:nvSpPr>
          <p:spPr>
            <a:xfrm>
              <a:off x="1187280" y="1557360"/>
              <a:ext cx="475308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>
              <a:off x="1187280" y="3931920"/>
              <a:ext cx="4753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>
              <a:off x="3564000" y="155736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矩形 8"/>
          <p:cNvSpPr/>
          <p:nvPr/>
        </p:nvSpPr>
        <p:spPr>
          <a:xfrm>
            <a:off x="2195640" y="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6732720" y="2924280"/>
            <a:ext cx="24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长大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生长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19280" y="1844280"/>
            <a:ext cx="417672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市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1187280" y="1557360"/>
            <a:ext cx="4753080" cy="4754520"/>
            <a:chOff x="1187280" y="1557360"/>
            <a:chExt cx="4753080" cy="4754520"/>
          </a:xfrm>
        </p:grpSpPr>
        <p:sp>
          <p:nvSpPr>
            <p:cNvPr id="158" name="Rectangle 4"/>
            <p:cNvSpPr/>
            <p:nvPr/>
          </p:nvSpPr>
          <p:spPr>
            <a:xfrm>
              <a:off x="1187280" y="1557360"/>
              <a:ext cx="475308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>
              <a:off x="1187280" y="3931920"/>
              <a:ext cx="4753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6"/>
            <p:cNvSpPr/>
            <p:nvPr/>
          </p:nvSpPr>
          <p:spPr>
            <a:xfrm>
              <a:off x="3564000" y="155736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8"/>
          <p:cNvSpPr/>
          <p:nvPr/>
        </p:nvSpPr>
        <p:spPr>
          <a:xfrm>
            <a:off x="2195640" y="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h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6732720" y="2924280"/>
            <a:ext cx="24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城市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市长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19280" y="1844280"/>
            <a:ext cx="417672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乡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1187280" y="1557360"/>
            <a:ext cx="4753080" cy="4754520"/>
            <a:chOff x="1187280" y="1557360"/>
            <a:chExt cx="4753080" cy="4754520"/>
          </a:xfrm>
        </p:grpSpPr>
        <p:sp>
          <p:nvSpPr>
            <p:cNvPr id="165" name="Rectangle 4"/>
            <p:cNvSpPr/>
            <p:nvPr/>
          </p:nvSpPr>
          <p:spPr>
            <a:xfrm>
              <a:off x="1187280" y="1557360"/>
              <a:ext cx="475308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>
              <a:off x="1187280" y="3931920"/>
              <a:ext cx="4753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3564000" y="155736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8"/>
          <p:cNvSpPr/>
          <p:nvPr/>
        </p:nvSpPr>
        <p:spPr>
          <a:xfrm>
            <a:off x="2195640" y="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6732720" y="2924280"/>
            <a:ext cx="24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家乡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乡村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"/>
          <p:cNvSpPr/>
          <p:nvPr/>
        </p:nvSpPr>
        <p:spPr>
          <a:xfrm>
            <a:off x="41400" y="6492960"/>
            <a:ext cx="70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4f8a8cd0437b142951f555a99db1e6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65200" y="2197080"/>
            <a:ext cx="441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谢谢观赏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朋友们再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8350-6E0B-4AAF-91C4-4DAA3C51C9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图片0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图片0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5219640" y="260280"/>
            <a:ext cx="369576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花海之美</a:t>
            </a:r>
            <a:endParaRPr b="1" lang="en-US" sz="7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图片004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花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燕子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8"/>
          <p:cNvSpPr txBox="1"/>
          <p:nvPr/>
        </p:nvSpPr>
        <p:spPr>
          <a:xfrm>
            <a:off x="4716360" y="333360"/>
            <a:ext cx="417204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美丽的小燕子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图片00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青蛙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7"/>
          <p:cNvSpPr txBox="1"/>
          <p:nvPr/>
        </p:nvSpPr>
        <p:spPr>
          <a:xfrm>
            <a:off x="539640" y="692280"/>
            <a:ext cx="462924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人类的好朋友—青蛙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3:40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4:4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