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0606-F1F8-4D15-8CAE-93150143890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B85C-C4BD-44BE-B492-9DE5D9BF2308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CBE-4892-4714-8647-D8E1447B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9D4-4F8A-45FE-9390-C42BE0A5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D81-A4DF-4F21-A204-5F658587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3FC-CA75-46F7-AFBB-28700EA7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B576-9B77-42E3-BAB5-CC6F3CFB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E67E-E12F-409C-9670-64F9710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4F92-BDB3-4F69-96D6-65087683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4BA2-E19D-4BD4-88DF-68A84396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FE2E-7245-42C2-9F35-A7D29263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B3AF-773B-4385-8A55-394372E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B072-1FC7-467F-9C9B-A35B16E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E81-A57B-4440-98E0-287815BB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4365-6199-4C0C-A11B-1B684908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6EAA-12A1-44C2-8F81-3C972E7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58B5-1243-40C6-B36F-5936002F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F18D-8E14-41F6-95E6-5DE668D4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57D0-5150-4286-9C7A-EE915875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40B-A39D-4411-9AF5-19EBD551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7B7-B4D6-4204-BD79-BE6DCDB5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7C5-4E0C-4C06-BA56-40E099AB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02B-48BE-4CC6-A3C5-DDCDD230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2B2-8A12-4BBC-A2F7-2376603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C16-C21C-4392-8A99-E27A7445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560-8691-47BB-AEE7-BD6789C4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8C31-3042-4618-8F1C-43532F224D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A2E0-7709-4EFF-81FE-58C960A0CB4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00852723294728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2535120" y="2852640"/>
            <a:ext cx="381024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母鸡</a:t>
            </a:r>
            <a:endParaRPr b="1" lang="en-US" sz="6000" spc="-1" strike="noStrike">
              <a:ln w="0">
                <a:noFill/>
              </a:ln>
              <a:solidFill>
                <a:srgbClr val="c0000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1" name="矩形 8" descr=""/>
          <p:cNvPicPr/>
          <p:nvPr/>
        </p:nvPicPr>
        <p:blipFill>
          <a:blip r:embed="rId2"/>
          <a:stretch/>
        </p:blipFill>
        <p:spPr>
          <a:xfrm>
            <a:off x="1859040" y="5732640"/>
            <a:ext cx="550044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10526118573885"/>
          <p:cNvPicPr/>
          <p:nvPr/>
        </p:nvPicPr>
        <p:blipFill>
          <a:blip r:embed="rId1"/>
          <a:stretch/>
        </p:blipFill>
        <p:spPr>
          <a:xfrm>
            <a:off x="0" y="0"/>
            <a:ext cx="10044000" cy="8082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母鸡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34136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一向讨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病呻吟    欺软怕硬   拼命炫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不敢再讨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负责     慈爱    勇敢    辛苦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733920" y="1125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宋体"/>
              </a:rPr>
              <a:t>先抑后扬的写作手法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11280" y="1052640"/>
            <a:ext cx="806436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男女同学分段朗读第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至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自然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讨论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作者分别通过哪些具体事例写母鸡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1" action="ppaction://hlinksldjump"/>
              </a:rPr>
              <a:t>负责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2" action="ppaction://hlinksldjump"/>
              </a:rPr>
              <a:t>慈爱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3" action="ppaction://hlinksldjump"/>
              </a:rPr>
              <a:t>勇敢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4" action="ppaction://hlinksldjump"/>
              </a:rPr>
              <a:t>辛苦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75564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只鸟儿飞过，或是什么东西响了一声，它立刻警戒起来，歪着头儿听；挺着声儿预备作战；看看前，看看后，咕咕地警告鸡雏要马上集合到它身边来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8360" y="371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负 责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">
            <a:hlinkClick r:id="" action="ppaction://hlinkshowjump?jump=nextslide"/>
          </p:cNvPr>
          <p:cNvSpPr/>
          <p:nvPr/>
        </p:nvSpPr>
        <p:spPr>
          <a:xfrm>
            <a:off x="7451640" y="580536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母鸡"/>
          <p:cNvPicPr/>
          <p:nvPr/>
        </p:nvPicPr>
        <p:blipFill>
          <a:blip r:embed="rId1"/>
          <a:stretch/>
        </p:blipFill>
        <p:spPr>
          <a:xfrm>
            <a:off x="1258920" y="1052640"/>
            <a:ext cx="6850080" cy="44449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>
            <a:hlinkClick r:id="rId2" action="ppaction://hlinksldjump"/>
          </p:cNvPr>
          <p:cNvSpPr/>
          <p:nvPr/>
        </p:nvSpPr>
        <p:spPr>
          <a:xfrm>
            <a:off x="766764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95280" y="765000"/>
            <a:ext cx="81374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它发现了一点可吃的东西，就咕咕地紧叫，啄一啄那个东西，马上便放下，叫它的儿女吃。结果，每一只鸡雏的肚子都圆圆地下垂，像刚装了一两个汤圆儿似的，它自己却消瘦了许多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0" y="4221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慈 爱 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7308720" y="6093000"/>
            <a:ext cx="1150920" cy="5047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9235" h="21600">
                <a:moveTo>
                  <a:pt x="0" y="0"/>
                </a:moveTo>
                <a:lnTo>
                  <a:pt x="49235" y="0"/>
                </a:lnTo>
                <a:lnTo>
                  <a:pt x="49235" y="21600"/>
                </a:lnTo>
                <a:lnTo>
                  <a:pt x="0" y="21600"/>
                </a:lnTo>
                <a:close/>
              </a:path>
              <a:path fill="lightenLess" w="49235" h="21600">
                <a:moveTo>
                  <a:pt x="0" y="0"/>
                </a:moveTo>
                <a:lnTo>
                  <a:pt x="49235" y="0"/>
                </a:lnTo>
                <a:lnTo>
                  <a:pt x="47835" y="1400"/>
                </a:lnTo>
                <a:lnTo>
                  <a:pt x="1400" y="1400"/>
                </a:lnTo>
                <a:close/>
              </a:path>
              <a:path fill="darken" w="49235" h="21600">
                <a:moveTo>
                  <a:pt x="49235" y="0"/>
                </a:moveTo>
                <a:lnTo>
                  <a:pt x="49235" y="21600"/>
                </a:lnTo>
                <a:lnTo>
                  <a:pt x="47835" y="20200"/>
                </a:lnTo>
                <a:lnTo>
                  <a:pt x="47835" y="1400"/>
                </a:lnTo>
                <a:close/>
              </a:path>
              <a:path fill="darkenLess" w="49235" h="21600">
                <a:moveTo>
                  <a:pt x="49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5" y="20200"/>
                </a:lnTo>
                <a:close/>
              </a:path>
              <a:path fill="lighten" w="49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35" h="21600">
                <a:moveTo>
                  <a:pt x="17611" y="3794"/>
                </a:moveTo>
                <a:lnTo>
                  <a:pt x="31624" y="10800"/>
                </a:lnTo>
                <a:lnTo>
                  <a:pt x="17611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图片5"/>
          <p:cNvPicPr/>
          <p:nvPr/>
        </p:nvPicPr>
        <p:blipFill>
          <a:blip r:embed="rId1"/>
          <a:stretch/>
        </p:blipFill>
        <p:spPr>
          <a:xfrm>
            <a:off x="1763640" y="1268280"/>
            <a:ext cx="5543640" cy="39499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>
            <a:hlinkClick r:id="" action="ppaction://hlinkshowjump?jump=nextslide"/>
          </p:cNvPr>
          <p:cNvSpPr/>
          <p:nvPr/>
        </p:nvSpPr>
        <p:spPr>
          <a:xfrm>
            <a:off x="7308720" y="5877000"/>
            <a:ext cx="1295640" cy="647640"/>
          </a:xfrm>
          <a:custGeom>
            <a:avLst/>
            <a:gdLst>
              <a:gd name="textAreaLeft" fmla="*/ 41760 w 1295640"/>
              <a:gd name="textAreaRight" fmla="*/ 1253880 w 129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611280" y="141300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想象“咕咕地紧叫”好象是在说什么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假如你是这只母鸡，你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叫些什么？谁来试试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>
            <a:hlinkClick r:id="rId1" action="ppaction://hlinksldjump"/>
          </p:cNvPr>
          <p:cNvSpPr/>
          <p:nvPr/>
        </p:nvSpPr>
        <p:spPr>
          <a:xfrm>
            <a:off x="7236000" y="5661000"/>
            <a:ext cx="1223640" cy="719280"/>
          </a:xfrm>
          <a:custGeom>
            <a:avLst/>
            <a:gdLst>
              <a:gd name="textAreaLeft" fmla="*/ 46440 w 1223640"/>
              <a:gd name="textAreaRight" fmla="*/ 1177200 w 122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38" h="21600">
                <a:moveTo>
                  <a:pt x="0" y="0"/>
                </a:moveTo>
                <a:lnTo>
                  <a:pt x="36738" y="0"/>
                </a:lnTo>
                <a:lnTo>
                  <a:pt x="36738" y="21600"/>
                </a:lnTo>
                <a:lnTo>
                  <a:pt x="0" y="21600"/>
                </a:lnTo>
                <a:close/>
              </a:path>
              <a:path fill="lightenLess" w="36738" h="21600">
                <a:moveTo>
                  <a:pt x="0" y="0"/>
                </a:moveTo>
                <a:lnTo>
                  <a:pt x="36738" y="0"/>
                </a:lnTo>
                <a:lnTo>
                  <a:pt x="35338" y="1400"/>
                </a:lnTo>
                <a:lnTo>
                  <a:pt x="1400" y="1400"/>
                </a:lnTo>
                <a:close/>
              </a:path>
              <a:path fill="darken" w="36738" h="21600">
                <a:moveTo>
                  <a:pt x="36738" y="0"/>
                </a:moveTo>
                <a:lnTo>
                  <a:pt x="36738" y="21600"/>
                </a:lnTo>
                <a:lnTo>
                  <a:pt x="35338" y="20200"/>
                </a:lnTo>
                <a:lnTo>
                  <a:pt x="35338" y="1400"/>
                </a:lnTo>
                <a:close/>
              </a:path>
              <a:path fill="darkenLess" w="36738" h="21600">
                <a:moveTo>
                  <a:pt x="36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38" y="20200"/>
                </a:lnTo>
                <a:close/>
              </a:path>
              <a:path fill="lighten" w="36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38" h="21600">
                <a:moveTo>
                  <a:pt x="11363" y="3794"/>
                </a:moveTo>
                <a:lnTo>
                  <a:pt x="25376" y="10800"/>
                </a:lnTo>
                <a:lnTo>
                  <a:pt x="11363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539640" y="1052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假如有别的大鸡来抢食，它一定出击，把它们赶出老远，连大公鸡也怕它三分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357336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勇 敢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6659640" y="6021360"/>
            <a:ext cx="1368360" cy="5032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8701" h="21600">
                <a:moveTo>
                  <a:pt x="0" y="0"/>
                </a:moveTo>
                <a:lnTo>
                  <a:pt x="58701" y="0"/>
                </a:lnTo>
                <a:lnTo>
                  <a:pt x="58701" y="21600"/>
                </a:lnTo>
                <a:lnTo>
                  <a:pt x="0" y="21600"/>
                </a:lnTo>
                <a:close/>
              </a:path>
              <a:path fill="lightenLess" w="58701" h="21600">
                <a:moveTo>
                  <a:pt x="0" y="0"/>
                </a:moveTo>
                <a:lnTo>
                  <a:pt x="58701" y="0"/>
                </a:lnTo>
                <a:lnTo>
                  <a:pt x="57301" y="1400"/>
                </a:lnTo>
                <a:lnTo>
                  <a:pt x="1400" y="1400"/>
                </a:lnTo>
                <a:close/>
              </a:path>
              <a:path fill="darken" w="58701" h="21600">
                <a:moveTo>
                  <a:pt x="58701" y="0"/>
                </a:moveTo>
                <a:lnTo>
                  <a:pt x="58701" y="21600"/>
                </a:lnTo>
                <a:lnTo>
                  <a:pt x="57301" y="20200"/>
                </a:lnTo>
                <a:lnTo>
                  <a:pt x="57301" y="1400"/>
                </a:lnTo>
                <a:close/>
              </a:path>
              <a:path fill="darkenLess" w="58701" h="21600">
                <a:moveTo>
                  <a:pt x="58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1" y="20200"/>
                </a:lnTo>
                <a:close/>
              </a:path>
              <a:path fill="lighten" w="58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01" h="21600">
                <a:moveTo>
                  <a:pt x="22344" y="3794"/>
                </a:moveTo>
                <a:lnTo>
                  <a:pt x="36357" y="10800"/>
                </a:lnTo>
                <a:lnTo>
                  <a:pt x="2234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611280" y="98100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它教鸡雏们啄食、掘土，用土洗澡，一天教多少多少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84360" y="3645000"/>
            <a:ext cx="676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辛 苦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6659640" y="6021360"/>
            <a:ext cx="1368360" cy="5032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8701" h="21600">
                <a:moveTo>
                  <a:pt x="0" y="0"/>
                </a:moveTo>
                <a:lnTo>
                  <a:pt x="58701" y="0"/>
                </a:lnTo>
                <a:lnTo>
                  <a:pt x="58701" y="21600"/>
                </a:lnTo>
                <a:lnTo>
                  <a:pt x="0" y="21600"/>
                </a:lnTo>
                <a:close/>
              </a:path>
              <a:path fill="lightenLess" w="58701" h="21600">
                <a:moveTo>
                  <a:pt x="0" y="0"/>
                </a:moveTo>
                <a:lnTo>
                  <a:pt x="58701" y="0"/>
                </a:lnTo>
                <a:lnTo>
                  <a:pt x="57301" y="1400"/>
                </a:lnTo>
                <a:lnTo>
                  <a:pt x="1400" y="1400"/>
                </a:lnTo>
                <a:close/>
              </a:path>
              <a:path fill="darken" w="58701" h="21600">
                <a:moveTo>
                  <a:pt x="58701" y="0"/>
                </a:moveTo>
                <a:lnTo>
                  <a:pt x="58701" y="21600"/>
                </a:lnTo>
                <a:lnTo>
                  <a:pt x="57301" y="20200"/>
                </a:lnTo>
                <a:lnTo>
                  <a:pt x="57301" y="1400"/>
                </a:lnTo>
                <a:close/>
              </a:path>
              <a:path fill="darkenLess" w="58701" h="21600">
                <a:moveTo>
                  <a:pt x="58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1" y="20200"/>
                </a:lnTo>
                <a:close/>
              </a:path>
              <a:path fill="lighten" w="58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01" h="21600">
                <a:moveTo>
                  <a:pt x="22344" y="3794"/>
                </a:moveTo>
                <a:lnTo>
                  <a:pt x="36357" y="10800"/>
                </a:lnTo>
                <a:lnTo>
                  <a:pt x="2234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到下蛋的时候，它差不多是发了狂，恨不得让全世界都知道它这点儿成绩；就是聋子也会被它吵的受不了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2349360"/>
            <a:ext cx="85406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是作者夸张的写法，讽刺了母鸡的炫耀。聋子本来是不怕吵的，作者用“就是聋子也会被它吵的受不了”淋漓尽致地表达了讨厌母鸡的情绪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60138edeea8b1102cf534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41200" y="260280"/>
            <a:ext cx="86616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测一测：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谁最棒？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158760" y="5291280"/>
            <a:ext cx="81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母鸡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95280" y="69228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它负责、慈爱、勇敢、辛苦，因为它有了一群鸡雏。它伟大，因为它是鸡母亲。一个母亲必定就是一位英雄。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4000" y="2637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有什么体会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328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都是在写母亲，对母亲的赞颂之情在逐句加深。作者为母鸡身上所表现出的母爱所震撼，认识到天地间所有的母亲都是英雄。这是对普天下所有母亲的赞颂。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79280" y="189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解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48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我不敢再讨厌母鸡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928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者用“不敢”来表明自己对母鸡情感的变化。他此时已不是简单的喜欢，而是母爱的一种纯洁、神圣的尊敬，是情感的升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98400" y="42102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684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AutoShape 34">
            <a:hlinkClick r:id="" action="ppaction://hlinkshowjump?jump=nextslide"/>
          </p:cNvPr>
          <p:cNvSpPr/>
          <p:nvPr/>
        </p:nvSpPr>
        <p:spPr>
          <a:xfrm>
            <a:off x="183528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5"/>
          <p:cNvSpPr/>
          <p:nvPr/>
        </p:nvSpPr>
        <p:spPr>
          <a:xfrm>
            <a:off x="341964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36"/>
          <p:cNvSpPr/>
          <p:nvPr/>
        </p:nvSpPr>
        <p:spPr>
          <a:xfrm>
            <a:off x="493236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7"/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8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1812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AutoShape 34">
            <a:hlinkClick r:id="rId1" action="ppaction://hlinksldjump"/>
          </p:cNvPr>
          <p:cNvSpPr/>
          <p:nvPr/>
        </p:nvSpPr>
        <p:spPr>
          <a:xfrm>
            <a:off x="341964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5"/>
          <p:cNvSpPr/>
          <p:nvPr/>
        </p:nvSpPr>
        <p:spPr>
          <a:xfrm>
            <a:off x="493236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6"/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7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4684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AutoShape 34">
            <a:hlinkClick r:id="rId1" action="ppaction://hlinksldjump"/>
          </p:cNvPr>
          <p:cNvSpPr/>
          <p:nvPr/>
        </p:nvSpPr>
        <p:spPr>
          <a:xfrm>
            <a:off x="493236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1812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先分后总；拟人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AutoShape 34">
            <a:hlinkClick r:id="rId1" action="ppaction://hlinksldjump"/>
          </p:cNvPr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35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1812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先分后总；拟人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AutoShape 34">
            <a:hlinkClick r:id="rId1" action="ppaction://hlinksldjump"/>
          </p:cNvPr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1812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先分后总；拟人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850040" y="333360"/>
            <a:ext cx="34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请欣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的母亲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片断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68360" y="105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生命是母亲给我的。我之能长大成人，是母亲的血汗灌养的。我之能成为一个不十分坏的人，是母亲感化的。我的性格、习惯，是母亲传给的。她一世未曾享过一天福，临死还吃的是粗粮。唉！还说什么呢？心痛！心痛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（老舍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81080" y="117360"/>
            <a:ext cx="87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每课一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带着问题来读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 本文是（       ）先生的一篇脍炙人口的佳作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老舍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丰子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课文以作者的（      ）变化为线索，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空间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情感）由对母鸡的（       ）转变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__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前后形成了鲜明的对比，赞颂了（  ）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动脑筋，找伙伴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嗅   啼   嘶   吼   嚎   啸   鸣   叫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狼（  ）  鸡（  ） 猿（  ）   狗（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虎（  ）  狮（  ） 马（  ）   鸟（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我会选择修辞方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拟人    比喻    夸张    反问    设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下蛋的时候，它恨不能让全世界都知道，就是聋子也会被它吵得受不了。   （ 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14511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读：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嘎 嘎   疙 瘩   反 抗   可 恶   狠 狠   成 绩  聋 子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挺 着   警 戒   歪 斜   下 垂   消  瘦   抢 食  洗 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蹲 着   温 暖   啼 叫   凄 惨    慈 爱   辛 苦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 雏 鸡    一 撮 儿    趁 其 不 备     颤 颤 巍 巍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 声 细 气     无 怨 无 悔    下 毒 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47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187280" y="404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  d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843280" y="476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à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84720" y="476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580000" y="5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ě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164360" y="54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596360" y="54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ó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-123840" y="1700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ǐ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411280" y="1700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ā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700360" y="2852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924360" y="2852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ī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292720" y="2852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588000" y="28526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ī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250920" y="4005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340000" y="4005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u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8028000" y="400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ē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916360" y="5157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uà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580000" y="5229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7360" y="260280"/>
            <a:ext cx="90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猫的头撞在门上，桌腿上，撞疼了也不哭。（  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这样的一只母鸡难道不伟大吗？（ 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读短文，按要求回答问题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可是，现在我改变了心思，我看见一只孵出一群小雏鸡的母鸡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         ）在院子里， （       ）在院外，它（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挺着脖儿，表示出世界上并没有可怕的东西。一只鸟儿飞过，（       ）什么东西响了一声，它立刻警戒起来：歪着头听：挺着身儿预备作战；看看（    ），看看（     ），咕咕地警告鸡雏要马上集合到它身边来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 按原文填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 在短文中找出一对近义词。（        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--------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        ）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画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”的句子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句，起到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作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短文主要叙述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说明了母鸡很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_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@50HK}I5$49QE}FX(UPM]0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6"/>
          <p:cNvSpPr txBox="1"/>
          <p:nvPr/>
        </p:nvSpPr>
        <p:spPr>
          <a:xfrm>
            <a:off x="2195640" y="2637000"/>
            <a:ext cx="532908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谢谢观赏  再见</a:t>
            </a:r>
            <a:endParaRPr b="1" lang="en-US" sz="36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10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78CF-D7E9-4AD7-8971-EC6E40D150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Arial"/>
              </a:rPr>
              <a:t>试一试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6" name="Picture 3" descr="163746"/>
          <p:cNvPicPr/>
          <p:nvPr/>
        </p:nvPicPr>
        <p:blipFill>
          <a:blip r:embed="rId1"/>
          <a:stretch/>
        </p:blipFill>
        <p:spPr>
          <a:xfrm>
            <a:off x="6480000" y="4227480"/>
            <a:ext cx="2664000" cy="2630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目（            ）作者（  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文用的什么写作手法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抑后扬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扬后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对母鸡的态度先是（      ），后来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厌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崇敬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憎恨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是聋子也会被它吵得受不下去。”用（      ）修辞方法，表现了母鸡（      ）的性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拟人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夸张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喻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病呻吟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炫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以前讨厌母鸡的原因不正确的一项是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病呻吟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欺软怕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曾在小时候受了母鸡的惊吓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炫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不敢再讨厌母鸡了。”其中“不敢”一词的含义是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害怕母鸡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敬佩母鸡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赌气的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通过写对母鸡看法的变化，表达了对（     ）的赞颂之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鸡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爱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276720" y="404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547640" y="404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492360" y="69228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763640" y="333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母鸡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067280" y="33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老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4356000" y="6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28472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665964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443640" y="220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2268360" y="256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732720" y="3357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7956720" y="4365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673272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1908000" y="31827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ji2_059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7-08-13_18-55-25_2557-19547"/>
          <p:cNvPicPr/>
          <p:nvPr/>
        </p:nvPicPr>
        <p:blipFill>
          <a:blip r:embed="rId1"/>
          <a:stretch/>
        </p:blipFill>
        <p:spPr>
          <a:xfrm>
            <a:off x="-324000" y="-1900080"/>
            <a:ext cx="1002996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ji2_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00910121293244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Arial"/>
              </a:rPr>
              <a:t>阅读提示</a:t>
            </a: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从课文的哪几段可以读出老舍先生很讨厌母鸡？哪几段写崇敬母鸡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为什么讨厌这只母鸡？自己试着用两三个词来概括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对母鸡的态度为什么发生了改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课文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在文中起什么作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母鸡具有哪些优秀的品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1:17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2:31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