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自定义放映 1" id="0">
      <p:sldLst>
        <p:sld r:id="rId5"/>
        <p:sld r:id="rId6"/>
        <p:sld r:id="rId7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B167-237E-4C18-9E9D-DAF8511249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501A-C99F-48A2-BD9F-F1D52BA72A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44E-7DAB-462B-9D24-75C87449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D60-D2B4-4B6B-8C00-37B4952F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E46-2961-43E6-BBE6-A157E0C3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5CE-59AD-4E7F-A034-196E6B38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A82-686C-4FBD-BAF9-828878B0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499-B4B4-4E5A-AD82-662177CC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4C7-BDC4-4630-977E-72D5563F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A07-C1C3-416A-B6D9-85F02875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2F1-5C5D-4003-9E64-D51E6163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942-D15C-4C15-B593-262A479A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9232-65F8-4546-88D0-675F38F2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D28-2F4F-4EB9-A1C0-9294FC73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DEC4-CD58-450A-94D3-C5AD22A80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uicailawyer.com/spic_remark_1194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ravel.qqread.com/comeback/skill/n025655.html" TargetMode="External"/><Relationship Id="rId2" Type="http://schemas.openxmlformats.org/officeDocument/2006/relationships/image" Target="../media/image11.jpeg"/><Relationship Id="rId3" Type="http://schemas.openxmlformats.org/officeDocument/2006/relationships/slide" Target="slide11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1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udaoxifeng.com/html/9954.shtml" TargetMode="External"/><Relationship Id="rId2" Type="http://schemas.openxmlformats.org/officeDocument/2006/relationships/image" Target="../media/image1.jpeg"/><Relationship Id="rId3" Type="http://schemas.openxmlformats.org/officeDocument/2006/relationships/slide" Target="slide11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i.baidu.com/qisida/album/item/fa2241ee9829f0f4b3fb956e.html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11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http://www.gudaoxifeng.com/html/9954.shtml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udaoxifeng.com/html/9954.s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udaoxifeng.com/html/9954.s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0082132356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1779480" y="5877000"/>
            <a:ext cx="5672160" cy="498240"/>
          </a:xfrm>
          <a:prstGeom prst="rect">
            <a:avLst/>
          </a:prstGeom>
          <a:ln w="0">
            <a:noFill/>
          </a:ln>
        </p:spPr>
      </p:pic>
      <p:pic>
        <p:nvPicPr>
          <p:cNvPr id="50" name="矩形 2" descr=""/>
          <p:cNvPicPr/>
          <p:nvPr/>
        </p:nvPicPr>
        <p:blipFill>
          <a:blip r:embed="rId3"/>
          <a:stretch/>
        </p:blipFill>
        <p:spPr>
          <a:xfrm>
            <a:off x="1401840" y="1228680"/>
            <a:ext cx="650088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6836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丽的呼伦湖，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方圆约八百里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碧波万顷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它就像一面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很大很大的镜子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镶嵌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内蒙古呼伦贝尔大草原上，给辽阔的大草原增添了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迷人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色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2006313552087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pic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971640" y="155736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你喜欢呼伦湖哪个季节的景色？在文中画出来读一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>
            <a:hlinkClick r:id="rId2" action="ppaction://hlinksldjump"/>
          </p:cNvPr>
          <p:cNvSpPr/>
          <p:nvPr/>
        </p:nvSpPr>
        <p:spPr>
          <a:xfrm>
            <a:off x="8459640" y="630864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1084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87" h="21600">
                <a:moveTo>
                  <a:pt x="1084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87" h="21600">
                <a:moveTo>
                  <a:pt x="8267" y="8224"/>
                </a:moveTo>
                <a:lnTo>
                  <a:pt x="12131" y="8224"/>
                </a:lnTo>
                <a:lnTo>
                  <a:pt x="12131" y="15221"/>
                </a:lnTo>
                <a:lnTo>
                  <a:pt x="13420" y="15221"/>
                </a:lnTo>
                <a:lnTo>
                  <a:pt x="13420" y="16144"/>
                </a:lnTo>
                <a:lnTo>
                  <a:pt x="8267" y="16144"/>
                </a:lnTo>
                <a:lnTo>
                  <a:pt x="8267" y="15221"/>
                </a:lnTo>
                <a:lnTo>
                  <a:pt x="9555" y="15221"/>
                </a:lnTo>
                <a:lnTo>
                  <a:pt x="9555" y="9129"/>
                </a:lnTo>
                <a:lnTo>
                  <a:pt x="8267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>
            <a:hlinkClick r:id="rId3" action="ppaction://hlinksldjump"/>
          </p:cNvPr>
          <p:cNvSpPr/>
          <p:nvPr/>
        </p:nvSpPr>
        <p:spPr>
          <a:xfrm>
            <a:off x="774072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10800" y="148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708">
                <a:moveTo>
                  <a:pt x="11905" y="14336"/>
                </a:moveTo>
                <a:lnTo>
                  <a:pt x="11905" y="12377"/>
                </a:lnTo>
                <a:cubicBezTo>
                  <a:pt x="11905" y="11550"/>
                  <a:pt x="12236" y="10854"/>
                  <a:pt x="12837" y="10854"/>
                </a:cubicBezTo>
                <a:cubicBezTo>
                  <a:pt x="13968" y="10854"/>
                  <a:pt x="14865" y="9488"/>
                  <a:pt x="14865" y="7904"/>
                </a:cubicBezTo>
                <a:cubicBezTo>
                  <a:pt x="14865" y="5588"/>
                  <a:pt x="13011" y="3848"/>
                  <a:pt x="10800" y="3848"/>
                </a:cubicBezTo>
                <a:cubicBezTo>
                  <a:pt x="8589" y="3848"/>
                  <a:pt x="6918" y="5588"/>
                  <a:pt x="6918" y="7904"/>
                </a:cubicBezTo>
                <a:lnTo>
                  <a:pt x="8772" y="7904"/>
                </a:lnTo>
                <a:cubicBezTo>
                  <a:pt x="8772" y="6763"/>
                  <a:pt x="9695" y="5876"/>
                  <a:pt x="10800" y="5876"/>
                </a:cubicBezTo>
                <a:cubicBezTo>
                  <a:pt x="11905" y="5876"/>
                  <a:pt x="12837" y="6763"/>
                  <a:pt x="12837" y="7904"/>
                </a:cubicBezTo>
                <a:cubicBezTo>
                  <a:pt x="12837" y="8643"/>
                  <a:pt x="12367" y="9375"/>
                  <a:pt x="11905" y="9375"/>
                </a:cubicBezTo>
                <a:cubicBezTo>
                  <a:pt x="10800" y="9375"/>
                  <a:pt x="9695" y="10854"/>
                  <a:pt x="9695" y="12377"/>
                </a:cubicBezTo>
                <a:lnTo>
                  <a:pt x="9695" y="143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>
            <a:hlinkClick r:id="rId4" action="ppaction://hlinksldjump"/>
          </p:cNvPr>
          <p:cNvSpPr/>
          <p:nvPr/>
        </p:nvSpPr>
        <p:spPr>
          <a:xfrm>
            <a:off x="694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>
            <a:hlinkClick r:id="rId5" action="ppaction://hlinksldjump"/>
          </p:cNvPr>
          <p:cNvSpPr/>
          <p:nvPr/>
        </p:nvSpPr>
        <p:spPr>
          <a:xfrm>
            <a:off x="6156360" y="6308640"/>
            <a:ext cx="360360" cy="3621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2160"/>
              <a:gd name="textAreaBottom" fmla="*/ 339120 h 3621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Less" w="21600" h="21708">
                <a:moveTo>
                  <a:pt x="5273" y="4039"/>
                </a:moveTo>
                <a:lnTo>
                  <a:pt x="12271" y="4039"/>
                </a:lnTo>
                <a:lnTo>
                  <a:pt x="16327" y="7538"/>
                </a:lnTo>
                <a:lnTo>
                  <a:pt x="16327" y="17669"/>
                </a:lnTo>
                <a:lnTo>
                  <a:pt x="5273" y="17669"/>
                </a:lnTo>
                <a:close/>
              </a:path>
              <a:path fill="darken" w="21600" h="21708">
                <a:moveTo>
                  <a:pt x="12271" y="4039"/>
                </a:moveTo>
                <a:lnTo>
                  <a:pt x="16327" y="7538"/>
                </a:lnTo>
                <a:lnTo>
                  <a:pt x="12271" y="75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95280" y="3357720"/>
            <a:ext cx="7705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到了，呼伦湖畔</a:t>
            </a:r>
            <a:r>
              <a:rPr b="1" lang="zh-CN" sz="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水草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丰美，遍地是美丽的</a:t>
            </a:r>
            <a:r>
              <a:rPr b="1" lang="zh-CN" sz="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野花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牧民们赶着牛羊来这儿</a:t>
            </a:r>
            <a:r>
              <a:rPr b="1" lang="zh-CN" sz="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放牧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me93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>
            <a:hlinkClick r:id="rId3" action="ppaction://hlinksldjump"/>
          </p:cNvPr>
          <p:cNvSpPr/>
          <p:nvPr/>
        </p:nvSpPr>
        <p:spPr>
          <a:xfrm>
            <a:off x="838836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10800"/>
                </a:moveTo>
                <a:lnTo>
                  <a:pt x="19597" y="3794"/>
                </a:lnTo>
                <a:lnTo>
                  <a:pt x="195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>
            <a:hlinkClick r:id="rId4" action="ppaction://hlinksldjump"/>
          </p:cNvPr>
          <p:cNvSpPr/>
          <p:nvPr/>
        </p:nvSpPr>
        <p:spPr>
          <a:xfrm>
            <a:off x="8317080" y="6237360"/>
            <a:ext cx="539640" cy="433440"/>
          </a:xfrm>
          <a:custGeom>
            <a:avLst/>
            <a:gdLst>
              <a:gd name="textAreaLeft" fmla="*/ 28080 w 539640"/>
              <a:gd name="textAreaRight" fmla="*/ 511560 w 5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888" h="21600">
                <a:moveTo>
                  <a:pt x="0" y="0"/>
                </a:moveTo>
                <a:lnTo>
                  <a:pt x="26888" y="0"/>
                </a:lnTo>
                <a:lnTo>
                  <a:pt x="26888" y="21600"/>
                </a:lnTo>
                <a:lnTo>
                  <a:pt x="0" y="21600"/>
                </a:lnTo>
                <a:close/>
              </a:path>
              <a:path fill="lightenLess" w="26888" h="21600">
                <a:moveTo>
                  <a:pt x="0" y="0"/>
                </a:moveTo>
                <a:lnTo>
                  <a:pt x="26888" y="0"/>
                </a:lnTo>
                <a:lnTo>
                  <a:pt x="25488" y="1400"/>
                </a:lnTo>
                <a:lnTo>
                  <a:pt x="1400" y="1400"/>
                </a:lnTo>
                <a:close/>
              </a:path>
              <a:path fill="darken" w="26888" h="21600">
                <a:moveTo>
                  <a:pt x="26888" y="0"/>
                </a:moveTo>
                <a:lnTo>
                  <a:pt x="26888" y="21600"/>
                </a:lnTo>
                <a:lnTo>
                  <a:pt x="25488" y="20200"/>
                </a:lnTo>
                <a:lnTo>
                  <a:pt x="25488" y="1400"/>
                </a:lnTo>
                <a:close/>
              </a:path>
              <a:path fill="darkenLess" w="26888" h="21600">
                <a:moveTo>
                  <a:pt x="268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8" y="20200"/>
                </a:lnTo>
                <a:close/>
              </a:path>
              <a:path fill="lighten" w="268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8" h="21600">
                <a:moveTo>
                  <a:pt x="6438" y="3794"/>
                </a:moveTo>
                <a:lnTo>
                  <a:pt x="20450" y="10800"/>
                </a:lnTo>
                <a:lnTo>
                  <a:pt x="64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400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的湖面上，</a:t>
            </a:r>
            <a:r>
              <a:rPr b="1" lang="zh-CN" sz="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鱼儿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跃，</a:t>
            </a:r>
            <a:r>
              <a:rPr b="1" lang="zh-CN" sz="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鸟儿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飞，白帆点点，</a:t>
            </a:r>
            <a:r>
              <a:rPr b="1" lang="zh-CN" sz="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渔民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高兴地撒开了渔网；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呼伦湖夏"/>
          <p:cNvPicPr/>
          <p:nvPr/>
        </p:nvPicPr>
        <p:blipFill>
          <a:blip r:embed="rId1"/>
          <a:stretch/>
        </p:blipFill>
        <p:spPr>
          <a:xfrm>
            <a:off x="0" y="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>
            <a:hlinkClick r:id="rId2" action="ppaction://hlinksldjump"/>
          </p:cNvPr>
          <p:cNvSpPr/>
          <p:nvPr/>
        </p:nvSpPr>
        <p:spPr>
          <a:xfrm>
            <a:off x="838836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10800"/>
                </a:moveTo>
                <a:lnTo>
                  <a:pt x="19597" y="3794"/>
                </a:lnTo>
                <a:lnTo>
                  <a:pt x="195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>
            <a:hlinkClick r:id="rId3" action="ppaction://hlinksldjump"/>
          </p:cNvPr>
          <p:cNvSpPr/>
          <p:nvPr/>
        </p:nvSpPr>
        <p:spPr>
          <a:xfrm>
            <a:off x="8317080" y="6237360"/>
            <a:ext cx="539640" cy="433440"/>
          </a:xfrm>
          <a:custGeom>
            <a:avLst/>
            <a:gdLst>
              <a:gd name="textAreaLeft" fmla="*/ 28080 w 539640"/>
              <a:gd name="textAreaRight" fmla="*/ 511560 w 5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888" h="21600">
                <a:moveTo>
                  <a:pt x="0" y="0"/>
                </a:moveTo>
                <a:lnTo>
                  <a:pt x="26888" y="0"/>
                </a:lnTo>
                <a:lnTo>
                  <a:pt x="26888" y="21600"/>
                </a:lnTo>
                <a:lnTo>
                  <a:pt x="0" y="21600"/>
                </a:lnTo>
                <a:close/>
              </a:path>
              <a:path fill="lightenLess" w="26888" h="21600">
                <a:moveTo>
                  <a:pt x="0" y="0"/>
                </a:moveTo>
                <a:lnTo>
                  <a:pt x="26888" y="0"/>
                </a:lnTo>
                <a:lnTo>
                  <a:pt x="25488" y="1400"/>
                </a:lnTo>
                <a:lnTo>
                  <a:pt x="1400" y="1400"/>
                </a:lnTo>
                <a:close/>
              </a:path>
              <a:path fill="darken" w="26888" h="21600">
                <a:moveTo>
                  <a:pt x="26888" y="0"/>
                </a:moveTo>
                <a:lnTo>
                  <a:pt x="26888" y="21600"/>
                </a:lnTo>
                <a:lnTo>
                  <a:pt x="25488" y="20200"/>
                </a:lnTo>
                <a:lnTo>
                  <a:pt x="25488" y="1400"/>
                </a:lnTo>
                <a:close/>
              </a:path>
              <a:path fill="darkenLess" w="26888" h="21600">
                <a:moveTo>
                  <a:pt x="268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8" y="20200"/>
                </a:lnTo>
                <a:close/>
              </a:path>
              <a:path fill="lighten" w="268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8" h="21600">
                <a:moveTo>
                  <a:pt x="6438" y="3794"/>
                </a:moveTo>
                <a:lnTo>
                  <a:pt x="20450" y="10800"/>
                </a:lnTo>
                <a:lnTo>
                  <a:pt x="64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3860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天，蔚蓝的</a:t>
            </a:r>
            <a:r>
              <a:rPr b="1" lang="zh-CN" sz="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湖水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蓝天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成一体，朵朵</a:t>
            </a:r>
            <a:r>
              <a:rPr b="1" lang="zh-CN" sz="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白云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水面上悠悠飘荡；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200821323561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4640"/>
            <a:ext cx="9144000" cy="35276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8">
            <a:hlinkClick r:id="rId3" action="ppaction://hlinksldjump"/>
          </p:cNvPr>
          <p:cNvSpPr/>
          <p:nvPr/>
        </p:nvSpPr>
        <p:spPr>
          <a:xfrm>
            <a:off x="838836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10800"/>
                </a:moveTo>
                <a:lnTo>
                  <a:pt x="19597" y="3794"/>
                </a:lnTo>
                <a:lnTo>
                  <a:pt x="195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>
            <a:hlinkClick r:id="rId4" action="ppaction://hlinksldjump"/>
          </p:cNvPr>
          <p:cNvSpPr/>
          <p:nvPr/>
        </p:nvSpPr>
        <p:spPr>
          <a:xfrm>
            <a:off x="8317080" y="6237360"/>
            <a:ext cx="539640" cy="433440"/>
          </a:xfrm>
          <a:custGeom>
            <a:avLst/>
            <a:gdLst>
              <a:gd name="textAreaLeft" fmla="*/ 28080 w 539640"/>
              <a:gd name="textAreaRight" fmla="*/ 511560 w 5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888" h="21600">
                <a:moveTo>
                  <a:pt x="0" y="0"/>
                </a:moveTo>
                <a:lnTo>
                  <a:pt x="26888" y="0"/>
                </a:lnTo>
                <a:lnTo>
                  <a:pt x="26888" y="21600"/>
                </a:lnTo>
                <a:lnTo>
                  <a:pt x="0" y="21600"/>
                </a:lnTo>
                <a:close/>
              </a:path>
              <a:path fill="lightenLess" w="26888" h="21600">
                <a:moveTo>
                  <a:pt x="0" y="0"/>
                </a:moveTo>
                <a:lnTo>
                  <a:pt x="26888" y="0"/>
                </a:lnTo>
                <a:lnTo>
                  <a:pt x="25488" y="1400"/>
                </a:lnTo>
                <a:lnTo>
                  <a:pt x="1400" y="1400"/>
                </a:lnTo>
                <a:close/>
              </a:path>
              <a:path fill="darken" w="26888" h="21600">
                <a:moveTo>
                  <a:pt x="26888" y="0"/>
                </a:moveTo>
                <a:lnTo>
                  <a:pt x="26888" y="21600"/>
                </a:lnTo>
                <a:lnTo>
                  <a:pt x="25488" y="20200"/>
                </a:lnTo>
                <a:lnTo>
                  <a:pt x="25488" y="1400"/>
                </a:lnTo>
                <a:close/>
              </a:path>
              <a:path fill="darkenLess" w="26888" h="21600">
                <a:moveTo>
                  <a:pt x="268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8" y="20200"/>
                </a:lnTo>
                <a:close/>
              </a:path>
              <a:path fill="lighten" w="268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8" h="21600">
                <a:moveTo>
                  <a:pt x="6438" y="3794"/>
                </a:moveTo>
                <a:lnTo>
                  <a:pt x="20450" y="10800"/>
                </a:lnTo>
                <a:lnTo>
                  <a:pt x="64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37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天，到处是</a:t>
            </a:r>
            <a:r>
              <a:rPr b="1" lang="zh-CN" sz="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白茫茫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冰雪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宁静，美丽，像一个</a:t>
            </a:r>
            <a:r>
              <a:rPr b="1" lang="zh-CN" sz="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童话般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世界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a2241ee9829f0f4b3fb956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7">
            <a:hlinkClick r:id="rId3" action="ppaction://hlinksldjump"/>
          </p:cNvPr>
          <p:cNvSpPr/>
          <p:nvPr/>
        </p:nvSpPr>
        <p:spPr>
          <a:xfrm>
            <a:off x="838836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10800"/>
                </a:moveTo>
                <a:lnTo>
                  <a:pt x="19597" y="3794"/>
                </a:lnTo>
                <a:lnTo>
                  <a:pt x="195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>
            <a:hlinkClick r:id="rId4" action="ppaction://hlinksldjump"/>
          </p:cNvPr>
          <p:cNvSpPr/>
          <p:nvPr/>
        </p:nvSpPr>
        <p:spPr>
          <a:xfrm>
            <a:off x="8317080" y="6237360"/>
            <a:ext cx="539640" cy="433440"/>
          </a:xfrm>
          <a:custGeom>
            <a:avLst/>
            <a:gdLst>
              <a:gd name="textAreaLeft" fmla="*/ 28080 w 539640"/>
              <a:gd name="textAreaRight" fmla="*/ 511560 w 5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888" h="21600">
                <a:moveTo>
                  <a:pt x="0" y="0"/>
                </a:moveTo>
                <a:lnTo>
                  <a:pt x="26888" y="0"/>
                </a:lnTo>
                <a:lnTo>
                  <a:pt x="26888" y="21600"/>
                </a:lnTo>
                <a:lnTo>
                  <a:pt x="0" y="21600"/>
                </a:lnTo>
                <a:close/>
              </a:path>
              <a:path fill="lightenLess" w="26888" h="21600">
                <a:moveTo>
                  <a:pt x="0" y="0"/>
                </a:moveTo>
                <a:lnTo>
                  <a:pt x="26888" y="0"/>
                </a:lnTo>
                <a:lnTo>
                  <a:pt x="25488" y="1400"/>
                </a:lnTo>
                <a:lnTo>
                  <a:pt x="1400" y="1400"/>
                </a:lnTo>
                <a:close/>
              </a:path>
              <a:path fill="darken" w="26888" h="21600">
                <a:moveTo>
                  <a:pt x="26888" y="0"/>
                </a:moveTo>
                <a:lnTo>
                  <a:pt x="26888" y="21600"/>
                </a:lnTo>
                <a:lnTo>
                  <a:pt x="25488" y="20200"/>
                </a:lnTo>
                <a:lnTo>
                  <a:pt x="25488" y="1400"/>
                </a:lnTo>
                <a:close/>
              </a:path>
              <a:path fill="darkenLess" w="26888" h="21600">
                <a:moveTo>
                  <a:pt x="268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8" y="20200"/>
                </a:lnTo>
                <a:close/>
              </a:path>
              <a:path fill="lighten" w="268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8" h="21600">
                <a:moveTo>
                  <a:pt x="6438" y="3794"/>
                </a:moveTo>
                <a:lnTo>
                  <a:pt x="20450" y="10800"/>
                </a:lnTo>
                <a:lnTo>
                  <a:pt x="64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1258920" y="404640"/>
            <a:ext cx="6629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呼伦湖欢迎你来做客！</a:t>
            </a:r>
            <a:endParaRPr b="1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3" name="Picture 4" descr="32395"/>
          <p:cNvPicPr/>
          <p:nvPr/>
        </p:nvPicPr>
        <p:blipFill>
          <a:blip r:embed="rId1"/>
          <a:stretch/>
        </p:blipFill>
        <p:spPr>
          <a:xfrm>
            <a:off x="0" y="3483000"/>
            <a:ext cx="2871720" cy="3375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200821323561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4365720"/>
            <a:ext cx="6048360" cy="2303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644480" y="2590920"/>
            <a:ext cx="710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“ 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你想什么季节来呢？你想在这里玩儿些什么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"/>
          <p:cNvSpPr/>
          <p:nvPr/>
        </p:nvSpPr>
        <p:spPr>
          <a:xfrm>
            <a:off x="2871720" y="4037040"/>
            <a:ext cx="57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404280"/>
            <a:ext cx="91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美丽的呼伦湖，多么迷人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200821323561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1512-9040-415D-AE71-37D62B4B44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201007260709304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eeea0f877cfbff01c65cc395"/>
          <p:cNvPicPr/>
          <p:nvPr/>
        </p:nvPicPr>
        <p:blipFill>
          <a:blip r:embed="rId1"/>
          <a:stretch/>
        </p:blipFill>
        <p:spPr>
          <a:xfrm>
            <a:off x="0" y="0"/>
            <a:ext cx="9144000" cy="76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30KY359430-C6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200821323561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ic030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042920" y="836640"/>
            <a:ext cx="6912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9999"/>
                </a:solidFill>
                <a:latin typeface="Times New Roman"/>
                <a:ea typeface="华文彩云"/>
              </a:rPr>
              <a:t>学习指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华文彩云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华文彩云"/>
              </a:rPr>
              <a:t>、自读课文，注意读准字音，没有丢字添字，读通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华文彩云"/>
              </a:rPr>
              <a:t>2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华文彩云"/>
              </a:rPr>
              <a:t>、不认识的字圈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ic0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3"/>
          <p:cNvGrpSpPr/>
          <p:nvPr/>
        </p:nvGrpSpPr>
        <p:grpSpPr>
          <a:xfrm>
            <a:off x="-757080" y="476280"/>
            <a:ext cx="3312360" cy="1343160"/>
            <a:chOff x="-757080" y="476280"/>
            <a:chExt cx="3312360" cy="1343160"/>
          </a:xfrm>
        </p:grpSpPr>
        <p:sp>
          <p:nvSpPr>
            <p:cNvPr id="61" name="Text Box 4"/>
            <p:cNvSpPr/>
            <p:nvPr/>
          </p:nvSpPr>
          <p:spPr>
            <a:xfrm>
              <a:off x="-757080" y="972360"/>
              <a:ext cx="192960" cy="71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5"/>
            <p:cNvSpPr/>
            <p:nvPr/>
          </p:nvSpPr>
          <p:spPr>
            <a:xfrm flipH="1">
              <a:off x="911520" y="476280"/>
              <a:ext cx="1643400" cy="1343160"/>
            </a:xfrm>
            <a:prstGeom prst="cloudCallout">
              <a:avLst>
                <a:gd name="adj1" fmla="val 129259"/>
                <a:gd name="adj2" fmla="val 42212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6"/>
            <p:cNvSpPr/>
            <p:nvPr/>
          </p:nvSpPr>
          <p:spPr>
            <a:xfrm>
              <a:off x="1136520" y="760320"/>
              <a:ext cx="1283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冰雪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7"/>
          <p:cNvGrpSpPr/>
          <p:nvPr/>
        </p:nvGrpSpPr>
        <p:grpSpPr>
          <a:xfrm>
            <a:off x="1908000" y="3933720"/>
            <a:ext cx="2226960" cy="914400"/>
            <a:chOff x="1908000" y="3933720"/>
            <a:chExt cx="2226960" cy="914400"/>
          </a:xfrm>
        </p:grpSpPr>
        <p:sp>
          <p:nvSpPr>
            <p:cNvPr id="65" name="AutoShape 8"/>
            <p:cNvSpPr/>
            <p:nvPr/>
          </p:nvSpPr>
          <p:spPr>
            <a:xfrm>
              <a:off x="1908000" y="3933720"/>
              <a:ext cx="2226960" cy="9144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2757600" y="401112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童话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755640" y="1916280"/>
            <a:ext cx="1905120" cy="822240"/>
            <a:chOff x="755640" y="1916280"/>
            <a:chExt cx="1905120" cy="822240"/>
          </a:xfrm>
        </p:grpSpPr>
        <p:sp>
          <p:nvSpPr>
            <p:cNvPr id="68" name="AutoShape 11"/>
            <p:cNvSpPr/>
            <p:nvPr/>
          </p:nvSpPr>
          <p:spPr>
            <a:xfrm flipH="1">
              <a:off x="755640" y="1916280"/>
              <a:ext cx="1905120" cy="822240"/>
            </a:xfrm>
            <a:prstGeom prst="cloudCallout">
              <a:avLst>
                <a:gd name="adj1" fmla="val -55430"/>
                <a:gd name="adj2" fmla="val 68606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2"/>
            <p:cNvSpPr/>
            <p:nvPr/>
          </p:nvSpPr>
          <p:spPr>
            <a:xfrm>
              <a:off x="1161360" y="19162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辽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3"/>
          <p:cNvGrpSpPr/>
          <p:nvPr/>
        </p:nvGrpSpPr>
        <p:grpSpPr>
          <a:xfrm>
            <a:off x="2916000" y="692280"/>
            <a:ext cx="1901880" cy="1008000"/>
            <a:chOff x="2916000" y="692280"/>
            <a:chExt cx="1901880" cy="1008000"/>
          </a:xfrm>
        </p:grpSpPr>
        <p:sp>
          <p:nvSpPr>
            <p:cNvPr id="71" name="AutoShape 14"/>
            <p:cNvSpPr/>
            <p:nvPr/>
          </p:nvSpPr>
          <p:spPr>
            <a:xfrm flipH="1">
              <a:off x="2915640" y="692280"/>
              <a:ext cx="1901880" cy="1008000"/>
            </a:xfrm>
            <a:prstGeom prst="cloudCallout">
              <a:avLst>
                <a:gd name="adj1" fmla="val -32930"/>
                <a:gd name="adj2" fmla="val 101768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5"/>
            <p:cNvSpPr/>
            <p:nvPr/>
          </p:nvSpPr>
          <p:spPr>
            <a:xfrm>
              <a:off x="3573000" y="84312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跳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6"/>
          <p:cNvGrpSpPr/>
          <p:nvPr/>
        </p:nvGrpSpPr>
        <p:grpSpPr>
          <a:xfrm>
            <a:off x="4932360" y="692280"/>
            <a:ext cx="1708200" cy="1137960"/>
            <a:chOff x="4932360" y="692280"/>
            <a:chExt cx="1708200" cy="1137960"/>
          </a:xfrm>
        </p:grpSpPr>
        <p:sp>
          <p:nvSpPr>
            <p:cNvPr id="74" name="AutoShape 17"/>
            <p:cNvSpPr/>
            <p:nvPr/>
          </p:nvSpPr>
          <p:spPr>
            <a:xfrm>
              <a:off x="4932360" y="692280"/>
              <a:ext cx="1708200" cy="11379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8"/>
            <p:cNvSpPr/>
            <p:nvPr/>
          </p:nvSpPr>
          <p:spPr>
            <a:xfrm>
              <a:off x="5543280" y="9604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体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9"/>
          <p:cNvGrpSpPr/>
          <p:nvPr/>
        </p:nvGrpSpPr>
        <p:grpSpPr>
          <a:xfrm>
            <a:off x="6659640" y="765000"/>
            <a:ext cx="1860480" cy="914040"/>
            <a:chOff x="6659640" y="765000"/>
            <a:chExt cx="1860480" cy="914040"/>
          </a:xfrm>
        </p:grpSpPr>
        <p:sp>
          <p:nvSpPr>
            <p:cNvPr id="77" name="AutoShape 20"/>
            <p:cNvSpPr/>
            <p:nvPr/>
          </p:nvSpPr>
          <p:spPr>
            <a:xfrm flipH="1">
              <a:off x="6659640" y="765000"/>
              <a:ext cx="1860480" cy="914040"/>
            </a:xfrm>
            <a:prstGeom prst="cloudCallout">
              <a:avLst>
                <a:gd name="adj1" fmla="val -78819"/>
                <a:gd name="adj2" fmla="val 101870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1"/>
            <p:cNvSpPr/>
            <p:nvPr/>
          </p:nvSpPr>
          <p:spPr>
            <a:xfrm>
              <a:off x="7435440" y="76500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渔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2"/>
          <p:cNvGrpSpPr/>
          <p:nvPr/>
        </p:nvGrpSpPr>
        <p:grpSpPr>
          <a:xfrm>
            <a:off x="6178320" y="4013280"/>
            <a:ext cx="1904760" cy="914400"/>
            <a:chOff x="6178320" y="4013280"/>
            <a:chExt cx="1904760" cy="914400"/>
          </a:xfrm>
        </p:grpSpPr>
        <p:sp>
          <p:nvSpPr>
            <p:cNvPr id="80" name="AutoShape 23"/>
            <p:cNvSpPr/>
            <p:nvPr/>
          </p:nvSpPr>
          <p:spPr>
            <a:xfrm>
              <a:off x="6178320" y="4013280"/>
              <a:ext cx="1904760" cy="9144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4"/>
            <p:cNvSpPr/>
            <p:nvPr/>
          </p:nvSpPr>
          <p:spPr>
            <a:xfrm>
              <a:off x="6495480" y="407124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内蒙古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5"/>
          <p:cNvGrpSpPr/>
          <p:nvPr/>
        </p:nvGrpSpPr>
        <p:grpSpPr>
          <a:xfrm>
            <a:off x="6659640" y="1844640"/>
            <a:ext cx="1904760" cy="1066680"/>
            <a:chOff x="6659640" y="1844640"/>
            <a:chExt cx="1904760" cy="1066680"/>
          </a:xfrm>
        </p:grpSpPr>
        <p:sp>
          <p:nvSpPr>
            <p:cNvPr id="83" name="AutoShape 26"/>
            <p:cNvSpPr/>
            <p:nvPr/>
          </p:nvSpPr>
          <p:spPr>
            <a:xfrm>
              <a:off x="6659640" y="1844640"/>
              <a:ext cx="1904760" cy="106668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7"/>
            <p:cNvSpPr/>
            <p:nvPr/>
          </p:nvSpPr>
          <p:spPr>
            <a:xfrm>
              <a:off x="7362000" y="203400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低飞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8"/>
          <p:cNvGrpSpPr/>
          <p:nvPr/>
        </p:nvGrpSpPr>
        <p:grpSpPr>
          <a:xfrm>
            <a:off x="4859280" y="1916280"/>
            <a:ext cx="1905120" cy="837720"/>
            <a:chOff x="4859280" y="1916280"/>
            <a:chExt cx="1905120" cy="837720"/>
          </a:xfrm>
        </p:grpSpPr>
        <p:sp>
          <p:nvSpPr>
            <p:cNvPr id="86" name="AutoShape 29"/>
            <p:cNvSpPr/>
            <p:nvPr/>
          </p:nvSpPr>
          <p:spPr>
            <a:xfrm>
              <a:off x="4859280" y="1916280"/>
              <a:ext cx="1837800" cy="837720"/>
            </a:xfrm>
            <a:prstGeom prst="cloudCallout">
              <a:avLst>
                <a:gd name="adj1" fmla="val -65532"/>
                <a:gd name="adj2" fmla="val 114351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5416200" y="1916280"/>
              <a:ext cx="1348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宁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31"/>
          <p:cNvGrpSpPr/>
          <p:nvPr/>
        </p:nvGrpSpPr>
        <p:grpSpPr>
          <a:xfrm>
            <a:off x="611280" y="2924280"/>
            <a:ext cx="1904760" cy="838080"/>
            <a:chOff x="611280" y="2924280"/>
            <a:chExt cx="1904760" cy="838080"/>
          </a:xfrm>
        </p:grpSpPr>
        <p:sp>
          <p:nvSpPr>
            <p:cNvPr id="89" name="AutoShape 32"/>
            <p:cNvSpPr/>
            <p:nvPr/>
          </p:nvSpPr>
          <p:spPr>
            <a:xfrm>
              <a:off x="611280" y="2924280"/>
              <a:ext cx="1904760" cy="838080"/>
            </a:xfrm>
            <a:prstGeom prst="cloudCallout">
              <a:avLst>
                <a:gd name="adj1" fmla="val -35643"/>
                <a:gd name="adj2" fmla="val 6233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33"/>
            <p:cNvSpPr/>
            <p:nvPr/>
          </p:nvSpPr>
          <p:spPr>
            <a:xfrm>
              <a:off x="1301400" y="29242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牧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4"/>
          <p:cNvGrpSpPr/>
          <p:nvPr/>
        </p:nvGrpSpPr>
        <p:grpSpPr>
          <a:xfrm>
            <a:off x="2771280" y="1844640"/>
            <a:ext cx="1754280" cy="937080"/>
            <a:chOff x="2771280" y="1844640"/>
            <a:chExt cx="1754280" cy="937080"/>
          </a:xfrm>
        </p:grpSpPr>
        <p:sp>
          <p:nvSpPr>
            <p:cNvPr id="92" name="AutoShape 35"/>
            <p:cNvSpPr/>
            <p:nvPr/>
          </p:nvSpPr>
          <p:spPr>
            <a:xfrm flipH="1">
              <a:off x="2770920" y="1844640"/>
              <a:ext cx="1754280" cy="929880"/>
            </a:xfrm>
            <a:prstGeom prst="cloudCallout">
              <a:avLst>
                <a:gd name="adj1" fmla="val -56074"/>
                <a:gd name="adj2" fmla="val 7122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6"/>
            <p:cNvSpPr/>
            <p:nvPr/>
          </p:nvSpPr>
          <p:spPr>
            <a:xfrm>
              <a:off x="3398040" y="201744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丰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37"/>
          <p:cNvGrpSpPr/>
          <p:nvPr/>
        </p:nvGrpSpPr>
        <p:grpSpPr>
          <a:xfrm>
            <a:off x="2627280" y="2781360"/>
            <a:ext cx="2057040" cy="990720"/>
            <a:chOff x="2627280" y="2781360"/>
            <a:chExt cx="2057040" cy="990720"/>
          </a:xfrm>
        </p:grpSpPr>
        <p:sp>
          <p:nvSpPr>
            <p:cNvPr id="95" name="AutoShape 38"/>
            <p:cNvSpPr/>
            <p:nvPr/>
          </p:nvSpPr>
          <p:spPr>
            <a:xfrm>
              <a:off x="2627280" y="2781360"/>
              <a:ext cx="1994040" cy="9907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993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9"/>
            <p:cNvSpPr/>
            <p:nvPr/>
          </p:nvSpPr>
          <p:spPr>
            <a:xfrm>
              <a:off x="3100680" y="2946240"/>
              <a:ext cx="158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增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AutoShape 43"/>
          <p:cNvSpPr/>
          <p:nvPr/>
        </p:nvSpPr>
        <p:spPr>
          <a:xfrm>
            <a:off x="4572000" y="2852640"/>
            <a:ext cx="2438280" cy="1067040"/>
          </a:xfrm>
          <a:prstGeom prst="cloudCallout">
            <a:avLst>
              <a:gd name="adj1" fmla="val 22263"/>
              <a:gd name="adj2" fmla="val 6383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伦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4"/>
          <p:cNvSpPr/>
          <p:nvPr/>
        </p:nvSpPr>
        <p:spPr>
          <a:xfrm>
            <a:off x="3276720" y="0"/>
            <a:ext cx="32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词语朋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19520" y="1413000"/>
            <a:ext cx="16426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  <a:ea typeface="华文彩云"/>
              </a:rPr>
              <a:t>考　考　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2124000" y="404640"/>
            <a:ext cx="5256360" cy="88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呼  内  </a:t>
            </a: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辽  阔   增  添  丰   牧  民   跃  低   网  体   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宁  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pic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676520" y="990720"/>
            <a:ext cx="556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333399"/>
                </a:solidFill>
                <a:latin typeface="Times New Roman"/>
                <a:ea typeface="华文彩云"/>
              </a:rPr>
              <a:t>边读边思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95280" y="2895480"/>
            <a:ext cx="60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呼伦湖在什么地方？它有什么特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3:07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3:39Z</dcterms:modified>
  <cp:revision>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