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D06F-33BE-45D2-81BF-47DD0750DF8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1458-4BBB-442F-8FAF-05D7AEE302C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9609-C151-4A6D-A207-A7EF2845A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17B4-03E5-4F32-A945-A128CC3D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EB58-3074-47FB-A02F-53BE00A5D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E487-DC43-42A8-BAF7-9EBAA8864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9CC2-AC25-41B7-AAE1-EDA1187E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B2F5-2EFA-40D4-9693-CD0FB00F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61FC-5E34-402A-AFDD-C306B60B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179F-2C73-4ECF-BE03-451A2221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B895-8F45-47AC-9192-FE260473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5132-FB20-4C9C-BC32-CB5EF0B5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04CE-FA3B-45EB-BA71-8324DA70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4193-2557-4E3A-954F-1CDC5204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67B1-98D5-4FD2-BBDE-1E9F1E41D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8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21.xml"/><Relationship Id="rId6" Type="http://schemas.openxmlformats.org/officeDocument/2006/relationships/slide" Target="slide22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5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30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909160" y="74916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3300"/>
                </a:solidFill>
                <a:latin typeface="华文隶书"/>
                <a:ea typeface="华文隶书"/>
              </a:rPr>
              <a:t>蒙蒙细雨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矩形 5" descr=""/>
          <p:cNvPicPr/>
          <p:nvPr/>
        </p:nvPicPr>
        <p:blipFill>
          <a:blip r:embed="rId2"/>
          <a:stretch/>
        </p:blipFill>
        <p:spPr>
          <a:xfrm>
            <a:off x="1795320" y="5867280"/>
            <a:ext cx="567216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382680" y="31240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蒙蒙细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1905120" y="685800"/>
            <a:ext cx="228600" cy="5410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40760 h 5410080"/>
              <a:gd name="textAreaBottom" fmla="*/ 5269320 h 541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668680" y="152388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看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3657600" y="762120"/>
            <a:ext cx="152280" cy="198108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405320" y="91440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田野湿漉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4557600" y="1905120"/>
            <a:ext cx="178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山村像童话世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2668680" y="37339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听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3657600" y="2971800"/>
            <a:ext cx="152280" cy="198108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4481640" y="312408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云雀翻飞欢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304920" y="343224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迎着蒙蒙细雨，我转过身来，透过玻璃窗，向屋子里望去：啊！书声琅琅的教室里，不也在下着一场融融春雨吗？那辛勤的藏族女教师，正在播洒着科学文化的雨露；孩子们红扑扑的脸蛋儿，美过那雨雾中的桃花，清脆的读书声，赛过那云雀的歌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透过教室的窗口，我眺望到未来的雪山之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3"/>
          <p:cNvSpPr/>
          <p:nvPr/>
        </p:nvSpPr>
        <p:spPr>
          <a:xfrm>
            <a:off x="4495680" y="990720"/>
            <a:ext cx="3810240" cy="1600200"/>
          </a:xfrm>
          <a:prstGeom prst="cloudCallout">
            <a:avLst>
              <a:gd name="adj1" fmla="val -31041"/>
              <a:gd name="adj2" fmla="val 83134"/>
            </a:avLst>
          </a:prstGeom>
          <a:solidFill>
            <a:srgbClr val="ff65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作者又听到了什么？想到了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1066680" y="4191120"/>
            <a:ext cx="72392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0" y="1066680"/>
            <a:ext cx="4267080" cy="1828800"/>
          </a:xfrm>
          <a:prstGeom prst="wedgeRoundRectCallout">
            <a:avLst>
              <a:gd name="adj1" fmla="val 23101"/>
              <a:gd name="adj2" fmla="val 81078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书声琅琅的教室里也会下春雨吗？这里的“春雨”指的是什么？把“教师”比作“春露”，那读书的孩子们呢？想象此时作者在想什么？是什么样的心情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7"/>
          <p:cNvSpPr/>
          <p:nvPr/>
        </p:nvSpPr>
        <p:spPr>
          <a:xfrm>
            <a:off x="3733920" y="5715000"/>
            <a:ext cx="31240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19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82680" y="31240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蒙蒙细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"/>
          <p:cNvSpPr/>
          <p:nvPr/>
        </p:nvSpPr>
        <p:spPr>
          <a:xfrm>
            <a:off x="1905120" y="685800"/>
            <a:ext cx="228600" cy="5410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40760 h 5410080"/>
              <a:gd name="textAreaBottom" fmla="*/ 5269320 h 541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668680" y="152388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看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3657600" y="762120"/>
            <a:ext cx="152280" cy="198108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4405320" y="91440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田野湿漉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4557600" y="1905120"/>
            <a:ext cx="178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山村像童话世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2668680" y="37339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听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9"/>
          <p:cNvSpPr/>
          <p:nvPr/>
        </p:nvSpPr>
        <p:spPr>
          <a:xfrm>
            <a:off x="3657600" y="2971800"/>
            <a:ext cx="152280" cy="198108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4481640" y="312408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云雀翻飞欢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4481640" y="411480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教师书声琅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2789280" y="541008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想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4481640" y="541008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雪山春意盎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6781680" y="838080"/>
            <a:ext cx="304920" cy="5181840"/>
          </a:xfrm>
          <a:custGeom>
            <a:avLst/>
            <a:gdLst>
              <a:gd name="textAreaLeft" fmla="*/ 0 w 304920"/>
              <a:gd name="textAreaRight" fmla="*/ 110160 w 304920"/>
              <a:gd name="textAreaTop" fmla="*/ 135000 h 5181840"/>
              <a:gd name="textAreaBottom" fmla="*/ 5046840 h 518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7545240" y="31240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借景抒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4"/>
          <p:cNvSpPr/>
          <p:nvPr/>
        </p:nvSpPr>
        <p:spPr>
          <a:xfrm>
            <a:off x="2133720" y="1219320"/>
            <a:ext cx="4876560" cy="41716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联系春天的美景，说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说春雨中的校园（或家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的某一个景区，如公园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广场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是什么样子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2771640" y="11430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135160" y="1889280"/>
            <a:ext cx="1628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漫（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慢（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2135160" y="3413160"/>
            <a:ext cx="1628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滴（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摘（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135160" y="4784760"/>
            <a:ext cx="1628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留（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流（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5640480" y="1889280"/>
            <a:ext cx="1628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瓣（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辨（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5640480" y="3413160"/>
            <a:ext cx="1628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戴（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带（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5640480" y="4784760"/>
            <a:ext cx="1628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幕（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摸（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1972080" y="304920"/>
            <a:ext cx="6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填上表示颜色的词语，在读一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916200" y="2270160"/>
            <a:ext cx="31525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）的麦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）的柳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）的天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5183280" y="2270160"/>
            <a:ext cx="31525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）的花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）的田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）的脸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2207520" y="38088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读一读，联系上下文体会句子的意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52280" y="1660680"/>
            <a:ext cx="876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举目望去，春雨中的藏族山村，像一个缀满珍珠宝石的童话世界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52280" y="4114800"/>
            <a:ext cx="876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啊！书声琅琅的教室里，不也在下着一场融融春雨吗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UF670274598001253883318"/>
          <p:cNvPicPr/>
          <p:nvPr/>
        </p:nvPicPr>
        <p:blipFill>
          <a:blip r:embed="rId1"/>
          <a:stretch/>
        </p:blipFill>
        <p:spPr>
          <a:xfrm>
            <a:off x="533520" y="1461960"/>
            <a:ext cx="2809800" cy="39340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3429000" y="1828800"/>
            <a:ext cx="548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杨星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(1925—2000)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，生于四川省威远县严陵镇西街一知识分子家庭，从小受到良好的家庭教育。少年时代，她勤奋好学，文理兼优，全面发展，立志成为祖国有用之才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95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年，她出版了诗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雪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97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年，她又出版了诗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拉萨的山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。此外，她还出版了小说散文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雪山红杜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。她创作的电影文学剧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巴山儿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，被拍成彩色宽银幕故事片在全国上映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6320" y="-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参考资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0" descr="001"/>
          <p:cNvPicPr/>
          <p:nvPr/>
        </p:nvPicPr>
        <p:blipFill>
          <a:blip r:embed="rId1"/>
          <a:stretch/>
        </p:blipFill>
        <p:spPr>
          <a:xfrm>
            <a:off x="1981080" y="1523880"/>
            <a:ext cx="5181840" cy="34513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1"/>
          <p:cNvSpPr/>
          <p:nvPr/>
        </p:nvSpPr>
        <p:spPr>
          <a:xfrm>
            <a:off x="4176720" y="57913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藏族山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"/>
          <p:cNvSpPr/>
          <p:nvPr/>
        </p:nvSpPr>
        <p:spPr>
          <a:xfrm>
            <a:off x="-9360" y="530280"/>
            <a:ext cx="61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3871800" y="1981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  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6"/>
          <p:cNvSpPr/>
          <p:nvPr/>
        </p:nvSpPr>
        <p:spPr>
          <a:xfrm>
            <a:off x="3795840" y="1674720"/>
            <a:ext cx="1552320" cy="27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好雨知时节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当春乃发生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随风潜入夜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润物细无声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5715000" y="380880"/>
            <a:ext cx="3276720" cy="1447920"/>
          </a:xfrm>
          <a:prstGeom prst="cloudCallout">
            <a:avLst>
              <a:gd name="adj1" fmla="val -45930"/>
              <a:gd name="adj2" fmla="val 75217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这首诗描写的是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8"/>
          <p:cNvSpPr/>
          <p:nvPr/>
        </p:nvSpPr>
        <p:spPr>
          <a:xfrm>
            <a:off x="0" y="4724280"/>
            <a:ext cx="3276720" cy="1447920"/>
          </a:xfrm>
          <a:prstGeom prst="cloudCallout">
            <a:avLst>
              <a:gd name="adj1" fmla="val 92250"/>
              <a:gd name="adj2" fmla="val -40680"/>
            </a:avLst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你能说说形容春雨的词语或句子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导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87C9-67CA-40CD-BF5D-78C995529AA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28600" y="1371600"/>
            <a:ext cx="86853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迎着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蒙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mén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蒙细雨，我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漫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mà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步在雪山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田野，湿漉漉的，翠绿的麦苗儿，捧着水珠；鲜红的花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瓣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bà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上，滚动着水珠；鹅黄色的柳枝上，挂着串串水珠；上学少女的发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 action="ppaction://hlinksldjump"/>
              </a:rPr>
              <a:t>辫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bià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上，也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6" action="ppaction://hlinksldjump"/>
              </a:rPr>
              <a:t>戴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dài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着亮晶晶的水珠儿。举目望去，春雨中的藏［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zàn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］族山村，像一个缀满珍珠宝石的童话世界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024440" y="5335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蒙蒙细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识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208080" y="3127320"/>
            <a:ext cx="872784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突然，噗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pū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，一只金色的云雀，抖落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翅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hì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膀上的水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滴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dī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飞过田野，飞向山坡下的小学校。待我来到学校教室前面，那云雀又抖着亮晶晶的翅膀，飞过绿色的田野，融入蓝色的天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幕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mù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中，只有那一串清脆的叫声，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 action="ppaction://hlinksldjump"/>
              </a:rPr>
              <a:t>留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liú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在我的耳旁。我仔细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6" action="ppaction://hlinksldjump"/>
              </a:rPr>
              <a:t>辨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bià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着，这云雀的鸣叫声，分明是在欢呼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雨春雨，春雨春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304920" y="3432240"/>
            <a:ext cx="85341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迎着蒙蒙细雨，我转过身来，透过玻璃窗，向屋子里望去：啊！书声琅琅的教室里，不也在下着一场融融春雨吗？那辛勤的藏族女教师，正在播洒着科学文化的雨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露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lù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；孩子们红扑扑的脸蛋儿，美过那雨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雾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wù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中的桃花，清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脆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uì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读书声，赛过那云雀的歌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透过教室的窗口，我眺望到未来的雪山之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12"/>
          <p:cNvSpPr/>
          <p:nvPr/>
        </p:nvSpPr>
        <p:spPr>
          <a:xfrm>
            <a:off x="5638680" y="55627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228600" y="1371600"/>
            <a:ext cx="868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迎着蒙蒙细雨，我漫步在雪山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田野，湿漉漉的，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翠绿的麦苗儿，捧着水珠；鲜红的花瓣上，滚动着水珠；鹅黄色的柳枝上，挂着串串水珠；上学少女的发辫上，也戴着亮晶晶的水珠儿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举目望去，春雨中的藏族山村，像一个缀满珍珠宝石的童话世界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4024440" y="5335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蒙蒙细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4"/>
          <p:cNvSpPr/>
          <p:nvPr/>
        </p:nvSpPr>
        <p:spPr>
          <a:xfrm>
            <a:off x="4572000" y="4495680"/>
            <a:ext cx="3809880" cy="1600200"/>
          </a:xfrm>
          <a:prstGeom prst="cloudCallout">
            <a:avLst>
              <a:gd name="adj1" fmla="val -42666"/>
              <a:gd name="adj2" fmla="val -99305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课文描写了蒙蒙细雨中的哪些景物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"/>
          <p:cNvSpPr/>
          <p:nvPr/>
        </p:nvSpPr>
        <p:spPr>
          <a:xfrm>
            <a:off x="5715000" y="152280"/>
            <a:ext cx="3276720" cy="1376640"/>
          </a:xfrm>
          <a:prstGeom prst="cloudCallout">
            <a:avLst>
              <a:gd name="adj1" fmla="val -45106"/>
              <a:gd name="adj2" fmla="val 60842"/>
            </a:avLst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你仿佛看到了什么？听到了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304920" y="3276720"/>
            <a:ext cx="5257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7"/>
          <p:cNvSpPr/>
          <p:nvPr/>
        </p:nvSpPr>
        <p:spPr>
          <a:xfrm>
            <a:off x="6934320" y="2895480"/>
            <a:ext cx="1828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228600" y="3657600"/>
            <a:ext cx="3581280" cy="1143000"/>
          </a:xfrm>
          <a:prstGeom prst="wedgeRoundRectCallout">
            <a:avLst>
              <a:gd name="adj1" fmla="val 33245"/>
              <a:gd name="adj2" fmla="val -77361"/>
              <a:gd name="adj3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缀满珍珠宝石”指的是什么？说说你对这句话的理解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3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228600" y="1371600"/>
            <a:ext cx="868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迎着蒙蒙细雨，我漫步在雪山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田野，湿漉漉的，翠绿的麦苗儿，捧着水珠；鲜红的花瓣上，滚动着水珠；鹅黄色的柳枝上，挂着串串水珠；上学少女的发辫上，也戴着亮晶晶的水珠儿。举目望去，春雨中的藏族山村，像一个缀满珍珠宝石的童话世界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024440" y="5335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蒙蒙细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990720" y="2133720"/>
            <a:ext cx="21333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>
            <a:off x="380880" y="3276720"/>
            <a:ext cx="11430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8"/>
          <p:cNvSpPr/>
          <p:nvPr/>
        </p:nvSpPr>
        <p:spPr>
          <a:xfrm>
            <a:off x="4343400" y="3276720"/>
            <a:ext cx="11430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382680" y="31240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蒙蒙细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1905120" y="723960"/>
            <a:ext cx="228600" cy="5410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40760 h 5410080"/>
              <a:gd name="textAreaBottom" fmla="*/ 5269320 h 541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2668680" y="152388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看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"/>
          <p:cNvSpPr/>
          <p:nvPr/>
        </p:nvSpPr>
        <p:spPr>
          <a:xfrm>
            <a:off x="3657600" y="762120"/>
            <a:ext cx="152280" cy="198108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4405320" y="91440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田野湿漉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4557600" y="1905120"/>
            <a:ext cx="178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山村像童话世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208080" y="3127320"/>
            <a:ext cx="872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突然，噗的一声，一只金色的云雀，抖落翅膀上的水滴，飞过田野，飞向山坡下的小学校。待我来到学校教室前面，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那云雀又抖着亮晶晶的翅膀，飞过绿色的田野，融入蓝色的天幕中，只有那一串清脆的叫声，留在我的耳旁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仔细分辨着，这云雀的鸣叫声，分明是在欢呼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雨春雨，春雨春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"/>
          <p:cNvSpPr/>
          <p:nvPr/>
        </p:nvSpPr>
        <p:spPr>
          <a:xfrm>
            <a:off x="5562720" y="4648320"/>
            <a:ext cx="32004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"/>
          <p:cNvSpPr/>
          <p:nvPr/>
        </p:nvSpPr>
        <p:spPr>
          <a:xfrm>
            <a:off x="304920" y="5029200"/>
            <a:ext cx="70866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1219320" y="609480"/>
            <a:ext cx="3809880" cy="1600200"/>
          </a:xfrm>
          <a:prstGeom prst="cloudCallout">
            <a:avLst>
              <a:gd name="adj1" fmla="val 52708"/>
              <a:gd name="adj2" fmla="val 9652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这一段末尾的省略号在这里起什么作用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8229600" y="3886200"/>
            <a:ext cx="6094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7"/>
          <p:cNvSpPr/>
          <p:nvPr/>
        </p:nvSpPr>
        <p:spPr>
          <a:xfrm>
            <a:off x="609480" y="5029200"/>
            <a:ext cx="5335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2743200" y="5029200"/>
            <a:ext cx="5335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9"/>
          <p:cNvSpPr/>
          <p:nvPr/>
        </p:nvSpPr>
        <p:spPr>
          <a:xfrm>
            <a:off x="3429000" y="4267080"/>
            <a:ext cx="3049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6T05:47:5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30:24Z</dcterms:modified>
  <cp:revision>8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