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click.wav" ContentType="audio/x-wav"/>
  <Override PartName="/ppt/media/image5.jpeg" ContentType="image/jpeg"/>
  <Override PartName="/ppt/media/type.wav" ContentType="audio/x-wav"/>
  <Override PartName="/ppt/media/image14.gif" ContentType="image/gif"/>
  <Override PartName="/ppt/media/image4.jpeg" ContentType="image/jpeg"/>
  <Override PartName="/ppt/media/suction.wav" ContentType="audio/x-wav"/>
  <Override PartName="/ppt/media/image3.jpeg" ContentType="image/jpeg"/>
  <Override PartName="/ppt/media/image15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breeze.wav" ContentType="audio/x-wav"/>
  <Override PartName="/ppt/media/chimes.wav" ContentType="audio/x-wav"/>
  <Override PartName="/ppt/media/wind.wav" ContentType="audio/x-wav"/>
  <Override PartName="/ppt/media/image19.jpeg" ContentType="image/jpeg"/>
  <Override PartName="/ppt/media/image1.jpeg" ContentType="image/jpeg"/>
  <Override PartName="/ppt/media/image18.jpeg" ContentType="image/jpeg"/>
  <Override PartName="/ppt/media/image13.jpeg" ContentType="image/jpeg"/>
  <Override PartName="/ppt/media/image21.png" ContentType="image/png"/>
  <Override PartName="/ppt/media/image16.gif" ContentType="image/gif"/>
  <Override PartName="/ppt/media/image12.png" ContentType="image/png"/>
  <Override PartName="/ppt/media/image20.jpeg" ContentType="image/jpeg"/>
  <Override PartName="/ppt/media/image11.wmf" ContentType="image/x-wmf"/>
  <Override PartName="/ppt/media/image17.jpeg" ContentType="image/jpeg"/>
  <Override PartName="/ppt/media/image2.jpeg" ContentType="image/jpeg"/>
  <Override PartName="/ppt/media/voltage.wav" ContentType="audio/x-wav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AE29-AB0A-4340-A72F-D279C4D1E96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0305-BBD9-4462-890C-CBBA0521EF2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BDDD-296C-45DE-B109-645370469FB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4DE8-6B79-455D-9AEF-90FE809FB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E9E4-B532-4F5D-B998-84794392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EF17D-4D61-4A28-BD58-E371C8B7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4A08A4-4907-437E-90B8-74E3992B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EC777-81AC-4AA2-8921-3CFC2377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58A2DF-803E-44E7-89B2-93667653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77A14-9B89-450C-91C8-3B21687B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4B653-CBFE-451F-948E-24C82EB4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43173-0F11-4A6D-8962-E9E42100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FC424-C008-4C5B-B286-E31882F38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7C649-59F1-4D8A-B3BF-E127EBB37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5E698-B1F1-4E62-88FF-3AD294364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D3FE-9E82-4161-8F5B-BD202DB85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77511C-C09B-4494-BEC8-0D83DB0D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C44552-F195-4F4A-83F3-520D9BD1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57388-4E43-4256-879C-C93C12C2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A8D42-1A18-4D24-A891-CBD1308F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E5881-3F04-4DDA-A405-0A3A4DBD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284B22-BE25-42D2-BF81-2122B5F4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CB586-81BC-48E2-B8D8-AAC7D615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D9EF4-385D-4520-BAD8-AC0404DC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1936C6-B2FA-4C4E-9F9B-103499BA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B5F23-E67B-4F09-B9CC-16EB1467C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55D3-12C1-41CB-8EBB-CA5AB5B64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61E85-5E5E-4367-82E1-BAB5E3C37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75EF7-9FC7-4D87-A2D9-B90666C6B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51D75-4EAB-44D7-936F-0CC99810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52F1E-FEF2-4E45-95B6-B4D7B0CF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7523B-D8B1-48BD-8D52-75CBBD3A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97A23-E1CD-48E5-A790-5F56AE9F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0569E-8D6A-4FD6-B8E8-B9E6C24C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17FD3-7028-413A-96E5-5CC065A9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37081-D29A-4D72-A4C3-DDF85C3D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C4A4B-6D21-46BC-8F5B-5D283C7B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2689-FE5D-425F-87F6-3B9C8575B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C1D70-9CB3-446A-820F-F17CB114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CD3E9-B0B1-437D-9137-8AB8DECE7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7DD11-2EC3-4E36-8A2B-FBB8FB79F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83FA88-924F-4CBF-8C1B-5C48B3379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BC985D-77F2-49FD-91CC-005521A9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F822A-7944-421D-B5F2-418FAAFE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CD18C8-1687-47CF-B090-C3505AFD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CC975F-576F-48C1-973F-C64A2B21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0356CF-A4BE-4EBB-8290-E36C3DD6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039EF0-650A-4698-9087-3CF6D3E5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918C-B968-4165-A46C-98C17DA0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0F8C39-6D9A-4B02-A162-3833F928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7A6F9D-186C-4936-9DCE-48C326DA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787770-E716-4543-BB16-233F9CAA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9C907E-5585-4750-829B-0A26DB60A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61A872-EA56-467D-A333-64789DF56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7EF6-79BC-4E61-B4A2-F111C7C0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3BB2-6D95-46A4-9958-785A1DA6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78A9-6013-43B9-B1C0-F316F509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7E01-D7C2-4232-B711-CD874158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718E-BBE5-4BAC-BE32-0004CC56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3DF0-58B5-46D8-971D-261AB60C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2721-8469-47E4-AE47-11A77FFA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974A-B024-48D9-8A4A-2BAD3E91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0C61-F5B7-47BF-97C6-016B6DB3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6AC6-FB71-464C-B4FD-2BC00FC1F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BBF4-D94D-4D99-B9DF-DA42A13EB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2428B-0E4A-4DB7-B00A-B5B75D3BC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D1C9E-0865-46A3-8383-D00B04BA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54BFC-A97C-4288-A44E-7240A2E0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24D1C-7D4C-40F6-86A6-F15D3BCD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B8223-ED68-4024-B2A7-D4AB2AD9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9DC8-7FF5-4C83-854F-674E1F74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9D2E8-32DD-42E9-9C3E-E34604AC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7A730-B293-4364-AC40-CD8E3473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0D57F-37A9-4728-B607-13D46D70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8EA87-AD7B-4ADA-89EF-05872E71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054C9-03FD-40A5-881D-B51A4917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30859-A3D9-4965-9FFA-3D1A500BD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87361-896E-4198-9159-E331A10E8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5FD49-6431-46B2-8A4E-5F9675A78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6BBF5-B162-4D67-B31B-A7E6C851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EE402-9AC6-4695-A1A0-14B23BAA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07D1-2862-4C36-8D80-F8F4D0F5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943FA-3609-46D8-9BFD-7B0D5C95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DF6E3-B6A1-4E88-AB1A-80EA18BE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E5916-0B52-42D2-8097-EAB35714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D18CF-FA0E-483F-992C-F1105A08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B1354-65DB-41F5-A630-E673DBD0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DD46D-7FB3-447C-A13B-ECF2DC62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96EA8-FBF3-4FF5-B036-C0F655A5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BD0A0-2CDB-4A18-A679-DD2F4E183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46755-246E-4B16-B9F6-B48F3151E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18DA6-61C5-41F5-AEF1-390401275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69CE-B2C2-4935-9598-F0AEB6EB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D7A7F-C18A-4616-AB63-98D6094C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71113-E6AB-4B2B-B166-5BB1B35B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7A420-FA4C-4885-A82E-62F3010A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EED56-5431-4CDE-ACC7-8D783F8F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14F40-47C7-488F-B6BD-056BC6F6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32FAD-A659-47A3-BEB4-EF6E7DFB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C9756-D370-4498-B60E-E119E6F6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71D26-30C0-4D95-ADC5-DD6C41AA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82B41-253E-422B-9656-EBD25AD4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DB86C-A5DF-4A25-9EFC-9C8CD608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6534-806D-4DC4-8606-91902568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7DD9E-FCB4-4822-94E8-E30F75902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04F47-2786-4CC0-B59E-E0366E7C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A909F-F19B-46F0-98B8-7714960E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3CB38-E610-42B9-8741-ACD83B90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F1B88-4BF3-4B64-AE5B-1EC2B08D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1578C-CF30-4DF8-A000-B2448EF0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22FD1-0412-40EA-9CFE-DB2AF259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1C909-6534-40E8-AFA0-495D203F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969A9-7C8F-45D2-A13E-44B37A11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C3094-6BB3-4763-9DA6-C2484274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3DA2-5E7C-454D-9789-D3726379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68653-04EB-46F7-85DB-0957D043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3612B-5FDE-4327-8324-B6676476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D5973-476B-4642-8080-D93B5CB0D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F1610-D907-4364-B940-1A69374E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AD5B1-2888-4485-9106-40DD6733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B45EE-DAA7-4B7C-A257-007F9880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E43AF-BCF7-4748-A1F9-F59CD472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9138C-C7D0-4F30-94D9-00A2D6C4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D755E-4499-4EA1-9EA2-DC07BFAF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E4912-8212-4A06-B87E-D85C43C9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753A-542B-4ED6-9830-64A1F3EC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8B044-03A8-429C-B9A0-51D9B016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03DAB-DFC9-4418-9649-5C7727BE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81903-F8B8-4B24-818B-4ADB5826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85559-E4D9-44D6-8009-277D463AD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75479-FDC2-48D5-B9AE-FA3F2836F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F85E5-9F76-436A-BF26-A450723DC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C2B69-6359-4652-8618-F1324DE5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4658E-B834-450B-B022-11DA6979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93CF6-55C7-44B5-9448-5845E728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6AE4D-3DF6-4662-9FFB-0EA3FFA3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F27C-3096-41DA-9B26-BDA86F29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353FE-953E-4180-A71D-B5C55716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21ADE-0651-437A-AEA9-8F32C12F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C58AE-29F0-4C4F-973A-EEEE6E04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650BC-7F9A-4BF8-9378-7840EB58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A267C-2729-4F33-9D3F-99B78BC4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125F7-1651-4676-B49C-58370D9A4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B3FAF-6E73-4EB1-A6B3-FBD586EB6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2DF8D1-10B2-4477-A9E1-B1713FA89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63C13-B8DC-4039-BB20-9D214B1F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72CB9-2173-4B4B-A1A2-052BAF9E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D99E-09F4-4470-9E3F-42021B0BDC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6B43-7F4A-4B66-BB4A-BB63BF66154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07C1-41D6-47B0-9DFE-233FBFFCB1C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7D5A-8E6C-4D0D-9B51-ECB24A53394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66F9-8C0B-4C62-BFA0-A3649926020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4C52-596B-432F-ACB6-3FCB35A936B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45BA-449E-40B3-834D-2B1DECE1910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5591-BC0D-4F4B-B314-8146A72B9F6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E740-F958-43EB-86BB-DD0978871CF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8981-995E-48CF-AF88-D8D242EFBB3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04C7-F8E0-44DD-929D-202B64BE37B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AC7F-DD09-4DFC-947B-FAB654A6E6B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slide" Target="slide15.xml"/><Relationship Id="rId4" Type="http://schemas.openxmlformats.org/officeDocument/2006/relationships/slide" Target="slide20.xml"/><Relationship Id="rId5" Type="http://schemas.openxmlformats.org/officeDocument/2006/relationships/audio" Target="../media/suction.wav"/><Relationship Id="rId6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gif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gif"/><Relationship Id="rId3" Type="http://schemas.openxmlformats.org/officeDocument/2006/relationships/audio" Target="../media/wind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breez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3.xml"/><Relationship Id="rId3" Type="http://schemas.openxmlformats.org/officeDocument/2006/relationships/audio" Target="../media/type.wav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aike.baidu.com/view/43208.htm" TargetMode="External"/><Relationship Id="rId3" Type="http://schemas.openxmlformats.org/officeDocument/2006/relationships/hyperlink" Target="http://baike.baidu.com/view/171942.htm" TargetMode="External"/><Relationship Id="rId4" Type="http://schemas.openxmlformats.org/officeDocument/2006/relationships/hyperlink" Target="http://baike.baidu.com/view/5434.htm" TargetMode="External"/><Relationship Id="rId5" Type="http://schemas.openxmlformats.org/officeDocument/2006/relationships/hyperlink" Target="http://baike.baidu.com/view/61891.htm" TargetMode="External"/><Relationship Id="rId6" Type="http://schemas.openxmlformats.org/officeDocument/2006/relationships/hyperlink" Target="http://baike.baidu.com/view/95952.htm" TargetMode="External"/><Relationship Id="rId7" Type="http://schemas.openxmlformats.org/officeDocument/2006/relationships/hyperlink" Target="http://baike.baidu.com/view/10499.htm" TargetMode="External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aike.baidu.com/view/2088.htm" TargetMode="External"/><Relationship Id="rId3" Type="http://schemas.openxmlformats.org/officeDocument/2006/relationships/hyperlink" Target="http://baike.baidu.com/view/16781.htm" TargetMode="External"/><Relationship Id="rId4" Type="http://schemas.openxmlformats.org/officeDocument/2006/relationships/hyperlink" Target="http://baike.baidu.com/view/16915.htm" TargetMode="External"/><Relationship Id="rId5" Type="http://schemas.openxmlformats.org/officeDocument/2006/relationships/hyperlink" Target="http://baike.baidu.com/view/1616.htm" TargetMode="External"/><Relationship Id="rId6" Type="http://schemas.openxmlformats.org/officeDocument/2006/relationships/hyperlink" Target="http://baike.baidu.com/view/2222522.htm" TargetMode="External"/><Relationship Id="rId7" Type="http://schemas.openxmlformats.org/officeDocument/2006/relationships/hyperlink" Target="http://baike.baidu.com/view/48906.htm" TargetMode="External"/><Relationship Id="rId8" Type="http://schemas.openxmlformats.org/officeDocument/2006/relationships/hyperlink" Target="http://baike.baidu.com/view/953218.htm" TargetMode="External"/><Relationship Id="rId9" Type="http://schemas.openxmlformats.org/officeDocument/2006/relationships/hyperlink" Target="http://baike.baidu.com/view/968085.htm" TargetMode="External"/><Relationship Id="rId10" Type="http://schemas.openxmlformats.org/officeDocument/2006/relationships/hyperlink" Target="http://baike.baidu.com/view/4275067.htm" TargetMode="External"/><Relationship Id="rId11" Type="http://schemas.openxmlformats.org/officeDocument/2006/relationships/image" Target="../media/image19.jpeg"/><Relationship Id="rId12" Type="http://schemas.openxmlformats.org/officeDocument/2006/relationships/audio" Target="../media/chimes.wav"/><Relationship Id="rId13" Type="http://schemas.openxmlformats.org/officeDocument/2006/relationships/audio" Target="../media/wind.wav"/><Relationship Id="rId14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aike.baidu.com/view/954822.htm" TargetMode="External"/><Relationship Id="rId3" Type="http://schemas.openxmlformats.org/officeDocument/2006/relationships/hyperlink" Target="http://baike.baidu.com/view/4424096.htm" TargetMode="External"/><Relationship Id="rId4" Type="http://schemas.openxmlformats.org/officeDocument/2006/relationships/hyperlink" Target="http://baike.baidu.com/view/243621.htm" TargetMode="External"/><Relationship Id="rId5" Type="http://schemas.openxmlformats.org/officeDocument/2006/relationships/hyperlink" Target="http://baike.baidu.com/view/146051.htm" TargetMode="External"/><Relationship Id="rId6" Type="http://schemas.openxmlformats.org/officeDocument/2006/relationships/hyperlink" Target="http://baike.baidu.com/view/968085.htm" TargetMode="External"/><Relationship Id="rId7" Type="http://schemas.openxmlformats.org/officeDocument/2006/relationships/hyperlink" Target="http://baike.baidu.com/view/1267182.htm" TargetMode="External"/><Relationship Id="rId8" Type="http://schemas.openxmlformats.org/officeDocument/2006/relationships/hyperlink" Target="http://baike.baidu.com/view/107686.htm" TargetMode="External"/><Relationship Id="rId9" Type="http://schemas.openxmlformats.org/officeDocument/2006/relationships/hyperlink" Target="http://baike.baidu.com/view/2171.htm" TargetMode="External"/><Relationship Id="rId10" Type="http://schemas.openxmlformats.org/officeDocument/2006/relationships/hyperlink" Target="http://baike.baidu.com/view/188490.htm" TargetMode="External"/><Relationship Id="rId11" Type="http://schemas.openxmlformats.org/officeDocument/2006/relationships/hyperlink" Target="http://baike.baidu.com/view/93510.htm" TargetMode="External"/><Relationship Id="rId12" Type="http://schemas.openxmlformats.org/officeDocument/2006/relationships/hyperlink" Target="http://baike.baidu.com/view/167788.htm" TargetMode="External"/><Relationship Id="rId13" Type="http://schemas.openxmlformats.org/officeDocument/2006/relationships/hyperlink" Target="http://baike.baidu.com/view/128662.htm" TargetMode="External"/><Relationship Id="rId14" Type="http://schemas.openxmlformats.org/officeDocument/2006/relationships/image" Target="../media/image20.jpeg"/><Relationship Id="rId15" Type="http://schemas.openxmlformats.org/officeDocument/2006/relationships/image" Target="../media/image16.gif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1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audio" Target="../media/wind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audio" Target="../media/wind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4" descr="图片9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0" name="WordArt 5"/>
          <p:cNvSpPr txBox="1"/>
          <p:nvPr/>
        </p:nvSpPr>
        <p:spPr>
          <a:xfrm>
            <a:off x="1995480" y="981000"/>
            <a:ext cx="51530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木偶戏</a:t>
            </a:r>
            <a:endParaRPr b="1" lang="en-US" sz="6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501" name="图片 1" descr=""/>
          <p:cNvPicPr/>
          <p:nvPr/>
        </p:nvPicPr>
        <p:blipFill>
          <a:blip r:embed="rId2"/>
          <a:stretch/>
        </p:blipFill>
        <p:spPr>
          <a:xfrm>
            <a:off x="1995480" y="2852640"/>
            <a:ext cx="5153040" cy="3157560"/>
          </a:xfrm>
          <a:prstGeom prst="rect">
            <a:avLst/>
          </a:prstGeom>
          <a:ln w="0">
            <a:noFill/>
          </a:ln>
        </p:spPr>
      </p:pic>
      <p:sp>
        <p:nvSpPr>
          <p:cNvPr id="502" name="矩形 6"/>
          <p:cNvSpPr/>
          <p:nvPr/>
        </p:nvSpPr>
        <p:spPr>
          <a:xfrm>
            <a:off x="2036520" y="6264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4" descr="图片44"/>
          <p:cNvPicPr/>
          <p:nvPr/>
        </p:nvPicPr>
        <p:blipFill>
          <a:blip r:embed="rId1"/>
          <a:stretch/>
        </p:blipFill>
        <p:spPr>
          <a:xfrm>
            <a:off x="-395280" y="-457200"/>
            <a:ext cx="9753480" cy="7315200"/>
          </a:xfrm>
          <a:prstGeom prst="rect">
            <a:avLst/>
          </a:prstGeom>
          <a:ln w="0">
            <a:noFill/>
          </a:ln>
        </p:spPr>
      </p:pic>
      <p:grpSp>
        <p:nvGrpSpPr>
          <p:cNvPr id="562" name="Group 5"/>
          <p:cNvGrpSpPr/>
          <p:nvPr/>
        </p:nvGrpSpPr>
        <p:grpSpPr>
          <a:xfrm>
            <a:off x="0" y="-387360"/>
            <a:ext cx="2448000" cy="1413000"/>
            <a:chOff x="0" y="-387360"/>
            <a:chExt cx="2448000" cy="1413000"/>
          </a:xfrm>
        </p:grpSpPr>
        <p:pic>
          <p:nvPicPr>
            <p:cNvPr id="563" name="Picture 6" descr="07"/>
            <p:cNvPicPr/>
            <p:nvPr/>
          </p:nvPicPr>
          <p:blipFill>
            <a:blip r:embed="rId2"/>
            <a:stretch/>
          </p:blipFill>
          <p:spPr>
            <a:xfrm>
              <a:off x="0" y="-387360"/>
              <a:ext cx="2040480" cy="14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Text Box 7"/>
            <p:cNvSpPr/>
            <p:nvPr/>
          </p:nvSpPr>
          <p:spPr>
            <a:xfrm>
              <a:off x="472680" y="-101160"/>
              <a:ext cx="197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词语</a:t>
              </a:r>
              <a:r>
                <a:rPr b="1" lang="zh-CN" sz="2400" spc="-1" strike="noStrike">
                  <a:solidFill>
                    <a:srgbClr val="3333cc"/>
                  </a:solidFill>
                  <a:latin typeface="楷体_GB2312"/>
                  <a:ea typeface="楷体_GB2312"/>
                </a:rPr>
                <a:t>理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Text Box 8"/>
          <p:cNvSpPr/>
          <p:nvPr/>
        </p:nvSpPr>
        <p:spPr>
          <a:xfrm>
            <a:off x="0" y="907920"/>
            <a:ext cx="8893080" cy="35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震颤：震动使害怕。文中指声音非常大，使人感到害怕。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近义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所向披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反义词：屡战屡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石破天惊：原形容箜篌的声音，忽而高亢，忽而低沉，出人意外，有难以形容的奇境。后多比喻文章议论新奇惊人。文中指锣鼓的声音之大，及其饱含的内容之多。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近义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惊天动地。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反义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默默无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所向无敌：敌：抵挡。力量所指向的地方，谁也抵挡不住。形容力量强大，无往不胜。文中形容气势之大，不可抵挡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驰骋：骑马奔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文中指木偶戏中的动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天抢地：抢地：触地。大声叫天，用头撞地。形容极度悲伤。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近义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嚎啕大哭。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反义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兴高采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不可思议：不可想象，不能理解。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近义词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：不可捉摸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。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反义词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：通俗易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心满意足：非常满足。文中形容艺人们满意的样子。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近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称心如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兴高采烈：兴致高，精神足。文中指木偶登上台时的精神头儿大。近：欢天喜地。反：无精打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9"/>
          <p:cNvSpPr/>
          <p:nvPr/>
        </p:nvSpPr>
        <p:spPr>
          <a:xfrm>
            <a:off x="2556000" y="404640"/>
            <a:ext cx="63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浑如：很像。         甚或：有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3" name="chimes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4" descr="图片44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8" name="Group 16"/>
          <p:cNvGrpSpPr/>
          <p:nvPr/>
        </p:nvGrpSpPr>
        <p:grpSpPr>
          <a:xfrm>
            <a:off x="539640" y="3303720"/>
            <a:ext cx="5977080" cy="2430360"/>
            <a:chOff x="539640" y="3303720"/>
            <a:chExt cx="5977080" cy="2430360"/>
          </a:xfrm>
        </p:grpSpPr>
        <p:sp>
          <p:nvSpPr>
            <p:cNvPr id="569" name="Text Box 6"/>
            <p:cNvSpPr/>
            <p:nvPr/>
          </p:nvSpPr>
          <p:spPr>
            <a:xfrm>
              <a:off x="755640" y="3618000"/>
              <a:ext cx="5761080" cy="173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新鲜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—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陈旧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硬朗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—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酥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抖擞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—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哆嗦           简陋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—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繁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细瘦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—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粗壮           奇异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—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普通 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AutoShape 8"/>
            <p:cNvSpPr/>
            <p:nvPr/>
          </p:nvSpPr>
          <p:spPr>
            <a:xfrm>
              <a:off x="539640" y="3303720"/>
              <a:ext cx="5400720" cy="24303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Rectangle 5"/>
          <p:cNvSpPr/>
          <p:nvPr/>
        </p:nvSpPr>
        <p:spPr>
          <a:xfrm>
            <a:off x="3203640" y="549360"/>
            <a:ext cx="504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奇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奇妙          简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简单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震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震撼          驰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奔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蜷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蜷缩          遗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缺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奥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奇妙          叹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佩服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7"/>
          <p:cNvSpPr/>
          <p:nvPr/>
        </p:nvSpPr>
        <p:spPr>
          <a:xfrm>
            <a:off x="2987640" y="333360"/>
            <a:ext cx="5256360" cy="2303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Group 11"/>
          <p:cNvGrpSpPr/>
          <p:nvPr/>
        </p:nvGrpSpPr>
        <p:grpSpPr>
          <a:xfrm>
            <a:off x="1332000" y="0"/>
            <a:ext cx="720720" cy="2421000"/>
            <a:chOff x="1332000" y="0"/>
            <a:chExt cx="720720" cy="2421000"/>
          </a:xfrm>
        </p:grpSpPr>
        <p:sp>
          <p:nvSpPr>
            <p:cNvPr id="574" name="Text Box 9"/>
            <p:cNvSpPr/>
            <p:nvPr/>
          </p:nvSpPr>
          <p:spPr>
            <a:xfrm>
              <a:off x="1403640" y="333360"/>
              <a:ext cx="5032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504d"/>
                  </a:solidFill>
                  <a:latin typeface="Arial"/>
                  <a:ea typeface="宋体"/>
                </a:rPr>
                <a:t>近义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AutoShape 10"/>
            <p:cNvSpPr/>
            <p:nvPr/>
          </p:nvSpPr>
          <p:spPr>
            <a:xfrm>
              <a:off x="1332000" y="0"/>
              <a:ext cx="720720" cy="2421000"/>
            </a:xfrm>
            <a:prstGeom prst="wedgeEllipseCallout">
              <a:avLst>
                <a:gd name="adj1" fmla="val 161675"/>
                <a:gd name="adj2" fmla="val 35837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Group 14"/>
          <p:cNvGrpSpPr/>
          <p:nvPr/>
        </p:nvGrpSpPr>
        <p:grpSpPr>
          <a:xfrm>
            <a:off x="6877080" y="2924280"/>
            <a:ext cx="1008000" cy="2519280"/>
            <a:chOff x="6877080" y="2924280"/>
            <a:chExt cx="1008000" cy="2519280"/>
          </a:xfrm>
        </p:grpSpPr>
        <p:sp>
          <p:nvSpPr>
            <p:cNvPr id="577" name="Text Box 12"/>
            <p:cNvSpPr/>
            <p:nvPr/>
          </p:nvSpPr>
          <p:spPr>
            <a:xfrm>
              <a:off x="7020000" y="3429000"/>
              <a:ext cx="7189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0504d"/>
                  </a:solidFill>
                  <a:latin typeface="Arial"/>
                  <a:ea typeface="宋体"/>
                </a:rPr>
                <a:t>反义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AutoShape 13"/>
            <p:cNvSpPr/>
            <p:nvPr/>
          </p:nvSpPr>
          <p:spPr>
            <a:xfrm>
              <a:off x="6877080" y="2924280"/>
              <a:ext cx="1008000" cy="2519280"/>
            </a:xfrm>
            <a:prstGeom prst="wedgeEllipseCallout">
              <a:avLst>
                <a:gd name="adj1" fmla="val -144486"/>
                <a:gd name="adj2" fmla="val 40546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"/>
    <p:sndAc>
      <p:stSnd>
        <p:snd r:embed="rId2" name="type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4" descr="图片44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68580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5"/>
          <p:cNvSpPr/>
          <p:nvPr/>
        </p:nvSpPr>
        <p:spPr>
          <a:xfrm>
            <a:off x="1187280" y="1413000"/>
            <a:ext cx="7129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挑                          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鲜                          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颤                         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1692360" y="98100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tiāo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挑选   挑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7"/>
          <p:cNvSpPr/>
          <p:nvPr/>
        </p:nvSpPr>
        <p:spPr>
          <a:xfrm>
            <a:off x="1692360" y="170028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tiǎo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挑起   挑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8"/>
          <p:cNvSpPr/>
          <p:nvPr/>
        </p:nvSpPr>
        <p:spPr>
          <a:xfrm>
            <a:off x="5364000" y="981000"/>
            <a:ext cx="29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xì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关系  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9"/>
          <p:cNvSpPr/>
          <p:nvPr/>
        </p:nvSpPr>
        <p:spPr>
          <a:xfrm>
            <a:off x="5435640" y="170028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jì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系鞋带  系扣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3"/>
          <p:cNvSpPr/>
          <p:nvPr/>
        </p:nvSpPr>
        <p:spPr>
          <a:xfrm>
            <a:off x="1692360" y="3429000"/>
            <a:ext cx="280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8"/>
          <p:cNvSpPr/>
          <p:nvPr/>
        </p:nvSpPr>
        <p:spPr>
          <a:xfrm>
            <a:off x="1692360" y="2708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xiān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鲜艳  鲜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9"/>
          <p:cNvSpPr/>
          <p:nvPr/>
        </p:nvSpPr>
        <p:spPr>
          <a:xfrm>
            <a:off x="1692360" y="3500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xiǎn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朝鲜  鲜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20"/>
          <p:cNvSpPr/>
          <p:nvPr/>
        </p:nvSpPr>
        <p:spPr>
          <a:xfrm>
            <a:off x="5364000" y="263700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shí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家什  什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1"/>
          <p:cNvSpPr/>
          <p:nvPr/>
        </p:nvSpPr>
        <p:spPr>
          <a:xfrm>
            <a:off x="5364000" y="3429000"/>
            <a:ext cx="37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shén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什么  为什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22"/>
          <p:cNvSpPr/>
          <p:nvPr/>
        </p:nvSpPr>
        <p:spPr>
          <a:xfrm>
            <a:off x="1692360" y="4292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chàn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颤动   颤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23"/>
          <p:cNvSpPr/>
          <p:nvPr/>
        </p:nvSpPr>
        <p:spPr>
          <a:xfrm>
            <a:off x="1763640" y="49417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zhàn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寒颤   打颤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24"/>
          <p:cNvSpPr/>
          <p:nvPr/>
        </p:nvSpPr>
        <p:spPr>
          <a:xfrm>
            <a:off x="5364000" y="4292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háo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号叫   哭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25"/>
          <p:cNvSpPr/>
          <p:nvPr/>
        </p:nvSpPr>
        <p:spPr>
          <a:xfrm>
            <a:off x="5292720" y="49417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hào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号码   记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WordArt 26"/>
          <p:cNvSpPr txBox="1"/>
          <p:nvPr/>
        </p:nvSpPr>
        <p:spPr>
          <a:xfrm>
            <a:off x="179280" y="0"/>
            <a:ext cx="1297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9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多音字</a:t>
            </a:r>
            <a:endParaRPr b="1" lang="en-US" sz="4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u"/>
    <p:sndAc>
      <p:stSnd>
        <p:snd r:embed="rId2" name="wind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5"/>
          <p:cNvSpPr/>
          <p:nvPr/>
        </p:nvSpPr>
        <p:spPr>
          <a:xfrm>
            <a:off x="1332000" y="2133720"/>
            <a:ext cx="655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11" descr="12"/>
          <p:cNvPicPr/>
          <p:nvPr/>
        </p:nvPicPr>
        <p:blipFill>
          <a:blip r:embed="rId1"/>
          <a:stretch/>
        </p:blipFill>
        <p:spPr>
          <a:xfrm rot="5400000">
            <a:off x="4551120" y="2661840"/>
            <a:ext cx="399960" cy="7991640"/>
          </a:xfrm>
          <a:prstGeom prst="rect">
            <a:avLst/>
          </a:prstGeom>
          <a:ln w="0">
            <a:noFill/>
          </a:ln>
        </p:spPr>
      </p:pic>
      <p:sp>
        <p:nvSpPr>
          <p:cNvPr id="597" name="Text Box 12"/>
          <p:cNvSpPr/>
          <p:nvPr/>
        </p:nvSpPr>
        <p:spPr>
          <a:xfrm>
            <a:off x="468360" y="1413000"/>
            <a:ext cx="8136000" cy="3732480"/>
          </a:xfrm>
          <a:prstGeom prst="rect">
            <a:avLst/>
          </a:prstGeom>
          <a:noFill/>
          <a:ln w="9360">
            <a:solidFill>
              <a:srgbClr val="e09a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由读课文，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木偶戏具有什么特点？哪些句子体现了这一特点？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用“     ”从文章中标出相关句子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作者是从哪些方面来介绍木偶戏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作者对木偶戏艺人是从哪几方面进行描写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你认为木偶戏最有趣的地方在哪里？标记相关句子仔细品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文章在表达方法上具有哪些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13">
            <a:hlinkClick r:id="" action="ppaction://hlinkshowjump?jump=nextslide"/>
          </p:cNvPr>
          <p:cNvSpPr/>
          <p:nvPr/>
        </p:nvSpPr>
        <p:spPr>
          <a:xfrm>
            <a:off x="8028000" y="2852640"/>
            <a:ext cx="360360" cy="43200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890">
                <a:moveTo>
                  <a:pt x="0" y="0"/>
                </a:moveTo>
                <a:lnTo>
                  <a:pt x="21600" y="0"/>
                </a:lnTo>
                <a:lnTo>
                  <a:pt x="21600" y="25890"/>
                </a:lnTo>
                <a:lnTo>
                  <a:pt x="0" y="25890"/>
                </a:lnTo>
                <a:close/>
              </a:path>
              <a:path fill="lightenLess" w="21600" h="258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90">
                <a:moveTo>
                  <a:pt x="21600" y="0"/>
                </a:moveTo>
                <a:lnTo>
                  <a:pt x="21600" y="25890"/>
                </a:lnTo>
                <a:lnTo>
                  <a:pt x="20200" y="24490"/>
                </a:lnTo>
                <a:lnTo>
                  <a:pt x="20200" y="1400"/>
                </a:lnTo>
                <a:close/>
              </a:path>
              <a:path fill="darkenLess" w="21600" h="25890">
                <a:moveTo>
                  <a:pt x="21600" y="25890"/>
                </a:moveTo>
                <a:lnTo>
                  <a:pt x="0" y="25890"/>
                </a:lnTo>
                <a:lnTo>
                  <a:pt x="1400" y="24490"/>
                </a:lnTo>
                <a:lnTo>
                  <a:pt x="20200" y="24490"/>
                </a:lnTo>
                <a:close/>
              </a:path>
              <a:path fill="lighten" w="21600" h="25890">
                <a:moveTo>
                  <a:pt x="0" y="258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90"/>
                </a:lnTo>
                <a:close/>
              </a:path>
              <a:path fill="darken" w="21600" h="25890">
                <a:moveTo>
                  <a:pt x="3794" y="5938"/>
                </a:moveTo>
                <a:lnTo>
                  <a:pt x="17806" y="12945"/>
                </a:lnTo>
                <a:lnTo>
                  <a:pt x="3794" y="19951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16" descr="图片1"/>
          <p:cNvPicPr/>
          <p:nvPr/>
        </p:nvPicPr>
        <p:blipFill>
          <a:blip r:embed="rId2"/>
          <a:stretch/>
        </p:blipFill>
        <p:spPr>
          <a:xfrm>
            <a:off x="395280" y="189000"/>
            <a:ext cx="2643120" cy="990360"/>
          </a:xfrm>
          <a:prstGeom prst="rect">
            <a:avLst/>
          </a:prstGeom>
          <a:ln w="0">
            <a:noFill/>
          </a:ln>
        </p:spPr>
      </p:pic>
      <p:grpSp>
        <p:nvGrpSpPr>
          <p:cNvPr id="600" name="Group 26"/>
          <p:cNvGrpSpPr/>
          <p:nvPr/>
        </p:nvGrpSpPr>
        <p:grpSpPr>
          <a:xfrm>
            <a:off x="4500720" y="260280"/>
            <a:ext cx="4103640" cy="1727280"/>
            <a:chOff x="4500720" y="260280"/>
            <a:chExt cx="4103640" cy="1727280"/>
          </a:xfrm>
        </p:grpSpPr>
        <p:sp>
          <p:nvSpPr>
            <p:cNvPr id="601" name="AutoShape 24"/>
            <p:cNvSpPr/>
            <p:nvPr/>
          </p:nvSpPr>
          <p:spPr>
            <a:xfrm>
              <a:off x="4500720" y="260280"/>
              <a:ext cx="4032360" cy="1727280"/>
            </a:xfrm>
            <a:prstGeom prst="wedgeRoundRectCallout">
              <a:avLst>
                <a:gd name="adj1" fmla="val -18699"/>
                <a:gd name="adj2" fmla="val 135384"/>
                <a:gd name="adj3" fmla="val 16667"/>
              </a:avLst>
            </a:prstGeom>
            <a:solidFill>
              <a:srgbClr val="e5c6b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25"/>
            <p:cNvSpPr/>
            <p:nvPr/>
          </p:nvSpPr>
          <p:spPr>
            <a:xfrm>
              <a:off x="4500720" y="404640"/>
              <a:ext cx="41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作者分别从敲锣人、木偶表演的内容、木偶 面部的表情及木偶戏艺人等几个方面来介绍木偶戏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AutoShape 27">
            <a:hlinkClick r:id="rId3" action="ppaction://hlinksldjump"/>
          </p:cNvPr>
          <p:cNvSpPr/>
          <p:nvPr/>
        </p:nvSpPr>
        <p:spPr>
          <a:xfrm>
            <a:off x="7812000" y="486900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3794" y="5928"/>
                </a:moveTo>
                <a:lnTo>
                  <a:pt x="17806" y="12934"/>
                </a:lnTo>
                <a:lnTo>
                  <a:pt x="3794" y="19941"/>
                </a:lnTo>
                <a:close/>
              </a:path>
            </a:pathLst>
          </a:custGeom>
          <a:solidFill>
            <a:srgbClr val="c9f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28">
            <a:hlinkClick r:id="rId4" action="ppaction://hlinksldjump"/>
          </p:cNvPr>
          <p:cNvSpPr/>
          <p:nvPr/>
        </p:nvSpPr>
        <p:spPr>
          <a:xfrm>
            <a:off x="7740720" y="5589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31"/>
          <p:cNvSpPr/>
          <p:nvPr/>
        </p:nvSpPr>
        <p:spPr>
          <a:xfrm>
            <a:off x="755640" y="2205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36"/>
          <p:cNvSpPr/>
          <p:nvPr/>
        </p:nvSpPr>
        <p:spPr>
          <a:xfrm>
            <a:off x="1835280" y="0"/>
            <a:ext cx="302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Group 46"/>
          <p:cNvGrpSpPr/>
          <p:nvPr/>
        </p:nvGrpSpPr>
        <p:grpSpPr>
          <a:xfrm>
            <a:off x="900000" y="981000"/>
            <a:ext cx="3024000" cy="2448000"/>
            <a:chOff x="900000" y="981000"/>
            <a:chExt cx="3024000" cy="2448000"/>
          </a:xfrm>
        </p:grpSpPr>
        <p:sp>
          <p:nvSpPr>
            <p:cNvPr id="608" name="AutoShape 44"/>
            <p:cNvSpPr/>
            <p:nvPr/>
          </p:nvSpPr>
          <p:spPr>
            <a:xfrm>
              <a:off x="900000" y="981000"/>
              <a:ext cx="3024000" cy="2448000"/>
            </a:xfrm>
            <a:prstGeom prst="wedgeRoundRectCallout">
              <a:avLst>
                <a:gd name="adj1" fmla="val 48162"/>
                <a:gd name="adj2" fmla="val 76328"/>
                <a:gd name="adj3" fmla="val 16667"/>
              </a:avLst>
            </a:prstGeom>
            <a:solidFill>
              <a:srgbClr val="e5c6b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 Box 45"/>
            <p:cNvSpPr/>
            <p:nvPr/>
          </p:nvSpPr>
          <p:spPr>
            <a:xfrm>
              <a:off x="1044360" y="981000"/>
              <a:ext cx="2808360" cy="18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作者分别从正面和侧面对木偶戏艺人进行了描写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自然段是对艺人的直接描写，对木偶戏的描写及观众的表现是侧面描写。都是为了突出艺人技艺的高超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Line 47"/>
          <p:cNvSpPr/>
          <p:nvPr/>
        </p:nvSpPr>
        <p:spPr>
          <a:xfrm>
            <a:off x="2124000" y="29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5" name="suction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8" descr="图片4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6" descr="0"/>
          <p:cNvPicPr/>
          <p:nvPr/>
        </p:nvPicPr>
        <p:blipFill>
          <a:blip r:embed="rId2"/>
          <a:stretch/>
        </p:blipFill>
        <p:spPr>
          <a:xfrm rot="5400000">
            <a:off x="4087080" y="2400120"/>
            <a:ext cx="750960" cy="727236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8"/>
          <p:cNvSpPr/>
          <p:nvPr/>
        </p:nvSpPr>
        <p:spPr>
          <a:xfrm>
            <a:off x="1116000" y="2637000"/>
            <a:ext cx="6624720" cy="4597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木偶戏比较简陋，几个艺人，三两挑子，有时甚或一个人也就够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9"/>
          <p:cNvSpPr/>
          <p:nvPr/>
        </p:nvSpPr>
        <p:spPr>
          <a:xfrm>
            <a:off x="971640" y="1700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Arial"/>
                <a:ea typeface="宋体"/>
              </a:rPr>
              <a:t>形式简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10"/>
          <p:cNvSpPr/>
          <p:nvPr/>
        </p:nvSpPr>
        <p:spPr>
          <a:xfrm>
            <a:off x="1260720" y="3716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Arial"/>
                <a:ea typeface="宋体"/>
              </a:rPr>
              <a:t>内容奇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3"/>
          <p:cNvSpPr/>
          <p:nvPr/>
        </p:nvSpPr>
        <p:spPr>
          <a:xfrm>
            <a:off x="3995640" y="306864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4"/>
          <p:cNvSpPr/>
          <p:nvPr/>
        </p:nvSpPr>
        <p:spPr>
          <a:xfrm>
            <a:off x="5508720" y="3068640"/>
            <a:ext cx="1006560" cy="0"/>
          </a:xfrm>
          <a:prstGeom prst="line">
            <a:avLst/>
          </a:prstGeom>
          <a:ln w="38160">
            <a:solidFill>
              <a:srgbClr val="ff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5"/>
          <p:cNvSpPr/>
          <p:nvPr/>
        </p:nvSpPr>
        <p:spPr>
          <a:xfrm>
            <a:off x="1258920" y="3429000"/>
            <a:ext cx="1366920" cy="0"/>
          </a:xfrm>
          <a:prstGeom prst="line">
            <a:avLst/>
          </a:prstGeom>
          <a:ln w="38160">
            <a:solidFill>
              <a:srgbClr val="ff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6"/>
          <p:cNvSpPr/>
          <p:nvPr/>
        </p:nvSpPr>
        <p:spPr>
          <a:xfrm>
            <a:off x="1116000" y="4508640"/>
            <a:ext cx="6624720" cy="4597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要的是挑子里挑着一个奇异的世界，一些新鲜的故事就要开演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17">
            <a:hlinkClick r:id="" action="ppaction://hlinkshowjump?jump=previousslide"/>
          </p:cNvPr>
          <p:cNvSpPr/>
          <p:nvPr/>
        </p:nvSpPr>
        <p:spPr>
          <a:xfrm>
            <a:off x="8604360" y="551664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10800"/>
                </a:moveTo>
                <a:lnTo>
                  <a:pt x="20483" y="3794"/>
                </a:lnTo>
                <a:lnTo>
                  <a:pt x="20483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Group 20"/>
          <p:cNvGrpSpPr/>
          <p:nvPr/>
        </p:nvGrpSpPr>
        <p:grpSpPr>
          <a:xfrm>
            <a:off x="755640" y="333360"/>
            <a:ext cx="2808360" cy="609480"/>
            <a:chOff x="755640" y="333360"/>
            <a:chExt cx="2808360" cy="609480"/>
          </a:xfrm>
        </p:grpSpPr>
        <p:sp>
          <p:nvSpPr>
            <p:cNvPr id="622" name="AutoShape 19"/>
            <p:cNvSpPr/>
            <p:nvPr/>
          </p:nvSpPr>
          <p:spPr>
            <a:xfrm>
              <a:off x="755640" y="333360"/>
              <a:ext cx="2732040" cy="60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602" y="4050"/>
                  </a:moveTo>
                  <a:lnTo>
                    <a:pt x="-766" y="4050"/>
                  </a:lnTo>
                  <a:lnTo>
                    <a:pt x="-766" y="26213"/>
                  </a:lnTo>
                  <a:lnTo>
                    <a:pt x="25190" y="48431"/>
                  </a:lnTo>
                </a:path>
                <a:path w="21600" h="21600">
                  <a:moveTo>
                    <a:pt x="-602" y="0"/>
                  </a:moveTo>
                  <a:lnTo>
                    <a:pt x="-602" y="21600"/>
                  </a:lnTo>
                </a:path>
              </a:pathLst>
            </a:custGeom>
            <a:noFill/>
            <a:ln w="9360">
              <a:solidFill>
                <a:srgbClr val="e09a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 Box 18"/>
            <p:cNvSpPr/>
            <p:nvPr/>
          </p:nvSpPr>
          <p:spPr>
            <a:xfrm>
              <a:off x="755640" y="333360"/>
              <a:ext cx="280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木偶戏的特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d"/>
    <p:sndAc>
      <p:stSnd>
        <p:snd r:embed="rId3" name="voltage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Picture 8" descr="图片4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7"/>
          <p:cNvSpPr/>
          <p:nvPr/>
        </p:nvSpPr>
        <p:spPr>
          <a:xfrm>
            <a:off x="755640" y="1557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c0504d"/>
                </a:solidFill>
                <a:latin typeface="宋体"/>
                <a:ea typeface="宋体"/>
              </a:rPr>
              <a:t>几枝竹竿子一挑，搭上艳红的帘布，戏台子就搭好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8"/>
          <p:cNvSpPr/>
          <p:nvPr/>
        </p:nvSpPr>
        <p:spPr>
          <a:xfrm>
            <a:off x="500040" y="264312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c0504d"/>
                </a:solidFill>
                <a:latin typeface="宋体"/>
                <a:ea typeface="宋体"/>
              </a:rPr>
              <a:t>敲锣人手脚并用，浑如奇巧的机器，脚尖踏着响，脚跟踢着响，膝盖屈直之间也响，手中一对槌子，翻动如飞花流星，发出乱箭一般震慑四方的轰响，口中还衔着一枚锐利的竹叫子。只一个人，便制造了千军万马的动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WordArt 11"/>
          <p:cNvSpPr txBox="1"/>
          <p:nvPr/>
        </p:nvSpPr>
        <p:spPr>
          <a:xfrm>
            <a:off x="642960" y="571680"/>
            <a:ext cx="4114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木偶戏的表演有趣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628" name="Picture 12" descr="12"/>
          <p:cNvPicPr/>
          <p:nvPr/>
        </p:nvPicPr>
        <p:blipFill>
          <a:blip r:embed="rId2"/>
          <a:stretch/>
        </p:blipFill>
        <p:spPr>
          <a:xfrm rot="5400000">
            <a:off x="4379760" y="2490840"/>
            <a:ext cx="739800" cy="7991280"/>
          </a:xfrm>
          <a:prstGeom prst="rect">
            <a:avLst/>
          </a:prstGeom>
          <a:ln w="0">
            <a:noFill/>
          </a:ln>
        </p:spPr>
      </p:pic>
      <p:sp>
        <p:nvSpPr>
          <p:cNvPr id="629" name="TextBox 7"/>
          <p:cNvSpPr/>
          <p:nvPr/>
        </p:nvSpPr>
        <p:spPr>
          <a:xfrm>
            <a:off x="1285920" y="2109960"/>
            <a:ext cx="62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这句话写出木偶戏台极为简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组合 10"/>
          <p:cNvGrpSpPr/>
          <p:nvPr/>
        </p:nvGrpSpPr>
        <p:grpSpPr>
          <a:xfrm>
            <a:off x="5500800" y="0"/>
            <a:ext cx="3071880" cy="2071800"/>
            <a:chOff x="5500800" y="0"/>
            <a:chExt cx="3071880" cy="2071800"/>
          </a:xfrm>
        </p:grpSpPr>
        <p:sp>
          <p:nvSpPr>
            <p:cNvPr id="631" name="椭圆形标注 9"/>
            <p:cNvSpPr/>
            <p:nvPr/>
          </p:nvSpPr>
          <p:spPr>
            <a:xfrm>
              <a:off x="5500800" y="0"/>
              <a:ext cx="3071880" cy="2071800"/>
            </a:xfrm>
            <a:prstGeom prst="wedgeEllipseCallout">
              <a:avLst>
                <a:gd name="adj1" fmla="val -39078"/>
                <a:gd name="adj2" fmla="val 85282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Box 8"/>
            <p:cNvSpPr/>
            <p:nvPr/>
          </p:nvSpPr>
          <p:spPr>
            <a:xfrm>
              <a:off x="5500800" y="299880"/>
              <a:ext cx="3000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这句话运用       手法将             比作                写出了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TextBox 11"/>
          <p:cNvSpPr/>
          <p:nvPr/>
        </p:nvSpPr>
        <p:spPr>
          <a:xfrm>
            <a:off x="7500960" y="28584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比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12"/>
          <p:cNvSpPr/>
          <p:nvPr/>
        </p:nvSpPr>
        <p:spPr>
          <a:xfrm>
            <a:off x="6143760" y="64296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敲锣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13"/>
          <p:cNvSpPr/>
          <p:nvPr/>
        </p:nvSpPr>
        <p:spPr>
          <a:xfrm>
            <a:off x="7786800" y="642960"/>
            <a:ext cx="10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机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14"/>
          <p:cNvSpPr/>
          <p:nvPr/>
        </p:nvSpPr>
        <p:spPr>
          <a:xfrm>
            <a:off x="6500880" y="107172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敲锣人高超的技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15"/>
          <p:cNvSpPr/>
          <p:nvPr/>
        </p:nvSpPr>
        <p:spPr>
          <a:xfrm>
            <a:off x="642960" y="4357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敲锣人的全身各个部位共用，灵活的动作，制造出了种种奇特的声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16"/>
          <p:cNvSpPr/>
          <p:nvPr/>
        </p:nvSpPr>
        <p:spPr>
          <a:xfrm>
            <a:off x="857160" y="5286240"/>
            <a:ext cx="764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震慑四方的意思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震慑四方造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  <p:sndAc>
      <p:stSnd>
        <p:snd r:embed="rId3" name="wind.wav"/>
      </p:stSnd>
    </p:sndAc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8" descr="图片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0" name="TextBox 1"/>
          <p:cNvSpPr/>
          <p:nvPr/>
        </p:nvSpPr>
        <p:spPr>
          <a:xfrm>
            <a:off x="785880" y="557208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这句话说明木偶戏中角色很多，各种各样的都有，可以看出制作人的想象力非常丰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0"/>
          <p:cNvSpPr/>
          <p:nvPr/>
        </p:nvSpPr>
        <p:spPr>
          <a:xfrm>
            <a:off x="714240" y="4143240"/>
            <a:ext cx="78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c0504d"/>
                </a:solidFill>
                <a:latin typeface="宋体"/>
                <a:ea typeface="宋体"/>
              </a:rPr>
              <a:t>挑子里那个灰扑扑的魔袋，可以掏出皇上，可以掏出臣子，还有阎王、土地、雷公、电母、观世音</a:t>
            </a: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c0504d"/>
                </a:solidFill>
                <a:latin typeface="宋体"/>
                <a:ea typeface="宋体"/>
              </a:rPr>
              <a:t>想得出的有，想不出的也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9"/>
          <p:cNvSpPr/>
          <p:nvPr/>
        </p:nvSpPr>
        <p:spPr>
          <a:xfrm>
            <a:off x="500040" y="129708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c0504d"/>
                </a:solidFill>
                <a:latin typeface="宋体"/>
                <a:ea typeface="宋体"/>
              </a:rPr>
              <a:t>这些蜷曲在灰扑扑的布袋里的木偶，一旦让艺人们从口袋里掏出来，身板就硬朗了，手足就舞动了，脸上尽镀着太阳的金辉，英雄一般呼啸而至，披挂着小弓小箭，小幡小旌，头顶上还有象征神武和权力的雉鸡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WordArt 11"/>
          <p:cNvSpPr txBox="1"/>
          <p:nvPr/>
        </p:nvSpPr>
        <p:spPr>
          <a:xfrm>
            <a:off x="285840" y="423720"/>
            <a:ext cx="41148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木偶戏的表演有趣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642960" y="321480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将这些用木头制作成的东西写成了有生命、有活力、有灵性的生灵，富有人情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  <p:sndAc>
      <p:stSnd>
        <p:snd r:embed="rId2" name="chimes.wav"/>
      </p:stSnd>
    </p:sndAc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8" descr="图片4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46" name="WordArt 11"/>
          <p:cNvSpPr txBox="1"/>
          <p:nvPr/>
        </p:nvSpPr>
        <p:spPr>
          <a:xfrm>
            <a:off x="285840" y="423720"/>
            <a:ext cx="41148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木偶戏的表演有趣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47" name="TextBox 3"/>
          <p:cNvSpPr/>
          <p:nvPr/>
        </p:nvSpPr>
        <p:spPr>
          <a:xfrm>
            <a:off x="1643040" y="185724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仰面朝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4"/>
          <p:cNvSpPr/>
          <p:nvPr/>
        </p:nvSpPr>
        <p:spPr>
          <a:xfrm>
            <a:off x="3714840" y="1857240"/>
            <a:ext cx="15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弯腰捧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5"/>
          <p:cNvSpPr/>
          <p:nvPr/>
        </p:nvSpPr>
        <p:spPr>
          <a:xfrm>
            <a:off x="7429680" y="1857240"/>
            <a:ext cx="15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抖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7"/>
          <p:cNvSpPr/>
          <p:nvPr/>
        </p:nvSpPr>
        <p:spPr>
          <a:xfrm>
            <a:off x="5000760" y="221472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以袖遮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8"/>
          <p:cNvSpPr/>
          <p:nvPr/>
        </p:nvSpPr>
        <p:spPr>
          <a:xfrm>
            <a:off x="7000920" y="221472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哭天抢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9"/>
          <p:cNvSpPr/>
          <p:nvPr/>
        </p:nvSpPr>
        <p:spPr>
          <a:xfrm>
            <a:off x="2071800" y="2571840"/>
            <a:ext cx="15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抽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10"/>
          <p:cNvSpPr/>
          <p:nvPr/>
        </p:nvSpPr>
        <p:spPr>
          <a:xfrm>
            <a:off x="857160" y="321480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d0d0d"/>
                </a:solidFill>
                <a:latin typeface="Arial"/>
                <a:ea typeface="宋体"/>
              </a:rPr>
              <a:t>这些句子具体描写了                                      。写出了木偶戏表演时的局限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11"/>
          <p:cNvSpPr/>
          <p:nvPr/>
        </p:nvSpPr>
        <p:spPr>
          <a:xfrm>
            <a:off x="3857760" y="321480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木偶戏表演时的固定动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13"/>
          <p:cNvSpPr/>
          <p:nvPr/>
        </p:nvSpPr>
        <p:spPr>
          <a:xfrm>
            <a:off x="468360" y="1500120"/>
            <a:ext cx="839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2400" spc="-1" strike="noStrike">
                <a:solidFill>
                  <a:srgbClr val="e46c0a"/>
                </a:solidFill>
                <a:latin typeface="Arial"/>
              </a:rPr>
              <a:t>5.</a:t>
            </a:r>
            <a:r>
              <a:rPr b="1" lang="zh-CN" sz="2400" spc="-1" strike="noStrike">
                <a:solidFill>
                  <a:srgbClr val="e46c0a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e46c0a"/>
                </a:solidFill>
                <a:latin typeface="Arial"/>
                <a:ea typeface="宋体"/>
              </a:rPr>
              <a:t>木偶表演喜怒哀乐，总是以固定的程序动作全身。笑的时候，或                 ，或                ，配合全身有节奏的         ，让人看不见它的脸。哭的时候或                  ，或 呼             配合全身的         ，也让人看不见它的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8"/>
          <p:cNvSpPr/>
          <p:nvPr/>
        </p:nvSpPr>
        <p:spPr>
          <a:xfrm>
            <a:off x="571680" y="4071960"/>
            <a:ext cx="81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e46c0a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e46c0a"/>
                </a:solidFill>
                <a:latin typeface="宋体"/>
                <a:ea typeface="宋体"/>
              </a:rPr>
              <a:t>但是，没有脸的戏还是遗憾的，艺人们免不了在脸的问题上动心思。在一些木偶的颌处装上了活动机关，那木呆的脸孔便拥有了一个能开能合的嘴巴。它登场就开开合合地表演，兴高采烈、自由自主地说着唱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8"/>
          <p:cNvSpPr/>
          <p:nvPr/>
        </p:nvSpPr>
        <p:spPr>
          <a:xfrm>
            <a:off x="642960" y="5643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艺人们经过改装木偶，弥补了木偶戏表演时的不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  <p:sndAc>
      <p:stSnd>
        <p:snd r:embed="rId2" name="chimes.wav"/>
      </p:stSnd>
    </p:sndAc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8" descr="图片4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8"/>
          <p:cNvSpPr/>
          <p:nvPr/>
        </p:nvSpPr>
        <p:spPr>
          <a:xfrm>
            <a:off x="500040" y="14288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c0504d"/>
                </a:solidFill>
                <a:latin typeface="宋体"/>
                <a:ea typeface="宋体"/>
              </a:rPr>
              <a:t>木偶戏艺人的每一个指关节都不可思议的机巧，俨如机器中的那些最奥妙的部件，弹指之间，便是一个人的悲欢离合，生死荣辱</a:t>
            </a: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;</a:t>
            </a:r>
            <a:r>
              <a:rPr b="1" lang="zh-CN" sz="2400" spc="-1" strike="noStrike">
                <a:solidFill>
                  <a:srgbClr val="c0504d"/>
                </a:solidFill>
                <a:latin typeface="宋体"/>
                <a:ea typeface="宋体"/>
              </a:rPr>
              <a:t>反掌之下，便是冬去春来，换了人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8"/>
          <p:cNvSpPr/>
          <p:nvPr/>
        </p:nvSpPr>
        <p:spPr>
          <a:xfrm>
            <a:off x="617400" y="2679840"/>
            <a:ext cx="8136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运用了    修辞手法，用                       来比喻          ，新鲜贴切，突出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8"/>
          <p:cNvSpPr/>
          <p:nvPr/>
        </p:nvSpPr>
        <p:spPr>
          <a:xfrm>
            <a:off x="500040" y="364320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7.</a:t>
            </a:r>
            <a:r>
              <a:rPr b="1" lang="zh-CN" sz="2400" spc="-1" strike="noStrike">
                <a:solidFill>
                  <a:srgbClr val="c0504d"/>
                </a:solidFill>
                <a:latin typeface="宋体"/>
                <a:ea typeface="宋体"/>
              </a:rPr>
              <a:t>每一段剧情，都牵在他的指关节上面，戏台之下的每一阵波浪，都系在三尺帘布的戏台上面。他无处不在，又不现身。正因为他不现身，鬼才成其为鬼，神才成其为神，英雄方能评定天下，霸主方能统摄四方，木偶方能摆布看客，看客方能叹服木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WordArt 11"/>
          <p:cNvSpPr txBox="1"/>
          <p:nvPr/>
        </p:nvSpPr>
        <p:spPr>
          <a:xfrm>
            <a:off x="571680" y="571680"/>
            <a:ext cx="4114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木偶戏的表演有趣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63" name="TextBox 8"/>
          <p:cNvSpPr/>
          <p:nvPr/>
        </p:nvSpPr>
        <p:spPr>
          <a:xfrm>
            <a:off x="1857240" y="271476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比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9"/>
          <p:cNvSpPr/>
          <p:nvPr/>
        </p:nvSpPr>
        <p:spPr>
          <a:xfrm>
            <a:off x="4429080" y="271476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机器中那些最奥妙的部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10"/>
          <p:cNvSpPr/>
          <p:nvPr/>
        </p:nvSpPr>
        <p:spPr>
          <a:xfrm>
            <a:off x="928800" y="314316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木偶戏艺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11"/>
          <p:cNvSpPr/>
          <p:nvPr/>
        </p:nvSpPr>
        <p:spPr>
          <a:xfrm>
            <a:off x="5214960" y="3143160"/>
            <a:ext cx="38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木偶戏艺人手指异常灵活的特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12"/>
          <p:cNvSpPr/>
          <p:nvPr/>
        </p:nvSpPr>
        <p:spPr>
          <a:xfrm>
            <a:off x="642960" y="564372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这一句话高度概括了木偶戏艺人精湛的技艺。赞扬了木偶戏表演者默默无闻的精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  <p:sndAc>
      <p:stSnd>
        <p:snd r:embed="rId2" name="breeze.wav"/>
      </p:stSnd>
    </p:sndAc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Picture 8" descr="图片4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9" name="WordArt 4"/>
          <p:cNvSpPr txBox="1"/>
          <p:nvPr/>
        </p:nvSpPr>
        <p:spPr>
          <a:xfrm>
            <a:off x="539640" y="676440"/>
            <a:ext cx="4334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观众的神情有趣</a:t>
            </a:r>
            <a:endParaRPr b="1" lang="en-US" sz="4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70" name="Text Box 5"/>
          <p:cNvSpPr/>
          <p:nvPr/>
        </p:nvSpPr>
        <p:spPr>
          <a:xfrm>
            <a:off x="684360" y="1773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人们仰着脖子，笑，发痴，拍掌。下巴像装了机关似的，齐齐的挂下来，像一个等待糖豆的姿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7"/>
          <p:cNvSpPr/>
          <p:nvPr/>
        </p:nvSpPr>
        <p:spPr>
          <a:xfrm>
            <a:off x="2268360" y="34495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动作、神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9"/>
          <p:cNvSpPr/>
          <p:nvPr/>
        </p:nvSpPr>
        <p:spPr>
          <a:xfrm>
            <a:off x="3500280" y="39481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比喻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0"/>
          <p:cNvSpPr/>
          <p:nvPr/>
        </p:nvSpPr>
        <p:spPr>
          <a:xfrm>
            <a:off x="785880" y="44481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观众对木偶戏地入迷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12"/>
          <p:cNvSpPr/>
          <p:nvPr/>
        </p:nvSpPr>
        <p:spPr>
          <a:xfrm>
            <a:off x="2627280" y="3882960"/>
            <a:ext cx="1368360" cy="0"/>
          </a:xfrm>
          <a:prstGeom prst="line">
            <a:avLst/>
          </a:prstGeom>
          <a:ln w="936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15"/>
          <p:cNvSpPr/>
          <p:nvPr/>
        </p:nvSpPr>
        <p:spPr>
          <a:xfrm>
            <a:off x="714240" y="523404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楷体_GB2312"/>
              </a:rPr>
              <a:t>侧面烘托木偶戏的精彩、木偶艺人的技艺高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16">
            <a:hlinkClick r:id="rId2" action="ppaction://hlinksldjump"/>
          </p:cNvPr>
          <p:cNvSpPr/>
          <p:nvPr/>
        </p:nvSpPr>
        <p:spPr>
          <a:xfrm>
            <a:off x="8459640" y="56833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  <a:path fill="darken" w="21600" h="30158">
                <a:moveTo>
                  <a:pt x="3794" y="15079"/>
                </a:moveTo>
                <a:lnTo>
                  <a:pt x="17806" y="8073"/>
                </a:lnTo>
                <a:lnTo>
                  <a:pt x="17806" y="2208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组合 16"/>
          <p:cNvGrpSpPr/>
          <p:nvPr/>
        </p:nvGrpSpPr>
        <p:grpSpPr>
          <a:xfrm>
            <a:off x="642960" y="3876840"/>
            <a:ext cx="4173480" cy="1226520"/>
            <a:chOff x="642960" y="3876840"/>
            <a:chExt cx="4173480" cy="1226520"/>
          </a:xfrm>
        </p:grpSpPr>
        <p:sp>
          <p:nvSpPr>
            <p:cNvPr id="678" name="Line 8"/>
            <p:cNvSpPr/>
            <p:nvPr/>
          </p:nvSpPr>
          <p:spPr>
            <a:xfrm flipV="1">
              <a:off x="3530520" y="4516560"/>
              <a:ext cx="1285920" cy="71280"/>
            </a:xfrm>
            <a:prstGeom prst="line">
              <a:avLst/>
            </a:prstGeom>
            <a:ln w="93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13"/>
            <p:cNvSpPr/>
            <p:nvPr/>
          </p:nvSpPr>
          <p:spPr>
            <a:xfrm flipV="1">
              <a:off x="642960" y="5057640"/>
              <a:ext cx="3316320" cy="45720"/>
            </a:xfrm>
            <a:prstGeom prst="line">
              <a:avLst/>
            </a:prstGeom>
            <a:ln w="93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12"/>
            <p:cNvSpPr/>
            <p:nvPr/>
          </p:nvSpPr>
          <p:spPr>
            <a:xfrm>
              <a:off x="2473200" y="3876840"/>
              <a:ext cx="1368360" cy="0"/>
            </a:xfrm>
            <a:prstGeom prst="line">
              <a:avLst/>
            </a:prstGeom>
            <a:ln w="93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Text Box 6"/>
          <p:cNvSpPr/>
          <p:nvPr/>
        </p:nvSpPr>
        <p:spPr>
          <a:xfrm>
            <a:off x="642960" y="359100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句话从          两方面来描写观众，写观众的神态时运用了       修辞手法，体现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3" name="type.wav"/>
      </p:stSnd>
    </p:sndAc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7" descr="图片93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5"/>
          <p:cNvSpPr/>
          <p:nvPr/>
        </p:nvSpPr>
        <p:spPr>
          <a:xfrm>
            <a:off x="1332000" y="33336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539640" y="3435480"/>
            <a:ext cx="79218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木偶戏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用木偶来表演故事的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戏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表演时，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演员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幕后一边操纵木偶，一边演唱，并配以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音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根据木偶形体和操纵技术的不同，有布袋木偶、提线木偶、杖头木偶、铁线木偶等。 木偶戏是由演员在幕后操纵木制玩偶进行表演的戏剧形式。在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5"/>
              </a:rPr>
              <a:t>中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古代又称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6"/>
              </a:rPr>
              <a:t>傀儡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中国木偶戏历史悠久，三国时已有偶人可进行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7"/>
              </a:rPr>
              <a:t>杂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演，隋代则开始用偶人表演故事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木偶艺术精美绝伦，令人叹为观止。中华人民共和国成立以后，木偶戏的表演更加丰富多彩。除了演出传统的戏曲节目外，还表演话剧、歌舞剧、连续剧，甚至出演广告等。与此同时，木偶戏也面临着与其他艺术形式的激烈竞争。传统的木偶戏蕴藏着各地、各民族人民的思想、道德和审美意识，应加以扶持和保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WordArt 8"/>
          <p:cNvSpPr txBox="1"/>
          <p:nvPr/>
        </p:nvSpPr>
        <p:spPr>
          <a:xfrm>
            <a:off x="2484360" y="404640"/>
            <a:ext cx="3024360" cy="9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你知道吗</a:t>
            </a:r>
            <a:endParaRPr b="1" lang="en-US" sz="72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7" name="Text Box 8"/>
          <p:cNvSpPr/>
          <p:nvPr/>
        </p:nvSpPr>
        <p:spPr>
          <a:xfrm>
            <a:off x="447120" y="-79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8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8" descr="图片4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3" name="WordArt 5"/>
          <p:cNvSpPr txBox="1"/>
          <p:nvPr/>
        </p:nvSpPr>
        <p:spPr>
          <a:xfrm>
            <a:off x="1042920" y="981000"/>
            <a:ext cx="2781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表达方法</a:t>
            </a:r>
            <a:endParaRPr b="1" lang="en-US" sz="5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476360" y="2421000"/>
            <a:ext cx="62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运用了大量生动形象的比喻。</a:t>
            </a:r>
            <a:r>
              <a:rPr b="1" lang="zh-CN" sz="32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请用</a:t>
            </a:r>
            <a:r>
              <a:rPr b="1" lang="zh-CN" sz="3200" spc="-1" strike="noStrike">
                <a:solidFill>
                  <a:srgbClr val="c0504d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c0504d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标出文中的比喻句，说说其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描写极为细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面描写与侧面描写相结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11"/>
          <p:cNvSpPr/>
          <p:nvPr/>
        </p:nvSpPr>
        <p:spPr>
          <a:xfrm>
            <a:off x="2627280" y="3141720"/>
            <a:ext cx="538200" cy="147600"/>
          </a:xfrm>
          <a:custGeom>
            <a:avLst/>
            <a:gdLst/>
            <a:ahLst/>
            <a:rect l="l" t="t" r="r" b="b"/>
            <a:pathLst>
              <a:path w="339" h="93">
                <a:moveTo>
                  <a:pt x="0" y="73"/>
                </a:moveTo>
                <a:cubicBezTo>
                  <a:pt x="3" y="64"/>
                  <a:pt x="3" y="53"/>
                  <a:pt x="10" y="46"/>
                </a:cubicBezTo>
                <a:cubicBezTo>
                  <a:pt x="57" y="0"/>
                  <a:pt x="29" y="62"/>
                  <a:pt x="28" y="64"/>
                </a:cubicBezTo>
                <a:cubicBezTo>
                  <a:pt x="63" y="76"/>
                  <a:pt x="85" y="66"/>
                  <a:pt x="119" y="55"/>
                </a:cubicBezTo>
                <a:cubicBezTo>
                  <a:pt x="158" y="92"/>
                  <a:pt x="115" y="63"/>
                  <a:pt x="165" y="55"/>
                </a:cubicBezTo>
                <a:cubicBezTo>
                  <a:pt x="174" y="53"/>
                  <a:pt x="183" y="61"/>
                  <a:pt x="192" y="64"/>
                </a:cubicBezTo>
                <a:cubicBezTo>
                  <a:pt x="201" y="61"/>
                  <a:pt x="210" y="53"/>
                  <a:pt x="220" y="55"/>
                </a:cubicBezTo>
                <a:cubicBezTo>
                  <a:pt x="270" y="63"/>
                  <a:pt x="227" y="92"/>
                  <a:pt x="266" y="55"/>
                </a:cubicBezTo>
                <a:cubicBezTo>
                  <a:pt x="304" y="93"/>
                  <a:pt x="294" y="85"/>
                  <a:pt x="339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Picture 15" descr="0"/>
          <p:cNvPicPr/>
          <p:nvPr/>
        </p:nvPicPr>
        <p:blipFill>
          <a:blip r:embed="rId2"/>
          <a:stretch/>
        </p:blipFill>
        <p:spPr>
          <a:xfrm rot="5400000">
            <a:off x="3979440" y="2363400"/>
            <a:ext cx="966600" cy="7272360"/>
          </a:xfrm>
          <a:prstGeom prst="rect">
            <a:avLst/>
          </a:prstGeom>
          <a:ln w="0">
            <a:noFill/>
          </a:ln>
        </p:spPr>
      </p:pic>
      <p:sp>
        <p:nvSpPr>
          <p:cNvPr id="687" name="文本框 1"/>
          <p:cNvSpPr/>
          <p:nvPr/>
        </p:nvSpPr>
        <p:spPr>
          <a:xfrm>
            <a:off x="2405160" y="5151600"/>
            <a:ext cx="53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8" descr="图片4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9" name="Text Box 4"/>
          <p:cNvSpPr/>
          <p:nvPr/>
        </p:nvSpPr>
        <p:spPr>
          <a:xfrm>
            <a:off x="755640" y="765000"/>
            <a:ext cx="5184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木偶戏打一成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5"/>
          <p:cNvSpPr/>
          <p:nvPr/>
        </p:nvSpPr>
        <p:spPr>
          <a:xfrm>
            <a:off x="2771640" y="2565360"/>
            <a:ext cx="7129440" cy="26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宋体"/>
              </a:rPr>
              <a:t>装腔作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宋体"/>
              </a:rPr>
              <a:t>手忙脚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宋体"/>
              </a:rPr>
              <a:t>任人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宋体"/>
              </a:rPr>
              <a:t>步履蹒跚</a:t>
            </a:r>
            <a:r>
              <a:rPr b="0" lang="zh-CN" sz="1800" spc="-1" strike="noStrike">
                <a:solidFill>
                  <a:srgbClr val="9933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Picture 9" descr="06493638acdabb1bb9998f0f"/>
          <p:cNvPicPr/>
          <p:nvPr/>
        </p:nvPicPr>
        <p:blipFill>
          <a:blip r:embed="rId2"/>
          <a:stretch/>
        </p:blipFill>
        <p:spPr>
          <a:xfrm>
            <a:off x="6443640" y="2133720"/>
            <a:ext cx="1676520" cy="3403440"/>
          </a:xfrm>
          <a:prstGeom prst="rect">
            <a:avLst/>
          </a:prstGeom>
          <a:ln w="0">
            <a:noFill/>
          </a:ln>
        </p:spPr>
      </p:pic>
    </p:spTree>
  </p:cSld>
  <p:transition>
    <p:pull dir="rd"/>
    <p:sndAc>
      <p:stSnd>
        <p:snd r:embed="rId3" name="click.wav"/>
      </p:stSnd>
    </p:sndAc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15" descr="图片93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93" name="Text Box 8"/>
          <p:cNvSpPr/>
          <p:nvPr/>
        </p:nvSpPr>
        <p:spPr>
          <a:xfrm>
            <a:off x="4140360" y="1484280"/>
            <a:ext cx="50036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黄梅戏，旧称黄梅调或采茶戏，与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京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越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评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、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5"/>
              </a:rPr>
              <a:t>豫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并称中国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6"/>
              </a:rPr>
              <a:t>五大剧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它发源于湖北、安徽、江西三省交界处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7"/>
              </a:rPr>
              <a:t>黄梅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多云山，与鄂东和赣东北的采茶戏同出一源，其最初形式是湖北黄梅一带的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8"/>
              </a:rPr>
              <a:t>采茶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黄梅戏用安庆语言念唱，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9"/>
              </a:rPr>
              <a:t>唱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淳朴流畅，以明快抒情见长，具有丰富的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0"/>
              </a:rPr>
              <a:t>表现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黄梅戏的表演质朴细致，以真实活泼著称。 黄梅戏来自于民间，雅俗共赏、怡情悦性，她以浓郁的生活气息和清新的乡土风味感染观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9" descr="黄梅戏"/>
          <p:cNvPicPr/>
          <p:nvPr/>
        </p:nvPicPr>
        <p:blipFill>
          <a:blip r:embed="rId11"/>
          <a:stretch/>
        </p:blipFill>
        <p:spPr>
          <a:xfrm>
            <a:off x="250920" y="1484280"/>
            <a:ext cx="3382920" cy="4392720"/>
          </a:xfrm>
          <a:prstGeom prst="rect">
            <a:avLst/>
          </a:prstGeom>
          <a:ln w="0">
            <a:noFill/>
          </a:ln>
        </p:spPr>
      </p:pic>
      <p:grpSp>
        <p:nvGrpSpPr>
          <p:cNvPr id="695" name="Group 16"/>
          <p:cNvGrpSpPr/>
          <p:nvPr/>
        </p:nvGrpSpPr>
        <p:grpSpPr>
          <a:xfrm>
            <a:off x="395280" y="189000"/>
            <a:ext cx="4537080" cy="1341360"/>
            <a:chOff x="395280" y="189000"/>
            <a:chExt cx="4537080" cy="1341360"/>
          </a:xfrm>
        </p:grpSpPr>
        <p:sp>
          <p:nvSpPr>
            <p:cNvPr id="696" name="AutoShape 14"/>
            <p:cNvSpPr/>
            <p:nvPr/>
          </p:nvSpPr>
          <p:spPr>
            <a:xfrm>
              <a:off x="395280" y="189000"/>
              <a:ext cx="3960720" cy="907920"/>
            </a:xfrm>
            <a:custGeom>
              <a:avLst/>
              <a:gdLst>
                <a:gd name="textAreaLeft" fmla="*/ 0 w 3960720"/>
                <a:gd name="textAreaRight" fmla="*/ 3960720 w 3960720"/>
                <a:gd name="textAreaTop" fmla="*/ 117720 h 907920"/>
                <a:gd name="textAreaBottom" fmla="*/ 790200 h 90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4"/>
                  </a:moveTo>
                  <a:cubicBezTo>
                    <a:pt x="3600" y="-3570"/>
                    <a:pt x="7200" y="6378"/>
                    <a:pt x="10800" y="1404"/>
                  </a:cubicBezTo>
                  <a:cubicBezTo>
                    <a:pt x="14400" y="-3570"/>
                    <a:pt x="18000" y="6378"/>
                    <a:pt x="21600" y="1404"/>
                  </a:cubicBezTo>
                  <a:lnTo>
                    <a:pt x="21600" y="20196"/>
                  </a:lnTo>
                  <a:cubicBezTo>
                    <a:pt x="18000" y="25170"/>
                    <a:pt x="14400" y="15222"/>
                    <a:pt x="10800" y="20196"/>
                  </a:cubicBezTo>
                  <a:cubicBezTo>
                    <a:pt x="7200" y="25170"/>
                    <a:pt x="3600" y="15222"/>
                    <a:pt x="0" y="20196"/>
                  </a:cubicBez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 Box 7"/>
            <p:cNvSpPr/>
            <p:nvPr/>
          </p:nvSpPr>
          <p:spPr>
            <a:xfrm>
              <a:off x="539640" y="378000"/>
              <a:ext cx="41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中国乡土传统文化艺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AutoShape 12"/>
            <p:cNvSpPr/>
            <p:nvPr/>
          </p:nvSpPr>
          <p:spPr>
            <a:xfrm>
              <a:off x="4356000" y="665280"/>
              <a:ext cx="576360" cy="865080"/>
            </a:xfrm>
            <a:custGeom>
              <a:avLst/>
              <a:gdLst>
                <a:gd name="textAreaLeft" fmla="*/ 77040 w 576360"/>
                <a:gd name="textAreaRight" fmla="*/ 499320 w 576360"/>
                <a:gd name="textAreaTop" fmla="*/ 151200 h 865080"/>
                <a:gd name="textAreaBottom" fmla="*/ 62712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3443"/>
                  <a:lnTo>
                    <a:pt x="7197" y="21168"/>
                  </a:lnTo>
                  <a:lnTo>
                    <a:pt x="0" y="17280"/>
                  </a:lnTo>
                  <a:lnTo>
                    <a:pt x="7197" y="12528"/>
                  </a:lnTo>
                  <a:lnTo>
                    <a:pt x="7197" y="14688"/>
                  </a:lnTo>
                  <a:arcTo wR="21600" hR="7560" stAng="2683443" swAng="-2326008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Text Box 17"/>
          <p:cNvSpPr/>
          <p:nvPr/>
        </p:nvSpPr>
        <p:spPr>
          <a:xfrm>
            <a:off x="611280" y="6093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黄梅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天仙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剧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  <p:sndAc>
      <p:stSnd>
        <p:snd r:embed="rId12" name="chimes.wav"/>
      </p:stSnd>
    </p:sndAc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5" descr="图片93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01" name="Text Box 6"/>
          <p:cNvSpPr/>
          <p:nvPr/>
        </p:nvSpPr>
        <p:spPr>
          <a:xfrm>
            <a:off x="4356000" y="1557360"/>
            <a:ext cx="44640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二人转：史称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小秧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双玩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蹦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又称过口、双条边曲、风柳、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5"/>
              </a:rPr>
              <a:t>春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半班戏、东北地方戏等。表现形式为：一男一女，服饰鲜艳，手拿扇子、手绢，边走边唱边舞，表现一段故事，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6"/>
              </a:rPr>
              <a:t>唱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高亢粗犷，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7"/>
              </a:rPr>
              <a:t>唱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诙谐风趣。二人转属走唱类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8"/>
              </a:rPr>
              <a:t>曲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流行于辽宁、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9"/>
              </a:rPr>
              <a:t>吉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黑龙江三省和内蒙古东部三盟一市（现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0"/>
              </a:rPr>
              <a:t>呼伦贝尔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1"/>
              </a:rPr>
              <a:t>兴安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2"/>
              </a:rPr>
              <a:t>通辽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3"/>
              </a:rPr>
              <a:t>赤峰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Group 7"/>
          <p:cNvGrpSpPr/>
          <p:nvPr/>
        </p:nvGrpSpPr>
        <p:grpSpPr>
          <a:xfrm>
            <a:off x="179280" y="189000"/>
            <a:ext cx="4537080" cy="1341360"/>
            <a:chOff x="179280" y="189000"/>
            <a:chExt cx="4537080" cy="1341360"/>
          </a:xfrm>
        </p:grpSpPr>
        <p:sp>
          <p:nvSpPr>
            <p:cNvPr id="703" name="AutoShape 8"/>
            <p:cNvSpPr/>
            <p:nvPr/>
          </p:nvSpPr>
          <p:spPr>
            <a:xfrm>
              <a:off x="179280" y="189000"/>
              <a:ext cx="3960720" cy="907920"/>
            </a:xfrm>
            <a:custGeom>
              <a:avLst/>
              <a:gdLst>
                <a:gd name="textAreaLeft" fmla="*/ 0 w 3960720"/>
                <a:gd name="textAreaRight" fmla="*/ 3960720 w 3960720"/>
                <a:gd name="textAreaTop" fmla="*/ 117720 h 907920"/>
                <a:gd name="textAreaBottom" fmla="*/ 790200 h 90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4"/>
                  </a:moveTo>
                  <a:cubicBezTo>
                    <a:pt x="3600" y="-3570"/>
                    <a:pt x="7200" y="6378"/>
                    <a:pt x="10800" y="1404"/>
                  </a:cubicBezTo>
                  <a:cubicBezTo>
                    <a:pt x="14400" y="-3570"/>
                    <a:pt x="18000" y="6378"/>
                    <a:pt x="21600" y="1404"/>
                  </a:cubicBezTo>
                  <a:lnTo>
                    <a:pt x="21600" y="20196"/>
                  </a:lnTo>
                  <a:cubicBezTo>
                    <a:pt x="18000" y="25170"/>
                    <a:pt x="14400" y="15222"/>
                    <a:pt x="10800" y="20196"/>
                  </a:cubicBezTo>
                  <a:cubicBezTo>
                    <a:pt x="7200" y="25170"/>
                    <a:pt x="3600" y="15222"/>
                    <a:pt x="0" y="20196"/>
                  </a:cubicBez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Text Box 9"/>
            <p:cNvSpPr/>
            <p:nvPr/>
          </p:nvSpPr>
          <p:spPr>
            <a:xfrm>
              <a:off x="323640" y="378000"/>
              <a:ext cx="41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中国乡土传统文化艺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AutoShape 10"/>
            <p:cNvSpPr/>
            <p:nvPr/>
          </p:nvSpPr>
          <p:spPr>
            <a:xfrm>
              <a:off x="4140000" y="665280"/>
              <a:ext cx="576360" cy="865080"/>
            </a:xfrm>
            <a:custGeom>
              <a:avLst/>
              <a:gdLst>
                <a:gd name="textAreaLeft" fmla="*/ 77040 w 576360"/>
                <a:gd name="textAreaRight" fmla="*/ 499320 w 576360"/>
                <a:gd name="textAreaTop" fmla="*/ 151200 h 865080"/>
                <a:gd name="textAreaBottom" fmla="*/ 62712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3443"/>
                  <a:lnTo>
                    <a:pt x="7197" y="21168"/>
                  </a:lnTo>
                  <a:lnTo>
                    <a:pt x="0" y="17280"/>
                  </a:lnTo>
                  <a:lnTo>
                    <a:pt x="7197" y="12528"/>
                  </a:lnTo>
                  <a:lnTo>
                    <a:pt x="7197" y="14688"/>
                  </a:lnTo>
                  <a:arcTo wR="21600" hR="7560" stAng="2683443" swAng="-2326008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6" name="Picture 13" descr="二人转"/>
          <p:cNvPicPr/>
          <p:nvPr/>
        </p:nvPicPr>
        <p:blipFill>
          <a:blip r:embed="rId14"/>
          <a:stretch/>
        </p:blipFill>
        <p:spPr>
          <a:xfrm>
            <a:off x="324000" y="1341360"/>
            <a:ext cx="3528720" cy="4319640"/>
          </a:xfrm>
          <a:prstGeom prst="rect">
            <a:avLst/>
          </a:prstGeom>
          <a:ln w="0">
            <a:noFill/>
          </a:ln>
        </p:spPr>
      </p:pic>
      <p:sp>
        <p:nvSpPr>
          <p:cNvPr id="707" name="Text Box 14"/>
          <p:cNvSpPr/>
          <p:nvPr/>
        </p:nvSpPr>
        <p:spPr>
          <a:xfrm>
            <a:off x="539640" y="59500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二人转（韩子平、董玮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15" descr="0"/>
          <p:cNvPicPr/>
          <p:nvPr/>
        </p:nvPicPr>
        <p:blipFill>
          <a:blip r:embed="rId15"/>
          <a:stretch/>
        </p:blipFill>
        <p:spPr>
          <a:xfrm rot="5400000">
            <a:off x="6390000" y="4199760"/>
            <a:ext cx="390600" cy="4319640"/>
          </a:xfrm>
          <a:prstGeom prst="rect">
            <a:avLst/>
          </a:prstGeom>
          <a:ln w="0">
            <a:noFill/>
          </a:ln>
        </p:spPr>
      </p:pic>
    </p:spTree>
  </p:cSld>
  <p:transition>
    <p:comb dir="horz"/>
    <p:sndAc>
      <p:stSnd>
        <p:snd r:embed="rId16" name="chimes.wav"/>
      </p:stSnd>
    </p:sndAc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8" descr="图片4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710" name="线形标注 3 3" descr=""/>
          <p:cNvPicPr/>
          <p:nvPr/>
        </p:nvPicPr>
        <p:blipFill>
          <a:blip r:embed="rId2"/>
          <a:stretch/>
        </p:blipFill>
        <p:spPr>
          <a:xfrm>
            <a:off x="1155600" y="822240"/>
            <a:ext cx="5380200" cy="2367000"/>
          </a:xfrm>
          <a:prstGeom prst="rect">
            <a:avLst/>
          </a:prstGeom>
          <a:ln w="0">
            <a:noFill/>
          </a:ln>
        </p:spPr>
      </p:pic>
      <p:sp>
        <p:nvSpPr>
          <p:cNvPr id="711" name="TextBox 1"/>
          <p:cNvSpPr/>
          <p:nvPr/>
        </p:nvSpPr>
        <p:spPr>
          <a:xfrm>
            <a:off x="2214720" y="1143000"/>
            <a:ext cx="435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读写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结合练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2"/>
          <p:cNvSpPr/>
          <p:nvPr/>
        </p:nvSpPr>
        <p:spPr>
          <a:xfrm>
            <a:off x="684360" y="3068640"/>
            <a:ext cx="738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Arial"/>
                <a:ea typeface="宋体"/>
              </a:rPr>
              <a:t>     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  <a:ea typeface="宋体"/>
              </a:rPr>
              <a:t>学习课文的写作方法，按照，（活动）前 </a:t>
            </a: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  <a:ea typeface="宋体"/>
              </a:rPr>
              <a:t>演出（活动）中     </a:t>
            </a: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  <a:ea typeface="宋体"/>
              </a:rPr>
              <a:t>   演出</a:t>
            </a: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  <a:ea typeface="宋体"/>
              </a:rPr>
              <a:t>活动）后的时间顺序写你看过的一次演出或活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  <p:sndAc>
      <p:stSnd>
        <p:snd r:embed="rId3" name="type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61CA-0A34-4F7A-9D05-83489B07FC1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组合 10"/>
          <p:cNvGrpSpPr/>
          <p:nvPr/>
        </p:nvGrpSpPr>
        <p:grpSpPr>
          <a:xfrm>
            <a:off x="0" y="0"/>
            <a:ext cx="9144000" cy="6862680"/>
            <a:chOff x="0" y="0"/>
            <a:chExt cx="9144000" cy="6862680"/>
          </a:xfrm>
        </p:grpSpPr>
        <p:pic>
          <p:nvPicPr>
            <p:cNvPr id="509" name="Picture 7" descr="图片93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62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0" name="Group 11"/>
            <p:cNvGrpSpPr/>
            <p:nvPr/>
          </p:nvGrpSpPr>
          <p:grpSpPr>
            <a:xfrm>
              <a:off x="250560" y="260280"/>
              <a:ext cx="4033800" cy="6408720"/>
              <a:chOff x="250560" y="260280"/>
              <a:chExt cx="4033800" cy="6408720"/>
            </a:xfrm>
          </p:grpSpPr>
          <p:pic>
            <p:nvPicPr>
              <p:cNvPr id="511" name="Picture 4" descr="布袋木偶"/>
              <p:cNvPicPr/>
              <p:nvPr/>
            </p:nvPicPr>
            <p:blipFill>
              <a:blip r:embed="rId2"/>
              <a:stretch/>
            </p:blipFill>
            <p:spPr>
              <a:xfrm>
                <a:off x="250560" y="1125360"/>
                <a:ext cx="4033800" cy="554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Text Box 8"/>
              <p:cNvSpPr/>
              <p:nvPr/>
            </p:nvSpPr>
            <p:spPr>
              <a:xfrm>
                <a:off x="899640" y="260280"/>
                <a:ext cx="2448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布袋木偶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3" name="Group 12"/>
          <p:cNvGrpSpPr/>
          <p:nvPr/>
        </p:nvGrpSpPr>
        <p:grpSpPr>
          <a:xfrm>
            <a:off x="4500720" y="260280"/>
            <a:ext cx="4464000" cy="6408720"/>
            <a:chOff x="4500720" y="260280"/>
            <a:chExt cx="4464000" cy="6408720"/>
          </a:xfrm>
        </p:grpSpPr>
        <p:pic>
          <p:nvPicPr>
            <p:cNvPr id="514" name="Picture 5" descr="木偶艺术"/>
            <p:cNvPicPr/>
            <p:nvPr/>
          </p:nvPicPr>
          <p:blipFill>
            <a:blip r:embed="rId3"/>
            <a:stretch/>
          </p:blipFill>
          <p:spPr>
            <a:xfrm>
              <a:off x="4500720" y="1125360"/>
              <a:ext cx="4464000" cy="554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Text Box 9"/>
            <p:cNvSpPr/>
            <p:nvPr/>
          </p:nvSpPr>
          <p:spPr>
            <a:xfrm>
              <a:off x="5867280" y="260280"/>
              <a:ext cx="244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木偶艺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矩形 7"/>
          <p:cNvSpPr/>
          <p:nvPr/>
        </p:nvSpPr>
        <p:spPr>
          <a:xfrm>
            <a:off x="1900080" y="362124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7" descr="图片93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8" descr="四川大木偶戏"/>
          <p:cNvPicPr/>
          <p:nvPr/>
        </p:nvPicPr>
        <p:blipFill>
          <a:blip r:embed="rId2"/>
          <a:stretch/>
        </p:blipFill>
        <p:spPr>
          <a:xfrm>
            <a:off x="250920" y="1125360"/>
            <a:ext cx="4176720" cy="554364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9"/>
          <p:cNvSpPr/>
          <p:nvPr/>
        </p:nvSpPr>
        <p:spPr>
          <a:xfrm>
            <a:off x="684360" y="33336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四川大木偶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0"/>
          <p:cNvSpPr/>
          <p:nvPr/>
        </p:nvSpPr>
        <p:spPr>
          <a:xfrm>
            <a:off x="5580000" y="333360"/>
            <a:ext cx="31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托棒木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11" descr="托棍木偶"/>
          <p:cNvPicPr/>
          <p:nvPr/>
        </p:nvPicPr>
        <p:blipFill>
          <a:blip r:embed="rId3"/>
          <a:stretch/>
        </p:blipFill>
        <p:spPr>
          <a:xfrm>
            <a:off x="4572000" y="1125360"/>
            <a:ext cx="4392720" cy="5472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4" name="type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8" descr="图片4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4"/>
          <p:cNvSpPr/>
          <p:nvPr/>
        </p:nvSpPr>
        <p:spPr>
          <a:xfrm>
            <a:off x="1187280" y="13413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 自由地、小声地朗读课文，争取读通顺，画出不懂的词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1187280" y="24210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标出自然段，想想各段分别写了什么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6"/>
          <p:cNvSpPr/>
          <p:nvPr/>
        </p:nvSpPr>
        <p:spPr>
          <a:xfrm>
            <a:off x="1258920" y="33577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再读课文，想一想文章是按什么顺序介绍木偶戏的？全文可以分为几部分内容，怎样分？每部分讲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1187280" y="46530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标出文中新词，并联系上下文或借助工具书理解词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10" descr="初读感知"/>
          <p:cNvPicPr/>
          <p:nvPr/>
        </p:nvPicPr>
        <p:blipFill>
          <a:blip r:embed="rId2"/>
          <a:stretch/>
        </p:blipFill>
        <p:spPr>
          <a:xfrm>
            <a:off x="395280" y="189000"/>
            <a:ext cx="2881440" cy="936360"/>
          </a:xfrm>
          <a:prstGeom prst="rect">
            <a:avLst/>
          </a:prstGeom>
          <a:ln w="0">
            <a:noFill/>
          </a:ln>
        </p:spPr>
      </p:pic>
    </p:spTree>
  </p:cSld>
  <p:transition>
    <p:cover dir="d"/>
    <p:sndAc>
      <p:stSnd>
        <p:snd r:embed="rId3" name="click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4" descr="图片44"/>
          <p:cNvPicPr/>
          <p:nvPr/>
        </p:nvPicPr>
        <p:blipFill>
          <a:blip r:embed="rId1"/>
          <a:stretch/>
        </p:blipFill>
        <p:spPr>
          <a:xfrm>
            <a:off x="-317520" y="-23328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5" descr="整体感知"/>
          <p:cNvPicPr/>
          <p:nvPr/>
        </p:nvPicPr>
        <p:blipFill>
          <a:blip r:embed="rId2"/>
          <a:stretch/>
        </p:blipFill>
        <p:spPr>
          <a:xfrm>
            <a:off x="468360" y="476280"/>
            <a:ext cx="2017800" cy="86508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6"/>
          <p:cNvSpPr/>
          <p:nvPr/>
        </p:nvSpPr>
        <p:spPr>
          <a:xfrm>
            <a:off x="1187280" y="2205000"/>
            <a:ext cx="6913800" cy="137376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部分（第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）：写演出前的行头、观众、戏台等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部分（第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）：写演出的全过程。表现木偶艺人的技艺高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部分（第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）：写曲终人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Group 7"/>
          <p:cNvGrpSpPr/>
          <p:nvPr/>
        </p:nvGrpSpPr>
        <p:grpSpPr>
          <a:xfrm>
            <a:off x="468360" y="476280"/>
            <a:ext cx="2042640" cy="1079640"/>
            <a:chOff x="468360" y="476280"/>
            <a:chExt cx="2042640" cy="1079640"/>
          </a:xfrm>
        </p:grpSpPr>
        <p:pic>
          <p:nvPicPr>
            <p:cNvPr id="532" name="Picture 8" descr="09"/>
            <p:cNvPicPr/>
            <p:nvPr/>
          </p:nvPicPr>
          <p:blipFill>
            <a:blip r:embed="rId3"/>
            <a:stretch/>
          </p:blipFill>
          <p:spPr>
            <a:xfrm flipH="1">
              <a:off x="468360" y="476280"/>
              <a:ext cx="193104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Text Box 9"/>
            <p:cNvSpPr/>
            <p:nvPr/>
          </p:nvSpPr>
          <p:spPr>
            <a:xfrm>
              <a:off x="554760" y="944280"/>
              <a:ext cx="195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文章结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u"/>
    <p:sndAc>
      <p:stSnd>
        <p:snd r:embed="rId4" name="wind.wav"/>
      </p:stSnd>
    </p:sndAc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5"/>
          <p:cNvSpPr/>
          <p:nvPr/>
        </p:nvSpPr>
        <p:spPr>
          <a:xfrm>
            <a:off x="1476360" y="62064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组合 13"/>
          <p:cNvGrpSpPr/>
          <p:nvPr/>
        </p:nvGrpSpPr>
        <p:grpSpPr>
          <a:xfrm>
            <a:off x="-181080" y="0"/>
            <a:ext cx="9753840" cy="7315200"/>
            <a:chOff x="-181080" y="0"/>
            <a:chExt cx="9753840" cy="7315200"/>
          </a:xfrm>
        </p:grpSpPr>
        <p:pic>
          <p:nvPicPr>
            <p:cNvPr id="536" name="Picture 4" descr="图片44"/>
            <p:cNvPicPr/>
            <p:nvPr/>
          </p:nvPicPr>
          <p:blipFill>
            <a:blip r:embed="rId1"/>
            <a:stretch/>
          </p:blipFill>
          <p:spPr>
            <a:xfrm>
              <a:off x="-181080" y="0"/>
              <a:ext cx="9753840" cy="7315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7" name="Group 6"/>
            <p:cNvGrpSpPr/>
            <p:nvPr/>
          </p:nvGrpSpPr>
          <p:grpSpPr>
            <a:xfrm>
              <a:off x="468000" y="620640"/>
              <a:ext cx="2042640" cy="1079280"/>
              <a:chOff x="468000" y="620640"/>
              <a:chExt cx="2042640" cy="1079280"/>
            </a:xfrm>
          </p:grpSpPr>
          <p:pic>
            <p:nvPicPr>
              <p:cNvPr id="538" name="Picture 7" descr="09"/>
              <p:cNvPicPr/>
              <p:nvPr/>
            </p:nvPicPr>
            <p:blipFill>
              <a:blip r:embed="rId2"/>
              <a:stretch/>
            </p:blipFill>
            <p:spPr>
              <a:xfrm flipH="1">
                <a:off x="468000" y="620640"/>
                <a:ext cx="1931040" cy="10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9" name="Text Box 8"/>
              <p:cNvSpPr/>
              <p:nvPr/>
            </p:nvSpPr>
            <p:spPr>
              <a:xfrm>
                <a:off x="554400" y="1088640"/>
                <a:ext cx="1956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主要内容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0" name="Text Box 9"/>
          <p:cNvSpPr/>
          <p:nvPr/>
        </p:nvSpPr>
        <p:spPr>
          <a:xfrm>
            <a:off x="61128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文按演出前、演出中、演出后的顺序详细介绍了木偶戏表演的全过程。展现了木偶戏神奇的艺术魅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Group 13"/>
          <p:cNvGrpSpPr/>
          <p:nvPr/>
        </p:nvGrpSpPr>
        <p:grpSpPr>
          <a:xfrm>
            <a:off x="6156360" y="3429000"/>
            <a:ext cx="2042640" cy="1079640"/>
            <a:chOff x="6156360" y="3429000"/>
            <a:chExt cx="2042640" cy="1079640"/>
          </a:xfrm>
        </p:grpSpPr>
        <p:pic>
          <p:nvPicPr>
            <p:cNvPr id="542" name="Picture 14" descr="09"/>
            <p:cNvPicPr/>
            <p:nvPr/>
          </p:nvPicPr>
          <p:blipFill>
            <a:blip r:embed="rId3"/>
            <a:stretch/>
          </p:blipFill>
          <p:spPr>
            <a:xfrm flipH="1">
              <a:off x="6156360" y="3429000"/>
              <a:ext cx="193104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Text Box 15"/>
            <p:cNvSpPr/>
            <p:nvPr/>
          </p:nvSpPr>
          <p:spPr>
            <a:xfrm>
              <a:off x="6242760" y="3897000"/>
              <a:ext cx="195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中心思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Text Box 16"/>
          <p:cNvSpPr/>
          <p:nvPr/>
        </p:nvSpPr>
        <p:spPr>
          <a:xfrm>
            <a:off x="611280" y="486900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者通过对木偶戏表演的全过程的介绍，表达了作者对祖国传统文化艺术的赞叹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  <p:sndAc>
      <p:stSnd>
        <p:snd r:embed="rId4" name="wind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8" descr="图片44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46" name="AutoShape 17"/>
          <p:cNvSpPr/>
          <p:nvPr/>
        </p:nvSpPr>
        <p:spPr>
          <a:xfrm>
            <a:off x="179280" y="765000"/>
            <a:ext cx="865440" cy="3097440"/>
          </a:xfrm>
          <a:prstGeom prst="wedgeEllipseCallout">
            <a:avLst>
              <a:gd name="adj1" fmla="val 93300"/>
              <a:gd name="adj2" fmla="val 52666"/>
            </a:avLst>
          </a:prstGeom>
          <a:solidFill>
            <a:srgbClr val="4f81bd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1547640" y="1628640"/>
            <a:ext cx="65534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小幡          小旌           雉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羽翎          驰骋           颌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俨如          阎王           霸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1908000" y="981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3995640" y="1052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jī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8"/>
          <p:cNvSpPr/>
          <p:nvPr/>
        </p:nvSpPr>
        <p:spPr>
          <a:xfrm>
            <a:off x="6012000" y="1052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zh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9"/>
          <p:cNvSpPr/>
          <p:nvPr/>
        </p:nvSpPr>
        <p:spPr>
          <a:xfrm>
            <a:off x="1692360" y="2708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í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0"/>
          <p:cNvSpPr/>
          <p:nvPr/>
        </p:nvSpPr>
        <p:spPr>
          <a:xfrm>
            <a:off x="3851280" y="264312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ě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1"/>
          <p:cNvSpPr/>
          <p:nvPr/>
        </p:nvSpPr>
        <p:spPr>
          <a:xfrm>
            <a:off x="1403280" y="43005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yǎ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2"/>
          <p:cNvSpPr/>
          <p:nvPr/>
        </p:nvSpPr>
        <p:spPr>
          <a:xfrm>
            <a:off x="3492360" y="43005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y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3"/>
          <p:cNvSpPr/>
          <p:nvPr/>
        </p:nvSpPr>
        <p:spPr>
          <a:xfrm>
            <a:off x="5940360" y="2583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4"/>
          <p:cNvSpPr/>
          <p:nvPr/>
        </p:nvSpPr>
        <p:spPr>
          <a:xfrm>
            <a:off x="5940360" y="4292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5"/>
          <p:cNvSpPr/>
          <p:nvPr/>
        </p:nvSpPr>
        <p:spPr>
          <a:xfrm>
            <a:off x="250920" y="907920"/>
            <a:ext cx="86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Arial"/>
                <a:ea typeface="宋体"/>
              </a:rPr>
              <a:t>生字学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4" descr="图片44"/>
          <p:cNvPicPr/>
          <p:nvPr/>
        </p:nvPicPr>
        <p:blipFill>
          <a:blip r:embed="rId1"/>
          <a:stretch/>
        </p:blipFill>
        <p:spPr>
          <a:xfrm>
            <a:off x="-39672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6"/>
          <p:cNvSpPr/>
          <p:nvPr/>
        </p:nvSpPr>
        <p:spPr>
          <a:xfrm>
            <a:off x="468360" y="1647720"/>
            <a:ext cx="83883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简陋    殿堂    浑如    棰子     飞花流星      震慑四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衔着    蜷曲    硬朗    舞动      灰扑扑         呼啸而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镀着    小幡    小旌    驰骋       雉鸡翎        石破天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阎王    程序    抖颤     遗憾      所向无敌     朗朗天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颌处   甚或     发痴     奥妙      喜怒哀乐     弯腰捧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俨如   兴高采烈     心满意足    弹指之间     悲欢离合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叹服   生死荣辱     统摄四方    冬去春来     无处不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7" descr="复件 读一读"/>
          <p:cNvPicPr/>
          <p:nvPr/>
        </p:nvPicPr>
        <p:blipFill>
          <a:blip r:embed="rId2"/>
          <a:stretch/>
        </p:blipFill>
        <p:spPr>
          <a:xfrm>
            <a:off x="0" y="0"/>
            <a:ext cx="2114640" cy="1584360"/>
          </a:xfrm>
          <a:prstGeom prst="rect">
            <a:avLst/>
          </a:prstGeom>
          <a:ln w="0">
            <a:noFill/>
          </a:ln>
        </p:spPr>
      </p:pic>
    </p:spTree>
  </p:cSld>
  <p:transition>
    <p:cover dir="rd"/>
    <p:sndAc>
      <p:stSnd>
        <p:snd r:embed="rId3" name="typ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00:58:5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37:31Z</dcterms:modified>
  <cp:revision>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