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5BA5-8361-4DFC-994C-0558D61BA4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40C6-1712-4A29-85EE-D3ECD8F8D1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26AF-7878-4965-A218-C1821BA3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C7E-C9A3-43BD-899F-489AEFCF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8D60-74D8-4F1A-96A0-83DB60BF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07BD-F1C4-4155-BDD8-791DF8C0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E2C9-84A3-4628-BE42-ED8969B8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4E0-A6F0-416E-8205-579CC9A1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8BC-1E15-47CD-B997-B790ECA7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8BF-0F98-4317-A662-F2244213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87AB-97D5-417B-8F96-898FAD3D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744-D85C-415C-965B-931C999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9BE-4EDA-42BB-95DD-EA2FA90C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BF54-125D-420A-B47A-1ABCD70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389D-136D-474B-B8C8-843167AEE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1 门前的小树死了1"/>
          <p:cNvPicPr/>
          <p:nvPr/>
        </p:nvPicPr>
        <p:blipFill>
          <a:blip r:embed="rId1"/>
          <a:stretch/>
        </p:blipFill>
        <p:spPr>
          <a:xfrm>
            <a:off x="4670280" y="0"/>
            <a:ext cx="4473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52440" y="206064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微软雅黑"/>
                <a:ea typeface="微软雅黑"/>
              </a:rPr>
              <a:t>门前的小树死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39720" y="5799240"/>
            <a:ext cx="58705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2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009319013453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68360" y="641160"/>
            <a:ext cx="799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调查报告的一般写法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标题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直截了当地把调查的问题写在标题里，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关于╳╳╳问题的调查报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概况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交代所调查问题的基本情况，点明调查的结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调查内容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清事物的发生、发展过程及产生的影响、后果。可以按时间顺序写，也可以按问题性质从不同侧面来写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结论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事实进行分析，得出结论性意见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最后写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调查人姓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整理调查报告的时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D665-454C-43D4-911D-2AC66D98B9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aa小本本32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763640" y="1773360"/>
            <a:ext cx="554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光秃秃   集贸市场 菜摊    耐寒   干旱  分析    垃圾   适宜  商贩    污水   承担  措施    奖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阅读质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作者为什么要写这件事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作者要表达怎样的意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这件事跟我们有什么关系吗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作者是怎样来写的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5-3"/>
          <p:cNvPicPr/>
          <p:nvPr/>
        </p:nvPicPr>
        <p:blipFill>
          <a:blip r:embed="rId1"/>
          <a:stretch/>
        </p:blipFill>
        <p:spPr>
          <a:xfrm>
            <a:off x="250920" y="549360"/>
            <a:ext cx="2160360" cy="20876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"/>
          <p:cNvSpPr/>
          <p:nvPr/>
        </p:nvSpPr>
        <p:spPr>
          <a:xfrm>
            <a:off x="2843280" y="69228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默读课文，想一想这篇课文是从哪几个方面写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11280" y="4076640"/>
            <a:ext cx="143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现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4067280" y="4221000"/>
            <a:ext cx="936360" cy="505080"/>
          </a:xfrm>
          <a:prstGeom prst="rightArrow">
            <a:avLst>
              <a:gd name="adj1" fmla="val 50000"/>
              <a:gd name="adj2" fmla="val 46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771640" y="4076640"/>
            <a:ext cx="17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调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1908000" y="4221000"/>
            <a:ext cx="936720" cy="505080"/>
          </a:xfrm>
          <a:prstGeom prst="rightArrow">
            <a:avLst>
              <a:gd name="adj1" fmla="val 50000"/>
              <a:gd name="adj2" fmla="val 463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003640" y="4076640"/>
            <a:ext cx="18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分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6300720" y="4221000"/>
            <a:ext cx="936720" cy="505080"/>
          </a:xfrm>
          <a:prstGeom prst="rightArrow">
            <a:avLst>
              <a:gd name="adj1" fmla="val 50000"/>
              <a:gd name="adj2" fmla="val 463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236000" y="4076640"/>
            <a:ext cx="14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6"/>
          <p:cNvSpPr/>
          <p:nvPr/>
        </p:nvSpPr>
        <p:spPr>
          <a:xfrm>
            <a:off x="395280" y="3141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aa小本本32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2268360" y="1484280"/>
            <a:ext cx="5832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</a:rPr>
              <a:t>调查方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步量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统计数据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考察取证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1"/>
          <p:cNvSpPr/>
          <p:nvPr/>
        </p:nvSpPr>
        <p:spPr>
          <a:xfrm>
            <a:off x="673200" y="6323040"/>
            <a:ext cx="55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aa小本本32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1403280" y="1557360"/>
            <a:ext cx="633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候适宜、无病虫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树非正常死亡的原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查结论：小树的死亡，是人为因素造成的，并且与集贸市场有很大关系。由于非正常死亡的树木较多，园林部门每年又得增加投资去补种，这真是一个巨大的浪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18。门前的小树死了"/>
          <p:cNvPicPr/>
          <p:nvPr/>
        </p:nvPicPr>
        <p:blipFill>
          <a:blip r:embed="rId1"/>
          <a:stretch/>
        </p:blipFill>
        <p:spPr>
          <a:xfrm>
            <a:off x="1763640" y="3078000"/>
            <a:ext cx="5400720" cy="3780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00000" y="83664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留心你周围的生活环境，也像小作者一样做一项调查，并试着写一份调查报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2f43b90bb39e2c1fb0351d4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请爱护花草树木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560" y="141300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夜静悄悄的，花园里的植物正在开会呢！月季说：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我们带给人们视觉的享受，可是有些人不爱护我们。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小草嚷道：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我们可以防止水土流失，美化环境，可有些人看不起我们。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松树大伯讲：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有些人还拿刀在我们的同伴身上滥砍滥伐呢。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第二天，几位少先队员来到花园。他们每隔一段距离就往下插一块木牌，上面写着：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请爱护花草树木！</a:t>
            </a:r>
            <a:r>
              <a:rPr b="1" lang="zh-CN" sz="2400" spc="-1" strike="noStrike">
                <a:solidFill>
                  <a:srgbClr val="009999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楷体_GB2312"/>
              </a:rPr>
              <a:t>又是夜晚，植物们舒心地睡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200865211332893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978640" y="-720"/>
            <a:ext cx="305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什么是调查报告呢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573360"/>
            <a:ext cx="914400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中常用的调查报告有两种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群众来信的调查报告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对来信反映的情况或揭露的问题进行核实。包括调查了哪些人，所调查问题的真实情况以及对来信的处理意见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．典型的调查报告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括典型经验、典型事件的叙述和分析。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692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调查报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把调查得来的情况用书面形式向有关领导部门汇报的一种公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184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查报告的种类很多，大致可分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典型经验的调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揭露问题的调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历史沿革的调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新情况新事物的调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及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基本情况的调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2:07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8:22Z</dcterms:modified>
  <cp:revision>2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