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jpeg" ContentType="image/jpeg"/>
  <Override PartName="/ppt/media/whoosh.wav" ContentType="audio/x-wav"/>
  <Override PartName="/ppt/media/image7.png" ContentType="image/png"/>
  <Override PartName="/ppt/media/camera.wav" ContentType="audio/x-wav"/>
  <Override PartName="/ppt/media/image17.gif" ContentType="image/gif"/>
  <Override PartName="/ppt/media/wind.wav" ContentType="audio/x-wav"/>
  <Override PartName="/ppt/media/chimes.wav" ContentType="audio/x-wav"/>
  <Override PartName="/ppt/media/image16.png" ContentType="image/png"/>
  <Override PartName="/ppt/media/image6.png" ContentType="image/png"/>
  <Override PartName="/ppt/media/image5.jpeg" ContentType="image/jpeg"/>
  <Override PartName="/ppt/media/image19.png" ContentType="image/png"/>
  <Override PartName="/ppt/media/image1.png" ContentType="image/png"/>
  <Override PartName="/ppt/media/image14.gif" ContentType="image/gif"/>
  <Override PartName="/ppt/media/type.wav" ContentType="audio/x-wav"/>
  <Override PartName="/ppt/media/image18.png" ContentType="image/png"/>
  <Override PartName="/ppt/media/voltage.wav" ContentType="audio/x-wav"/>
  <Override PartName="/ppt/media/image15.png" ContentType="image/png"/>
  <Override PartName="/ppt/media/image13.png" ContentType="image/png"/>
  <Override PartName="/ppt/media/image12.png" ContentType="image/png"/>
  <Override PartName="/ppt/media/click.wav" ContentType="audio/x-wav"/>
  <Override PartName="/ppt/media/image11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DAC1-D9B8-443C-9D59-A4E2257C3A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13D6-3C0E-492E-AB7E-56D3C800CA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048-046C-44F3-A96E-DC656291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C3AB-85F2-422C-94B7-8DF54CEF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C09-6C82-4850-AB4C-6F85D9C1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F244-CFFF-49EC-B1DE-F25CE2A4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F1A-8B88-4D0E-8886-5236D8BA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575-2A9E-4B19-8C1A-8C5374BD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F11-E5DF-4352-981C-9A31C6EF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F8AF-033A-44D2-B109-267869B2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1E0-D5A8-4A84-9E6B-395F261E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9EB-F244-467F-84A3-A2BC1EC5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11A-2A32-4340-90B8-C939808B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D6F-5871-405F-8330-1B84F632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A770-12AB-42CB-A40F-8DF7DA9DA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baike.baidu.com/view/20422.htm" TargetMode="External"/><Relationship Id="rId4" Type="http://schemas.openxmlformats.org/officeDocument/2006/relationships/hyperlink" Target="http://baike.baidu.com/view/66893.htm" TargetMode="External"/><Relationship Id="rId5" Type="http://schemas.openxmlformats.org/officeDocument/2006/relationships/hyperlink" Target="http://baike.baidu.com/view/1913716.htm" TargetMode="External"/><Relationship Id="rId6" Type="http://schemas.openxmlformats.org/officeDocument/2006/relationships/hyperlink" Target="http://baike.baidu.com/view/36889.htm" TargetMode="External"/><Relationship Id="rId7" Type="http://schemas.openxmlformats.org/officeDocument/2006/relationships/hyperlink" Target="http://baike.baidu.com/view/32005.htm" TargetMode="External"/><Relationship Id="rId8" Type="http://schemas.openxmlformats.org/officeDocument/2006/relationships/hyperlink" Target="http://baike.baidu.com/view/32027.htm" TargetMode="External"/><Relationship Id="rId9" Type="http://schemas.openxmlformats.org/officeDocument/2006/relationships/hyperlink" Target="http://baike.baidu.com/view/19571.htm" TargetMode="External"/><Relationship Id="rId10" Type="http://schemas.openxmlformats.org/officeDocument/2006/relationships/hyperlink" Target="http://baike.baidu.com/view/3082.htm" TargetMode="External"/><Relationship Id="rId11" Type="http://schemas.openxmlformats.org/officeDocument/2006/relationships/hyperlink" Target="http://baike.baidu.com/view/708640.htm" TargetMode="External"/><Relationship Id="rId12" Type="http://schemas.openxmlformats.org/officeDocument/2006/relationships/hyperlink" Target="http://baike.baidu.com/view/422591.htm" TargetMode="External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木桶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5" descr=""/>
          <p:cNvPicPr/>
          <p:nvPr/>
        </p:nvPicPr>
        <p:blipFill>
          <a:blip r:embed="rId2"/>
          <a:stretch/>
        </p:blipFill>
        <p:spPr>
          <a:xfrm>
            <a:off x="482760" y="2133720"/>
            <a:ext cx="4464000" cy="1189080"/>
          </a:xfrm>
          <a:prstGeom prst="rect">
            <a:avLst/>
          </a:prstGeom>
          <a:ln w="0">
            <a:noFill/>
          </a:ln>
        </p:spPr>
      </p:pic>
      <p:pic>
        <p:nvPicPr>
          <p:cNvPr id="50" name="矩形 4" descr=""/>
          <p:cNvPicPr/>
          <p:nvPr/>
        </p:nvPicPr>
        <p:blipFill>
          <a:blip r:embed="rId3"/>
          <a:stretch/>
        </p:blipFill>
        <p:spPr>
          <a:xfrm>
            <a:off x="1779480" y="596736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p:transition>
    <p:comb dir="vert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4" descr="179.jpg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042920" y="1700280"/>
            <a:ext cx="7272360" cy="520560"/>
          </a:xfrm>
          <a:prstGeom prst="rect">
            <a:avLst/>
          </a:prstGeom>
          <a:noFill/>
          <a:ln w="9360">
            <a:solidFill>
              <a:srgbClr val="ff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文主要写杜处士珍藏了唐代著名画家戴嵩的一幅斗牛图，一个普通的放牛娃发现并指出了画中的错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云形标注 7"/>
          <p:cNvSpPr/>
          <p:nvPr/>
        </p:nvSpPr>
        <p:spPr>
          <a:xfrm>
            <a:off x="0" y="260280"/>
            <a:ext cx="3635280" cy="1008000"/>
          </a:xfrm>
          <a:prstGeom prst="cloudCallout">
            <a:avLst>
              <a:gd name="adj1" fmla="val 102462"/>
              <a:gd name="adj2" fmla="val 49745"/>
            </a:avLst>
          </a:pr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矩形 6" descr=""/>
          <p:cNvPicPr/>
          <p:nvPr/>
        </p:nvPicPr>
        <p:blipFill>
          <a:blip r:embed="rId2"/>
          <a:stretch/>
        </p:blipFill>
        <p:spPr>
          <a:xfrm>
            <a:off x="268200" y="122400"/>
            <a:ext cx="3370320" cy="1096920"/>
          </a:xfrm>
          <a:prstGeom prst="rect">
            <a:avLst/>
          </a:prstGeom>
          <a:ln w="0">
            <a:noFill/>
          </a:ln>
        </p:spPr>
      </p:pic>
      <p:grpSp>
        <p:nvGrpSpPr>
          <p:cNvPr id="126" name="组合 11"/>
          <p:cNvGrpSpPr/>
          <p:nvPr/>
        </p:nvGrpSpPr>
        <p:grpSpPr>
          <a:xfrm>
            <a:off x="0" y="3357720"/>
            <a:ext cx="3492360" cy="934920"/>
            <a:chOff x="0" y="3357720"/>
            <a:chExt cx="3492360" cy="934920"/>
          </a:xfrm>
        </p:grpSpPr>
        <p:pic>
          <p:nvPicPr>
            <p:cNvPr id="127" name="矩形 8" descr=""/>
            <p:cNvPicPr/>
            <p:nvPr/>
          </p:nvPicPr>
          <p:blipFill>
            <a:blip r:embed="rId3"/>
            <a:stretch/>
          </p:blipFill>
          <p:spPr>
            <a:xfrm>
              <a:off x="73080" y="3357720"/>
              <a:ext cx="3371040" cy="89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云形标注 9"/>
            <p:cNvSpPr/>
            <p:nvPr/>
          </p:nvSpPr>
          <p:spPr>
            <a:xfrm>
              <a:off x="0" y="3530520"/>
              <a:ext cx="3492360" cy="762120"/>
            </a:xfrm>
            <a:prstGeom prst="cloudCallout">
              <a:avLst>
                <a:gd name="adj1" fmla="val 102462"/>
                <a:gd name="adj2" fmla="val 49745"/>
              </a:avLst>
            </a:pr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5"/>
          <p:cNvSpPr/>
          <p:nvPr/>
        </p:nvSpPr>
        <p:spPr>
          <a:xfrm>
            <a:off x="1195560" y="4635360"/>
            <a:ext cx="7272000" cy="520560"/>
          </a:xfrm>
          <a:prstGeom prst="rect">
            <a:avLst/>
          </a:prstGeom>
          <a:noFill/>
          <a:ln w="93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映了牧童善于观察，敢于向权威挑战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4" name="click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4" descr="179.jpg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3636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611280" y="1844640"/>
            <a:ext cx="7993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蜀中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杜处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好书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所宝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百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戴嵩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一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尤所爱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锦囊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玉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以自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曝书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一牧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见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拊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此画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斗牛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斗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力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尾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搐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股间。今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乃掉尾而斗，谬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矣！”处士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笑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然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线形标注 3(带边框和强调线) 4"/>
          <p:cNvSpPr/>
          <p:nvPr/>
        </p:nvSpPr>
        <p:spPr>
          <a:xfrm>
            <a:off x="611280" y="189000"/>
            <a:ext cx="2376360" cy="107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50"/>
                </a:moveTo>
                <a:lnTo>
                  <a:pt x="-3600" y="4050"/>
                </a:lnTo>
                <a:lnTo>
                  <a:pt x="-3600" y="21600"/>
                </a:lnTo>
                <a:lnTo>
                  <a:pt x="18061" y="3109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矩形 3" descr=""/>
          <p:cNvPicPr/>
          <p:nvPr/>
        </p:nvPicPr>
        <p:blipFill>
          <a:blip r:embed="rId2"/>
          <a:stretch/>
        </p:blipFill>
        <p:spPr>
          <a:xfrm>
            <a:off x="281160" y="55440"/>
            <a:ext cx="2985840" cy="11401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7524720" y="2852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·   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7"/>
          <p:cNvSpPr/>
          <p:nvPr/>
        </p:nvSpPr>
        <p:spPr>
          <a:xfrm>
            <a:off x="2771640" y="1538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8"/>
          <p:cNvSpPr/>
          <p:nvPr/>
        </p:nvSpPr>
        <p:spPr>
          <a:xfrm>
            <a:off x="3780000" y="153828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à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9"/>
          <p:cNvSpPr/>
          <p:nvPr/>
        </p:nvSpPr>
        <p:spPr>
          <a:xfrm>
            <a:off x="7020000" y="1538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h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0"/>
          <p:cNvSpPr/>
          <p:nvPr/>
        </p:nvSpPr>
        <p:spPr>
          <a:xfrm>
            <a:off x="2629080" y="3718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ò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8" descr="D:\动态背景图片[1]\动态小图片\2540874614767442896.gif"/>
          <p:cNvPicPr/>
          <p:nvPr/>
        </p:nvPicPr>
        <p:blipFill>
          <a:blip r:embed="rId3"/>
          <a:stretch/>
        </p:blipFill>
        <p:spPr>
          <a:xfrm>
            <a:off x="7093080" y="5594400"/>
            <a:ext cx="1439640" cy="12193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4" name="whoosh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4" descr="179.jpg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684360" y="1477800"/>
            <a:ext cx="7775280" cy="1169280"/>
          </a:xfrm>
          <a:prstGeom prst="rect">
            <a:avLst/>
          </a:prstGeom>
          <a:noFill/>
          <a:ln w="93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川有个杜处士，爱好书画，珍藏的书画数以百计。其中一幅唐代著名画家戴嵩作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斗牛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他最为喜爱，配上玉轴，装进锦袋，经常带在身边赏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天，独处士把珍藏的书画晾开，以防止它们受潮生霉。一个放牛娃走过来，好奇地看着这幅斗牛图。忽然，他拍着巴掌大笑起来，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画画的是斗牛呀！牛相斗的时候，力气都用在角上，尾巴就夹在两腿间。这画上的牛是摇着尾巴斗架，错了，错了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处士听了，也笑起来，连夸放牛娃说得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线形标注 3(带边框和强调线) 5"/>
          <p:cNvSpPr/>
          <p:nvPr/>
        </p:nvSpPr>
        <p:spPr>
          <a:xfrm>
            <a:off x="539640" y="0"/>
            <a:ext cx="2303640" cy="112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50"/>
                </a:moveTo>
                <a:lnTo>
                  <a:pt x="-3600" y="4050"/>
                </a:lnTo>
                <a:lnTo>
                  <a:pt x="-3600" y="21600"/>
                </a:lnTo>
                <a:lnTo>
                  <a:pt x="18061" y="3109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9ed3d7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矩形 7" descr=""/>
          <p:cNvPicPr/>
          <p:nvPr/>
        </p:nvPicPr>
        <p:blipFill>
          <a:blip r:embed="rId2"/>
          <a:stretch/>
        </p:blipFill>
        <p:spPr>
          <a:xfrm>
            <a:off x="530280" y="-71280"/>
            <a:ext cx="2292120" cy="113184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3" name="voltag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4" descr="179.jpg"/>
          <p:cNvPicPr/>
          <p:nvPr/>
        </p:nvPicPr>
        <p:blipFill>
          <a:blip r:embed="rId1">
            <a:lum bright="2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线形标注 3(带边框和强调线) 5"/>
          <p:cNvSpPr/>
          <p:nvPr/>
        </p:nvSpPr>
        <p:spPr>
          <a:xfrm>
            <a:off x="611280" y="333360"/>
            <a:ext cx="2520720" cy="93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50"/>
                </a:moveTo>
                <a:lnTo>
                  <a:pt x="-3600" y="4050"/>
                </a:lnTo>
                <a:lnTo>
                  <a:pt x="-3600" y="21600"/>
                </a:lnTo>
                <a:lnTo>
                  <a:pt x="18061" y="3109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84360" y="476280"/>
            <a:ext cx="36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方法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187280" y="1936800"/>
            <a:ext cx="7272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文言文学习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古今文对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参照书后注释及字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理解每一个字的意思，连字成词，连词成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领悟感情，拓展思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type.wav"/>
      </p:stSnd>
    </p:sndAc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4" descr="179.jpg"/>
          <p:cNvPicPr/>
          <p:nvPr/>
        </p:nvPicPr>
        <p:blipFill>
          <a:blip r:embed="rId1">
            <a:lum bright="2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755640" y="2260440"/>
            <a:ext cx="741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觉得文中的杜处士是个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想对杜处士和牧童说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拓展学习"/>
          <p:cNvPicPr/>
          <p:nvPr/>
        </p:nvPicPr>
        <p:blipFill>
          <a:blip r:embed="rId2"/>
          <a:stretch/>
        </p:blipFill>
        <p:spPr>
          <a:xfrm>
            <a:off x="539640" y="620640"/>
            <a:ext cx="3024360" cy="11271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179280" y="3068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杜处士是一个敢于迎战、乐于接受别人意见的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D:\动态背景图片[1]\动态小图片\0.gif"/>
          <p:cNvPicPr/>
          <p:nvPr/>
        </p:nvPicPr>
        <p:blipFill>
          <a:blip r:embed="rId3"/>
          <a:stretch/>
        </p:blipFill>
        <p:spPr>
          <a:xfrm>
            <a:off x="6804000" y="4941720"/>
            <a:ext cx="1584360" cy="136692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1"/>
          <p:cNvSpPr/>
          <p:nvPr/>
        </p:nvSpPr>
        <p:spPr>
          <a:xfrm>
            <a:off x="0" y="5943600"/>
            <a:ext cx="60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4" descr="1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6"/>
          <p:cNvSpPr/>
          <p:nvPr/>
        </p:nvSpPr>
        <p:spPr>
          <a:xfrm>
            <a:off x="684360" y="2060640"/>
            <a:ext cx="77752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苏轼名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欲把西湖比西子，淡妆浓抹总相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饮湖上初晴后雨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但愿人长久，千里共婵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水调歌头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识庐山真面目，只缘身在此山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题西林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云形标注 7"/>
          <p:cNvSpPr/>
          <p:nvPr/>
        </p:nvSpPr>
        <p:spPr>
          <a:xfrm>
            <a:off x="-28440" y="692280"/>
            <a:ext cx="3916080" cy="1008000"/>
          </a:xfrm>
          <a:prstGeom prst="cloudCallout">
            <a:avLst>
              <a:gd name="adj1" fmla="val 94504"/>
              <a:gd name="adj2" fmla="val 85143"/>
            </a:avLst>
          </a:pr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矩形 8" descr=""/>
          <p:cNvPicPr/>
          <p:nvPr/>
        </p:nvPicPr>
        <p:blipFill>
          <a:blip r:embed="rId2"/>
          <a:stretch/>
        </p:blipFill>
        <p:spPr>
          <a:xfrm>
            <a:off x="-84240" y="517680"/>
            <a:ext cx="3986280" cy="1098360"/>
          </a:xfrm>
          <a:prstGeom prst="rect">
            <a:avLst/>
          </a:prstGeom>
          <a:ln w="0">
            <a:noFill/>
          </a:ln>
        </p:spPr>
      </p:pic>
      <p:sp>
        <p:nvSpPr>
          <p:cNvPr id="158" name="直接连接符 9"/>
          <p:cNvSpPr/>
          <p:nvPr/>
        </p:nvSpPr>
        <p:spPr>
          <a:xfrm>
            <a:off x="3276720" y="3643200"/>
            <a:ext cx="1366560" cy="1800"/>
          </a:xfrm>
          <a:prstGeom prst="line">
            <a:avLst/>
          </a:prstGeom>
          <a:ln w="9360">
            <a:solidFill>
              <a:srgbClr val="2f2f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12"/>
          <p:cNvSpPr/>
          <p:nvPr/>
        </p:nvSpPr>
        <p:spPr>
          <a:xfrm>
            <a:off x="3348000" y="4435560"/>
            <a:ext cx="1440000" cy="1440"/>
          </a:xfrm>
          <a:prstGeom prst="line">
            <a:avLst/>
          </a:prstGeom>
          <a:ln w="9360">
            <a:solidFill>
              <a:srgbClr val="2f2f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11"/>
          <p:cNvSpPr/>
          <p:nvPr/>
        </p:nvSpPr>
        <p:spPr>
          <a:xfrm>
            <a:off x="3348000" y="5373720"/>
            <a:ext cx="1440000" cy="1440"/>
          </a:xfrm>
          <a:prstGeom prst="line">
            <a:avLst/>
          </a:prstGeom>
          <a:ln w="9360">
            <a:solidFill>
              <a:srgbClr val="2f2f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3" name="wind.wav"/>
      </p:stSnd>
    </p:sndAc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4" descr="1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WordArt 4"/>
          <p:cNvSpPr txBox="1"/>
          <p:nvPr/>
        </p:nvSpPr>
        <p:spPr>
          <a:xfrm>
            <a:off x="2843280" y="2276640"/>
            <a:ext cx="3004920" cy="20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2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再见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p:transition>
    <p:comb dir="vert"/>
    <p:sndAc>
      <p:stSnd>
        <p:snd r:embed="rId2" name="chimes.wav"/>
      </p:stSnd>
    </p:sndAc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8B9D-FD72-428D-9440-E0F9208ADB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3" descr="179.jpg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2411280" y="11592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华文隶书"/>
              </a:rPr>
              <a:t>作者简介</a:t>
            </a:r>
            <a:endParaRPr b="1" lang="en-US" sz="1800" spc="-1" strike="noStrike">
              <a:ln w="0">
                <a:noFill/>
              </a:ln>
              <a:solidFill>
                <a:srgbClr val="c00000"/>
              </a:solidFill>
              <a:effectLst>
                <a:outerShdw dist="40186" dir="1096358" blurRad="0" rotWithShape="0">
                  <a:srgbClr val="b2b2b2">
                    <a:alpha val="75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pic>
        <p:nvPicPr>
          <p:cNvPr id="53" name="Picture 2" descr="http://imgsrc.baidu.com/baike/pic/item/d8b8c92ada2ea461d52af161.jpg"/>
          <p:cNvPicPr/>
          <p:nvPr/>
        </p:nvPicPr>
        <p:blipFill>
          <a:blip r:embed="rId2"/>
          <a:stretch/>
        </p:blipFill>
        <p:spPr>
          <a:xfrm>
            <a:off x="250920" y="1125360"/>
            <a:ext cx="3889440" cy="539928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4718160" y="1498680"/>
            <a:ext cx="3814560" cy="2794680"/>
          </a:xfrm>
          <a:prstGeom prst="rect">
            <a:avLst/>
          </a:prstGeom>
          <a:noFill/>
          <a:ln w="93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苏轼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华文楷体"/>
                <a:ea typeface="华文楷体"/>
                <a:hlinkClick r:id="rId3"/>
              </a:rPr>
              <a:t>北宋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华文楷体"/>
                <a:ea typeface="华文楷体"/>
                <a:hlinkClick r:id="rId4"/>
              </a:rPr>
              <a:t>文学家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华文楷体"/>
                <a:ea typeface="华文楷体"/>
                <a:hlinkClick r:id="rId5"/>
              </a:rPr>
              <a:t>书画家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号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华文楷体"/>
                <a:ea typeface="华文楷体"/>
                <a:hlinkClick r:id="rId6"/>
              </a:rPr>
              <a:t>东坡居士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与父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华文楷体"/>
                <a:ea typeface="华文楷体"/>
                <a:hlinkClick r:id="rId7"/>
              </a:rPr>
              <a:t>苏洵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弟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华文楷体"/>
                <a:ea typeface="华文楷体"/>
                <a:hlinkClick r:id="rId8"/>
              </a:rPr>
              <a:t>苏辙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合称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华文楷体"/>
                <a:ea typeface="华文楷体"/>
                <a:hlinkClick r:id="rId9"/>
              </a:rPr>
              <a:t>三苏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他在文学艺术方面堪称全才。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华文楷体"/>
                <a:ea typeface="华文楷体"/>
                <a:hlinkClick r:id="rId10"/>
              </a:rPr>
              <a:t>唐宋八大家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之一；诗文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华文楷体"/>
                <a:ea typeface="华文楷体"/>
                <a:hlinkClick r:id="rId11"/>
              </a:rPr>
              <a:t>东坡七集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等，词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华文楷体"/>
                <a:ea typeface="华文楷体"/>
                <a:hlinkClick r:id="rId12"/>
              </a:rPr>
              <a:t>东坡乐府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4" descr="179.jpg"/>
          <p:cNvPicPr/>
          <p:nvPr/>
        </p:nvPicPr>
        <p:blipFill>
          <a:blip r:embed="rId1">
            <a:lum bright="28000"/>
          </a:blip>
          <a:stretch/>
        </p:blipFill>
        <p:spPr>
          <a:xfrm>
            <a:off x="0" y="-1908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1116000" y="2754360"/>
            <a:ext cx="6551640" cy="642600"/>
          </a:xfrm>
          <a:prstGeom prst="rect">
            <a:avLst/>
          </a:prstGeom>
          <a:noFill/>
          <a:ln w="93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唐宋八大家，是指唐代韩愈、  柳宗元，宋代欧阳修、曾巩、王安石、苏洵、苏轼、苏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云形标注 7"/>
          <p:cNvSpPr/>
          <p:nvPr/>
        </p:nvSpPr>
        <p:spPr>
          <a:xfrm>
            <a:off x="-28440" y="692280"/>
            <a:ext cx="3916080" cy="1008000"/>
          </a:xfrm>
          <a:prstGeom prst="cloudCallout">
            <a:avLst>
              <a:gd name="adj1" fmla="val 94504"/>
              <a:gd name="adj2" fmla="val 85143"/>
            </a:avLst>
          </a:pr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矩形 8" descr=""/>
          <p:cNvPicPr/>
          <p:nvPr/>
        </p:nvPicPr>
        <p:blipFill>
          <a:blip r:embed="rId2"/>
          <a:stretch/>
        </p:blipFill>
        <p:spPr>
          <a:xfrm>
            <a:off x="-84240" y="517680"/>
            <a:ext cx="3986280" cy="109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3" name="wind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4" descr="179.jpg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创设情境"/>
          <p:cNvPicPr/>
          <p:nvPr/>
        </p:nvPicPr>
        <p:blipFill>
          <a:blip r:embed="rId2"/>
          <a:stretch/>
        </p:blipFill>
        <p:spPr>
          <a:xfrm>
            <a:off x="324000" y="260280"/>
            <a:ext cx="1857240" cy="941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牛斗图"/>
          <p:cNvPicPr/>
          <p:nvPr/>
        </p:nvPicPr>
        <p:blipFill>
          <a:blip r:embed="rId3"/>
          <a:stretch/>
        </p:blipFill>
        <p:spPr>
          <a:xfrm>
            <a:off x="826920" y="1413000"/>
            <a:ext cx="6769440" cy="5040360"/>
          </a:xfrm>
          <a:prstGeom prst="rect">
            <a:avLst/>
          </a:prstGeom>
          <a:ln w="0">
            <a:noFill/>
          </a:ln>
        </p:spPr>
      </p:pic>
      <p:pic>
        <p:nvPicPr>
          <p:cNvPr id="62" name="矩形 4" descr=""/>
          <p:cNvPicPr/>
          <p:nvPr/>
        </p:nvPicPr>
        <p:blipFill>
          <a:blip r:embed="rId4"/>
          <a:stretch/>
        </p:blipFill>
        <p:spPr>
          <a:xfrm>
            <a:off x="7607160" y="1457280"/>
            <a:ext cx="1311480" cy="42782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5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6"/>
          <p:cNvSpPr/>
          <p:nvPr/>
        </p:nvSpPr>
        <p:spPr>
          <a:xfrm>
            <a:off x="1374840" y="21448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4" descr="179.jpg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042920" y="1700280"/>
            <a:ext cx="7272360" cy="2466720"/>
          </a:xfrm>
          <a:prstGeom prst="rect">
            <a:avLst/>
          </a:prstGeom>
          <a:noFill/>
          <a:ln w="9360">
            <a:solidFill>
              <a:srgbClr val="ff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自学生字，读准字音，认清字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照注释，理解每一个字的意思，连字成词，连词成句。将不懂的地方记录下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参照后面的译文，弄懂课文意思。在此基础上尝试朗读课文，读准节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用一句话概括文章的意思。试试用自己的话复述课文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云形标注 7"/>
          <p:cNvSpPr/>
          <p:nvPr/>
        </p:nvSpPr>
        <p:spPr>
          <a:xfrm>
            <a:off x="0" y="260280"/>
            <a:ext cx="4140360" cy="1152720"/>
          </a:xfrm>
          <a:prstGeom prst="cloudCallout">
            <a:avLst>
              <a:gd name="adj1" fmla="val 102462"/>
              <a:gd name="adj2" fmla="val 49745"/>
            </a:avLst>
          </a:pr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矩形 6" descr=""/>
          <p:cNvPicPr/>
          <p:nvPr/>
        </p:nvPicPr>
        <p:blipFill>
          <a:blip r:embed="rId2"/>
          <a:stretch/>
        </p:blipFill>
        <p:spPr>
          <a:xfrm>
            <a:off x="219240" y="96840"/>
            <a:ext cx="3779640" cy="12193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3" name="click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4" descr="179.jpg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云形标注 16"/>
          <p:cNvSpPr/>
          <p:nvPr/>
        </p:nvSpPr>
        <p:spPr>
          <a:xfrm>
            <a:off x="0" y="765000"/>
            <a:ext cx="3419640" cy="935280"/>
          </a:xfrm>
          <a:prstGeom prst="cloudCallout">
            <a:avLst>
              <a:gd name="adj1" fmla="val 121986"/>
              <a:gd name="adj2" fmla="val 33351"/>
            </a:avLst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95280" y="83664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258920" y="292428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1079640" y="3740040"/>
            <a:ext cx="183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蜀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蜀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蜀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3203280" y="2957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0"/>
          <p:cNvSpPr/>
          <p:nvPr/>
        </p:nvSpPr>
        <p:spPr>
          <a:xfrm>
            <a:off x="4916160" y="2924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1"/>
          <p:cNvSpPr/>
          <p:nvPr/>
        </p:nvSpPr>
        <p:spPr>
          <a:xfrm>
            <a:off x="6716520" y="28861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2916360" y="3716280"/>
            <a:ext cx="18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嵩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4680000" y="3716280"/>
            <a:ext cx="18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轴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轴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轴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4"/>
          <p:cNvSpPr/>
          <p:nvPr/>
        </p:nvSpPr>
        <p:spPr>
          <a:xfrm>
            <a:off x="6443640" y="3645000"/>
            <a:ext cx="18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锦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锦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锦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flipH="1">
            <a:off x="1116000" y="2492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h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916360" y="2492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ō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500720" y="24224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hó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588000" y="2373480"/>
            <a:ext cx="7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ǐ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2" name="type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4" descr="179.jpg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-246240" y="0"/>
            <a:ext cx="91378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云形标注 16"/>
          <p:cNvSpPr/>
          <p:nvPr/>
        </p:nvSpPr>
        <p:spPr>
          <a:xfrm>
            <a:off x="-30240" y="765000"/>
            <a:ext cx="3413160" cy="935280"/>
          </a:xfrm>
          <a:prstGeom prst="cloudCallout">
            <a:avLst>
              <a:gd name="adj1" fmla="val 121986"/>
              <a:gd name="adj2" fmla="val 33351"/>
            </a:avLst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95280" y="83664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258920" y="292428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1079640" y="3740040"/>
            <a:ext cx="183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锦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药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行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2971440" y="2957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4412880" y="2924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1"/>
          <p:cNvSpPr/>
          <p:nvPr/>
        </p:nvSpPr>
        <p:spPr>
          <a:xfrm>
            <a:off x="5779800" y="2957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2627280" y="3716280"/>
            <a:ext cx="18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乃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乃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4140360" y="3716280"/>
            <a:ext cx="18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谬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荒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5580000" y="3740040"/>
            <a:ext cx="19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悔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晚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1042920" y="2492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á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771640" y="24922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ǎ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140360" y="249228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i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724360" y="242100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ǐ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7091280" y="2421000"/>
            <a:ext cx="10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6"/>
          <p:cNvSpPr/>
          <p:nvPr/>
        </p:nvSpPr>
        <p:spPr>
          <a:xfrm>
            <a:off x="7209360" y="2924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7"/>
          <p:cNvSpPr/>
          <p:nvPr/>
        </p:nvSpPr>
        <p:spPr>
          <a:xfrm>
            <a:off x="6875640" y="371628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曝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曝十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2" name="type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4" descr="179.jpg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0" y="1917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"/>
              </a:rPr>
              <a:t>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"/>
              </a:rPr>
              <a:t>处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  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百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"/>
              </a:rPr>
              <a:t>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   ）书画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"/>
              </a:rPr>
              <a:t>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）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"/>
              </a:rPr>
              <a:t>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                               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掉尾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      ）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"/>
              </a:rPr>
              <a:t>拊掌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     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116000" y="19890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四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615040" y="24922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指有德有才而没有做官的读书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215080" y="3070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297440" y="357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晒的意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198080" y="4149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4388040" y="47260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肌肉抽搐。文中指牛将尾巴紧缩在大腿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1721160" y="5229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摆尾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1476360" y="580536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拍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云形标注 16"/>
          <p:cNvSpPr/>
          <p:nvPr/>
        </p:nvSpPr>
        <p:spPr>
          <a:xfrm>
            <a:off x="179280" y="620640"/>
            <a:ext cx="3419640" cy="935280"/>
          </a:xfrm>
          <a:prstGeom prst="cloudCallout">
            <a:avLst>
              <a:gd name="adj1" fmla="val 121986"/>
              <a:gd name="adj2" fmla="val 33351"/>
            </a:avLst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059120" y="620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字词释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4" descr="179.jpg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-30240" y="0"/>
            <a:ext cx="91378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909080" y="1701720"/>
            <a:ext cx="99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牧童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726560" y="35020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处士笑而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119840" y="2637000"/>
            <a:ext cx="8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代指杜处士珍藏的《斗牛图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763640" y="4437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代指牧童的评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云形标注 16"/>
          <p:cNvSpPr/>
          <p:nvPr/>
        </p:nvSpPr>
        <p:spPr>
          <a:xfrm>
            <a:off x="108000" y="765000"/>
            <a:ext cx="3419280" cy="935280"/>
          </a:xfrm>
          <a:prstGeom prst="cloudCallout">
            <a:avLst>
              <a:gd name="adj1" fmla="val 121986"/>
              <a:gd name="adj2" fmla="val 33351"/>
            </a:avLst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987480" y="765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难点辨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2:56:1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4:49Z</dcterms:modified>
  <cp:revision>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