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6.jpeg" ContentType="image/jpeg"/>
  <Override PartName="/ppt/media/image13.gif" ContentType="image/gif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C5C-FDD1-4FB3-A46B-0F13C4C7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C4E-F79A-4004-B6DC-769C5265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032-7328-4B08-9F98-8DE58BCA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26D-8CFA-4FAC-A770-F672712B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58-E5FA-4FFC-A755-64B52EF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471-CA4A-48A0-B9BA-2191B94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D93-6444-4DB6-A6AF-61BA0D9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646-4142-456C-BA18-5B8379C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D32-8A2E-48D8-8D33-25592B9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9D7-7F1D-4798-BA37-153E869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067-9F1C-4F8E-8D79-B8296AF8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C27-ADCD-4468-A872-480FCD6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09A5-6A53-4EC1-AA51-1AE248B9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file:///../S&#29256;&#23567;&#23398;&#35821;&#25991;&#31532;&#20843;&#20876;&#35838;&#20214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png"/><Relationship Id="rId8" Type="http://schemas.openxmlformats.org/officeDocument/2006/relationships/image" Target="../media/image13.gif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S&#29256;&#23567;&#23398;&#35821;&#25991;&#31532;&#20843;&#20876;&#35838;&#20214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590840" y="1125360"/>
            <a:ext cx="56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24.</a:t>
            </a:r>
            <a:r>
              <a:rPr b="1" lang="zh-CN" sz="32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米芾学书</a:t>
            </a:r>
            <a:endParaRPr b="1" lang="en-US" sz="3200" spc="-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grpSp>
        <p:nvGrpSpPr>
          <p:cNvPr id="42" name="Group 17"/>
          <p:cNvGrpSpPr/>
          <p:nvPr/>
        </p:nvGrpSpPr>
        <p:grpSpPr>
          <a:xfrm>
            <a:off x="7020000" y="6524640"/>
            <a:ext cx="2088720" cy="288720"/>
            <a:chOff x="7020000" y="6524640"/>
            <a:chExt cx="2088720" cy="288720"/>
          </a:xfrm>
        </p:grpSpPr>
        <p:pic>
          <p:nvPicPr>
            <p:cNvPr id="43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020000" y="6524640"/>
              <a:ext cx="6807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9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40360" y="652464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0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24640"/>
              <a:ext cx="680760" cy="27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22" descr="米芾字2"/>
          <p:cNvPicPr/>
          <p:nvPr/>
        </p:nvPicPr>
        <p:blipFill>
          <a:blip r:embed="rId6"/>
          <a:stretch/>
        </p:blipFill>
        <p:spPr>
          <a:xfrm>
            <a:off x="3711600" y="2814480"/>
            <a:ext cx="3959280" cy="264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米芾"/>
          <p:cNvPicPr/>
          <p:nvPr/>
        </p:nvPicPr>
        <p:blipFill>
          <a:blip r:embed="rId7"/>
          <a:stretch/>
        </p:blipFill>
        <p:spPr>
          <a:xfrm>
            <a:off x="1384200" y="2646360"/>
            <a:ext cx="2327400" cy="2808360"/>
          </a:xfrm>
          <a:prstGeom prst="rect">
            <a:avLst/>
          </a:prstGeom>
          <a:ln w="0">
            <a:noFill/>
          </a:ln>
        </p:spPr>
      </p:pic>
      <p:sp>
        <p:nvSpPr>
          <p:cNvPr id="48" name="矩形 8"/>
          <p:cNvSpPr/>
          <p:nvPr/>
        </p:nvSpPr>
        <p:spPr>
          <a:xfrm>
            <a:off x="168408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9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2626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米芾行草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3276720" y="260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行     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179280" y="1484280"/>
            <a:ext cx="835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了本课，同学们弄清米芾是怎样学好书法了吗？你还有什么想法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13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拓展延伸：中国古代书法种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640" y="256536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书法字体，传统讲共分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行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体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草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体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隶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体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篆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体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楷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字体五种，也就是五个大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4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20" name="Picture 15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6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7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8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文本框 1"/>
          <p:cNvSpPr/>
          <p:nvPr/>
        </p:nvSpPr>
        <p:spPr>
          <a:xfrm>
            <a:off x="1257480" y="4889520"/>
            <a:ext cx="70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行书书法作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27" name="Picture 16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7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8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9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图片 10" descr="行书.jpg"/>
          <p:cNvPicPr/>
          <p:nvPr/>
        </p:nvPicPr>
        <p:blipFill>
          <a:blip r:embed="rId7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7633080" y="692280"/>
            <a:ext cx="1277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  书  书  法  作  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34" name="Picture 1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图片 10" descr="草书.jpg"/>
          <p:cNvPicPr/>
          <p:nvPr/>
        </p:nvPicPr>
        <p:blipFill>
          <a:blip r:embed="rId7"/>
          <a:stretch/>
        </p:blipFill>
        <p:spPr>
          <a:xfrm>
            <a:off x="0" y="0"/>
            <a:ext cx="78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6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40" name="Picture 1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图片 10" descr="隶书.jpg"/>
          <p:cNvPicPr/>
          <p:nvPr/>
        </p:nvPicPr>
        <p:blipFill>
          <a:blip r:embed="rId7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2411280" y="333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隶  书  书  法  作  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7706160" y="1413000"/>
            <a:ext cx="1277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篆  书  书  法  作  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48" name="Picture 1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图片 10" descr="篆书.jpg"/>
          <p:cNvPicPr/>
          <p:nvPr/>
        </p:nvPicPr>
        <p:blipFill>
          <a:blip r:embed="rId7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6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54" name="Picture 1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图片 10" descr="楷书.jpg"/>
          <p:cNvPicPr/>
          <p:nvPr/>
        </p:nvPicPr>
        <p:blipFill>
          <a:blip r:embed="rId7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1"/>
          <p:cNvSpPr/>
          <p:nvPr/>
        </p:nvSpPr>
        <p:spPr>
          <a:xfrm>
            <a:off x="2484360" y="33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楷  书  书  法  作  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095-09B8-4163-BE26-A852D2DB51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米芾拜石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651640" y="71280"/>
            <a:ext cx="34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米芾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fú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年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07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年），北宋书画家。初名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fú 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字元章，号襄阳漫士、海岳山人等，自号鹿门居士。北宋著名书法家、鉴定家、画家、收藏家。米芾原籍襄阳（今属湖北），后定居润州（今江苏镇江）。召为书画学博士，擢礼部员外郎。米芾在官场上并不得意，其“不能与世俯仰，故从仕数困”。因其衣着行为以及迷恋书画珍石的态度皆被当世视为癫狂，故又有“米颠”之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1680" y="47628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一说课文主要讲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2" descr="米芾2"/>
          <p:cNvPicPr/>
          <p:nvPr/>
        </p:nvPicPr>
        <p:blipFill>
          <a:blip r:embed="rId2"/>
          <a:stretch/>
        </p:blipFill>
        <p:spPr>
          <a:xfrm>
            <a:off x="647640" y="1628640"/>
            <a:ext cx="3333960" cy="4437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课文讲的是米芾先跟村里的先生学写字，没什么长进。可米芾不甘心，又向一位赶考路过的秀才学写字，懂得了写字的窍门。最后，米芾成了著名的画家和书法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私  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私塾（图片）"/>
          <p:cNvPicPr/>
          <p:nvPr/>
        </p:nvPicPr>
        <p:blipFill>
          <a:blip r:embed="rId2"/>
          <a:stretch/>
        </p:blipFill>
        <p:spPr>
          <a:xfrm>
            <a:off x="1692360" y="1557360"/>
            <a:ext cx="5761080" cy="39099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5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57" name="Picture 1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7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8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2012011410370893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1"/>
          <p:cNvSpPr/>
          <p:nvPr/>
        </p:nvSpPr>
        <p:spPr>
          <a:xfrm>
            <a:off x="1116000" y="40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米芾一共学了几次字？结果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2" descr="私塾"/>
          <p:cNvPicPr/>
          <p:nvPr/>
        </p:nvPicPr>
        <p:blipFill>
          <a:blip r:embed="rId9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4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65" name="Picture 15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6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7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8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 Box 19"/>
          <p:cNvSpPr/>
          <p:nvPr/>
        </p:nvSpPr>
        <p:spPr>
          <a:xfrm>
            <a:off x="39528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根据课文内容填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268280"/>
          <a:ext cx="8642160" cy="5021280"/>
        </p:xfrm>
        <a:graphic>
          <a:graphicData uri="http://schemas.openxmlformats.org/drawingml/2006/table">
            <a:tbl>
              <a:tblPr/>
              <a:tblGrid>
                <a:gridCol w="2160360"/>
                <a:gridCol w="2160360"/>
                <a:gridCol w="2160720"/>
                <a:gridCol w="216072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写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谁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如何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4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95"/>
          <p:cNvSpPr/>
          <p:nvPr/>
        </p:nvSpPr>
        <p:spPr>
          <a:xfrm>
            <a:off x="2945880" y="278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私塾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6"/>
          <p:cNvSpPr/>
          <p:nvPr/>
        </p:nvSpPr>
        <p:spPr>
          <a:xfrm>
            <a:off x="4643280" y="2781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照着字帖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7"/>
          <p:cNvSpPr/>
          <p:nvPr/>
        </p:nvSpPr>
        <p:spPr>
          <a:xfrm>
            <a:off x="6804000" y="278136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得平平常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8"/>
          <p:cNvSpPr/>
          <p:nvPr/>
        </p:nvSpPr>
        <p:spPr>
          <a:xfrm>
            <a:off x="2843280" y="4508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秀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9"/>
          <p:cNvSpPr/>
          <p:nvPr/>
        </p:nvSpPr>
        <p:spPr>
          <a:xfrm>
            <a:off x="4716360" y="4508640"/>
            <a:ext cx="20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琢磨字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来画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结构和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0"/>
          <p:cNvSpPr/>
          <p:nvPr/>
        </p:nvSpPr>
        <p:spPr>
          <a:xfrm>
            <a:off x="6875640" y="4581360"/>
            <a:ext cx="33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漂亮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8920" y="549000"/>
            <a:ext cx="84250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习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学写字，先生是怎样评价他的？米芾是怎样做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4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79" name="Picture 15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6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7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8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Box 8"/>
          <p:cNvSpPr/>
          <p:nvPr/>
        </p:nvSpPr>
        <p:spPr>
          <a:xfrm>
            <a:off x="539640" y="21337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这里你看出米芾是个什么样的人？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179280" y="3645000"/>
            <a:ext cx="8425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次学写字米芾是怎样学的？请你画出米芾第二次学写字的动作神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20600" y="765000"/>
            <a:ext cx="6840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米芾拿着五两纹银买的那张纸，左看右看，觉得不过是一张普通的纸。可他再也不敢轻易下笔，只是在那里认真地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琢磨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字帖，用手在书案上画来画去，想着每个字的间架结构和运笔方法。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琢磨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来，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琢磨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，他便入了迷，把字帖上的字一个一个地都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印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进了自己的脑海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3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87" name="Picture 14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5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6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7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Box 9"/>
          <p:cNvSpPr/>
          <p:nvPr/>
        </p:nvSpPr>
        <p:spPr>
          <a:xfrm>
            <a:off x="1473120" y="4365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琢磨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uó  mo):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思虑；考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544760" y="501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琢磨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huóm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：雕刻和打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9640" y="2204640"/>
            <a:ext cx="806472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学写字不只是动笔，还要动心，不但要观其形，而且要悟其神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心领神会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才能写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4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95" name="Picture 15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6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7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8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9"/>
          <p:cNvSpPr/>
          <p:nvPr/>
        </p:nvSpPr>
        <p:spPr>
          <a:xfrm>
            <a:off x="539640" y="620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通过两次学习写字，米芾琢磨出了什么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969840" y="450864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心领神会：指对方没有明说，心里已经领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芾的书法作品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22"/>
          <p:cNvGrpSpPr/>
          <p:nvPr/>
        </p:nvGrpSpPr>
        <p:grpSpPr>
          <a:xfrm>
            <a:off x="6300720" y="6524640"/>
            <a:ext cx="2808360" cy="289080"/>
            <a:chOff x="6300720" y="6524640"/>
            <a:chExt cx="2808360" cy="289080"/>
          </a:xfrm>
        </p:grpSpPr>
        <p:pic>
          <p:nvPicPr>
            <p:cNvPr id="103" name="Picture 23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00720" y="6524640"/>
              <a:ext cx="681120" cy="2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4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1964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5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403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6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246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图片 10" descr="米芾草书.jpg"/>
          <p:cNvPicPr/>
          <p:nvPr/>
        </p:nvPicPr>
        <p:blipFill>
          <a:blip r:embed="rId7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3924360" y="836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    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0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33Z</dcterms:modified>
  <cp:revision>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