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1E19-C6EB-459C-85E0-58506648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D6F11-D96E-445F-9CE7-695E88B9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9A5FC-D0DE-4EAC-9742-3848D15D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AD196-9A15-4174-9087-52D82ACA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2EE21-99BE-48D9-B932-9188611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4E630-4D70-4C44-9264-1B4D163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F2AD0-B48F-4E98-BA80-C4B510D0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FBE8-8A8C-4CA5-B83E-89E2D309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AC719-4337-4FDA-8F9B-DC8EDEDC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E27B3-BEF1-43E2-906B-DDBFF4F2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67F2D-7D0D-4D68-941B-B7FE4E4C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937C7-B199-492C-B584-287C2BFA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F5CE-E6AD-4634-A9C4-DDB35639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9E94-E122-4BFB-8C5D-FA0F9445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76337-DC6B-42D9-A790-722AE7EB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F6598-BF75-4AE2-BB30-7EFC5592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C72E9-8A97-4B51-B7D9-687AFD9D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02DC1-A5D4-430F-A478-A826E5A8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7B0DA-C4FF-4B5C-AF51-2318D16F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DB91-1B45-4965-92A8-E6C9249B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ED74-D1E1-4A25-9BE0-E0D53855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9839F-2FF0-4730-B2A8-F966BB5A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1203A-604A-4417-A196-90CF92A3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A5AE5-CD69-4134-B398-53D030A0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4318A-EB44-456E-8106-C33B31FA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E609D-CD94-4603-8DB5-4799D418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B3B53-E82D-4646-8415-C2A5F9C4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078D3-6E61-4EC5-B518-790FC53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0E162-C36D-452A-9A01-3BFBFD19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90AAB-B41C-4813-8FC4-898C5837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F20-2074-44FB-803F-C649F298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CA8C3-E539-45BE-8005-6CC45837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76BD0-4722-4D20-A991-A4D8D1AF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02324-9505-45C2-BB38-80A1C50D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05178-5C8B-4625-8712-DE1F32FB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1C6D7-F4EF-4737-BD0D-0989EE36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C5CCF-0483-4C05-829F-BBD1E3F9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D9CA1-4843-4536-972A-6AAFA622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BCD6A-7A9D-485F-AFF9-F3FC9221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EB7D8-4118-4E68-8128-4493896D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6FC8D-DB52-4CE2-88FC-D4B64E4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10A-31A0-4B4D-AB1F-FE21BE9A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D683B-60D3-4710-9AE4-F9A336A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5B208-C5C7-43C8-9F44-7564A13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962CC-6B6C-492D-B1E6-6B409FEB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81D5D-08E7-49EB-89C3-A5E1F89D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CF9F2-C86D-4374-BE94-DD552D82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E9683-3523-4B4F-B3F3-F98ABFEF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FE846-3850-41E8-BBE4-B0236FE5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A6362-18E8-4AAF-8895-E26EC22F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AD82F-4D86-4952-B197-8CA96465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2F9BC-0E28-48AC-B71F-96BF999C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4B2-C374-4D2C-928A-4B802050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521AF-F050-42F1-BA78-51A93AFB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24720-5870-470B-A4CE-15D9D17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538A3-C2C2-4DC7-904C-3B50944E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186B2-C02D-4EC4-A83E-1F08B35F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820EC-1A58-4576-908C-F8B33887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08BC1-ED41-4162-83CB-D2163AAF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78B58-91BF-4B6D-A09A-4FE4395A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B4B11-627F-44E8-8B6B-6D4E67A5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5B39E-6CCC-408B-A34B-153B00A6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75D9D-C41B-49F1-8B34-F91E4E7F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292-8A1D-4C90-86F0-A55A004C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3980D-4670-441C-A797-4CB21862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C564F-63DA-48DD-9590-BCE10783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1B044-7764-466F-AF15-72E05E2C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20C22-F99A-498A-8B14-DA8966C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5FE72-CB71-43FC-8504-33979F4B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9E907-4343-4036-A698-E02C1270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5C534-D434-476F-A585-C2E8EAA2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3EDFF-B1B0-4DCF-BA78-48AB5839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204DD-0B44-4DDE-BEEA-912C523A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9B7-801F-4DF6-BBCA-06898377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340-1219-40F6-BBAF-21D54D65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E7F-9B1C-4563-853B-472F1282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EBB-E46F-4B1D-A492-23907F3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942-319C-4577-9288-7ACC7167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165-E70F-4CA0-8641-58071A6F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899-5BDC-4367-B515-2886DFEC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E73-80C4-49A3-BE5E-411EA734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3C22-2DA1-4670-B94D-024FA0D3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8EA9-A688-494E-9604-D747B059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285D-54E5-4F61-87A2-ACF1D22F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A7C6-ADD1-4EF9-939D-9E89A1E1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5207-7A3C-4713-B470-01A0C267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BF8D-37E7-4C17-B302-5FED8C35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FC49-A3C3-4653-B3C5-7C093FE9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3B0B-36B5-4195-8E7D-7F2B029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94B2-1DA5-4ACF-BF77-E3A6662E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2700-E28D-4F67-B473-6A0C396B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D3AC-6A3F-4CB6-9A13-356A9B62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A042-A066-4FBF-B898-B4E61AF9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5A4A-53EB-4C95-893F-39E8FB34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E33B-C4C2-4863-9BFE-EA3F3876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CADA-973F-4CA8-BD1F-8DC6B899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FC8D9-B27B-4CF9-BB89-79AF68F5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0D72-4F2F-413B-B3C6-66A96B71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7527-099F-490A-80B5-84C4A0B3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6D2F-D065-4473-93BA-8C7DFFE8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B9E4-1816-4A4E-8845-08F4574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5336-B6C4-438A-B5BB-739F59C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AFD7-DF0F-418D-B348-200279F9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44C6-FDCE-4BBF-B320-B4F92911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E54E-7793-46A1-8A33-73A2D660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6D43-4889-4F6F-A93C-A63A321C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810CA-D881-41D7-9B8D-6670B45C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560B-A26D-41B9-A1D6-26FC1A33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1AE5-AA2A-4EB4-900F-7CAB48B2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3A06-A261-4466-92CD-99DA0C40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DD4D-88E7-45E9-9D34-F2974BAB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81EB2-ECCA-4926-AB1B-847746B0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DA3B1-6BCC-44B7-B1E9-069972AE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7890C-8D5E-46F5-9227-5E5504C7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B177-C119-4939-A170-5E0CD893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4BBDA-AC24-4D32-A538-6E51395C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740C-1B8A-4EC9-8C81-817BA8F9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C3557-690F-444E-89F2-D8672988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D1730-655E-497F-A01F-6A5EFD6F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22752-839C-4622-8078-72E8CE6E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4B36-CE88-487D-89AA-427D7D74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2F8B6-A4BD-4932-8794-70C80119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2825-B149-44F6-9F2C-72FFF627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2EE8D-8B86-43FB-B398-6C71A327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6FAA3-D043-4CAF-961E-FA28E5C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2270F-302F-4AB4-A6C1-7D041BD0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77139-6823-4F16-9C6C-D4B3903C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26C00-C89E-4233-98B8-CA940E96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7C1F-59A4-43BD-8553-F2A67CDC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65698-6E61-49B0-AC4D-686AC0F3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5302-A68F-4530-8103-AC8DDD00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2A243-C245-43A9-928F-4AA244C8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5A856-9DBE-4B9D-A1AF-6346584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507E9-11B8-4507-8A4C-B4E64071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E9EAF-12FE-48B8-8E09-79F37288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CCDC0-6FAE-4C0B-B103-EC7A723F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D5282-7F93-429C-97FE-BC297B2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E0C9-E9C2-47DA-8B4F-D278C7A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282F0-8571-4D3A-A878-B0FFEF2F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1596-D308-4C4C-B200-31FBF485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3AF3B-579C-4D3C-A41C-1F45F3F3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D7D60-31CA-40ED-82D2-960FAC2A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D1CDB-6D59-4765-BE17-A8768FF4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FCB3F-EDCB-4BA6-84C8-6950D35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4440" cy="6858000"/>
            <a:chOff x="0" y="0"/>
            <a:chExt cx="1144440" cy="6858000"/>
          </a:xfrm>
        </p:grpSpPr>
        <p:sp>
          <p:nvSpPr>
            <p:cNvPr id="1" name="Text Box 3"/>
            <p:cNvSpPr/>
            <p:nvPr/>
          </p:nvSpPr>
          <p:spPr>
            <a:xfrm>
              <a:off x="0" y="0"/>
              <a:ext cx="1144440" cy="5317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0" y="3200400"/>
              <a:ext cx="1144440" cy="365760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4440" cy="29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0760" y="306000"/>
            <a:ext cx="7772400" cy="1204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20760" y="1601640"/>
            <a:ext cx="7772400" cy="4492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809640" indent="-80964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49280" indent="-134928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889280" indent="-188928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428920" indent="-242892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428920" indent="-242892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428920" indent="-242892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44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1F06-B5FD-4C56-85FE-23928256A01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9066-8B94-4CF0-95FB-CFB94D4C92E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091A-C9EA-426C-B00C-C4A917435DB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CBA-0188-42E2-8D17-77BBB28EA05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C2B9-FE77-40B5-B486-03A33BA8240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8C0D-867B-4A20-ADC6-3DCE9D5F57D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1828800" cy="6858000"/>
            <a:chOff x="0" y="0"/>
            <a:chExt cx="1828800" cy="6858000"/>
          </a:xfrm>
        </p:grpSpPr>
        <p:sp>
          <p:nvSpPr>
            <p:cNvPr id="87" name="Text Box 3"/>
            <p:cNvSpPr/>
            <p:nvPr/>
          </p:nvSpPr>
          <p:spPr>
            <a:xfrm>
              <a:off x="0" y="0"/>
              <a:ext cx="1828800" cy="162720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" name="Text Box 4"/>
            <p:cNvSpPr/>
            <p:nvPr/>
          </p:nvSpPr>
          <p:spPr>
            <a:xfrm>
              <a:off x="0" y="3808440"/>
              <a:ext cx="1828800" cy="30495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1630440"/>
              <a:ext cx="1828800" cy="22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Text Box 8"/>
          <p:cNvSpPr/>
          <p:nvPr/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963960" y="640080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20760" y="306000"/>
            <a:ext cx="7772400" cy="1204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20760" y="1601640"/>
            <a:ext cx="7772400" cy="4492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809640" indent="-80964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49280" indent="-134928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889280" indent="-188928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428920" indent="-242892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428920" indent="-242892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428920" indent="-2428920" algn="just">
              <a:lnSpc>
                <a:spcPct val="110000"/>
              </a:lnSpc>
              <a:spcBef>
                <a:spcPts val="763"/>
              </a:spcBef>
              <a:buClr>
                <a:srgbClr val="eaeaea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B336-65D7-4BA1-976A-1E37B044ED2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C4CD-1AF3-4BD4-8990-0A6052BC6D9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EA5A-AF2D-4434-86EF-176EA465A4D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06A9-F66A-47F8-8951-FAA0A988A9F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EB14-0890-4BE1-AD14-75C452C416E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02BE-7741-485C-9F77-54ACD8EC4CB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52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801720" y="917640"/>
            <a:ext cx="110484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78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01f0a"/>
                </a:solidFill>
                <a:latin typeface="Times New Roman"/>
              </a:rPr>
              <a:t>30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ts val="78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01f0a"/>
                </a:solidFill>
                <a:latin typeface="Times New Roman"/>
              </a:rPr>
              <a:t>女娲和人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矩形 4"/>
          <p:cNvSpPr/>
          <p:nvPr/>
        </p:nvSpPr>
        <p:spPr>
          <a:xfrm>
            <a:off x="211896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1643040" y="571680"/>
            <a:ext cx="7176960" cy="5643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>
              <a:lnSpc>
                <a:spcPct val="90000"/>
              </a:lnSpc>
              <a:spcBef>
                <a:spcPts val="763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说一说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539640" indent="-269640">
              <a:lnSpc>
                <a:spcPct val="90000"/>
              </a:lnSpc>
              <a:spcBef>
                <a:spcPts val="763"/>
              </a:spcBef>
              <a:tabLst>
                <a:tab algn="l" pos="0"/>
              </a:tabLst>
            </a:pPr>
            <a:r>
              <a:rPr b="1" lang="en-US" sz="4800" spc="-1" strike="noStrike">
                <a:solidFill>
                  <a:srgbClr val="200b5b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200b5b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、经过女娲的努力，世界有了什么变化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539640" indent="-269640">
              <a:lnSpc>
                <a:spcPct val="90000"/>
              </a:lnSpc>
              <a:spcBef>
                <a:spcPts val="763"/>
              </a:spcBef>
              <a:tabLst>
                <a:tab algn="l" pos="0"/>
              </a:tabLst>
            </a:pPr>
            <a:r>
              <a:rPr b="1" lang="en-US" sz="4800" spc="-1" strike="noStrike">
                <a:solidFill>
                  <a:srgbClr val="200b5b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200b5b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、但女娲又面临着什么新问题？她是怎么使人类延续下去的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Box 2"/>
          <p:cNvSpPr/>
          <p:nvPr/>
        </p:nvSpPr>
        <p:spPr>
          <a:xfrm>
            <a:off x="1428840" y="85716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女娲又把人分成男人和女人，让他们结合在一起，生儿育女，繁衍后代。人类就这样一代一代地传下来了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文本框 1"/>
          <p:cNvSpPr/>
          <p:nvPr/>
        </p:nvSpPr>
        <p:spPr>
          <a:xfrm>
            <a:off x="1535040" y="6226200"/>
            <a:ext cx="57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模板尽在：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000320" y="3357360"/>
            <a:ext cx="4857480" cy="32144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>
              <a:lnSpc>
                <a:spcPts val="4224"/>
              </a:lnSpc>
              <a:spcBef>
                <a:spcPts val="825"/>
              </a:spcBef>
              <a:tabLst>
                <a:tab algn="l" pos="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华文行楷"/>
                <a:ea typeface="华文行楷"/>
              </a:rPr>
              <a:t>                </a:t>
            </a:r>
            <a:r>
              <a:rPr b="1" lang="zh-CN" sz="3200" spc="-1" strike="noStrike">
                <a:solidFill>
                  <a:srgbClr val="cc3300"/>
                </a:solidFill>
                <a:latin typeface="华文行楷"/>
                <a:ea typeface="华文行楷"/>
              </a:rPr>
              <a:t>聪明的女娲为大地创造了人类，并让他们生儿育女，代代相传。从此，这个世界就变得生动活泼。她是我们人类的始祖，是我们人类敬仰的女神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4" name="图片 3" descr="12jpg.jpg"/>
          <p:cNvPicPr/>
          <p:nvPr/>
        </p:nvPicPr>
        <p:blipFill>
          <a:blip r:embed="rId1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4" descr="843e225d82fa44048391540bf727eae0.jpg"/>
          <p:cNvPicPr/>
          <p:nvPr/>
        </p:nvPicPr>
        <p:blipFill>
          <a:blip r:embed="rId2"/>
          <a:stretch/>
        </p:blipFill>
        <p:spPr>
          <a:xfrm>
            <a:off x="3857760" y="0"/>
            <a:ext cx="5286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3"/>
          <p:cNvSpPr/>
          <p:nvPr/>
        </p:nvSpPr>
        <p:spPr>
          <a:xfrm>
            <a:off x="1214280" y="35712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娲皇宫位于河北省涉县中皇山上，是全国五大祭祖圣地之一，是全国规模最大、肇建时间最早、影响地域最广的奉祀女娲的历史文化遗存，被誉为“华夏祖庙”。始建于公元</a:t>
            </a:r>
            <a:r>
              <a:rPr b="1" lang="en-US" sz="4000" spc="-1" strike="noStrike">
                <a:solidFill>
                  <a:srgbClr val="200b5b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世纪的北齐，也就是公元</a:t>
            </a:r>
            <a:r>
              <a:rPr b="1" lang="en-US" sz="4000" spc="-1" strike="noStrike">
                <a:solidFill>
                  <a:srgbClr val="200b5b"/>
                </a:solidFill>
                <a:latin typeface="Times New Roman"/>
              </a:rPr>
              <a:t>550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年到公元</a:t>
            </a:r>
            <a:r>
              <a:rPr b="1" lang="en-US" sz="4000" spc="-1" strike="noStrike">
                <a:solidFill>
                  <a:srgbClr val="200b5b"/>
                </a:solidFill>
                <a:latin typeface="Times New Roman"/>
              </a:rPr>
              <a:t>577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年，至今已有</a:t>
            </a:r>
            <a:r>
              <a:rPr b="1" lang="en-US" sz="4000" spc="-1" strike="noStrike">
                <a:solidFill>
                  <a:srgbClr val="200b5b"/>
                </a:solidFill>
                <a:latin typeface="Times New Roman"/>
              </a:rPr>
              <a:t>1400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多年的历史，是神话传说中女娲氏“炼石补天，抟土造人”的地方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Box 1"/>
          <p:cNvSpPr/>
          <p:nvPr/>
        </p:nvSpPr>
        <p:spPr>
          <a:xfrm>
            <a:off x="2000160" y="1357200"/>
            <a:ext cx="6286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交流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你还知道哪些神话故事人物？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20760" y="306000"/>
            <a:ext cx="7772400" cy="1204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3300"/>
                </a:solidFill>
                <a:latin typeface="Times New Roman"/>
              </a:rPr>
              <a:t>作业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1143000" y="18572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b5b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、想象：如果你也有造人的本领，你会怎么做呢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b5b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、读一读我国的神话故事。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2" name="图片 9" descr=""/>
          <p:cNvPicPr/>
          <p:nvPr/>
        </p:nvPicPr>
        <p:blipFill>
          <a:blip r:embed="rId17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5" name="Picture 10" descr="png-0644"/>
          <p:cNvPicPr/>
          <p:nvPr/>
        </p:nvPicPr>
        <p:blipFill>
          <a:blip r:embed="rId18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5B89-3976-4FEB-B0B6-1766FCAC31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4" descr="20101231024152103_3040.jpg"/>
          <p:cNvPicPr/>
          <p:nvPr/>
        </p:nvPicPr>
        <p:blipFill>
          <a:blip r:embed="rId1"/>
          <a:stretch/>
        </p:blipFill>
        <p:spPr>
          <a:xfrm>
            <a:off x="0" y="0"/>
            <a:ext cx="300024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Box 5"/>
          <p:cNvSpPr/>
          <p:nvPr/>
        </p:nvSpPr>
        <p:spPr>
          <a:xfrm>
            <a:off x="3000240" y="357120"/>
            <a:ext cx="600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女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200b5b"/>
                </a:solidFill>
                <a:latin typeface="Times New Roman"/>
              </a:rPr>
              <a:t>中国上古神话中的创世女神。又称娲皇、女阴娘娘，史记女娲氏，是古代传说华夏民族人文先始，社稷福德之正神。女娲人头蛇身，一日中七十化变，以黄泥仿照自己抟土造人，创造人类社会并建立婚姻制度；后因世间天塌地陷，于是熔彩石以补天，斩鳖足以立四极，留下了女娲补天的神话传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b5b"/>
                </a:solidFill>
                <a:latin typeface="Times New Roman"/>
              </a:rPr>
              <a:t>女娲不但是补天救世的英雌和抟土造人的母神，还是一个创造万物的自然之神，她化生万物，每天至少能创造出七十样东西，是被民间广泛而又长久崇拜的大母神和始先神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1214280" y="334800"/>
            <a:ext cx="792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女娲    掺和    仿照    盘古  捏成    生灵    蘸上    泥浆  溅落    死亡    延续    繁衍 世界    人类    开天辟地  鸟兽虫鱼        山川草木  生气勃勃        生儿育女  许许多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2"/>
          <p:cNvSpPr/>
          <p:nvPr/>
        </p:nvSpPr>
        <p:spPr>
          <a:xfrm>
            <a:off x="1428840" y="428760"/>
            <a:ext cx="7286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一个水池      一些黄土  一个东西      一根绳子  高兴地叫着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欢喜地跳着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充满惊讶和喜爱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一个个活生生的人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许许多多的人  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1500120" y="1071720"/>
            <a:ext cx="700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认真倾听课文，想一想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这篇课文主要讲了什么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TextBox 2"/>
          <p:cNvSpPr/>
          <p:nvPr/>
        </p:nvSpPr>
        <p:spPr>
          <a:xfrm>
            <a:off x="3429000" y="378612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女娲造人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1" name="30课课文朗读.mp3" descr=""/>
          <p:cNvPicPr/>
          <p:nvPr/>
        </p:nvPicPr>
        <p:blipFill>
          <a:blip r:embed="rId1"/>
          <a:stretch/>
        </p:blipFill>
        <p:spPr>
          <a:xfrm>
            <a:off x="7858080" y="564372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05222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5"/>
          <p:cNvSpPr/>
          <p:nvPr/>
        </p:nvSpPr>
        <p:spPr>
          <a:xfrm>
            <a:off x="1785960" y="428760"/>
            <a:ext cx="65008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默读课文，思考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b5b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、女娲为什么要创造人类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b5b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、女娲是怎么创造人类的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b5b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、女娲是怎么使人类延续下去的？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右箭头 2">
            <a:hlinkClick r:id="rId1" action="ppaction://hlinksldjump"/>
          </p:cNvPr>
          <p:cNvSpPr/>
          <p:nvPr/>
        </p:nvSpPr>
        <p:spPr>
          <a:xfrm>
            <a:off x="7715160" y="5715000"/>
            <a:ext cx="857520" cy="7142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eeb00b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6"/>
          <p:cNvSpPr/>
          <p:nvPr/>
        </p:nvSpPr>
        <p:spPr>
          <a:xfrm>
            <a:off x="1785960" y="4287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         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盘古开天辟地以后，大地上有了山川草木、鸟兽虫鱼，世界上有了些生气。女娲想，应该再添一点儿什么，让这个世界更加生气勃勃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3"/>
          <p:cNvSpPr/>
          <p:nvPr/>
        </p:nvSpPr>
        <p:spPr>
          <a:xfrm>
            <a:off x="2627280" y="2852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6" name="图片 3" descr="t011dfb5a2130834fac.jpg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左箭头 2">
            <a:hlinkClick r:id="rId2" action="ppaction://hlinksldjump"/>
          </p:cNvPr>
          <p:cNvSpPr/>
          <p:nvPr/>
        </p:nvSpPr>
        <p:spPr>
          <a:xfrm>
            <a:off x="142920" y="6000840"/>
            <a:ext cx="785880" cy="64296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eeb00b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071720" y="285840"/>
            <a:ext cx="7858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</a:rPr>
              <a:t>认真读第二自然段，想一想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、女娲是怎么造出第一个人的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、你能用上“先……然后……最后……”说一说女娲造人的过程吗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357120" y="3429000"/>
            <a:ext cx="8643960" cy="1434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她来到一个水池旁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先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挖了些黄土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然后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掺和了水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最后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仿照自己的样子捏成了一个小东西。女娲给他起了个名字叫“人”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1:30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1:28Z</dcterms:modified>
  <cp:revision>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