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E374-A907-448D-B7DF-4FC0E908E93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4B4D-97F5-4AEF-8FB9-3982BBAD92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0E4-C679-4FEC-A443-F6D6C00F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605-B1CC-4953-95DD-355AB65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FEC-0DAE-4CDF-A1A0-F858558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B8C-F332-489D-BFDD-0E64D5E4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705-A8FB-4ECF-8ACF-EA4A859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41E-C56B-4B3F-96FD-AF97535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F98-D003-4836-AA12-DEC7196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166-4A5A-4D43-9E81-07B8B2C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F01-A5D4-493C-85C9-4429620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DD9-EA8A-4197-89B3-5DAC0AD1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5EF-A4BB-4F07-AE92-694046C9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904-CEA5-4E9A-B320-9DE243A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C06D-C48C-4BB0-AC67-AAEEA51A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619280" y="2276640"/>
            <a:ext cx="56894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25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朋友之间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84360" y="8049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Cj04271810000[1]"/>
          <p:cNvPicPr/>
          <p:nvPr/>
        </p:nvPicPr>
        <p:blipFill>
          <a:blip r:embed="rId2"/>
          <a:stretch/>
        </p:blipFill>
        <p:spPr>
          <a:xfrm>
            <a:off x="6983280" y="4292640"/>
            <a:ext cx="1808280" cy="180180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182700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Cj04271810000[1]"/>
          <p:cNvPicPr/>
          <p:nvPr/>
        </p:nvPicPr>
        <p:blipFill>
          <a:blip r:embed="rId2"/>
          <a:stretch/>
        </p:blipFill>
        <p:spPr>
          <a:xfrm>
            <a:off x="7164360" y="4292640"/>
            <a:ext cx="1808280" cy="1801800"/>
          </a:xfrm>
          <a:prstGeom prst="rect">
            <a:avLst/>
          </a:prstGeom>
          <a:ln w="0">
            <a:noFill/>
          </a:ln>
        </p:spPr>
      </p:pic>
      <p:pic>
        <p:nvPicPr>
          <p:cNvPr id="139" name="矩形 6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68360" y="134136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着，走着，他发现朋友晕倒在前面的小水洼边，忙跑过去扶起他。这时，他看见朋友手中握着的果子，比自己的更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85880" y="1000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第四自然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0" y="16430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看见朋友们手中握着的果子，比自己的更小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后面用省略号，省略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矩形 7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1403280" y="4653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后悔责怪朋友的羞愧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矩形 1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00040" y="1000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，比较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826920" y="1916280"/>
            <a:ext cx="692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他跑过去扶起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忙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跑过去扶起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37861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在跑的前面加上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忙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”，写出了他发现朋友晕倒时的焦急心情，这样写更加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684360" y="256536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通过学习这篇课文，你在故事中学到了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6"/>
          <p:cNvSpPr txBox="1"/>
          <p:nvPr/>
        </p:nvSpPr>
        <p:spPr>
          <a:xfrm rot="21266400">
            <a:off x="826560" y="764640"/>
            <a:ext cx="223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1785960" y="3571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图片1"/>
          <p:cNvPicPr/>
          <p:nvPr/>
        </p:nvPicPr>
        <p:blipFill>
          <a:blip r:embed="rId2"/>
          <a:stretch/>
        </p:blipFill>
        <p:spPr>
          <a:xfrm>
            <a:off x="500040" y="214200"/>
            <a:ext cx="1285920" cy="979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4"/>
          <p:cNvSpPr/>
          <p:nvPr/>
        </p:nvSpPr>
        <p:spPr>
          <a:xfrm>
            <a:off x="4929120" y="285840"/>
            <a:ext cx="135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600" y="1206360"/>
            <a:ext cx="9144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一、我会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量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持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扶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竖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里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待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夫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二、我会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尽头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(jìng  jìn )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坚持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hí  cí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重量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  ni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g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2411280" y="5877000"/>
            <a:ext cx="1008360" cy="0"/>
          </a:xfrm>
          <a:prstGeom prst="line">
            <a:avLst/>
          </a:prstGeom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5724360" y="5805360"/>
            <a:ext cx="1008360" cy="0"/>
          </a:xfrm>
          <a:prstGeom prst="line">
            <a:avLst/>
          </a:prstGeom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1835280" y="6597720"/>
            <a:ext cx="1008000" cy="0"/>
          </a:xfrm>
          <a:prstGeom prst="line">
            <a:avLst/>
          </a:prstGeom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954160" y="10033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1B2-40C7-4DB5-AED3-8512F95D34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85840" y="2286000"/>
            <a:ext cx="8858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宋体"/>
              </a:rPr>
              <a:t>胁   励   凭   艰   迈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宋体"/>
              </a:rPr>
              <a:t>迷   晕   洼   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矩形 5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770120" cy="708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14200" y="135720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357280" y="128592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000680" y="12859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00840" y="12859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786800" y="129240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5840" y="407196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071800" y="400068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143240" y="39290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00840" y="392904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图片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5"/>
          <p:cNvSpPr txBox="1"/>
          <p:nvPr/>
        </p:nvSpPr>
        <p:spPr>
          <a:xfrm>
            <a:off x="468360" y="476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给多音字组词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492360" y="2852640"/>
            <a:ext cx="46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900000" y="134136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24000" y="1989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258920" y="112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268360" y="134136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258920" y="19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124000" y="1895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1258920" y="2781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256120" y="1916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2268720" y="28065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2273400" y="1125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2050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3780000" y="1341360"/>
            <a:ext cx="215640" cy="18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4213080" y="1341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j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5008680" y="13748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4211640" y="249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jǐ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997520" y="2492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5796000" y="184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1"/>
          <p:cNvSpPr/>
          <p:nvPr/>
        </p:nvSpPr>
        <p:spPr>
          <a:xfrm>
            <a:off x="6516720" y="126828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6804000" y="119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h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6804000" y="24969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7961400" y="25099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7972560" y="1268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2"/>
          <p:cNvSpPr/>
          <p:nvPr/>
        </p:nvSpPr>
        <p:spPr>
          <a:xfrm>
            <a:off x="32400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3"/>
          <p:cNvSpPr/>
          <p:nvPr/>
        </p:nvSpPr>
        <p:spPr>
          <a:xfrm>
            <a:off x="900000" y="378936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1187280" y="364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2273400" y="3645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1187280" y="44226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1258920" y="5157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9"/>
          <p:cNvSpPr/>
          <p:nvPr/>
        </p:nvSpPr>
        <p:spPr>
          <a:xfrm>
            <a:off x="2273400" y="4365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0"/>
          <p:cNvSpPr/>
          <p:nvPr/>
        </p:nvSpPr>
        <p:spPr>
          <a:xfrm>
            <a:off x="2273400" y="5157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1"/>
          <p:cNvSpPr/>
          <p:nvPr/>
        </p:nvSpPr>
        <p:spPr>
          <a:xfrm>
            <a:off x="3203640" y="429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2"/>
          <p:cNvSpPr/>
          <p:nvPr/>
        </p:nvSpPr>
        <p:spPr>
          <a:xfrm>
            <a:off x="3780000" y="3716280"/>
            <a:ext cx="215640" cy="180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3"/>
          <p:cNvSpPr/>
          <p:nvPr/>
        </p:nvSpPr>
        <p:spPr>
          <a:xfrm>
            <a:off x="4140360" y="37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4"/>
          <p:cNvSpPr/>
          <p:nvPr/>
        </p:nvSpPr>
        <p:spPr>
          <a:xfrm>
            <a:off x="4284720" y="465300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5"/>
          <p:cNvSpPr/>
          <p:nvPr/>
        </p:nvSpPr>
        <p:spPr>
          <a:xfrm>
            <a:off x="4140360" y="49258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5226120" y="49417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213520" y="3716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6012000" y="429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9"/>
          <p:cNvSpPr/>
          <p:nvPr/>
        </p:nvSpPr>
        <p:spPr>
          <a:xfrm>
            <a:off x="6588000" y="3716280"/>
            <a:ext cx="216000" cy="180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0"/>
          <p:cNvSpPr/>
          <p:nvPr/>
        </p:nvSpPr>
        <p:spPr>
          <a:xfrm>
            <a:off x="6877080" y="371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2"/>
          <p:cNvSpPr/>
          <p:nvPr/>
        </p:nvSpPr>
        <p:spPr>
          <a:xfrm>
            <a:off x="6877080" y="486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3"/>
          <p:cNvSpPr/>
          <p:nvPr/>
        </p:nvSpPr>
        <p:spPr>
          <a:xfrm>
            <a:off x="7961400" y="4925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4"/>
          <p:cNvSpPr/>
          <p:nvPr/>
        </p:nvSpPr>
        <p:spPr>
          <a:xfrm>
            <a:off x="7961400" y="3789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4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4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4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4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2911320" y="3933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Cj04271810000[1]"/>
          <p:cNvPicPr/>
          <p:nvPr/>
        </p:nvPicPr>
        <p:blipFill>
          <a:blip r:embed="rId2"/>
          <a:stretch/>
        </p:blipFill>
        <p:spPr>
          <a:xfrm>
            <a:off x="7164360" y="4292640"/>
            <a:ext cx="1808280" cy="180180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6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468360" y="1341360"/>
            <a:ext cx="85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好朋友在沙漠中行进，干渴威胁着他们的生命。他们互相鼓励，克服困难，凭着坚强的意志，艰难地迈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4271810000[1]"/>
          <p:cNvPicPr/>
          <p:nvPr/>
        </p:nvPicPr>
        <p:blipFill>
          <a:blip r:embed="rId2"/>
          <a:stretch/>
        </p:blipFill>
        <p:spPr>
          <a:xfrm>
            <a:off x="7164360" y="4292640"/>
            <a:ext cx="180828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矩形 6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95280" y="134136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远地，他们看见前面有一棵树。他俩高兴极了，拼尽力量向前走去。来到树下，只见树上挂着两个金黄的果子，一大一小。两人看了，都坚持要对方摘大的，自己吃小的。争来争去，谁也没有说服谁。后来，两人都迷迷糊糊睡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MCj04271810000[1]"/>
          <p:cNvPicPr/>
          <p:nvPr/>
        </p:nvPicPr>
        <p:blipFill>
          <a:blip r:embed="rId2"/>
          <a:stretch/>
        </p:blipFill>
        <p:spPr>
          <a:xfrm>
            <a:off x="7335720" y="4797360"/>
            <a:ext cx="1808280" cy="1801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42960" y="1214280"/>
            <a:ext cx="43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二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1928880"/>
            <a:ext cx="90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人看了，都坚持要对方摘大的，自己吃小的。争来争去，谁也没说服谁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386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两个人都有抢着吃小果子，说明两个朋友内心是怎么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8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79280" y="558972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心里想着对方，把生的希望留给别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朋友之间插图1"/>
          <p:cNvPicPr/>
          <p:nvPr/>
        </p:nvPicPr>
        <p:blipFill>
          <a:blip r:embed="rId2"/>
          <a:stretch/>
        </p:blipFill>
        <p:spPr>
          <a:xfrm>
            <a:off x="0" y="207180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500040" y="857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二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1285920"/>
            <a:ext cx="91440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人看到树上的果子时，各是怎能样说的？试着表演一下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7" descr=""/>
          <p:cNvPicPr/>
          <p:nvPr/>
        </p:nvPicPr>
        <p:blipFill>
          <a:blip r:embed="rId3"/>
          <a:stretch/>
        </p:blipFill>
        <p:spPr>
          <a:xfrm>
            <a:off x="-25560" y="6480"/>
            <a:ext cx="30765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Cj04271810000[1]"/>
          <p:cNvPicPr/>
          <p:nvPr/>
        </p:nvPicPr>
        <p:blipFill>
          <a:blip r:embed="rId2"/>
          <a:stretch/>
        </p:blipFill>
        <p:spPr>
          <a:xfrm>
            <a:off x="7164360" y="4292640"/>
            <a:ext cx="1808280" cy="18018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6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3076560" cy="922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68360" y="1341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过了多久，其中一个人醒来，发现朋友不见了，树上只剩下一个小果子。望着一行远去的脚印，他心里有点纳闷。于是，他摘下果子，拖着沉重的脚步，继续向前走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168200" y="100008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三自然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1785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望着一行远去的脚印，他心里有点纳闷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他纳闷什么？为什么步子“沉重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矩形 6" descr=""/>
          <p:cNvPicPr/>
          <p:nvPr/>
        </p:nvPicPr>
        <p:blipFill>
          <a:blip r:embed="rId2"/>
          <a:stretch/>
        </p:blipFill>
        <p:spPr>
          <a:xfrm>
            <a:off x="0" y="0"/>
            <a:ext cx="3076560" cy="923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7"/>
          <p:cNvSpPr/>
          <p:nvPr/>
        </p:nvSpPr>
        <p:spPr>
          <a:xfrm>
            <a:off x="0" y="36432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对于好朋友一个人离开，留下一个小果子感到奇怪、有些不满、不理解，所以步伐就更加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2:0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02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