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4.jpeg" ContentType="image/jpeg"/>
  <Override PartName="/ppt/media/image6.jpeg" ContentType="image/jpeg"/>
  <Override PartName="/ppt/media/image24.gif" ContentType="image/gif"/>
  <Override PartName="/ppt/media/image16.png" ContentType="image/png"/>
  <Override PartName="/ppt/media/image21.jpeg" ContentType="image/jpeg"/>
  <Override PartName="/ppt/media/image22.png" ContentType="image/png"/>
  <Override PartName="/ppt/media/image20.jpeg" ContentType="image/jpeg"/>
  <Override PartName="/ppt/media/image18.png" ContentType="image/png"/>
  <Override PartName="/ppt/media/image17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F4ED-FFEC-4549-854E-402ED68878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5D9B-9D77-4F18-A0EA-D6CF16AD52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615-CD08-4F86-B789-B2F91DC6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AEA-007D-4BEF-8935-756FDB2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5D9-BE97-4047-9FCE-F80F36F6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60F-673D-4A80-A98C-C068CFD9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092-0725-4A19-951F-0FB8E28F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927-C154-4260-A116-DFE66ECF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868-7979-4C4E-ADD5-104E50EC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CFD-A158-4703-AAF9-8CC5F0DC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DB1-59A0-4C2F-A590-369CFF6C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9C7-0CDD-4499-8B01-37FAA43F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0F3-1FF4-4E7D-855E-205BEFDA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A1C-6650-47C4-9156-7D91DD5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6ED5-8C81-44B1-B518-897B2292D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871640" y="1905120"/>
            <a:ext cx="5257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25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朋友之间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5475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湘教版 二年级 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792080" y="6056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4"/>
          <p:cNvGrpSpPr/>
          <p:nvPr/>
        </p:nvGrpSpPr>
        <p:grpSpPr>
          <a:xfrm>
            <a:off x="428760" y="2357280"/>
            <a:ext cx="3856680" cy="3571200"/>
            <a:chOff x="428760" y="2357280"/>
            <a:chExt cx="3856680" cy="3571200"/>
          </a:xfrm>
        </p:grpSpPr>
        <p:sp>
          <p:nvSpPr>
            <p:cNvPr id="201" name="Rectangle 5"/>
            <p:cNvSpPr/>
            <p:nvPr/>
          </p:nvSpPr>
          <p:spPr>
            <a:xfrm>
              <a:off x="2357640" y="4128840"/>
              <a:ext cx="192780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428760" y="4128840"/>
              <a:ext cx="192888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2357640" y="2357280"/>
              <a:ext cx="192780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428760" y="2357280"/>
              <a:ext cx="192888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428760" y="23572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>
              <a:off x="428760" y="4128840"/>
              <a:ext cx="385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>
              <a:off x="428760" y="59284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42876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2357640" y="2357280"/>
              <a:ext cx="0" cy="357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428544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5"/>
          <p:cNvSpPr/>
          <p:nvPr/>
        </p:nvSpPr>
        <p:spPr>
          <a:xfrm>
            <a:off x="785880" y="2154240"/>
            <a:ext cx="3214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3399"/>
                </a:solidFill>
                <a:latin typeface="华文楷体"/>
                <a:ea typeface="华文楷体"/>
              </a:rPr>
              <a:t>扶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1643040" y="114300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矩形 1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257480" cy="7081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5"/>
          <p:cNvSpPr/>
          <p:nvPr/>
        </p:nvSpPr>
        <p:spPr>
          <a:xfrm>
            <a:off x="464328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抚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685800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扶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矩形 17" descr=""/>
          <p:cNvPicPr/>
          <p:nvPr/>
        </p:nvPicPr>
        <p:blipFill>
          <a:blip r:embed="rId3"/>
          <a:stretch/>
        </p:blipFill>
        <p:spPr>
          <a:xfrm>
            <a:off x="4786200" y="321480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8"/>
          <p:cNvSpPr/>
          <p:nvPr/>
        </p:nvSpPr>
        <p:spPr>
          <a:xfrm>
            <a:off x="450072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抚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长大很不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矩形 19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6"/>
          <p:cNvSpPr/>
          <p:nvPr/>
        </p:nvSpPr>
        <p:spPr>
          <a:xfrm>
            <a:off x="25092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85840" y="2286000"/>
            <a:ext cx="8858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宋体"/>
              </a:rPr>
              <a:t>胁   励   凭   艰   迈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宋体"/>
              </a:rPr>
              <a:t>迷   晕   洼   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矩形 5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214200" y="1357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357280" y="128592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000680" y="128592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000840" y="128592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7786800" y="129240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85840" y="407196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071800" y="400068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143240" y="39290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00840" y="392904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矩形 1" descr=""/>
          <p:cNvPicPr/>
          <p:nvPr/>
        </p:nvPicPr>
        <p:blipFill>
          <a:blip r:embed="rId2"/>
          <a:stretch/>
        </p:blipFill>
        <p:spPr>
          <a:xfrm>
            <a:off x="285840" y="363600"/>
            <a:ext cx="3449520" cy="7081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928800" y="1476360"/>
            <a:ext cx="82152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漠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服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强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重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坚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着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鼓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难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信    头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地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642960" y="1071720"/>
            <a:ext cx="59054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第一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①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一段有几句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②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一句写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③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第二句写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MCj04271810000[1]"/>
          <p:cNvPicPr/>
          <p:nvPr/>
        </p:nvPicPr>
        <p:blipFill>
          <a:blip r:embed="rId2"/>
          <a:stretch/>
        </p:blipFill>
        <p:spPr>
          <a:xfrm>
            <a:off x="7143840" y="4500720"/>
            <a:ext cx="1807920" cy="1801800"/>
          </a:xfrm>
          <a:prstGeom prst="rect">
            <a:avLst/>
          </a:prstGeom>
          <a:ln w="0">
            <a:noFill/>
          </a:ln>
        </p:spPr>
      </p:pic>
      <p:pic>
        <p:nvPicPr>
          <p:cNvPr id="235" name="矩形 6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3076560" cy="9223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714240" y="400068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575d1"/>
                </a:solidFill>
                <a:latin typeface="Arial"/>
              </a:rPr>
              <a:t>两个好朋友在沙漠中行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428760" y="600084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说明两个人在沙漠中行走得非常艰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MCj04271810000[1]"/>
          <p:cNvPicPr/>
          <p:nvPr/>
        </p:nvPicPr>
        <p:blipFill>
          <a:blip r:embed="rId2"/>
          <a:stretch/>
        </p:blipFill>
        <p:spPr>
          <a:xfrm>
            <a:off x="7335720" y="4857840"/>
            <a:ext cx="1808280" cy="1801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42960" y="1214280"/>
            <a:ext cx="43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二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0" y="1928880"/>
            <a:ext cx="90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人看了，都坚持要对方摘大的，自己吃小的。争来争去，谁也没说服谁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0" y="385776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两个人都有抢着吃小果子，说明两个朋友内心是怎么想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矩形 8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3076560" cy="922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9"/>
          <p:cNvSpPr/>
          <p:nvPr/>
        </p:nvSpPr>
        <p:spPr>
          <a:xfrm>
            <a:off x="214200" y="61498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心里想着对方，把生的希望留给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朋友之间插图1"/>
          <p:cNvPicPr/>
          <p:nvPr/>
        </p:nvPicPr>
        <p:blipFill>
          <a:blip r:embed="rId2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500040" y="8571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二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1285920"/>
            <a:ext cx="9144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    </a:t>
            </a:r>
            <a:r>
              <a:rPr b="1" lang="zh-CN" sz="3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两个人看到树上的果子时，各是怎能样说的？试着表演一下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矩形 7" descr=""/>
          <p:cNvPicPr/>
          <p:nvPr/>
        </p:nvPicPr>
        <p:blipFill>
          <a:blip r:embed="rId3"/>
          <a:stretch/>
        </p:blipFill>
        <p:spPr>
          <a:xfrm>
            <a:off x="0" y="0"/>
            <a:ext cx="30765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1168200" y="100008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三自然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0" y="1785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望着一行远去的脚印，他心里有点纳闷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他纳闷什么？为什么步子“沉重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矩形 6" descr=""/>
          <p:cNvPicPr/>
          <p:nvPr/>
        </p:nvPicPr>
        <p:blipFill>
          <a:blip r:embed="rId2"/>
          <a:stretch/>
        </p:blipFill>
        <p:spPr>
          <a:xfrm>
            <a:off x="0" y="0"/>
            <a:ext cx="3076560" cy="923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64320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对于好朋友一个人离开，留下一个小果子感到奇怪、有些不满、不理解，所以步伐就更加艰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矩形 1" descr=""/>
          <p:cNvPicPr/>
          <p:nvPr/>
        </p:nvPicPr>
        <p:blipFill>
          <a:blip r:embed="rId2"/>
          <a:stretch/>
        </p:blipFill>
        <p:spPr>
          <a:xfrm>
            <a:off x="0" y="0"/>
            <a:ext cx="3076560" cy="9237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500040" y="1000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朗读，比较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785880" y="2000160"/>
            <a:ext cx="69292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他跑过去扶起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忙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跑过去扶起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0" y="37861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在跑的前面加上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忙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”，写出了他发现朋友晕倒时的焦急心情，这样写更加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785880" y="1000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第四自然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0" y="16430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他看见朋友们手中握着的果子，比自己的更小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后面用省略号，省略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0" y="464328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根据课文内容，当他到朋友的手中拿着比自己还小的果子时，会怎么想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矩形 7" descr=""/>
          <p:cNvPicPr/>
          <p:nvPr/>
        </p:nvPicPr>
        <p:blipFill>
          <a:blip r:embed="rId2"/>
          <a:stretch/>
        </p:blipFill>
        <p:spPr>
          <a:xfrm>
            <a:off x="0" y="0"/>
            <a:ext cx="3076560" cy="923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500040" y="3786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后悔责怪朋友的羞愧心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拓展学习"/>
          <p:cNvPicPr/>
          <p:nvPr/>
        </p:nvPicPr>
        <p:blipFill>
          <a:blip r:embed="rId2"/>
          <a:stretch/>
        </p:blipFill>
        <p:spPr>
          <a:xfrm>
            <a:off x="214200" y="331920"/>
            <a:ext cx="3857760" cy="954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"/>
          <p:cNvSpPr/>
          <p:nvPr/>
        </p:nvSpPr>
        <p:spPr>
          <a:xfrm>
            <a:off x="714240" y="235728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这两个人能够走出沙漠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187280" y="1857240"/>
            <a:ext cx="7956720" cy="37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漠   克   坚   尽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量   持   拖   扶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14280" y="11430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143160" y="10717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k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857840" y="1143000"/>
            <a:ext cx="129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929280" y="1143000"/>
            <a:ext cx="121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jì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857160" y="3643200"/>
            <a:ext cx="181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000240" y="3643200"/>
            <a:ext cx="121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857840" y="3571920"/>
            <a:ext cx="129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58000" y="357192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矩形 1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0" y="1143000"/>
            <a:ext cx="9144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一、我会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量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持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扶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竖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里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待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夫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二、我会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尽头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jìng  jìn )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持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hí  cí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重量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i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g   ni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g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785960" y="3571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图片1"/>
          <p:cNvPicPr/>
          <p:nvPr/>
        </p:nvPicPr>
        <p:blipFill>
          <a:blip r:embed="rId2"/>
          <a:stretch/>
        </p:blipFill>
        <p:spPr>
          <a:xfrm>
            <a:off x="500040" y="214200"/>
            <a:ext cx="1285920" cy="9795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642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300024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521496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764388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扶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>
            <a:off x="71424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坚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2928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5214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等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64388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丈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4929120" y="285840"/>
            <a:ext cx="135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0" y="1143000"/>
            <a:ext cx="9144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一、我会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量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持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扶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竖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里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待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夫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二、我会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尽头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jì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jìn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)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持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hí  cí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重量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i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g   ni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g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785960" y="3571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图片1"/>
          <p:cNvPicPr/>
          <p:nvPr/>
        </p:nvPicPr>
        <p:blipFill>
          <a:blip r:embed="rId2"/>
          <a:stretch/>
        </p:blipFill>
        <p:spPr>
          <a:xfrm>
            <a:off x="500040" y="214200"/>
            <a:ext cx="1285920" cy="9795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6"/>
          <p:cNvSpPr/>
          <p:nvPr/>
        </p:nvSpPr>
        <p:spPr>
          <a:xfrm>
            <a:off x="642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300024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521496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764388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扶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0"/>
          <p:cNvSpPr/>
          <p:nvPr/>
        </p:nvSpPr>
        <p:spPr>
          <a:xfrm>
            <a:off x="71424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坚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2928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2"/>
          <p:cNvSpPr/>
          <p:nvPr/>
        </p:nvSpPr>
        <p:spPr>
          <a:xfrm>
            <a:off x="5214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等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764388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丈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4929120" y="285840"/>
            <a:ext cx="135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0" y="1143000"/>
            <a:ext cx="9144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一、我会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量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持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扶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竖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里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待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夫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二、我会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尽头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jì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jìn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)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持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í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cí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重量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i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g   ni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g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785960" y="3571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图片1"/>
          <p:cNvPicPr/>
          <p:nvPr/>
        </p:nvPicPr>
        <p:blipFill>
          <a:blip r:embed="rId2"/>
          <a:stretch/>
        </p:blipFill>
        <p:spPr>
          <a:xfrm>
            <a:off x="500040" y="214200"/>
            <a:ext cx="1285920" cy="9795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642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"/>
          <p:cNvSpPr/>
          <p:nvPr/>
        </p:nvSpPr>
        <p:spPr>
          <a:xfrm>
            <a:off x="300024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521496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9"/>
          <p:cNvSpPr/>
          <p:nvPr/>
        </p:nvSpPr>
        <p:spPr>
          <a:xfrm>
            <a:off x="764388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扶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71424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坚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1"/>
          <p:cNvSpPr/>
          <p:nvPr/>
        </p:nvSpPr>
        <p:spPr>
          <a:xfrm>
            <a:off x="2928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4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等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764388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丈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4929120" y="285840"/>
            <a:ext cx="135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143000"/>
            <a:ext cx="9144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一、我会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量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持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扶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竖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里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待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夫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二、我会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尽头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jì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jìn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)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持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í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cí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重量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ni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g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785960" y="3571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图片1"/>
          <p:cNvPicPr/>
          <p:nvPr/>
        </p:nvPicPr>
        <p:blipFill>
          <a:blip r:embed="rId2"/>
          <a:stretch/>
        </p:blipFill>
        <p:spPr>
          <a:xfrm>
            <a:off x="500040" y="214200"/>
            <a:ext cx="1285920" cy="9795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"/>
          <p:cNvSpPr/>
          <p:nvPr/>
        </p:nvSpPr>
        <p:spPr>
          <a:xfrm>
            <a:off x="642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300024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521496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764388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扶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714240" y="2286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坚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2928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521496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等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7643880" y="32148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丈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4929120" y="285840"/>
            <a:ext cx="135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1928880" y="285840"/>
            <a:ext cx="25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图片1"/>
          <p:cNvPicPr/>
          <p:nvPr/>
        </p:nvPicPr>
        <p:blipFill>
          <a:blip r:embed="rId2"/>
          <a:stretch/>
        </p:blipFill>
        <p:spPr>
          <a:xfrm>
            <a:off x="500040" y="0"/>
            <a:ext cx="1428840" cy="1089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>
            <a:off x="684360" y="1357200"/>
            <a:ext cx="84596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三、我会写类似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例：迷迷糊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（         ）     （         ）         （         ）     （         ）          （         ）     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1357200" y="3643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20ab6"/>
                </a:solidFill>
                <a:latin typeface="Arial"/>
              </a:rPr>
              <a:t>开开心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5929200" y="3643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20ab6"/>
                </a:solidFill>
                <a:latin typeface="Arial"/>
              </a:rPr>
              <a:t>高高兴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1285920" y="45007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20ab6"/>
                </a:solidFill>
                <a:latin typeface="Arial"/>
              </a:rPr>
              <a:t>快快乐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5929200" y="4643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20ab6"/>
                </a:solidFill>
                <a:latin typeface="Arial"/>
              </a:rPr>
              <a:t>日日夜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1285920" y="54291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20ab6"/>
                </a:solidFill>
                <a:latin typeface="Arial"/>
              </a:rPr>
              <a:t>风风光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5857920" y="5500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20ab6"/>
                </a:solidFill>
                <a:latin typeface="Arial"/>
              </a:rPr>
              <a:t>口口声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1928880" y="2071800"/>
            <a:ext cx="557208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21" name="文本框 1"/>
          <p:cNvSpPr/>
          <p:nvPr/>
        </p:nvSpPr>
        <p:spPr>
          <a:xfrm>
            <a:off x="2197080" y="5394240"/>
            <a:ext cx="55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9932-6E2D-48D7-92E5-79EFBFFB78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4"/>
          <p:cNvGrpSpPr/>
          <p:nvPr/>
        </p:nvGrpSpPr>
        <p:grpSpPr>
          <a:xfrm>
            <a:off x="428760" y="2357280"/>
            <a:ext cx="3856680" cy="3571200"/>
            <a:chOff x="428760" y="2357280"/>
            <a:chExt cx="3856680" cy="3571200"/>
          </a:xfrm>
        </p:grpSpPr>
        <p:sp>
          <p:nvSpPr>
            <p:cNvPr id="62" name="Rectangle 5"/>
            <p:cNvSpPr/>
            <p:nvPr/>
          </p:nvSpPr>
          <p:spPr>
            <a:xfrm>
              <a:off x="2357640" y="4128840"/>
              <a:ext cx="192780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428760" y="4128840"/>
              <a:ext cx="192888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2357640" y="2357280"/>
              <a:ext cx="192780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8"/>
            <p:cNvSpPr/>
            <p:nvPr/>
          </p:nvSpPr>
          <p:spPr>
            <a:xfrm>
              <a:off x="428760" y="2357280"/>
              <a:ext cx="192888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"/>
            <p:cNvSpPr/>
            <p:nvPr/>
          </p:nvSpPr>
          <p:spPr>
            <a:xfrm>
              <a:off x="428760" y="23572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428760" y="4128840"/>
              <a:ext cx="385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428760" y="59284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42876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2357640" y="2357280"/>
              <a:ext cx="0" cy="357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428544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5"/>
          <p:cNvSpPr/>
          <p:nvPr/>
        </p:nvSpPr>
        <p:spPr>
          <a:xfrm>
            <a:off x="714240" y="2154240"/>
            <a:ext cx="3214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3399"/>
                </a:solidFill>
                <a:latin typeface="华文楷体"/>
                <a:ea typeface="华文楷体"/>
              </a:rPr>
              <a:t>漠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714680" y="1143000"/>
            <a:ext cx="142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m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矩形 1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257480" cy="708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5"/>
          <p:cNvSpPr/>
          <p:nvPr/>
        </p:nvSpPr>
        <p:spPr>
          <a:xfrm>
            <a:off x="464328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685800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漠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矩形 17" descr=""/>
          <p:cNvPicPr/>
          <p:nvPr/>
        </p:nvPicPr>
        <p:blipFill>
          <a:blip r:embed="rId3"/>
          <a:stretch/>
        </p:blipFill>
        <p:spPr>
          <a:xfrm>
            <a:off x="4786200" y="321480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8"/>
          <p:cNvSpPr/>
          <p:nvPr/>
        </p:nvSpPr>
        <p:spPr>
          <a:xfrm>
            <a:off x="450072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沙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走了一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矩形 19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4"/>
          <p:cNvGrpSpPr/>
          <p:nvPr/>
        </p:nvGrpSpPr>
        <p:grpSpPr>
          <a:xfrm>
            <a:off x="428760" y="2357280"/>
            <a:ext cx="3856680" cy="3571200"/>
            <a:chOff x="428760" y="2357280"/>
            <a:chExt cx="3856680" cy="3571200"/>
          </a:xfrm>
        </p:grpSpPr>
        <p:sp>
          <p:nvSpPr>
            <p:cNvPr id="81" name="Rectangle 5"/>
            <p:cNvSpPr/>
            <p:nvPr/>
          </p:nvSpPr>
          <p:spPr>
            <a:xfrm>
              <a:off x="2357640" y="4128840"/>
              <a:ext cx="192780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428760" y="4128840"/>
              <a:ext cx="192888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357640" y="2357280"/>
              <a:ext cx="192780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428760" y="2357280"/>
              <a:ext cx="192888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9"/>
            <p:cNvSpPr/>
            <p:nvPr/>
          </p:nvSpPr>
          <p:spPr>
            <a:xfrm>
              <a:off x="428760" y="23572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0"/>
            <p:cNvSpPr/>
            <p:nvPr/>
          </p:nvSpPr>
          <p:spPr>
            <a:xfrm>
              <a:off x="428760" y="4128840"/>
              <a:ext cx="385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>
              <a:off x="428760" y="59284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>
              <a:off x="42876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>
              <a:off x="2357640" y="2357280"/>
              <a:ext cx="0" cy="357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4"/>
            <p:cNvSpPr/>
            <p:nvPr/>
          </p:nvSpPr>
          <p:spPr>
            <a:xfrm>
              <a:off x="428544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5"/>
          <p:cNvSpPr/>
          <p:nvPr/>
        </p:nvSpPr>
        <p:spPr>
          <a:xfrm>
            <a:off x="714240" y="2071800"/>
            <a:ext cx="3214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3399"/>
                </a:solidFill>
                <a:latin typeface="华文楷体"/>
                <a:ea typeface="华文楷体"/>
              </a:rPr>
              <a:t>克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1857240" y="1143000"/>
            <a:ext cx="14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k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矩形 1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257480" cy="708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5"/>
          <p:cNvSpPr/>
          <p:nvPr/>
        </p:nvSpPr>
        <p:spPr>
          <a:xfrm>
            <a:off x="464328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克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685800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扑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矩形 17" descr=""/>
          <p:cNvPicPr/>
          <p:nvPr/>
        </p:nvPicPr>
        <p:blipFill>
          <a:blip r:embed="rId3"/>
          <a:stretch/>
        </p:blipFill>
        <p:spPr>
          <a:xfrm>
            <a:off x="4786200" y="321480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8"/>
          <p:cNvSpPr/>
          <p:nvPr/>
        </p:nvSpPr>
        <p:spPr>
          <a:xfrm>
            <a:off x="450072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克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许多困难，终于来到了背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矩形 19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4"/>
          <p:cNvGrpSpPr/>
          <p:nvPr/>
        </p:nvGrpSpPr>
        <p:grpSpPr>
          <a:xfrm>
            <a:off x="428760" y="2357280"/>
            <a:ext cx="3856680" cy="3571200"/>
            <a:chOff x="428760" y="2357280"/>
            <a:chExt cx="3856680" cy="3571200"/>
          </a:xfrm>
        </p:grpSpPr>
        <p:sp>
          <p:nvSpPr>
            <p:cNvPr id="100" name="Rectangle 5"/>
            <p:cNvSpPr/>
            <p:nvPr/>
          </p:nvSpPr>
          <p:spPr>
            <a:xfrm>
              <a:off x="2357640" y="4128840"/>
              <a:ext cx="192780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28760" y="4128840"/>
              <a:ext cx="192888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2357640" y="2357280"/>
              <a:ext cx="192780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>
              <a:off x="428760" y="2357280"/>
              <a:ext cx="192888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"/>
            <p:cNvSpPr/>
            <p:nvPr/>
          </p:nvSpPr>
          <p:spPr>
            <a:xfrm>
              <a:off x="428760" y="23572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>
              <a:off x="428760" y="4128840"/>
              <a:ext cx="385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428760" y="59284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876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>
              <a:off x="2357640" y="2357280"/>
              <a:ext cx="0" cy="357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"/>
            <p:cNvSpPr/>
            <p:nvPr/>
          </p:nvSpPr>
          <p:spPr>
            <a:xfrm>
              <a:off x="428544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5"/>
          <p:cNvSpPr/>
          <p:nvPr/>
        </p:nvSpPr>
        <p:spPr>
          <a:xfrm>
            <a:off x="785880" y="2154240"/>
            <a:ext cx="3214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3399"/>
                </a:solidFill>
                <a:latin typeface="华文楷体"/>
                <a:ea typeface="华文楷体"/>
              </a:rPr>
              <a:t>坚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1643040" y="114300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矩形 1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257480" cy="7081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5"/>
          <p:cNvSpPr/>
          <p:nvPr/>
        </p:nvSpPr>
        <p:spPr>
          <a:xfrm>
            <a:off x="464328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坚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685800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坚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矩形 17" descr=""/>
          <p:cNvPicPr/>
          <p:nvPr/>
        </p:nvPicPr>
        <p:blipFill>
          <a:blip r:embed="rId3"/>
          <a:stretch/>
        </p:blipFill>
        <p:spPr>
          <a:xfrm>
            <a:off x="4786200" y="321480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8"/>
          <p:cNvSpPr/>
          <p:nvPr/>
        </p:nvSpPr>
        <p:spPr>
          <a:xfrm>
            <a:off x="450072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坚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只要努力，就可以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矩形 19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4"/>
          <p:cNvGrpSpPr/>
          <p:nvPr/>
        </p:nvGrpSpPr>
        <p:grpSpPr>
          <a:xfrm>
            <a:off x="428760" y="2357280"/>
            <a:ext cx="3856680" cy="3571200"/>
            <a:chOff x="428760" y="2357280"/>
            <a:chExt cx="3856680" cy="3571200"/>
          </a:xfrm>
        </p:grpSpPr>
        <p:sp>
          <p:nvSpPr>
            <p:cNvPr id="119" name="Rectangle 5"/>
            <p:cNvSpPr/>
            <p:nvPr/>
          </p:nvSpPr>
          <p:spPr>
            <a:xfrm>
              <a:off x="2357640" y="4128840"/>
              <a:ext cx="192780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28760" y="4128840"/>
              <a:ext cx="192888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2357640" y="2357280"/>
              <a:ext cx="192780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428760" y="2357280"/>
              <a:ext cx="192888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428760" y="23572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0"/>
            <p:cNvSpPr/>
            <p:nvPr/>
          </p:nvSpPr>
          <p:spPr>
            <a:xfrm>
              <a:off x="428760" y="4128840"/>
              <a:ext cx="385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1"/>
            <p:cNvSpPr/>
            <p:nvPr/>
          </p:nvSpPr>
          <p:spPr>
            <a:xfrm>
              <a:off x="428760" y="59284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42876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3"/>
            <p:cNvSpPr/>
            <p:nvPr/>
          </p:nvSpPr>
          <p:spPr>
            <a:xfrm>
              <a:off x="2357640" y="2357280"/>
              <a:ext cx="0" cy="357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4"/>
            <p:cNvSpPr/>
            <p:nvPr/>
          </p:nvSpPr>
          <p:spPr>
            <a:xfrm>
              <a:off x="428544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785880" y="2225520"/>
            <a:ext cx="3214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3399"/>
                </a:solidFill>
                <a:latin typeface="华文楷体"/>
                <a:ea typeface="华文楷体"/>
              </a:rPr>
              <a:t>尽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1643040" y="114300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jì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矩形 1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257480" cy="708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5"/>
          <p:cNvSpPr/>
          <p:nvPr/>
        </p:nvSpPr>
        <p:spPr>
          <a:xfrm>
            <a:off x="464328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尽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85800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尽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矩形 17" descr=""/>
          <p:cNvPicPr/>
          <p:nvPr/>
        </p:nvPicPr>
        <p:blipFill>
          <a:blip r:embed="rId3"/>
          <a:stretch/>
        </p:blipFill>
        <p:spPr>
          <a:xfrm>
            <a:off x="4786200" y="321480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8"/>
          <p:cNvSpPr/>
          <p:nvPr/>
        </p:nvSpPr>
        <p:spPr>
          <a:xfrm>
            <a:off x="450072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要我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尽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赶到操场做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矩形 19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0"/>
          <p:cNvSpPr/>
          <p:nvPr/>
        </p:nvSpPr>
        <p:spPr>
          <a:xfrm>
            <a:off x="3714840" y="6027840"/>
            <a:ext cx="157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尽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2000160" y="58420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jǐ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2"/>
          <p:cNvSpPr/>
          <p:nvPr/>
        </p:nvSpPr>
        <p:spPr>
          <a:xfrm>
            <a:off x="771120" y="6000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4"/>
          <p:cNvGrpSpPr/>
          <p:nvPr/>
        </p:nvGrpSpPr>
        <p:grpSpPr>
          <a:xfrm>
            <a:off x="428760" y="2357280"/>
            <a:ext cx="3856680" cy="3571200"/>
            <a:chOff x="428760" y="2357280"/>
            <a:chExt cx="3856680" cy="3571200"/>
          </a:xfrm>
        </p:grpSpPr>
        <p:sp>
          <p:nvSpPr>
            <p:cNvPr id="141" name="Rectangle 5"/>
            <p:cNvSpPr/>
            <p:nvPr/>
          </p:nvSpPr>
          <p:spPr>
            <a:xfrm>
              <a:off x="2357640" y="4128840"/>
              <a:ext cx="192780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28760" y="4128840"/>
              <a:ext cx="192888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2357640" y="2357280"/>
              <a:ext cx="192780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428760" y="2357280"/>
              <a:ext cx="192888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>
              <a:off x="428760" y="23572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428760" y="4128840"/>
              <a:ext cx="385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8760" y="59284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2876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>
              <a:off x="2357640" y="2357280"/>
              <a:ext cx="0" cy="357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428544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5"/>
          <p:cNvSpPr/>
          <p:nvPr/>
        </p:nvSpPr>
        <p:spPr>
          <a:xfrm>
            <a:off x="785880" y="2225520"/>
            <a:ext cx="3214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3399"/>
                </a:solidFill>
                <a:latin typeface="华文楷体"/>
                <a:ea typeface="华文楷体"/>
              </a:rPr>
              <a:t>量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1428840" y="1071720"/>
            <a:ext cx="221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矩形 1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257480" cy="708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5"/>
          <p:cNvSpPr/>
          <p:nvPr/>
        </p:nvSpPr>
        <p:spPr>
          <a:xfrm>
            <a:off x="464328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数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685800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力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矩形 17" descr=""/>
          <p:cNvPicPr/>
          <p:nvPr/>
        </p:nvPicPr>
        <p:blipFill>
          <a:blip r:embed="rId3"/>
          <a:stretch/>
        </p:blipFill>
        <p:spPr>
          <a:xfrm>
            <a:off x="4786200" y="321480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8"/>
          <p:cNvSpPr/>
          <p:nvPr/>
        </p:nvSpPr>
        <p:spPr>
          <a:xfrm>
            <a:off x="4500720" y="400068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星星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数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多，数也数不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矩形 19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  <p:sp>
        <p:nvSpPr>
          <p:cNvPr id="159" name="矩形 20"/>
          <p:cNvSpPr/>
          <p:nvPr/>
        </p:nvSpPr>
        <p:spPr>
          <a:xfrm>
            <a:off x="801000" y="5842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1"/>
          <p:cNvSpPr/>
          <p:nvPr/>
        </p:nvSpPr>
        <p:spPr>
          <a:xfrm>
            <a:off x="1785960" y="5842080"/>
            <a:ext cx="22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2"/>
          <p:cNvSpPr/>
          <p:nvPr/>
        </p:nvSpPr>
        <p:spPr>
          <a:xfrm>
            <a:off x="4143240" y="60008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测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"/>
          <p:cNvGrpSpPr/>
          <p:nvPr/>
        </p:nvGrpSpPr>
        <p:grpSpPr>
          <a:xfrm>
            <a:off x="428760" y="2357280"/>
            <a:ext cx="3856680" cy="3571200"/>
            <a:chOff x="428760" y="2357280"/>
            <a:chExt cx="3856680" cy="3571200"/>
          </a:xfrm>
        </p:grpSpPr>
        <p:sp>
          <p:nvSpPr>
            <p:cNvPr id="163" name="Rectangle 5"/>
            <p:cNvSpPr/>
            <p:nvPr/>
          </p:nvSpPr>
          <p:spPr>
            <a:xfrm>
              <a:off x="2357640" y="4128840"/>
              <a:ext cx="192780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428760" y="4128840"/>
              <a:ext cx="192888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2357640" y="2357280"/>
              <a:ext cx="192780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428760" y="2357280"/>
              <a:ext cx="192888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428760" y="23572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>
              <a:off x="428760" y="4128840"/>
              <a:ext cx="385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428760" y="59284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42876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>
              <a:off x="2357640" y="2357280"/>
              <a:ext cx="0" cy="357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"/>
            <p:cNvSpPr/>
            <p:nvPr/>
          </p:nvSpPr>
          <p:spPr>
            <a:xfrm>
              <a:off x="428544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5"/>
          <p:cNvSpPr/>
          <p:nvPr/>
        </p:nvSpPr>
        <p:spPr>
          <a:xfrm>
            <a:off x="785880" y="2154240"/>
            <a:ext cx="3214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3399"/>
                </a:solidFill>
                <a:latin typeface="华文楷体"/>
                <a:ea typeface="华文楷体"/>
              </a:rPr>
              <a:t>持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1643040" y="114300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矩形 1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257480" cy="7081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5"/>
          <p:cNvSpPr/>
          <p:nvPr/>
        </p:nvSpPr>
        <p:spPr>
          <a:xfrm>
            <a:off x="464328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主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685800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支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矩形 17" descr=""/>
          <p:cNvPicPr/>
          <p:nvPr/>
        </p:nvPicPr>
        <p:blipFill>
          <a:blip r:embed="rId3"/>
          <a:stretch/>
        </p:blipFill>
        <p:spPr>
          <a:xfrm>
            <a:off x="4786200" y="321480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8"/>
          <p:cNvSpPr/>
          <p:nvPr/>
        </p:nvSpPr>
        <p:spPr>
          <a:xfrm>
            <a:off x="450072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天的晚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矩形 19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4"/>
          <p:cNvGrpSpPr/>
          <p:nvPr/>
        </p:nvGrpSpPr>
        <p:grpSpPr>
          <a:xfrm>
            <a:off x="428760" y="2357280"/>
            <a:ext cx="3856680" cy="3571200"/>
            <a:chOff x="428760" y="2357280"/>
            <a:chExt cx="3856680" cy="3571200"/>
          </a:xfrm>
        </p:grpSpPr>
        <p:sp>
          <p:nvSpPr>
            <p:cNvPr id="182" name="Rectangle 5"/>
            <p:cNvSpPr/>
            <p:nvPr/>
          </p:nvSpPr>
          <p:spPr>
            <a:xfrm>
              <a:off x="2357640" y="4128840"/>
              <a:ext cx="192780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"/>
            <p:cNvSpPr/>
            <p:nvPr/>
          </p:nvSpPr>
          <p:spPr>
            <a:xfrm>
              <a:off x="428760" y="4128840"/>
              <a:ext cx="1928880" cy="17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2357640" y="2357280"/>
              <a:ext cx="192780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8"/>
            <p:cNvSpPr/>
            <p:nvPr/>
          </p:nvSpPr>
          <p:spPr>
            <a:xfrm>
              <a:off x="428760" y="2357280"/>
              <a:ext cx="192888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>
              <a:off x="428760" y="23572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428760" y="4128840"/>
              <a:ext cx="385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>
              <a:off x="428760" y="5928480"/>
              <a:ext cx="38566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42876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2357640" y="2357280"/>
              <a:ext cx="0" cy="357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285440" y="2357280"/>
              <a:ext cx="0" cy="3571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5"/>
          <p:cNvSpPr/>
          <p:nvPr/>
        </p:nvSpPr>
        <p:spPr>
          <a:xfrm>
            <a:off x="785880" y="2154240"/>
            <a:ext cx="3214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0" spc="-1" strike="noStrike">
                <a:solidFill>
                  <a:srgbClr val="ff3399"/>
                </a:solidFill>
                <a:latin typeface="华文楷体"/>
                <a:ea typeface="华文楷体"/>
              </a:rPr>
              <a:t>拖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1643040" y="114300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u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矩形 1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257480" cy="7081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5"/>
          <p:cNvSpPr/>
          <p:nvPr/>
        </p:nvSpPr>
        <p:spPr>
          <a:xfrm>
            <a:off x="464328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拖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6"/>
          <p:cNvSpPr/>
          <p:nvPr/>
        </p:nvSpPr>
        <p:spPr>
          <a:xfrm>
            <a:off x="6858000" y="20001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拖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矩形 17" descr=""/>
          <p:cNvPicPr/>
          <p:nvPr/>
        </p:nvPicPr>
        <p:blipFill>
          <a:blip r:embed="rId3"/>
          <a:stretch/>
        </p:blipFill>
        <p:spPr>
          <a:xfrm>
            <a:off x="4786200" y="321480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8"/>
          <p:cNvSpPr/>
          <p:nvPr/>
        </p:nvSpPr>
        <p:spPr>
          <a:xfrm>
            <a:off x="450072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天的大扫除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拖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矩形 19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2:05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57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