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4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1281-DD27-484F-8587-93E863BBDD1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7D07-195C-4839-9E32-9C395F22B0E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14AF-4883-4B95-96B5-3983FFC46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A4AA-0FBA-40AB-998B-ACE62853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2308-1AF1-413A-8918-6079D4FF7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8B4F-91C6-41FD-B8F5-24F157FC2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0458-BA00-40A7-9EA2-7C2E5C6D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8D1B-A5CA-40A9-8143-B0F3B4DF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4045-973F-4D23-A78C-6F7B303F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D7C7-A984-4A01-987D-72E0C6DF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4BF5-91AF-4EF7-9601-E85A506F4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82B0-7E40-4233-A706-C1E601B4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C142-8BCB-4873-B950-138120A2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BF3F-642D-4534-936A-110740D7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5DE4-48CE-48E8-AB68-7B0CE77E9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022400" y="1243080"/>
            <a:ext cx="691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 瓶子里的鸭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矩形 5" descr=""/>
          <p:cNvPicPr/>
          <p:nvPr/>
        </p:nvPicPr>
        <p:blipFill>
          <a:blip r:embed="rId2"/>
          <a:stretch/>
        </p:blipFill>
        <p:spPr>
          <a:xfrm>
            <a:off x="1687680" y="6095880"/>
            <a:ext cx="567180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57200" y="2562120"/>
            <a:ext cx="82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第二天，灵灵拿来一个口儿小、肚子大的玻璃瓶，把一个小梨套进瓶子里，再用细绳把瓶子拴在树枝上。每隔几天，灵灵就来到果园，看看瓶里的小梨。一天，两天，十天，二十天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梨一天天长大，成了大鸭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4419720" y="457200"/>
            <a:ext cx="3047760" cy="1676520"/>
          </a:xfrm>
          <a:prstGeom prst="cloudCallout">
            <a:avLst>
              <a:gd name="adj1" fmla="val 47342"/>
              <a:gd name="adj2" fmla="val 62217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梨子是怎样长大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6324480" y="3733920"/>
            <a:ext cx="23623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"/>
          <p:cNvSpPr/>
          <p:nvPr/>
        </p:nvSpPr>
        <p:spPr>
          <a:xfrm>
            <a:off x="457200" y="4114800"/>
            <a:ext cx="62485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2135160" y="167652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367160" y="167652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6402240" y="167652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916200" y="315432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青青的小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7056360" y="315432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大鸭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7"/>
          <p:cNvSpPr/>
          <p:nvPr/>
        </p:nvSpPr>
        <p:spPr>
          <a:xfrm>
            <a:off x="2666880" y="3429000"/>
            <a:ext cx="42674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2058840" y="44197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观察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4160880" y="44197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动脑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6326280" y="44197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动手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876240" y="1523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秋天到了，灵灵把瓶子里的鸭梨摘下来带回家。大家看了，都觉得很有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"/>
          <p:cNvSpPr/>
          <p:nvPr/>
        </p:nvSpPr>
        <p:spPr>
          <a:xfrm>
            <a:off x="3200400" y="1981080"/>
            <a:ext cx="47242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611280" y="1771560"/>
            <a:ext cx="178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　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611280" y="2743200"/>
            <a:ext cx="178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　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611280" y="3733920"/>
            <a:ext cx="178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　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2514600" y="1828800"/>
            <a:ext cx="152280" cy="2362320"/>
          </a:xfrm>
          <a:custGeom>
            <a:avLst/>
            <a:gdLst>
              <a:gd name="textAreaLeft" fmla="*/ 0 w 152280"/>
              <a:gd name="textAreaRight" fmla="*/ 55080 w 1522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3186000" y="276228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的孩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6523200" y="1771560"/>
            <a:ext cx="178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　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6523200" y="2743200"/>
            <a:ext cx="178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　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23200" y="3733920"/>
            <a:ext cx="178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　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5119560" y="276228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可爱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3"/>
          <p:cNvSpPr/>
          <p:nvPr/>
        </p:nvSpPr>
        <p:spPr>
          <a:xfrm>
            <a:off x="6369120" y="1905120"/>
            <a:ext cx="152280" cy="2209680"/>
          </a:xfrm>
          <a:custGeom>
            <a:avLst/>
            <a:gdLst>
              <a:gd name="textAreaLeft" fmla="*/ 97200 w 152280"/>
              <a:gd name="textAreaRight" fmla="*/ 152640 w 1522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712440" y="6858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填一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2522520" y="1136520"/>
            <a:ext cx="41814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灵  极  透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286000" y="743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lín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6016680" y="743040"/>
            <a:ext cx="9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ò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2627280" y="3935520"/>
            <a:ext cx="41814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  套  隔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2330280" y="3581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d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4277880" y="3505320"/>
            <a:ext cx="6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à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4191120" y="762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j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6267240" y="3505320"/>
            <a:ext cx="5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ɡ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ShockwaveFlash1" descr=""/>
          <p:cNvPicPr/>
          <p:nvPr/>
        </p:nvPicPr>
        <p:blipFill>
          <a:blip r:embed="rId2"/>
          <a:stretch/>
        </p:blipFill>
        <p:spPr>
          <a:xfrm>
            <a:off x="2438280" y="23623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13" name="ShockwaveFlash2" descr=""/>
          <p:cNvPicPr/>
          <p:nvPr/>
        </p:nvPicPr>
        <p:blipFill>
          <a:blip r:embed="rId3"/>
          <a:stretch/>
        </p:blipFill>
        <p:spPr>
          <a:xfrm>
            <a:off x="4343400" y="23623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14" name="ShockwaveFlash3" descr=""/>
          <p:cNvPicPr/>
          <p:nvPr/>
        </p:nvPicPr>
        <p:blipFill>
          <a:blip r:embed="rId4"/>
          <a:stretch/>
        </p:blipFill>
        <p:spPr>
          <a:xfrm>
            <a:off x="6248520" y="23623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15" name="ShockwaveFlash6" descr=""/>
          <p:cNvPicPr/>
          <p:nvPr/>
        </p:nvPicPr>
        <p:blipFill>
          <a:blip r:embed="rId5"/>
          <a:stretch/>
        </p:blipFill>
        <p:spPr>
          <a:xfrm>
            <a:off x="2514600" y="518148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16" name="ShockwaveFlash7" descr=""/>
          <p:cNvPicPr/>
          <p:nvPr/>
        </p:nvPicPr>
        <p:blipFill>
          <a:blip r:embed="rId6"/>
          <a:stretch/>
        </p:blipFill>
        <p:spPr>
          <a:xfrm>
            <a:off x="4419720" y="518148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17" name="ShockwaveFlash8" descr=""/>
          <p:cNvPicPr/>
          <p:nvPr/>
        </p:nvPicPr>
        <p:blipFill>
          <a:blip r:embed="rId7"/>
          <a:stretch/>
        </p:blipFill>
        <p:spPr>
          <a:xfrm>
            <a:off x="6324480" y="5181480"/>
            <a:ext cx="533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12K551311560-114J"/>
          <p:cNvPicPr/>
          <p:nvPr/>
        </p:nvPicPr>
        <p:blipFill>
          <a:blip r:embed="rId1"/>
          <a:stretch/>
        </p:blipFill>
        <p:spPr>
          <a:xfrm>
            <a:off x="4876920" y="533520"/>
            <a:ext cx="3733560" cy="2735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32101185845383562"/>
          <p:cNvPicPr/>
          <p:nvPr/>
        </p:nvPicPr>
        <p:blipFill>
          <a:blip r:embed="rId2"/>
          <a:stretch/>
        </p:blipFill>
        <p:spPr>
          <a:xfrm>
            <a:off x="380880" y="609480"/>
            <a:ext cx="4038840" cy="26924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6"/>
          <p:cNvSpPr/>
          <p:nvPr/>
        </p:nvSpPr>
        <p:spPr>
          <a:xfrm>
            <a:off x="6783480" y="60958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瓶子的水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2516272768"/>
          <p:cNvPicPr/>
          <p:nvPr/>
        </p:nvPicPr>
        <p:blipFill>
          <a:blip r:embed="rId3"/>
          <a:stretch/>
        </p:blipFill>
        <p:spPr>
          <a:xfrm>
            <a:off x="2857680" y="3657600"/>
            <a:ext cx="3427200" cy="26398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9"/>
          <p:cNvSpPr/>
          <p:nvPr/>
        </p:nvSpPr>
        <p:spPr>
          <a:xfrm>
            <a:off x="76320" y="-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参考资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3871800" y="1981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  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"/>
          <p:cNvSpPr/>
          <p:nvPr/>
        </p:nvSpPr>
        <p:spPr>
          <a:xfrm>
            <a:off x="1501920" y="3108240"/>
            <a:ext cx="63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FC7C-49FB-4C3A-9359-B3805E2F1BE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4390200" y="5715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02"/>
          <p:cNvPicPr/>
          <p:nvPr/>
        </p:nvPicPr>
        <p:blipFill>
          <a:blip r:embed="rId1"/>
          <a:stretch/>
        </p:blipFill>
        <p:spPr>
          <a:xfrm>
            <a:off x="695160" y="609480"/>
            <a:ext cx="7753680" cy="48801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导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2196360" y="5486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b7ec6b1871000ab8af513304"/>
          <p:cNvPicPr/>
          <p:nvPr/>
        </p:nvPicPr>
        <p:blipFill>
          <a:blip r:embed="rId1"/>
          <a:stretch/>
        </p:blipFill>
        <p:spPr>
          <a:xfrm>
            <a:off x="4191120" y="1981080"/>
            <a:ext cx="4419360" cy="3314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03"/>
          <p:cNvPicPr/>
          <p:nvPr/>
        </p:nvPicPr>
        <p:blipFill>
          <a:blip r:embed="rId2"/>
          <a:stretch/>
        </p:blipFill>
        <p:spPr>
          <a:xfrm>
            <a:off x="762120" y="685800"/>
            <a:ext cx="3252600" cy="44956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8"/>
          <p:cNvSpPr/>
          <p:nvPr/>
        </p:nvSpPr>
        <p:spPr>
          <a:xfrm>
            <a:off x="6509160" y="541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空瓶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9"/>
          <p:cNvSpPr/>
          <p:nvPr/>
        </p:nvSpPr>
        <p:spPr>
          <a:xfrm>
            <a:off x="5334120" y="228600"/>
            <a:ext cx="3352680" cy="1828800"/>
          </a:xfrm>
          <a:prstGeom prst="cloudCallout">
            <a:avLst>
              <a:gd name="adj1" fmla="val 47583"/>
              <a:gd name="adj2" fmla="val 61199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这个鸭梨能装进空瓶子里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6"/>
          <p:cNvSpPr/>
          <p:nvPr/>
        </p:nvSpPr>
        <p:spPr>
          <a:xfrm>
            <a:off x="2255760" y="593640"/>
            <a:ext cx="2225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瓶子里的</a:t>
            </a: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鸭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yā)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609480" y="21337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一天，灵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línɡ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灵到果园里去玩。他看见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树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hù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挂满了青青的小梨子，可爱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jí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灵灵想：如果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把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b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梨子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装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zhuānɡ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òu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光的瓶子里，它能在瓶子里长大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识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24703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第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dì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天，灵灵拿来一个口儿小、肚子大的玻璃瓶，把一个小梨套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ào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瓶子里，再用细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绳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hénɡ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瓶子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拴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huān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树枝上。每隔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ɡé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几天，灵灵就来到果园，看看瓶里的小梨。一天，两天，十天，二十天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梨一天天长大，成了大鸭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685800" y="1539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秋天到了，灵灵把瓶子里的鸭梨摘下来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带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dài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家。大家看了，都觉得很有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9"/>
          <p:cNvSpPr/>
          <p:nvPr/>
        </p:nvSpPr>
        <p:spPr>
          <a:xfrm>
            <a:off x="2163600" y="563868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3506760" y="83808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瓶子里的鸭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743040" y="2209680"/>
            <a:ext cx="765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一天，灵灵到果园里去玩。他看见树上挂满了青青的小梨子，可爱极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灵灵想：如果把小梨子装进透光的瓶子里，它能在瓶子里长大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533520" y="4419720"/>
            <a:ext cx="3352680" cy="1828800"/>
          </a:xfrm>
          <a:prstGeom prst="cloudCallout">
            <a:avLst>
              <a:gd name="adj1" fmla="val -33995"/>
              <a:gd name="adj2" fmla="val 68490"/>
            </a:avLst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鸭梨怎么会在瓶子里？怎么装进去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-228600" y="609480"/>
            <a:ext cx="3352680" cy="1828800"/>
          </a:xfrm>
          <a:prstGeom prst="cloudCallout">
            <a:avLst>
              <a:gd name="adj1" fmla="val -33995"/>
              <a:gd name="adj2" fmla="val 68490"/>
            </a:avLst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灵灵看见果园里的小梨子，有什么想法？灵灵是怎么做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593640" y="1162080"/>
            <a:ext cx="83217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　灵灵想：如果把小梨子装进透光的瓶子里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它能在瓶子里长大吗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593640" y="3809880"/>
            <a:ext cx="83217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　我想：如果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＿＿＿＿＿＿＿＿＿＿＿＿＿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＿＿＿＿＿＿＿＿＿＿＿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2135160" y="167652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4367160" y="167652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916200" y="315432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青青的小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>
            <a:off x="2666880" y="3429000"/>
            <a:ext cx="42674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2058840" y="44197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观察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4160880" y="44197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动脑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05:53:0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8:47Z</dcterms:modified>
  <cp:revision>10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