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48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ff0000"/>
                </a:solidFill>
                <a:latin typeface="楷体_GB2312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44172-1C93-4BC1-B2FF-20652CB5C6A2}" type="slidenum">
              <a:rPr b="1" lang="zh-CN" sz="1200" spc="-1" strike="noStrike">
                <a:solidFill>
                  <a:srgbClr val="ff0000"/>
                </a:solidFill>
                <a:latin typeface="楷体_GB2312"/>
              </a:rPr>
              <a:t>&lt;number&gt;</a:t>
            </a:fld>
            <a:endParaRPr b="1" lang="en-US" sz="1200" spc="-1" strike="noStrike">
              <a:solidFill>
                <a:srgbClr val="ff0000"/>
              </a:solidFill>
              <a:latin typeface="楷体_GB2312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A7EAA-4A95-4265-A2DB-2333DF6B7FD9}" type="slidenum">
              <a:rPr b="1" lang="zh-CN" sz="1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&lt;number&gt;</a:t>
            </a:fld>
            <a:endParaRPr b="1" lang="en-US" sz="1200" spc="-1" strike="noStrike">
              <a:solidFill>
                <a:srgbClr val="ff0000"/>
              </a:solidFill>
              <a:latin typeface="楷体_GB2312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FE208-7930-4C4C-91E5-068AD82E4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F4066-B5CA-4207-A653-2CE27FBC2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BC90C-1E1A-4DAD-823F-11ED6233C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5F4E7-A449-4429-AE12-E1120E14B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332BA-B158-4F17-AE2A-48C267305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001C0-158C-4642-A861-6D1C4884A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797ED-0465-44BA-A745-66125D85F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2F0B0-4D18-432F-A6CF-8BB8CD925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84C72-F3E7-458E-A5F2-A76B262AD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61EEC-66CC-4341-BB6A-FE891BEF2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750EC-B809-4C37-8144-86EEC7E5E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7F916-C507-42D9-86EA-D2BA6A29B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21331-F5F3-45E4-B365-C40D20CF3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AC96D-FD60-42CB-9107-E0064BF4A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70276-FD83-44D6-A328-27C1EC9F5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54AE6-95B1-4C47-8B3D-2AF093C52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7BAC2-66E4-4539-8F12-53C2E2CCD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A28F0-9C3A-406F-B8F4-291AB928F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5F839-03BC-4BF4-93A2-A54464227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9539F-0813-4D49-A456-0DBB12B30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F1DEC-E649-41F3-AF78-836A44862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27AF5-E559-48C8-97D3-B6FDE98A3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7F664-F34B-4392-B5AD-55CD4C654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11D6C-7867-4CA7-B88F-CEA8DBAB3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8BDF2-0E87-47CC-A5E0-4EA84C9C7B8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1" lang="en-US" sz="1400" spc="-1" strike="noStrike">
              <a:solidFill>
                <a:srgbClr val="ff0000"/>
              </a:solidFill>
              <a:latin typeface="楷体_GB2312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39910-4F29-4240-9EED-D7C9F470797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ff0000"/>
              </a:solidFill>
              <a:latin typeface="楷体_GB2312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6" descr="16七彩桥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0" name="Text Box 11" descr=""/>
          <p:cNvPicPr/>
          <p:nvPr/>
        </p:nvPicPr>
        <p:blipFill>
          <a:blip r:embed="rId2"/>
          <a:stretch/>
        </p:blipFill>
        <p:spPr>
          <a:xfrm>
            <a:off x="1619280" y="1916280"/>
            <a:ext cx="5867280" cy="1861920"/>
          </a:xfrm>
          <a:prstGeom prst="rect">
            <a:avLst/>
          </a:prstGeom>
          <a:ln w="0">
            <a:noFill/>
          </a:ln>
        </p:spPr>
      </p:pic>
      <p:sp>
        <p:nvSpPr>
          <p:cNvPr id="91" name="矩形 4"/>
          <p:cNvSpPr/>
          <p:nvPr/>
        </p:nvSpPr>
        <p:spPr>
          <a:xfrm>
            <a:off x="1972800" y="515772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http://www.eeppt.com</a:t>
            </a:r>
            <a:endParaRPr b="1" lang="en-US" sz="2400" spc="-1" strike="noStrike">
              <a:solidFill>
                <a:srgbClr val="ff0000"/>
              </a:solidFill>
              <a:latin typeface="楷体_GB2312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1" lang="en-US" sz="14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146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4C7DA-D51F-4F8B-9AE5-319F39D2658E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ff0000"/>
              </a:solidFill>
              <a:latin typeface="楷体_GB2312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Picture 7" descr="彩虹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images[30]"/>
          <p:cNvPicPr/>
          <p:nvPr/>
        </p:nvPicPr>
        <p:blipFill>
          <a:blip r:embed="rId1"/>
          <a:stretch/>
        </p:blipFill>
        <p:spPr>
          <a:xfrm>
            <a:off x="0" y="0"/>
            <a:ext cx="277164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8"/>
          <p:cNvSpPr/>
          <p:nvPr/>
        </p:nvSpPr>
        <p:spPr>
          <a:xfrm>
            <a:off x="2195640" y="1547640"/>
            <a:ext cx="640872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</a:rPr>
              <a:t>    </a:t>
            </a:r>
            <a:r>
              <a:rPr b="1" lang="en-US" sz="3600" spc="-1" strike="noStrike">
                <a:solidFill>
                  <a:srgbClr val="ff0000"/>
                </a:solidFill>
                <a:latin typeface="楷体_GB2312"/>
              </a:rPr>
              <a:t>1.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大声朗读课文，圈出本课生字新词，借助拼音多读几遍，读到自己满意为止。</a:t>
            </a:r>
            <a:endParaRPr b="1" lang="en-US" sz="3600" spc="-1" strike="noStrike">
              <a:solidFill>
                <a:srgbClr val="ff0000"/>
              </a:solidFill>
              <a:latin typeface="楷体_GB2312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1" lang="en-US" sz="3600" spc="-1" strike="noStrike">
                <a:solidFill>
                  <a:srgbClr val="ff0000"/>
                </a:solidFill>
                <a:latin typeface="楷体_GB2312"/>
              </a:rPr>
              <a:t>2.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把自己认为难认的生词读给同桌听一听，并说说自己是怎样记住它的。</a:t>
            </a:r>
            <a:endParaRPr b="1" lang="en-US" sz="3600" spc="-1" strike="noStrike">
              <a:solidFill>
                <a:srgbClr val="ff0000"/>
              </a:solidFill>
              <a:latin typeface="楷体_GB2312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1" lang="en-US" sz="3600" spc="-1" strike="noStrike">
                <a:solidFill>
                  <a:srgbClr val="ff0000"/>
                </a:solidFill>
                <a:latin typeface="楷体_GB2312"/>
              </a:rPr>
              <a:t>3.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把课文读准确、通顺。</a:t>
            </a:r>
            <a:endParaRPr b="1" lang="en-US" sz="3600" spc="-1" strike="noStrike">
              <a:solidFill>
                <a:srgbClr val="ff0000"/>
              </a:solidFill>
              <a:latin typeface="楷体_GB2312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771640" y="333000"/>
            <a:ext cx="5545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cc33"/>
                </a:solidFill>
                <a:latin typeface="Arial"/>
                <a:ea typeface="楷体_GB2312"/>
              </a:rPr>
              <a:t>阅读提示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4" descr="images[16]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331488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26920" y="475920"/>
            <a:ext cx="45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400" spc="-1" strike="noStrike">
                <a:solidFill>
                  <a:srgbClr val="ff00ff"/>
                </a:solidFill>
                <a:latin typeface="Arial"/>
                <a:ea typeface="楷体_GB2312"/>
              </a:rPr>
              <a:t>七</a:t>
            </a:r>
            <a:r>
              <a:rPr b="1" lang="zh-CN" sz="7400" spc="-1" strike="noStrike">
                <a:solidFill>
                  <a:srgbClr val="00cc00"/>
                </a:solidFill>
                <a:latin typeface="Arial"/>
                <a:ea typeface="楷体_GB2312"/>
              </a:rPr>
              <a:t>彩</a:t>
            </a:r>
            <a:r>
              <a:rPr b="1" lang="zh-CN" sz="7400" spc="-1" strike="noStrike">
                <a:solidFill>
                  <a:srgbClr val="0000ff"/>
                </a:solidFill>
                <a:latin typeface="Arial"/>
                <a:ea typeface="楷体_GB2312"/>
              </a:rPr>
              <a:t>桥</a:t>
            </a:r>
            <a:endParaRPr b="0" lang="en-US" sz="7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28760" y="2698920"/>
            <a:ext cx="7883280" cy="368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B Pinyinok-C"/>
                <a:ea typeface="GB Pinyinok-C"/>
              </a:rPr>
              <a:t>cǎi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B Pinyinok-C"/>
              </a:rPr>
              <a:t>è</a:t>
            </a:r>
            <a:r>
              <a:rPr b="0" lang="en-US" sz="3200" spc="-1" strike="noStrike">
                <a:solidFill>
                  <a:srgbClr val="000000"/>
                </a:solidFill>
                <a:latin typeface="GB Pinyinok-C"/>
                <a:ea typeface="GB Pinyinok-C"/>
              </a:rPr>
              <a:t>           q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B Pinyinok-C"/>
              </a:rPr>
              <a:t>í</a:t>
            </a:r>
            <a:r>
              <a:rPr b="0" lang="en-US" sz="3200" spc="-1" strike="noStrike">
                <a:solidFill>
                  <a:srgbClr val="000000"/>
                </a:solidFill>
                <a:latin typeface="GB Pinyinok-C"/>
                <a:ea typeface="GB Pinyinok-C"/>
              </a:rPr>
              <a:t>ng    zǐ 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B Pinyinok-C"/>
              </a:rPr>
              <a:t>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彩色      雨过天晴      仔细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B Pinyinok-C"/>
                <a:ea typeface="GB Pinyinok-C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B Pinyinok-C"/>
              </a:rPr>
              <a:t>ù</a:t>
            </a:r>
            <a:r>
              <a:rPr b="0" lang="en-US" sz="3200" spc="-1" strike="noStrike">
                <a:solidFill>
                  <a:srgbClr val="000000"/>
                </a:solidFill>
                <a:latin typeface="GB Pinyinok-C"/>
                <a:ea typeface="GB Pinyinok-C"/>
              </a:rPr>
              <a:t> 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B Pinyinok-C"/>
              </a:rPr>
              <a:t>ù</a:t>
            </a:r>
            <a:r>
              <a:rPr b="0" lang="en-US" sz="3200" spc="-1" strike="noStrike">
                <a:solidFill>
                  <a:srgbClr val="000000"/>
                </a:solidFill>
                <a:latin typeface="GB Pinyinok-C"/>
                <a:ea typeface="GB Pinyinok-C"/>
              </a:rPr>
              <a:t>    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B Pinyinok-C"/>
              </a:rPr>
              <a:t>ú</a:t>
            </a:r>
            <a:r>
              <a:rPr b="0" lang="en-US" sz="3200" spc="-1" strike="noStrike">
                <a:solidFill>
                  <a:srgbClr val="000000"/>
                </a:solidFill>
                <a:latin typeface="GB Pinyinok-C"/>
                <a:ea typeface="GB Pinyinok-C"/>
              </a:rPr>
              <a:t>n chu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  <a:ea typeface="GB Pinyinok-C"/>
              </a:rPr>
              <a:t>á</a:t>
            </a:r>
            <a:r>
              <a:rPr b="0" lang="en-US" sz="3200" spc="-1" strike="noStrike">
                <a:solidFill>
                  <a:srgbClr val="000000"/>
                </a:solidFill>
                <a:latin typeface="GB Pinyinok-C"/>
                <a:ea typeface="GB Pinyinok-C"/>
              </a:rPr>
              <a:t>n q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B Pinyinok-C"/>
              </a:rPr>
              <a:t>ì</a:t>
            </a:r>
            <a:r>
              <a:rPr b="0" lang="en-US" sz="3200" spc="-1" strike="noStrike">
                <a:solidFill>
                  <a:srgbClr val="000000"/>
                </a:solidFill>
                <a:latin typeface="GB Pinyinok-C"/>
                <a:ea typeface="GB Pinyinok-C"/>
              </a:rPr>
              <a:t> chē    h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B Pinyinok-C"/>
              </a:rPr>
              <a:t>í</a:t>
            </a:r>
            <a:r>
              <a:rPr b="0" lang="en-US" sz="3200" spc="-1" strike="noStrike">
                <a:solidFill>
                  <a:srgbClr val="000000"/>
                </a:solidFill>
                <a:latin typeface="GB Pinyinok-C"/>
                <a:ea typeface="GB Pinyinok-C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B Pinyinok-C"/>
                <a:ea typeface="GB Pinyinok-C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B Pinyinok-C"/>
                <a:ea typeface="GB Pinyinok-C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  <a:ea typeface="GB Pinyinok-C"/>
              </a:rPr>
              <a:t>á</a:t>
            </a:r>
            <a:r>
              <a:rPr b="0" lang="en-US" sz="3200" spc="-1" strike="noStrike">
                <a:solidFill>
                  <a:srgbClr val="000000"/>
                </a:solidFill>
                <a:latin typeface="GB Pinyinok-C"/>
                <a:ea typeface="GB Pinyinok-C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瀑 布      轮   船    汽 车      回  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矩形 7"/>
          <p:cNvSpPr/>
          <p:nvPr/>
        </p:nvSpPr>
        <p:spPr>
          <a:xfrm>
            <a:off x="6732720" y="2637000"/>
            <a:ext cx="734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ucai/</a:t>
            </a:r>
            <a:endParaRPr b="1" lang="en-US" sz="100" spc="-1" strike="noStrike">
              <a:solidFill>
                <a:srgbClr val="ff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tubiao/      </a:t>
            </a:r>
            <a:endParaRPr b="1" lang="en-US" sz="100" spc="-1" strike="noStrike">
              <a:solidFill>
                <a:srgbClr val="ff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powerpoint/      </a:t>
            </a:r>
            <a:endParaRPr b="1" lang="en-US" sz="100" spc="-1" strike="noStrike">
              <a:solidFill>
                <a:srgbClr val="ff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fanwen/             </a:t>
            </a:r>
            <a:endParaRPr b="1" lang="en-US" sz="100" spc="-1" strike="noStrike">
              <a:solidFill>
                <a:srgbClr val="ff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jiaoan/               </a:t>
            </a:r>
            <a:endParaRPr b="1" lang="en-US" sz="100" spc="-1" strike="noStrike">
              <a:solidFill>
                <a:srgbClr val="ff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 </a:t>
            </a:r>
            <a:endParaRPr b="1" lang="en-US" sz="100" spc="-1" strike="noStrike">
              <a:solidFill>
                <a:srgbClr val="ff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shuxue/ </a:t>
            </a:r>
            <a:endParaRPr b="1" lang="en-US" sz="100" spc="-1" strike="noStrike">
              <a:solidFill>
                <a:srgbClr val="ff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meishu/ </a:t>
            </a:r>
            <a:endParaRPr b="1" lang="en-US" sz="100" spc="-1" strike="noStrike">
              <a:solidFill>
                <a:srgbClr val="ff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wuli/ </a:t>
            </a:r>
            <a:endParaRPr b="1" lang="en-US" sz="100" spc="-1" strike="noStrike">
              <a:solidFill>
                <a:srgbClr val="ff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shengwu/ </a:t>
            </a:r>
            <a:endParaRPr b="1" lang="en-US" sz="100" spc="-1" strike="noStrike">
              <a:solidFill>
                <a:srgbClr val="ff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lishi/        </a:t>
            </a:r>
            <a:endParaRPr b="1" lang="en-US" sz="100" spc="-1" strike="noStrike">
              <a:solidFill>
                <a:srgbClr val="ff0000"/>
              </a:solidFill>
              <a:latin typeface="楷体_GB2312"/>
            </a:endParaRPr>
          </a:p>
        </p:txBody>
      </p:sp>
      <p:pic>
        <p:nvPicPr>
          <p:cNvPr id="102" name="Picture 2" descr="images[16]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331488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-1692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400" spc="-1" strike="noStrike">
                <a:solidFill>
                  <a:srgbClr val="ff00ff"/>
                </a:solidFill>
                <a:latin typeface="Arial"/>
                <a:ea typeface="楷体_GB2312"/>
              </a:rPr>
              <a:t>七</a:t>
            </a:r>
            <a:r>
              <a:rPr b="1" lang="zh-CN" sz="7400" spc="-1" strike="noStrike">
                <a:solidFill>
                  <a:srgbClr val="00cc00"/>
                </a:solidFill>
                <a:latin typeface="Arial"/>
                <a:ea typeface="楷体_GB2312"/>
              </a:rPr>
              <a:t>彩</a:t>
            </a:r>
            <a:r>
              <a:rPr b="1" lang="zh-CN" sz="7400" spc="-1" strike="noStrike">
                <a:solidFill>
                  <a:srgbClr val="0000ff"/>
                </a:solidFill>
                <a:latin typeface="Arial"/>
                <a:ea typeface="楷体_GB2312"/>
              </a:rPr>
              <a:t>桥</a:t>
            </a:r>
            <a:endParaRPr b="0" lang="en-US" sz="7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39640" y="2698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彩色      雨过天晴      仔细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瀑布       轮船       汽车        回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images[16]"/>
          <p:cNvPicPr/>
          <p:nvPr/>
        </p:nvPicPr>
        <p:blipFill>
          <a:blip r:embed="rId1"/>
          <a:stretch/>
        </p:blipFill>
        <p:spPr>
          <a:xfrm>
            <a:off x="5796000" y="0"/>
            <a:ext cx="3348000" cy="306864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-1692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400" spc="-1" strike="noStrike">
                <a:solidFill>
                  <a:srgbClr val="ff00ff"/>
                </a:solidFill>
                <a:latin typeface="Arial"/>
                <a:ea typeface="楷体_GB2312"/>
              </a:rPr>
              <a:t>七</a:t>
            </a:r>
            <a:r>
              <a:rPr b="1" lang="zh-CN" sz="7400" spc="-1" strike="noStrike">
                <a:solidFill>
                  <a:srgbClr val="00cc00"/>
                </a:solidFill>
                <a:latin typeface="Arial"/>
                <a:ea typeface="楷体_GB2312"/>
              </a:rPr>
              <a:t>彩</a:t>
            </a:r>
            <a:r>
              <a:rPr b="1" lang="zh-CN" sz="7400" spc="-1" strike="noStrike">
                <a:solidFill>
                  <a:srgbClr val="0000ff"/>
                </a:solidFill>
                <a:latin typeface="Arial"/>
                <a:ea typeface="楷体_GB2312"/>
              </a:rPr>
              <a:t>桥</a:t>
            </a:r>
            <a:endParaRPr b="0" lang="en-US" sz="7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8064360" y="3500280"/>
            <a:ext cx="1079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轮</a:t>
            </a:r>
            <a:endParaRPr b="1" lang="en-US" sz="48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108" name="Text Box 8"/>
          <p:cNvSpPr/>
          <p:nvPr/>
        </p:nvSpPr>
        <p:spPr>
          <a:xfrm>
            <a:off x="8064360" y="4653000"/>
            <a:ext cx="1079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cc33"/>
                </a:solidFill>
                <a:latin typeface="楷体_GB2312"/>
                <a:ea typeface="楷体_GB2312"/>
              </a:rPr>
              <a:t>汽</a:t>
            </a:r>
            <a:endParaRPr b="1" lang="en-US" sz="48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109" name="Text Box 9"/>
          <p:cNvSpPr/>
          <p:nvPr/>
        </p:nvSpPr>
        <p:spPr>
          <a:xfrm>
            <a:off x="8064360" y="4076640"/>
            <a:ext cx="1079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船</a:t>
            </a:r>
            <a:endParaRPr b="1" lang="en-US" sz="48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110" name="Text Box 10"/>
          <p:cNvSpPr/>
          <p:nvPr/>
        </p:nvSpPr>
        <p:spPr>
          <a:xfrm>
            <a:off x="7524720" y="5157720"/>
            <a:ext cx="1079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cc00"/>
                </a:solidFill>
                <a:latin typeface="楷体_GB2312"/>
                <a:ea typeface="楷体_GB2312"/>
              </a:rPr>
              <a:t>仔</a:t>
            </a:r>
            <a:endParaRPr b="1" lang="en-US" sz="48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111" name="Text Box 11"/>
          <p:cNvSpPr/>
          <p:nvPr/>
        </p:nvSpPr>
        <p:spPr>
          <a:xfrm>
            <a:off x="7596360" y="4581360"/>
            <a:ext cx="1079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cc00"/>
                </a:solidFill>
                <a:latin typeface="楷体_GB2312"/>
                <a:ea typeface="楷体_GB2312"/>
              </a:rPr>
              <a:t>晴</a:t>
            </a:r>
            <a:endParaRPr b="1" lang="en-US" sz="48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112" name="Text Box 14"/>
          <p:cNvSpPr/>
          <p:nvPr/>
        </p:nvSpPr>
        <p:spPr>
          <a:xfrm>
            <a:off x="7451640" y="3500280"/>
            <a:ext cx="1079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彩</a:t>
            </a:r>
            <a:endParaRPr b="1" lang="en-US" sz="48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113" name="Text Box 15"/>
          <p:cNvSpPr/>
          <p:nvPr/>
        </p:nvSpPr>
        <p:spPr>
          <a:xfrm>
            <a:off x="7380360" y="5661000"/>
            <a:ext cx="1079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细</a:t>
            </a:r>
            <a:endParaRPr b="1" lang="en-US" sz="48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114" name="Text Box 16"/>
          <p:cNvSpPr/>
          <p:nvPr/>
        </p:nvSpPr>
        <p:spPr>
          <a:xfrm>
            <a:off x="7451640" y="4005360"/>
            <a:ext cx="1079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瀑</a:t>
            </a:r>
            <a:endParaRPr b="1" lang="en-US" sz="4800" spc="-1" strike="noStrike">
              <a:solidFill>
                <a:srgbClr val="ff0000"/>
              </a:solidFill>
              <a:latin typeface="楷体_GB2312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dur="indefinite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" dur="2000" fill="hold"/>
                                        <p:tgtEl>
                                          <p:spTgt spid="11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2500"/>
                            </p:stCondLst>
                            <p:childTnLst>
                              <p:par>
                                <p:cTn id="22" dur="indefinite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764 -0.03769 -0.0151 -0.07538 -0.02708 -0.10775 C -0.03906 -0.14012 -0.05799 -0.16809 -0.07153 -0.19445 C -0.08507 -0.22081 -0.09271 -0.24462 -0.10799 -0.26636 C -0.12326 -0.28809 -0.14375 -0.31121 -0.16354 -0.32555 C -0.18333 -0.33988 -0.20694 -0.34682 -0.22708 -0.35306 C -0.24722 -0.35931 -0.2651 -0.36832 -0.2842 -0.3637 C -0.3033 -0.35907 -0.32674 -0.33549 -0.34132 -0.32555 C -0.3559 -0.31561 -0.35295 -0.31907 -0.37153 -0.30451 C -0.3901 -0.28994 -0.40955 -0.26728 -0.45243 -0.23884 C -0.49531 -0.2104 -0.57969 -0.16069 -0.62865 -0.13318 C -0.6776 -0.10566 -0.71198 -0.08994 -0.74618 -0.07399 E">
                                      <p:cBhvr>
                                        <p:cTn id="23" dur="2000" fill="hold"/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500"/>
                            </p:stCondLst>
                            <p:childTnLst>
                              <p:par>
                                <p:cTn id="30" dur="indefinite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1" dur="2000" fill="hold"/>
                                        <p:tgtEl>
                                          <p:spTgt spid="11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2500"/>
                            </p:stCondLst>
                            <p:childTnLst>
                              <p:par>
                                <p:cTn id="33" dur="indefinite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309 -0.08601 C 0.01597 -0.1133 0.00885 -0.14035 -0.01337 -0.1896 C -0.03559 -0.23885 -0.07778 -0.34151 -0.11024 -0.38197 C -0.14271 -0.42243 -0.17726 -0.42821 -0.20868 -0.43284 C -0.24011 -0.43746 -0.26337 -0.43099 -0.29913 -0.40948 C -0.3349 -0.38798 -0.38351 -0.33734 -0.42292 -0.30382 C -0.46233 -0.27029 -0.50573 -0.23422 -0.53559 -0.20879 C -0.56545 -0.18336 -0.58386 -0.16763 -0.60226 -0.15168 E">
                                      <p:cBhvr>
                                        <p:cTn id="34" dur="2000" fill="hold"/>
                                        <p:tgtEl>
                                          <p:spTgt spid="1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dur="indefinite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2" dur="2000" fill="hold"/>
                                        <p:tgtEl>
                                          <p:spTgt spid="1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2500"/>
                            </p:stCondLst>
                            <p:childTnLst>
                              <p:par>
                                <p:cTn id="44" dur="indefinite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361 -0.09596 C 0.01076 -0.16416 -0.00191 -0.23214 -0.02726 -0.29457 C -0.05261 -0.357 -0.09688 -0.43977 -0.12882 -0.47006 C -0.16077 -0.50035 -0.18542 -0.48532 -0.21927 -0.47653 C -0.25313 -0.46775 -0.29618 -0.44278 -0.33195 -0.41734 C -0.36771 -0.39191 -0.40938 -0.35399 -0.43351 -0.32416 C -0.45764 -0.29434 -0.46927 -0.25203 -0.47639 -0.23769 E">
                                      <p:cBhvr>
                                        <p:cTn id="45" dur="2000" fill="hold"/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dur="indefinite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3" dur="2000" fill="hold"/>
                                        <p:tgtEl>
                                          <p:spTgt spid="11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2500"/>
                            </p:stCondLst>
                            <p:childTnLst>
                              <p:par>
                                <p:cTn id="55" dur="indefinite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042 -0.15445 C -0.03316 -0.27723 -0.07656 -0.39977 -0.10034 -0.45549 C -0.12413 -0.51098 -0.11805 -0.48624 -0.13316 -0.48948 C -0.14791 -0.49249 -0.17309 -0.48162 -0.19114 -0.47492 C -0.20972 -0.46752 -0.22725 -0.45942 -0.24322 -0.44694 C -0.2592 -0.43468 -0.27343 -0.41318 -0.2868 -0.40023 C -0.30069 -0.38752 -0.31423 -0.3815 -0.32465 -0.37087 C -0.33454 -0.36023 -0.3434 -0.34451 -0.34739 -0.33688 C -0.35052 -0.32948 -0.3493 -0.32694 -0.34739 -0.32416 E">
                                      <p:cBhvr>
                                        <p:cTn id="56" dur="2000" fill="hold"/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dur="indefinite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4" dur="2000" fill="hold"/>
                                        <p:tgtEl>
                                          <p:spTgt spid="11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2500"/>
                            </p:stCondLst>
                            <p:childTnLst>
                              <p:par>
                                <p:cTn id="66" dur="indefinite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527 -0.31537 C 0.00781 -0.36185 0.00034 -0.40832 -0.01493 -0.43792 C -0.03021 -0.46751 -0.05886 -0.48555 -0.07691 -0.49294 C -0.09497 -0.50034 -0.10608 -0.48786 -0.12292 -0.48231 C -0.13976 -0.47676 -0.16424 -0.4719 -0.17848 -0.45896 C -0.19271 -0.44601 -0.20365 -0.41433 -0.20868 -0.40416 E">
                                      <p:cBhvr>
                                        <p:cTn id="67" dur="20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dur="indefinite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5" dur="2000" fill="hold"/>
                                        <p:tgtEl>
                                          <p:spTgt spid="10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2500"/>
                            </p:stCondLst>
                            <p:childTnLst>
                              <p:par>
                                <p:cTn id="77" dur="indefinite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-0.0511 C -0.02153 -0.09087 -0.04288 -0.1304 -0.05764 -0.15769 C -0.0724 -0.18497 -0.07778 -0.2 -0.08802 -0.21549 C -0.09827 -0.23098 -0.10469 -0.23815 -0.11979 -0.2504 C -0.13472 -0.26266 -0.15209 -0.28277 -0.17865 -0.28879 C -0.20504 -0.2948 -0.25209 -0.29433 -0.27865 -0.28717 C -0.30504 -0.27977 -0.30608 -0.26774 -0.3375 -0.24509 C -0.36893 -0.2222 -0.43403 -0.17572 -0.46771 -0.15075 C -0.50122 -0.12578 -0.5099 -0.11746 -0.53872 -0.0948 C -0.56754 -0.07191 -0.61754 -0.03676 -0.64011 -0.01457 C -0.66285 0.00786 -0.66285 0.01942 -0.67483 0.03977 C -0.68698 0.06035 -0.69983 0.08393 -0.71268 0.10798 E">
                                      <p:cBhvr>
                                        <p:cTn id="78" dur="2000" fill="hold"/>
                                        <p:tgtEl>
                                          <p:spTgt spid="1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500"/>
                            </p:stCondLst>
                            <p:childTnLst>
                              <p:par>
                                <p:cTn id="85" dur="indefinite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6" dur="2000" fill="hold"/>
                                        <p:tgtEl>
                                          <p:spTgt spid="10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500"/>
                            </p:stCondLst>
                            <p:childTnLst>
                              <p:par>
                                <p:cTn id="88" dur="indefinite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2.25434E-006 C -0.00851 -0.04855 -0.01684 -0.09734 -0.03091 -0.14243 C -0.04497 -0.18774 -0.0665 -0.24185 -0.08386 -0.27098 C -0.10122 -0.30011 -0.11945 -0.31052 -0.13542 -0.31838 C -0.15122 -0.32601 -0.1566 -0.32277 -0.17969 -0.31838 C -0.20278 -0.31399 -0.24809 -0.29919 -0.27379 -0.29271 C -0.29931 -0.28647 -0.31511 -0.29271 -0.33368 -0.28092 C -0.35209 -0.26913 -0.36893 -0.23954 -0.3849 -0.2215 C -0.4007 -0.20323 -0.41476 -0.18982 -0.42934 -0.17202 C -0.44393 -0.15445 -0.45539 -0.13757 -0.47223 -0.11491 C -0.48907 -0.09202 -0.51337 -0.05688 -0.53039 -0.0356 C -0.5474 -0.01456 -0.56546 0.00162 -0.57483 0.01179 C -0.58403 0.02197 -0.58542 0.02359 -0.58664 0.02567 E">
                                      <p:cBhvr>
                                        <p:cTn id="89" dur="2000" fill="hold"/>
                                        <p:tgtEl>
                                          <p:spTgt spid="1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500"/>
                            </p:stCondLst>
                            <p:childTnLst>
                              <p:par>
                                <p:cTn id="96" dur="indefinite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7" dur="2000" fill="hold"/>
                                        <p:tgtEl>
                                          <p:spTgt spid="10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2500"/>
                            </p:stCondLst>
                            <p:childTnLst>
                              <p:par>
                                <p:cTn id="99" dur="indefinite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243 -0.07191 C 0.00365 -0.10982 0.00504 -0.14774 0.0007 -0.17595 C -0.00364 -0.20416 -0.00642 -0.22011 -0.02309 -0.24092 C -0.03993 -0.26173 -0.07534 -0.29017 -0.09982 -0.30104 C -0.12413 -0.31167 -0.15 -0.30589 -0.16944 -0.30566 C -0.18906 -0.30566 -0.19583 -0.30936 -0.21701 -0.29942 C -0.23819 -0.28948 -0.27083 -0.26659 -0.29687 -0.24578 C -0.32291 -0.22497 -0.35416 -0.19514 -0.37343 -0.17433 C -0.39288 -0.15352 -0.3993 -0.13549 -0.4125 -0.12069 C -0.42569 -0.10566 -0.44392 -0.09341 -0.45329 -0.08485 C -0.4625 -0.07653 -0.46562 -0.07352 -0.46857 -0.07029 E">
                                      <p:cBhvr>
                                        <p:cTn id="100" dur="2000" fill="hold"/>
                                        <p:tgtEl>
                                          <p:spTgt spid="1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8" descr="彩虹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 txBox="1"/>
          <p:nvPr/>
        </p:nvSpPr>
        <p:spPr>
          <a:xfrm>
            <a:off x="395280" y="1856880"/>
            <a:ext cx="784872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认真自读课文，思考下面的问题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）课文描写的七彩桥是什么样子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）看到这样的七彩桥，作者想到了什么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395280" y="285840"/>
            <a:ext cx="547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阅读提示：</a:t>
            </a:r>
            <a:endParaRPr b="1" lang="en-US" sz="4800" spc="-1" strike="noStrike">
              <a:solidFill>
                <a:srgbClr val="ff0000"/>
              </a:solidFill>
              <a:latin typeface="楷体_GB2312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324000" y="333000"/>
            <a:ext cx="8686800" cy="61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七彩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石榴花姐姐在空中画上红色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桔子阿姨又添上橙色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向日葵姑姑添上黄色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小草妹妹添上绿色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大山爷爷添上青色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大海公公添上蓝色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葡萄姑娘添上紫色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啊，七彩桥当空架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天空更美啦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文本框 1"/>
          <p:cNvSpPr/>
          <p:nvPr/>
        </p:nvSpPr>
        <p:spPr>
          <a:xfrm>
            <a:off x="-92160" y="6280200"/>
            <a:ext cx="682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更多免费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PPT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模板下载：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http://www.eeppt.com</a:t>
            </a:r>
            <a:endParaRPr b="1" lang="en-US" sz="2400" spc="-1" strike="noStrike">
              <a:solidFill>
                <a:srgbClr val="ff0000"/>
              </a:solidFill>
              <a:latin typeface="楷体_GB2312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7" descr="彩虹04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5"/>
          <p:cNvSpPr/>
          <p:nvPr/>
        </p:nvSpPr>
        <p:spPr>
          <a:xfrm>
            <a:off x="1116000" y="1125360"/>
            <a:ext cx="1368360" cy="13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0000"/>
              </a:solidFill>
              <a:latin typeface="楷体_GB2312"/>
            </a:endParaRPr>
          </a:p>
        </p:txBody>
      </p:sp>
      <p:grpSp>
        <p:nvGrpSpPr>
          <p:cNvPr id="122" name="Group 9"/>
          <p:cNvGrpSpPr/>
          <p:nvPr/>
        </p:nvGrpSpPr>
        <p:grpSpPr>
          <a:xfrm>
            <a:off x="1187280" y="1268280"/>
            <a:ext cx="1439640" cy="1440000"/>
            <a:chOff x="1187280" y="1268280"/>
            <a:chExt cx="1439640" cy="1440000"/>
          </a:xfrm>
        </p:grpSpPr>
        <p:sp>
          <p:nvSpPr>
            <p:cNvPr id="123" name="Rectangle 6"/>
            <p:cNvSpPr/>
            <p:nvPr/>
          </p:nvSpPr>
          <p:spPr>
            <a:xfrm>
              <a:off x="1187280" y="1268280"/>
              <a:ext cx="1439640" cy="144000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800" spc="-1" strike="noStrike">
                <a:solidFill>
                  <a:srgbClr val="ff0000"/>
                </a:solidFill>
                <a:latin typeface="楷体_GB2312"/>
              </a:endParaRPr>
            </a:p>
          </p:txBody>
        </p:sp>
        <p:sp>
          <p:nvSpPr>
            <p:cNvPr id="124" name="Line 7"/>
            <p:cNvSpPr/>
            <p:nvPr/>
          </p:nvSpPr>
          <p:spPr>
            <a:xfrm>
              <a:off x="1187280" y="1989000"/>
              <a:ext cx="14396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800" spc="-1" strike="noStrike">
                <a:solidFill>
                  <a:srgbClr val="ff0000"/>
                </a:solidFill>
                <a:latin typeface="楷体_GB2312"/>
              </a:endParaRPr>
            </a:p>
          </p:txBody>
        </p:sp>
        <p:sp>
          <p:nvSpPr>
            <p:cNvPr id="125" name="Line 8"/>
            <p:cNvSpPr/>
            <p:nvPr/>
          </p:nvSpPr>
          <p:spPr>
            <a:xfrm>
              <a:off x="1906200" y="1268280"/>
              <a:ext cx="0" cy="14400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800" spc="-1" strike="noStrike">
                <a:solidFill>
                  <a:srgbClr val="ff0000"/>
                </a:solidFill>
                <a:latin typeface="楷体_GB2312"/>
              </a:endParaRPr>
            </a:p>
          </p:txBody>
        </p:sp>
      </p:grpSp>
      <p:grpSp>
        <p:nvGrpSpPr>
          <p:cNvPr id="126" name="Group 10"/>
          <p:cNvGrpSpPr/>
          <p:nvPr/>
        </p:nvGrpSpPr>
        <p:grpSpPr>
          <a:xfrm>
            <a:off x="1258920" y="3860640"/>
            <a:ext cx="1439640" cy="1440000"/>
            <a:chOff x="1258920" y="3860640"/>
            <a:chExt cx="1439640" cy="1440000"/>
          </a:xfrm>
        </p:grpSpPr>
        <p:sp>
          <p:nvSpPr>
            <p:cNvPr id="127" name="Rectangle 11"/>
            <p:cNvSpPr/>
            <p:nvPr/>
          </p:nvSpPr>
          <p:spPr>
            <a:xfrm>
              <a:off x="1258920" y="3860640"/>
              <a:ext cx="1439640" cy="144000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800" spc="-1" strike="noStrike">
                <a:solidFill>
                  <a:srgbClr val="ff0000"/>
                </a:solidFill>
                <a:latin typeface="楷体_GB2312"/>
              </a:endParaRPr>
            </a:p>
          </p:txBody>
        </p:sp>
        <p:sp>
          <p:nvSpPr>
            <p:cNvPr id="128" name="Line 12"/>
            <p:cNvSpPr/>
            <p:nvPr/>
          </p:nvSpPr>
          <p:spPr>
            <a:xfrm>
              <a:off x="1258920" y="4581360"/>
              <a:ext cx="14396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800" spc="-1" strike="noStrike">
                <a:solidFill>
                  <a:srgbClr val="ff0000"/>
                </a:solidFill>
                <a:latin typeface="楷体_GB2312"/>
              </a:endParaRPr>
            </a:p>
          </p:txBody>
        </p:sp>
        <p:sp>
          <p:nvSpPr>
            <p:cNvPr id="129" name="Line 13"/>
            <p:cNvSpPr/>
            <p:nvPr/>
          </p:nvSpPr>
          <p:spPr>
            <a:xfrm>
              <a:off x="1977840" y="3860640"/>
              <a:ext cx="0" cy="14400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800" spc="-1" strike="noStrike">
                <a:solidFill>
                  <a:srgbClr val="ff0000"/>
                </a:solidFill>
                <a:latin typeface="楷体_GB2312"/>
              </a:endParaRPr>
            </a:p>
          </p:txBody>
        </p:sp>
      </p:grpSp>
      <p:grpSp>
        <p:nvGrpSpPr>
          <p:cNvPr id="130" name="Group 14"/>
          <p:cNvGrpSpPr/>
          <p:nvPr/>
        </p:nvGrpSpPr>
        <p:grpSpPr>
          <a:xfrm>
            <a:off x="4140360" y="3860640"/>
            <a:ext cx="1439640" cy="1440000"/>
            <a:chOff x="4140360" y="3860640"/>
            <a:chExt cx="1439640" cy="1440000"/>
          </a:xfrm>
        </p:grpSpPr>
        <p:sp>
          <p:nvSpPr>
            <p:cNvPr id="131" name="Rectangle 15"/>
            <p:cNvSpPr/>
            <p:nvPr/>
          </p:nvSpPr>
          <p:spPr>
            <a:xfrm>
              <a:off x="4140360" y="3860640"/>
              <a:ext cx="1439640" cy="144000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800" spc="-1" strike="noStrike">
                <a:solidFill>
                  <a:srgbClr val="ff0000"/>
                </a:solidFill>
                <a:latin typeface="楷体_GB2312"/>
              </a:endParaRPr>
            </a:p>
          </p:txBody>
        </p:sp>
        <p:sp>
          <p:nvSpPr>
            <p:cNvPr id="132" name="Line 16"/>
            <p:cNvSpPr/>
            <p:nvPr/>
          </p:nvSpPr>
          <p:spPr>
            <a:xfrm>
              <a:off x="4140360" y="4581360"/>
              <a:ext cx="14396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800" spc="-1" strike="noStrike">
                <a:solidFill>
                  <a:srgbClr val="ff0000"/>
                </a:solidFill>
                <a:latin typeface="楷体_GB2312"/>
              </a:endParaRPr>
            </a:p>
          </p:txBody>
        </p:sp>
        <p:sp>
          <p:nvSpPr>
            <p:cNvPr id="133" name="Line 17"/>
            <p:cNvSpPr/>
            <p:nvPr/>
          </p:nvSpPr>
          <p:spPr>
            <a:xfrm>
              <a:off x="4859280" y="3860640"/>
              <a:ext cx="0" cy="14400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800" spc="-1" strike="noStrike">
                <a:solidFill>
                  <a:srgbClr val="ff0000"/>
                </a:solidFill>
                <a:latin typeface="楷体_GB2312"/>
              </a:endParaRPr>
            </a:p>
          </p:txBody>
        </p:sp>
      </p:grpSp>
      <p:grpSp>
        <p:nvGrpSpPr>
          <p:cNvPr id="134" name="Group 18"/>
          <p:cNvGrpSpPr/>
          <p:nvPr/>
        </p:nvGrpSpPr>
        <p:grpSpPr>
          <a:xfrm>
            <a:off x="4140360" y="1341360"/>
            <a:ext cx="1439640" cy="1440000"/>
            <a:chOff x="4140360" y="1341360"/>
            <a:chExt cx="1439640" cy="1440000"/>
          </a:xfrm>
        </p:grpSpPr>
        <p:sp>
          <p:nvSpPr>
            <p:cNvPr id="135" name="Rectangle 19"/>
            <p:cNvSpPr/>
            <p:nvPr/>
          </p:nvSpPr>
          <p:spPr>
            <a:xfrm>
              <a:off x="4140360" y="1341360"/>
              <a:ext cx="1439640" cy="144000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800" spc="-1" strike="noStrike">
                <a:solidFill>
                  <a:srgbClr val="ff0000"/>
                </a:solidFill>
                <a:latin typeface="楷体_GB2312"/>
              </a:endParaRPr>
            </a:p>
          </p:txBody>
        </p:sp>
        <p:sp>
          <p:nvSpPr>
            <p:cNvPr id="136" name="Line 20"/>
            <p:cNvSpPr/>
            <p:nvPr/>
          </p:nvSpPr>
          <p:spPr>
            <a:xfrm>
              <a:off x="4140360" y="2062080"/>
              <a:ext cx="14396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800" spc="-1" strike="noStrike">
                <a:solidFill>
                  <a:srgbClr val="ff0000"/>
                </a:solidFill>
                <a:latin typeface="楷体_GB2312"/>
              </a:endParaRPr>
            </a:p>
          </p:txBody>
        </p:sp>
        <p:sp>
          <p:nvSpPr>
            <p:cNvPr id="137" name="Line 21"/>
            <p:cNvSpPr/>
            <p:nvPr/>
          </p:nvSpPr>
          <p:spPr>
            <a:xfrm>
              <a:off x="4859280" y="1341360"/>
              <a:ext cx="0" cy="14400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800" spc="-1" strike="noStrike">
                <a:solidFill>
                  <a:srgbClr val="ff0000"/>
                </a:solidFill>
                <a:latin typeface="楷体_GB2312"/>
              </a:endParaRPr>
            </a:p>
          </p:txBody>
        </p:sp>
      </p:grpSp>
      <p:sp>
        <p:nvSpPr>
          <p:cNvPr id="138" name="Text Box 22"/>
          <p:cNvSpPr/>
          <p:nvPr/>
        </p:nvSpPr>
        <p:spPr>
          <a:xfrm>
            <a:off x="1187280" y="1197000"/>
            <a:ext cx="1513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布</a:t>
            </a:r>
            <a:endParaRPr b="1" lang="en-US" sz="90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139" name="Text Box 23"/>
          <p:cNvSpPr/>
          <p:nvPr/>
        </p:nvSpPr>
        <p:spPr>
          <a:xfrm>
            <a:off x="1330200" y="3789360"/>
            <a:ext cx="1513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车</a:t>
            </a:r>
            <a:endParaRPr b="1" lang="en-US" sz="90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140" name="Text Box 24"/>
          <p:cNvSpPr/>
          <p:nvPr/>
        </p:nvSpPr>
        <p:spPr>
          <a:xfrm>
            <a:off x="4211640" y="1268280"/>
            <a:ext cx="1512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从</a:t>
            </a:r>
            <a:endParaRPr b="1" lang="en-US" sz="90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141" name="Text Box 25"/>
          <p:cNvSpPr/>
          <p:nvPr/>
        </p:nvSpPr>
        <p:spPr>
          <a:xfrm>
            <a:off x="4211640" y="3789360"/>
            <a:ext cx="1512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回</a:t>
            </a:r>
            <a:endParaRPr b="1" lang="en-US" sz="90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142" name="WordArt 26"/>
          <p:cNvSpPr txBox="1"/>
          <p:nvPr/>
        </p:nvSpPr>
        <p:spPr>
          <a:xfrm rot="313800">
            <a:off x="5435640" y="476280"/>
            <a:ext cx="3651120" cy="151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Down">
              <a:avLst>
                <a:gd name="adj" fmla="val 44444"/>
              </a:avLst>
            </a:prstTxWarp>
            <a:no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把字写好看</a:t>
            </a:r>
            <a:endParaRPr b="1" i="1" lang="en-US" sz="4800" spc="1" strike="noStrike">
              <a:ln w="9360">
                <a:solidFill>
                  <a:srgbClr val="000000"/>
                </a:solidFill>
                <a:round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25T03:56:28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23:21:37Z</dcterms:modified>
  <cp:revision>25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</Properties>
</file>