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C7F8-8EFC-4CE9-98E6-B0E4904668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2B18-AA17-403D-BCD8-C1989A77E5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0791-064A-4115-9E8D-261608E7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43D-6695-4AB6-98DA-9F6F731F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A54D-0D46-4688-8F98-DE338D5E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93F-EC32-418F-9016-8C685452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A09-7FEB-4495-AD6A-10BAD1A9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91E-7634-4BE5-B84A-99FDB285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FD2-1FA2-4BC5-AE2E-326FA6F4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E38C-3102-424F-AD3F-7A3D8513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735-9A82-4E8A-95E5-1FFF3C58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4227-BFF9-49C0-9B94-843CAE68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1A37-3BC6-4582-9D92-1BE432C6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E68-B6AD-4C49-AB84-1E1B6EE0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A395-79A4-41AC-9378-9F0EEE1B9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447920" y="2057400"/>
            <a:ext cx="6172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隶书"/>
              </a:rPr>
              <a:t>七彩桥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788840" y="5867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雨过天晴，空中出现了一座彩色的桥。那是用七色的丝绸结成的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们仔细地看哪看，瞧哇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1" lang="zh-CN" sz="4800" spc="-1" strike="noStrike">
                <a:solidFill>
                  <a:srgbClr val="333399"/>
                </a:solidFill>
                <a:latin typeface="微软雅黑"/>
                <a:ea typeface="微软雅黑"/>
              </a:rPr>
              <a:t>我们多想飞到天上去，站在桥上，看看桥下的流水是不是像瀑布似的倾泻下去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045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微软雅黑"/>
                <a:ea typeface="微软雅黑"/>
              </a:rPr>
              <a:t>看看有没有轮船从下面开过，看看桥面有多宽，那里能不能让五辆汽车并排驶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到了晚上，我们要从桥上伸出手，拣几颗最明亮的星星，把它们摘下来，带回地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啊，多么奇妙的七彩桥哇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838080" y="838080"/>
            <a:ext cx="7543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认真自读课文，思考下面的问题。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85800" y="22860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）课文描写的七彩桥是什么样子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228600"/>
            <a:ext cx="8991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雨过天晴，空中出现了一座彩色的桥。那是用七色的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丝绸</a:t>
            </a: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成的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仔细地看哪看，瞧哇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7010280" y="1752480"/>
            <a:ext cx="2133720" cy="7621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轻盈飘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0" y="914400"/>
            <a:ext cx="13716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6705720" y="838080"/>
            <a:ext cx="13716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看到这样的七彩桥，作者想到了什么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5508720" y="1700280"/>
            <a:ext cx="3024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插上想象的翅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图上有谁，在干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们在想些什么，说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20100422_0831283bb245e39c007dOdFO3d2jqwik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738520" y="231840"/>
            <a:ext cx="52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多想飞到天上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1182"/>
          <p:cNvPicPr/>
          <p:nvPr/>
        </p:nvPicPr>
        <p:blipFill>
          <a:blip r:embed="rId1"/>
          <a:stretch/>
        </p:blipFill>
        <p:spPr>
          <a:xfrm>
            <a:off x="0" y="0"/>
            <a:ext cx="8858160" cy="6622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38160" y="692280"/>
            <a:ext cx="85068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 看 有 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1828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我们多想飞到天上去，站在桥上，看看桥下的流水是不是像瀑布似的倾泻下去，看看有没有轮船从下面开过，看看桥面有多宽，那里能不能让五辆汽车并排驶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8088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想象站在七彩桥上看瀑布、看轮船、看汽车时的心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85800" y="18288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到了晚上，我们要从桥上伸出手，拣几颗最明亮的星星，把它们摘下来，带回地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447920" y="5335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黑体"/>
                <a:ea typeface="黑体"/>
              </a:rPr>
              <a:t>想象站在桥上摘星星的情景，做一做动作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219320" y="53352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  <a:ea typeface="黑体"/>
              </a:rPr>
              <a:t>说一说：星星摘下来，你想用它做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457200" y="304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啊，多么奇妙的七彩桥哇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七色光之歌.mp3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1"/>
          <p:cNvSpPr/>
          <p:nvPr/>
        </p:nvSpPr>
        <p:spPr>
          <a:xfrm>
            <a:off x="2021040" y="5111640"/>
            <a:ext cx="55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12304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WordArt 4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596916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37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词语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彩虹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：当阳光照射到半空中的</a:t>
            </a:r>
            <a:r>
              <a:rPr b="0" lang="zh-CN" sz="5400" spc="-1" strike="noStrike">
                <a:solidFill>
                  <a:srgbClr val="0000ff"/>
                </a:solidFill>
                <a:latin typeface="宋体"/>
              </a:rPr>
              <a:t>雨点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，光线被折射及反射，在天空上形成七彩桥形状。</a:t>
            </a:r>
            <a:r>
              <a:rPr b="0" lang="zh-CN" sz="5400" spc="-1" strike="noStrike">
                <a:solidFill>
                  <a:srgbClr val="ff5050"/>
                </a:solidFill>
                <a:latin typeface="宋体"/>
              </a:rPr>
              <a:t>彩虹七彩颜色</a:t>
            </a:r>
            <a:r>
              <a:rPr b="0" lang="zh-CN" sz="5400" spc="-1" strike="noStrike">
                <a:solidFill>
                  <a:srgbClr val="9933ff"/>
                </a:solidFill>
                <a:latin typeface="宋体"/>
              </a:rPr>
              <a:t>，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从外至内分别为：</a:t>
            </a: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红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5400" spc="-1" strike="noStrike">
                <a:solidFill>
                  <a:srgbClr val="ff6600"/>
                </a:solidFill>
                <a:latin typeface="宋体"/>
              </a:rPr>
              <a:t>橙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5400" spc="-1" strike="noStrike">
                <a:solidFill>
                  <a:srgbClr val="ffff66"/>
                </a:solidFill>
                <a:latin typeface="宋体"/>
              </a:rPr>
              <a:t>黄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5400" spc="-1" strike="noStrike">
                <a:solidFill>
                  <a:srgbClr val="009900"/>
                </a:solidFill>
                <a:latin typeface="宋体"/>
              </a:rPr>
              <a:t>绿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5400" spc="-1" strike="noStrike">
                <a:solidFill>
                  <a:srgbClr val="003366"/>
                </a:solidFill>
                <a:latin typeface="宋体"/>
              </a:rPr>
              <a:t>青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5400" spc="-1" strike="noStrike">
                <a:solidFill>
                  <a:srgbClr val="0000cc"/>
                </a:solidFill>
                <a:latin typeface="宋体"/>
              </a:rPr>
              <a:t>蓝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5400" spc="-1" strike="noStrike">
                <a:solidFill>
                  <a:srgbClr val="9900cc"/>
                </a:solidFill>
                <a:latin typeface="宋体"/>
              </a:rPr>
              <a:t>紫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3381-5C87-44B5-A795-88C3E5C8585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5"/>
          <p:cNvSpPr/>
          <p:nvPr/>
        </p:nvSpPr>
        <p:spPr>
          <a:xfrm>
            <a:off x="2895480" y="38862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说说彩虹是什么形状的，什么时候能看到彩虹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你见过彩虹吗？什么颜色的？你看到彩虹时的心情怎样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990720" y="2286000"/>
            <a:ext cx="81532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彩 晴天 仔细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瀑布 轮船 汽车 带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66680" y="18288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è  cǎi  qíng tiān    zǐ  x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066680" y="3276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ù   bù     lún chuán qì  chē     dài  hu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533520" y="457200"/>
            <a:ext cx="7543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认真自读课文，思考下面的问题。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85800" y="228600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）课文描写的七彩桥是什么样子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）看到这样的七彩桥，作者想到了什么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55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1:31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