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F240-9D62-464D-8526-480EDAD5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F817-FF61-4F5B-9C9D-5301D234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D1D4-1D5B-4E76-8103-89E6456D0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3A8-567C-4189-AABC-44FD236F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B4F-2AF8-4577-BE7B-7FB2E3AB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189-854F-4E87-9B58-47AC827B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F0A-63FA-4519-AC8F-99C2C8FB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3C9-CD0C-4690-9E9E-FE022881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921-2916-480F-AB71-D2E68D98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494-E329-4CF3-B212-F41B3B88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1B2-34D8-4431-AE39-41F06A2B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01F-9EFF-4CF4-A182-1693190F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113-A396-4B47-A2CC-300EA85D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40A-57F2-4F99-B620-F7181923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2EF-E9FD-43CD-A10C-B71C6B05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5D0B-F41D-4A1C-82A8-09DBF5F3C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188080" y="838080"/>
            <a:ext cx="460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桥那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698480" y="6019920"/>
            <a:ext cx="567072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思考：大麦和小芹喜欢到桥那边去玩，奶奶是怎么说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奶奶说：“你们千万别到桥那边去，桥那边住着可怕的白胡子魔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ɡuǐ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ɡé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里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lánɡ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小桥唱的是魔鬼的歌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04920" y="19810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上，大麦和小芹趴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pā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窗口看星星，又听见小桥在唱：咿呀咿呀。大麦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相信奶奶的话，我想到桥那边去看看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跟你一起去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芹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9480" y="5562720"/>
            <a:ext cx="815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男生思考：大麦和小芹听了奶奶的话会怎么想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28600" y="30492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不相信奶奶说的话，要亲自去看一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0" y="30492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049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天一大早，奶奶还没有醒来，大麦和小芹就跑上了小木桥。咿呀咿呀，咿呀咿呀，小桥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é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更欢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跑过小桥，他们看到一座木头房子，一个白胡子老爷爷在屋前的园子里种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066680" y="380988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麦和小芹一大早就跑到了桥那边，他们看到了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553080" y="4495680"/>
            <a:ext cx="18288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一座木头房子和一个白胡子老爷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80988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2860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“老爷爷，听说桥这边住着白胡子魔鬼格里郎，您不害怕吗？”大麦和小芹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04920" y="16002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大麦和小芹过桥之后看到了一位陌生的老爷爷，他们要和老爷爷搭话该用什么样的语气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85800" y="327672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这句话结束的标点符号是问号，所以咱们用疑问的语气来读出来。咱们一起把大麦和小芹心底的疑问读出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0" y="167652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爷爷停下手中的活，惊奇地看着大麦和小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就是白胡子格里郎，我可不是魔鬼。我倒是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tì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担心，桥那边住着黑头发的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wū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婆格里雅，你们不怕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5105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老爷爷急忙说自己不是魔鬼，这是在为自己辩解，后半句则是关心的语气，从“担心”一词可以看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0" y="3581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问：老爷爷听了他们的话，怎么回答的呢？这段话该用什么语气来读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358128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0" y="3045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麦和小芹笑起来：“格里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yǎ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才不可怕呢， 她不是巫婆，是我们的奶奶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33520" y="2438280"/>
            <a:ext cx="7619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问：大麦和小芹听了老爷爷的话之后是什么反应呢？从文中那个词可以看出来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971800" y="3733920"/>
            <a:ext cx="2438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楷体_GB2312"/>
              </a:rPr>
              <a:t>笑起来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447920" y="495288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从这里我们可以看出大麦和小芹的话语中充满了自信和肯定，谁来读一读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28600" y="243828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143000" y="50292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来看，到目前为止，黑头发的奶奶格里雅和白胡子爷爷格里郎都没有见过面，他们彼此在对方心中都是一个什么形象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743200" y="220968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魔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28600" y="53352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这时候，黑头发奶奶格里雅追过桥来了。格里雅看见了白胡子魔鬼格里郎，格里郎也看见了黑头发巫婆格里雅。他俩你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qiáo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瞧我，我瞧瞧你，都大笑起来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来你一点儿也不可怕呀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143000" y="243828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原来你一点儿也不可怕呀”是什么语气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029200" y="304812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恍然大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24382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228600" y="373392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这个时候事情出现了变化，三四组齐读第九自然段，一二组齐读第十自然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4495680" y="5105520"/>
            <a:ext cx="426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桥那边是不是住着白胡子魔鬼格里郎和黑头发巫婆格里雅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0" y="380988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4191120" y="518148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0" y="228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此以后，大麦、小芹、格里雅、格里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jīnɡ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在桥上来来往往。咿呀咿呀，咿呀咿呀，小桥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yè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唱着欢快的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1828800"/>
            <a:ext cx="784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全班齐读一遍最后一自然段，并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思考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桥两边的人现在变得怎样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04920" y="41911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这段话、你们能感受到他们的心情吗？他们还觉得对方可怕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819520" y="312408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两边的人经常来往，解除了误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685800" y="518148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一点儿也不可怕，看、小桥两岸的人们成了朋友，大家经常在桥上来来往往。这是一件多么快乐的事情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33520" y="198108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0" y="419112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828800" y="1371600"/>
          <a:ext cx="5486400" cy="5493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  <a:gridCol w="549360"/>
                <a:gridCol w="547560"/>
                <a:gridCol w="549360"/>
                <a:gridCol w="547560"/>
                <a:gridCol w="5493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咿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咿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唱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歌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26"/>
          <p:cNvSpPr/>
          <p:nvPr/>
        </p:nvSpPr>
        <p:spPr>
          <a:xfrm>
            <a:off x="992160" y="26668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黑头发奶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6783480" y="26668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白胡子爷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541760" y="26668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143000" y="95256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拼读生字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2438280"/>
            <a:ext cx="1067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5410080" y="2819520"/>
            <a:ext cx="762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819520" y="2438280"/>
            <a:ext cx="761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麦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419720" y="2362320"/>
            <a:ext cx="761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芹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172200" y="2286000"/>
            <a:ext cx="762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90720" y="4343400"/>
            <a:ext cx="99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楷体_GB2312"/>
              </a:rPr>
              <a:t>得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590920" y="4267080"/>
            <a:ext cx="106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楷体_GB2312"/>
              </a:rPr>
              <a:t>瞧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343400" y="4187880"/>
            <a:ext cx="762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095880" y="4111560"/>
            <a:ext cx="762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夜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762120" y="182880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mě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2514600" y="175248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mà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4419720" y="175248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qí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6095880" y="167652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g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6095880" y="342576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y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4114800" y="342576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jī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2743200" y="34290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qiá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1143000" y="34290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d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1905120" y="5543640"/>
            <a:ext cx="58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分角色朗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格里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格里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麦、小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旁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起做一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103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页的练习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2597760" y="1584360"/>
            <a:ext cx="39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咿呀咿呀，小木桥（　　　　　　　）唱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585800" y="3048120"/>
            <a:ext cx="597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咿呀咿呀，小桥唱得（　　　　　　　　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017160" y="4495680"/>
            <a:ext cx="31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咿呀咿呀，小桥日夜唱着（　　　　　　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4595040" y="356544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咿呀咿呀，咿呀咿呀，小桥日夜唱着欢快的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068000" y="249876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咿呀咿呀，咿呀咿呀，小桥唱得更欢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528360" y="143208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咿呀咿呀，小木桥每天这样唱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533520" y="13716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609480" y="4191120"/>
            <a:ext cx="3581640" cy="2209680"/>
          </a:xfrm>
          <a:prstGeom prst="cloudCallout">
            <a:avLst>
              <a:gd name="adj1" fmla="val -52481"/>
              <a:gd name="adj2" fmla="val 55171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你们是这样做的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828800" y="1371600"/>
          <a:ext cx="5486400" cy="5493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  <a:gridCol w="549360"/>
                <a:gridCol w="547560"/>
                <a:gridCol w="549360"/>
                <a:gridCol w="547560"/>
                <a:gridCol w="5493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咿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咿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唱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歌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26"/>
          <p:cNvSpPr/>
          <p:nvPr/>
        </p:nvSpPr>
        <p:spPr>
          <a:xfrm>
            <a:off x="992160" y="26668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黑头发奶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6783480" y="26668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白胡子爷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4291200" y="441972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点儿也不可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9"/>
          <p:cNvSpPr/>
          <p:nvPr/>
        </p:nvSpPr>
        <p:spPr>
          <a:xfrm rot="16200000">
            <a:off x="4419360" y="1066320"/>
            <a:ext cx="304920" cy="5486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4541760" y="26668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3452760" y="533412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经常　　　来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4"/>
          <p:cNvSpPr/>
          <p:nvPr/>
        </p:nvSpPr>
        <p:spPr>
          <a:xfrm>
            <a:off x="380880" y="304920"/>
            <a:ext cx="5791320" cy="3771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什么白胡子爷爷和黑头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奶奶原来都很可怕，后来却一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儿也不可怕了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838080" y="4419720"/>
            <a:ext cx="7391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楷体_GB2312"/>
              </a:rPr>
              <a:t>耳听为虚、眼见为实，人与人之间需要沟通和交流。今后我们无论做什么事情、都不能一味地相信别人、一定要亲眼看到才能确认一件事的真相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798560" y="2438280"/>
            <a:ext cx="55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魔鬼　　芹菜　　严格　　代替　　日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798560" y="3565440"/>
            <a:ext cx="55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巫婆　　麦子　　经常　　每天　　格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2059200" y="2362320"/>
            <a:ext cx="170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麦（麦　苗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906560" y="356544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夜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640480" y="234648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芹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640480" y="3581280"/>
            <a:ext cx="162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每（　　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DE2B-ED63-4386-8809-413A85B4DD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4"/>
          <p:cNvSpPr/>
          <p:nvPr/>
        </p:nvSpPr>
        <p:spPr>
          <a:xfrm>
            <a:off x="1665360" y="11365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咿  鬼  郎  趴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1371600" y="743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5102280" y="743040"/>
            <a:ext cx="9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á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7258680" y="7621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327672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u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2522520" y="4051440"/>
            <a:ext cx="4181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  巫  雅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22096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7"/>
          <p:cNvSpPr/>
          <p:nvPr/>
        </p:nvSpPr>
        <p:spPr>
          <a:xfrm>
            <a:off x="5940360" y="365760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4114800" y="367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ShockwaveFlash1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79" name="ShockwaveFlash2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ShockwaveFlash3" descr=""/>
          <p:cNvPicPr/>
          <p:nvPr/>
        </p:nvPicPr>
        <p:blipFill>
          <a:blip r:embed="rId4"/>
          <a:stretch/>
        </p:blipFill>
        <p:spPr>
          <a:xfrm>
            <a:off x="53341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ShockwaveFlash4" descr=""/>
          <p:cNvPicPr/>
          <p:nvPr/>
        </p:nvPicPr>
        <p:blipFill>
          <a:blip r:embed="rId5"/>
          <a:stretch/>
        </p:blipFill>
        <p:spPr>
          <a:xfrm>
            <a:off x="7238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ShockwaveFlash6" descr=""/>
          <p:cNvPicPr/>
          <p:nvPr/>
        </p:nvPicPr>
        <p:blipFill>
          <a:blip r:embed="rId6"/>
          <a:stretch/>
        </p:blipFill>
        <p:spPr>
          <a:xfrm>
            <a:off x="2362320" y="52578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ShockwaveFlash7" descr=""/>
          <p:cNvPicPr/>
          <p:nvPr/>
        </p:nvPicPr>
        <p:blipFill>
          <a:blip r:embed="rId7"/>
          <a:stretch/>
        </p:blipFill>
        <p:spPr>
          <a:xfrm>
            <a:off x="4305240" y="5257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84" name="ShockwaveFlash8" descr=""/>
          <p:cNvPicPr/>
          <p:nvPr/>
        </p:nvPicPr>
        <p:blipFill>
          <a:blip r:embed="rId8"/>
          <a:stretch/>
        </p:blipFill>
        <p:spPr>
          <a:xfrm>
            <a:off x="6172200" y="52578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004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桥那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第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2"/>
          <p:cNvSpPr txBox="1"/>
          <p:nvPr/>
        </p:nvSpPr>
        <p:spPr>
          <a:xfrm>
            <a:off x="1143000" y="60948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拼读生字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438280"/>
            <a:ext cx="1067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410080" y="2819520"/>
            <a:ext cx="762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819520" y="2438280"/>
            <a:ext cx="761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麦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2362320"/>
            <a:ext cx="761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芹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172200" y="2286000"/>
            <a:ext cx="762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90720" y="4343400"/>
            <a:ext cx="99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楷体_GB2312"/>
              </a:rPr>
              <a:t>得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590920" y="4267080"/>
            <a:ext cx="106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楷体_GB2312"/>
              </a:rPr>
              <a:t>瞧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343400" y="4114800"/>
            <a:ext cx="762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6095880" y="4038480"/>
            <a:ext cx="762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夜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762120" y="1828800"/>
            <a:ext cx="121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mě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514600" y="175248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mà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419720" y="175248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qí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6095880" y="167652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g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095880" y="335268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y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114800" y="33526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jī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2743200" y="342900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qiá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1143000" y="34290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d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65360" y="11365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咿  鬼  郎  趴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371600" y="743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102280" y="743040"/>
            <a:ext cx="9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á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258680" y="7621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27672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u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522520" y="4051440"/>
            <a:ext cx="4181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  巫  雅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2096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5940360" y="365760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y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4114800" y="367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ShockwaveFlash1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ShockwaveFlash2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ShockwaveFlash3" descr=""/>
          <p:cNvPicPr/>
          <p:nvPr/>
        </p:nvPicPr>
        <p:blipFill>
          <a:blip r:embed="rId4"/>
          <a:stretch/>
        </p:blipFill>
        <p:spPr>
          <a:xfrm>
            <a:off x="53341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ShockwaveFlash4" descr=""/>
          <p:cNvPicPr/>
          <p:nvPr/>
        </p:nvPicPr>
        <p:blipFill>
          <a:blip r:embed="rId5"/>
          <a:stretch/>
        </p:blipFill>
        <p:spPr>
          <a:xfrm>
            <a:off x="72388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ShockwaveFlash6" descr=""/>
          <p:cNvPicPr/>
          <p:nvPr/>
        </p:nvPicPr>
        <p:blipFill>
          <a:blip r:embed="rId6"/>
          <a:stretch/>
        </p:blipFill>
        <p:spPr>
          <a:xfrm>
            <a:off x="2362320" y="52578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ShockwaveFlash7" descr=""/>
          <p:cNvPicPr/>
          <p:nvPr/>
        </p:nvPicPr>
        <p:blipFill>
          <a:blip r:embed="rId7"/>
          <a:stretch/>
        </p:blipFill>
        <p:spPr>
          <a:xfrm>
            <a:off x="4305240" y="5257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ShockwaveFlash8" descr=""/>
          <p:cNvPicPr/>
          <p:nvPr/>
        </p:nvPicPr>
        <p:blipFill>
          <a:blip r:embed="rId8"/>
          <a:stretch/>
        </p:blipFill>
        <p:spPr>
          <a:xfrm>
            <a:off x="6172200" y="52578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讲了一件什么事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桥两边的人因为小桥相隔互不了解，在彼此的传说中，对方都是可怕的魔鬼，当他们走过小桥，互相了解后才发现彼此原来都不可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6858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533520" y="304920"/>
            <a:ext cx="8381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村边的小河上有一座小木桥。咿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yī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呀咿呀，小木桥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měi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这样唱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523880" y="2590920"/>
            <a:ext cx="7239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咿呀咿呀”是模拟小桥发出的声音，人走在桥上，桥受到了力量的压迫就会发生“咿呀咿呀”的声响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990720" y="266688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304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mài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和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qín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喜欢到会唱歌的小桥边玩。奶奶说：“你们千万别到桥那边去，桥那边住着可怕的白胡子魔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ɡuǐ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格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ɡé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里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lánɡ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小桥唱的是魔鬼的歌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4300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女生思考：这个自然段写了什么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90720" y="5105520"/>
            <a:ext cx="723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奶奶劝阻大麦和小芹别去桥那边玩，因为桥那边有白胡子魔鬼格里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85800" y="52578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09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1:09Z</dcterms:modified>
  <cp:revision>7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