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6DF5-B8B7-458F-8241-2FAF46BBAE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F87-EB61-4B71-8AF9-CEF6DFBA51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8AF-A31C-48B2-BF5C-1410BDFF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CE6-33A3-4B08-914F-6DFECD6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797-71DC-49AB-9D39-924AFB8A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781-34B8-4990-A411-0874D577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4A7-26ED-41CC-B648-4DB000F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B18-514D-46A3-872D-F9CAD7D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08B-413C-4513-B567-D7CF664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B9F-246B-4FA6-BE57-8361F655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861-8D16-48AC-8CC0-ED0EEA7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A76-CF8C-40AD-8126-AC45C83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7C2-46F9-48EC-90EA-985FEC6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4CD-58DF-4EA6-AE15-868E369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DB37-404F-47EF-9076-33225AE30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129;%BB%A8&#892;&#428;&amp;in=21069&amp;cl=2&amp;cm=1&amp;sc=0&amp;lm=-1&amp;pn=9&amp;rn=1&amp;di=1424017492&amp;ln=2000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0&amp;tn=baiduimagedetail&amp;word=&#1129;%BB%A8&#892;&#428;&amp;in=28271&amp;cl=2&amp;cm=1&amp;sc=0&amp;lm=-1&amp;pn=8&amp;rn=1&amp;di=1413153652&amp;ln=2000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0&amp;tn=baiduimagedetail&amp;word=&#1129;%BB%A8&#892;&#428;&amp;in=30073&amp;cl=2&amp;cm=1&amp;sc=0&amp;lm=-1&amp;pn=13&amp;rn=1&amp;di=1462738052&amp;ln=2000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.baidu.com/i?ct=503316480&amp;z=0&amp;tn=baiduimagedetail&amp;word=&#1129;%BB%A8&#892;&#428;&amp;in=32316&amp;cl=2&amp;cm=1&amp;sc=0&amp;lm=-1&amp;pn=10&amp;rn=1&amp;di=1440665692&amp;ln=2000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biotrade.com/newsf/2008-10/20081010140910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.baidu.com/i?ct=503316480&amp;z=0&amp;tn=baiduimagedetail&amp;word=&#1129;%BB%A8&#892;&#428;&amp;in=27119&amp;cl=2&amp;cm=1&amp;sc=0&amp;lm=-1&amp;pn=14&amp;rn=1&amp;di=586803292&amp;ln=2000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i.baidu.com/&#20445;&#33322;&#24179;/album/item/4a9abb603f8de0c78db10d8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976320" y="2514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我是小雪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830160" y="1076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14040" y="5632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个什么句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小雪花到底会飘落到什么地方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小河里 广场上 妈妈脸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 rot="5400000">
            <a:off x="-82440" y="197496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理解句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600200" y="1371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如果我是小雪花，我要飘落到什么地方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190512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老师演妈妈，一个小朋友演小雪花，还要一些小朋友演小鱼、小虾和一些上学的学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u=56412928,2401639796&amp;fm=0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724280"/>
            <a:ext cx="1323720" cy="118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u=3538784084,3469780137&amp;fm=0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914400"/>
            <a:ext cx="1323720" cy="130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u=225396659,612875203&amp;fm=0&amp;gp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914400"/>
            <a:ext cx="1323720" cy="13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u=2700082043,2850025644&amp;fm=0&amp;gp=4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648320"/>
            <a:ext cx="1333440" cy="12477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7"/>
          <p:cNvSpPr txBox="1"/>
          <p:nvPr/>
        </p:nvSpPr>
        <p:spPr>
          <a:xfrm>
            <a:off x="3657600" y="15238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由表演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是小雪花，我会飘落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个小诗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愿飘到小树身上，做它暖和的棉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要落到森林里，看看蘑菇长出来了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4800" y="9903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升华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953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雪花是这么美丽、可爱，它把欢乐带给人间，希望小朋友也做一朵小雪花，把快乐、爱心送给他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2008101011124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828800"/>
            <a:ext cx="36385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3F79-9408-418F-8B91-52BBAA3313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36196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激发想象，培养爱心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5"/>
          <p:cNvSpPr/>
          <p:nvPr/>
        </p:nvSpPr>
        <p:spPr>
          <a:xfrm>
            <a:off x="595440" y="26668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u=2509192080,710777739&amp;fm=0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57200"/>
            <a:ext cx="2590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2"/>
          <p:cNvGrpSpPr/>
          <p:nvPr/>
        </p:nvGrpSpPr>
        <p:grpSpPr>
          <a:xfrm>
            <a:off x="380880" y="457200"/>
            <a:ext cx="8229600" cy="5562720"/>
            <a:chOff x="380880" y="457200"/>
            <a:chExt cx="8229600" cy="5562720"/>
          </a:xfrm>
        </p:grpSpPr>
        <p:pic>
          <p:nvPicPr>
            <p:cNvPr id="57" name="Picture 5" descr="u=2509192080,710777739&amp;fm=0&amp;gp=42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57200" y="53352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7" descr="u=2509192080,710777739&amp;fm=0&amp;gp=4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715000" y="457200"/>
              <a:ext cx="266688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1" descr="u=2509192080,710777739&amp;fm=0&amp;gp=4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80880" y="3276720"/>
              <a:ext cx="25909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3" descr="u=2509192080,710777739&amp;fm=0&amp;gp=4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124080" y="3276720"/>
              <a:ext cx="27432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5" descr="u=2509192080,710777739&amp;fm=0&amp;gp=42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867280" y="3200400"/>
              <a:ext cx="27432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16"/>
          <p:cNvSpPr/>
          <p:nvPr/>
        </p:nvSpPr>
        <p:spPr>
          <a:xfrm>
            <a:off x="1331280" y="1447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998160" y="144720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6741360" y="13712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1468800" y="4266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226760" y="43430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6817680" y="426672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融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203480" y="6019920"/>
            <a:ext cx="63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1981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花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15000" y="167652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486400" y="350532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61840" y="17524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后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757840" y="18288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化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4038480" y="304920"/>
            <a:ext cx="13716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46748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4a9abb603f8de0c78db10d8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502920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朋友，你们看，雪花飘飘洒洒，多美啊！请你们仔细观察，小雪花都飘落到哪些地方去了？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52280" y="611280"/>
            <a:ext cx="4364280" cy="624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4724280" y="601560"/>
            <a:ext cx="42926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8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0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