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3966-0146-4E3D-8071-D18AF9BB95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9924-1440-4D8D-9F8E-FBE6D86D79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137-AA41-4848-B381-CD9A934C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8A3-F465-49EB-A42D-D4142AF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875-BD9B-4B30-B8F5-2F065BE8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46A-5F8C-459A-A744-CF15096E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4B8-7E9D-4959-BF17-C82C393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2CE-D680-4701-ACFB-C2C7CF7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776-AF5D-49EE-BE0B-4238453B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82F-6B1D-454E-8751-644F667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BF8-5790-401C-B359-998365AC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F5E-5000-4652-A3F0-E9030E7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A88-2A92-43F7-B317-BE8A086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7F6-1E8D-4703-B289-DEA09829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4250-EFD5-4DDA-8B71-4372BD71C8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3886200"/>
            <a:ext cx="5181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舍不得这棵树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70000" y="6010200"/>
            <a:ext cx="50990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33440" y="762120"/>
            <a:ext cx="42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湘教版三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725400" y="1143000"/>
            <a:ext cx="76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果树。秋天，它捧出串串小汤匙儿，里面盛着圆圆的小粒粒。妈妈把它们摘下来，炒熟了，全家吃得香甜香甜，乐乐呵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有灵性的树。夏天，它撑开绿色的大伞，让我们在树下玩游戏，做功课；冬天，它抖落树叶，把阳光留给了大伙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1371600" y="16002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447920" y="2666880"/>
            <a:ext cx="2819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57200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捧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5334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19720" y="3952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汤匙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238880" y="3952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6400800" y="4343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86728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2286000" y="1371600"/>
            <a:ext cx="6248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685800" y="18288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28600" y="2819520"/>
            <a:ext cx="3429000" cy="2057400"/>
          </a:xfrm>
          <a:prstGeom prst="cloudCallout">
            <a:avLst>
              <a:gd name="adj1" fmla="val -49537"/>
              <a:gd name="adj2" fmla="val 6373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把梧桐树当做了家庭成员，说家里有四口人，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9440" y="228600"/>
            <a:ext cx="78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些年来，虽然我没给梧桐浇过水，施过肥，但它给我们的，却是那么好，那么多。我们家和它分不开了。我常常觉得，家里有四口：爸爸、妈妈和我，还有这棵梧桐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梧桐树啊，虽然我不能把你带走，但我会常常想你的，因为你活在我的心里了。我也要长成一棵树，一棵会走路的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2666880" y="9907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作者说家里有四口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12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 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天天看到，和它朝夕相处，就好像是家中的一员了。难怪我们一家和它分不开了。难怪“我”把它也看做了家中的一员，觉得家里有四个人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未标题-1"/>
          <p:cNvPicPr/>
          <p:nvPr/>
        </p:nvPicPr>
        <p:blipFill>
          <a:blip r:embed="rId1"/>
          <a:stretch/>
        </p:blipFill>
        <p:spPr>
          <a:xfrm>
            <a:off x="-299880" y="-833400"/>
            <a:ext cx="10244160" cy="76788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367160" y="7621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01840" y="182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564160" y="182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897280" y="304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488200" y="3124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灵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367160" y="3809880"/>
            <a:ext cx="409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914400" y="1447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4760"/>
              <a:gd name="textAreaBottom" fmla="*/ 1855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482920" y="1371600"/>
            <a:ext cx="93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也要长成一棵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16000" y="2895480"/>
            <a:ext cx="13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也要长成一棵树，一棵会走路的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80880" y="533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472428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09480" y="4267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宋体"/>
              </a:rPr>
              <a:t>     </a:t>
            </a:r>
            <a:r>
              <a:rPr b="0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句话实际上是讲作者要像这棵梧桐树那样，做一个给人们带来好处，不求回报，默默奉献的人。</a:t>
            </a:r>
            <a:r>
              <a:rPr b="0" lang="zh-CN" sz="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0200" y="164772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在我们的身边找找，都有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些人也是像梧桐树这样不求回报，默默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献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446560" y="4022640"/>
            <a:ext cx="31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想对这些人们说些什么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124000" y="5334120"/>
            <a:ext cx="58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89ED-1A68-48C2-960F-ECAAC45C0C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搬家了，我最舍不得的，是门前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普通的树。它没有樟树那样高大，没有桃树那样娇艳，也没有银杏树那样古老，普通得只有一个普通的名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鸟树。每天，那些叫得出名字和叫不出名字的鸟儿，总爱站到它身上，唱个没完，有了它，就有听不完的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花树。到了花开季节，那黄绿色的花儿挂满枝头，淡淡的清香，灌满了我家小屋，染香了家里的每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这棵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457200" y="0"/>
            <a:ext cx="2666880" cy="1371600"/>
          </a:xfrm>
          <a:prstGeom prst="cloudCallout">
            <a:avLst>
              <a:gd name="adj1" fmla="val -47023"/>
              <a:gd name="adj2" fmla="val 6620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是一棵怎样的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762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0"/>
          <p:cNvSpPr/>
          <p:nvPr/>
        </p:nvSpPr>
        <p:spPr>
          <a:xfrm>
            <a:off x="3040200" y="403848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未标题-1"/>
          <p:cNvPicPr/>
          <p:nvPr/>
        </p:nvPicPr>
        <p:blipFill>
          <a:blip r:embed="rId1"/>
          <a:stretch/>
        </p:blipFill>
        <p:spPr>
          <a:xfrm>
            <a:off x="-299880" y="-833400"/>
            <a:ext cx="10244160" cy="7678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367160" y="7621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01840" y="18288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564160" y="18590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897280" y="304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48820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灵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搬家了，我最舍不得的，是门前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普通的树。它没有樟树那样高大，没有桃树那样娇艳，也没有银杏树那样古老，普通得只有一个普通的名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鸟树。每天，那些叫得出名字和叫不出名字的鸟儿，总爱站到它身上，唱个没完，有了它，就有听不完的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花树。到了花开季节，那黄绿色的花儿挂满枝头，淡淡的清香，灌满了我家小屋，染香了家里的每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这棵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066680" y="21337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066680" y="32767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1295280" y="43434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762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25400" y="1143000"/>
            <a:ext cx="76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果树。秋天，它捧出串串小汤匙儿，里面盛着圆圆的小粒粒。妈妈把它们摘下来，炒熟了，全家吃得香甜香甜，乐乐呵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棵有灵性的树。夏天，它撑开绿色的大伞，让我们在树下玩游戏，做功课；冬天，它抖落树叶，把阳光留给了大伙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1371600" y="16002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447920" y="2666880"/>
            <a:ext cx="2819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320" y="183672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在一个自然段开头有一句概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这段大意的句子，叫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总起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，也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中心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要搬家了，我最舍不得的，是门前这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普通的树。它没有樟树那样高大，没有桃树那样娇艳，也没有银杏树那样古老，普通得只有一个普通的名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梧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鸟树。每天，那些叫得出名字和叫不出名字的鸟儿，总爱站到它身上，唱个没完，有了它，就有听不完的音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是一棵花树。到了花开季节，那黄绿色的花儿挂满枝头，淡淡的清香，灌满了我家小屋，染香了家里的每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795840" y="3650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不得这棵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213372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066680" y="32767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1143000" y="39625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7620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1300001010468128904650184660"/>
          <p:cNvPicPr/>
          <p:nvPr/>
        </p:nvPicPr>
        <p:blipFill>
          <a:blip r:embed="rId1"/>
          <a:stretch/>
        </p:blipFill>
        <p:spPr>
          <a:xfrm>
            <a:off x="0" y="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08000" y="1890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樟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-254160" y="1879560"/>
            <a:ext cx="22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高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457331_185655246000_2"/>
          <p:cNvPicPr/>
          <p:nvPr/>
        </p:nvPicPr>
        <p:blipFill>
          <a:blip r:embed="rId2"/>
          <a:stretch/>
        </p:blipFill>
        <p:spPr>
          <a:xfrm>
            <a:off x="4645080" y="1440"/>
            <a:ext cx="4464000" cy="335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500720" y="26028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桃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00720" y="2276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华文行楷"/>
              </a:rPr>
              <a:t>娇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36"/>
          <p:cNvPicPr/>
          <p:nvPr/>
        </p:nvPicPr>
        <p:blipFill>
          <a:blip r:embed="rId3"/>
          <a:stretch/>
        </p:blipFill>
        <p:spPr>
          <a:xfrm>
            <a:off x="1440" y="3359160"/>
            <a:ext cx="4499280" cy="3483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52360" y="3645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银杏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52360" y="451008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古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0907201415de2a944783a12c32"/>
          <p:cNvPicPr/>
          <p:nvPr/>
        </p:nvPicPr>
        <p:blipFill>
          <a:blip r:embed="rId4"/>
          <a:stretch/>
        </p:blipFill>
        <p:spPr>
          <a:xfrm>
            <a:off x="4502160" y="3357720"/>
            <a:ext cx="4667400" cy="35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4645080" y="342900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梧桐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933800" y="4294080"/>
            <a:ext cx="20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华文行楷"/>
              </a:rPr>
              <a:t>普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33800" y="4608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开动脑筋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用这个句式造句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133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比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没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3809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没有张明那样内向，没有李华那样害羞，也没有赵军那样暴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家里没有游泳池，没有葡萄树，也没有后花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4:12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19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