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gif" ContentType="image/gi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93D8-BD99-42C3-B7A9-0930304793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142A-4DBE-4848-A693-C9D5B84B51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EDE-264F-4FAD-AA1B-5DD4AAF8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B56-E977-4445-B88A-0E75D73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9D4-6055-494F-980F-2E1F13DF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9A3-E755-4564-B79A-58958B59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368-0AC7-407E-B092-2F2BB7E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C1A-A778-4AEF-934F-BADD750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25C-6976-4046-922D-68CAF3AA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17F-2413-4B9A-92D3-81429975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8D2-5D25-4A47-A03D-90DE03C5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318-6DCE-4CA1-BE7A-9A19E9FB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487-D028-4443-B99E-8CFE607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4DD-7213-459B-81F8-1B222CC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600-09B7-409D-B57F-F611EB0CA9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12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中宋"/>
                <a:ea typeface="华文中宋"/>
              </a:rPr>
              <a:t>书本里的蚂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16502" r="0" b="8257"/>
          <a:stretch/>
        </p:blipFill>
        <p:spPr>
          <a:xfrm>
            <a:off x="774720" y="3213000"/>
            <a:ext cx="7561080" cy="2748240"/>
          </a:xfrm>
          <a:prstGeom prst="rect">
            <a:avLst/>
          </a:prstGeom>
          <a:ln w="0">
            <a:noFill/>
          </a:ln>
        </p:spPr>
      </p:pic>
      <p:sp>
        <p:nvSpPr>
          <p:cNvPr id="50" name="矩形 3"/>
          <p:cNvSpPr/>
          <p:nvPr/>
        </p:nvSpPr>
        <p:spPr>
          <a:xfrm>
            <a:off x="1820520" y="61149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1859c"/>
                </a:solidFill>
                <a:latin typeface="Calibri"/>
              </a:rPr>
              <a:t>问题探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41320" y="2176560"/>
            <a:ext cx="7561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老的墙角边，一朵红色的小花在风里轻轻地唱着歌。一直嘿嘿的小蚂蚁，静静地趴在花蕊里睡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姑娘经过这儿，采下这朵花，随手夹进了一本陈旧的书里，小蚂蚁当然也进了书本，被夹成了一只扁扁的蚂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514840" y="2685960"/>
            <a:ext cx="3629160" cy="4172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539640" y="1806480"/>
            <a:ext cx="4537080" cy="1556280"/>
          </a:xfrm>
          <a:prstGeom prst="rect">
            <a:avLst/>
          </a:prstGeom>
          <a:solidFill>
            <a:srgbClr val="eeece1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孩采花，放进书本里，做成了书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是我们在生活中还是应该爱护花草树木，不能随意采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116000" y="170028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姑娘再一次打开许久未看的故事书时，发现这些故事都变得不一样了。你知道发生什么了吗？这些变化是怎么发生的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971640" y="1916280"/>
            <a:ext cx="6913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蚂蚁住进书本里之后，每天都在自由行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小蚂蚁的启示下，密密麻麻的文字们也开始自由活动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大家的行动下，故事书每天呈现出不一样的面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五边形 3"/>
          <p:cNvSpPr/>
          <p:nvPr/>
        </p:nvSpPr>
        <p:spPr>
          <a:xfrm>
            <a:off x="684360" y="1341360"/>
            <a:ext cx="5327640" cy="792360"/>
          </a:xfrm>
          <a:custGeom>
            <a:avLst/>
            <a:gdLst>
              <a:gd name="textAreaLeft" fmla="*/ 0 w 5327640"/>
              <a:gd name="textAreaRight" fmla="*/ 5328000 w 5327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5" y="0"/>
                </a:lnTo>
                <a:lnTo>
                  <a:pt x="21600" y="10800"/>
                </a:lnTo>
                <a:lnTo>
                  <a:pt x="199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拥有不同故事的故事书的秘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116000" y="2565360"/>
            <a:ext cx="6048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完这篇课文后，你知道这本故事书为什么总能呈现出不同的故事了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仔细阅读课文，将这个故事讲给你的家人朋友听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164360" y="3933720"/>
            <a:ext cx="1590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3735"/>
                </a:solidFill>
                <a:latin typeface="Calibri"/>
              </a:rPr>
              <a:t>课外拓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403280" y="2276640"/>
            <a:ext cx="6624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喜欢小蚂蚁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觉得小蚂蚁是个怎样的小动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下观察蚂蚁，将你的发现与同学们分享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4" descr=""/>
          <p:cNvPicPr/>
          <p:nvPr/>
        </p:nvPicPr>
        <p:blipFill>
          <a:blip r:embed="rId1"/>
          <a:stretch/>
        </p:blipFill>
        <p:spPr>
          <a:xfrm>
            <a:off x="5435640" y="428148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594-FE25-4F8E-B611-E0F67E4614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04a7b"/>
                </a:solidFill>
                <a:latin typeface="Calibri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243080" y="242100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掌握课文中重点字词，会读会写会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了解文中的故事情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会作者的思想感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76092"/>
                </a:solidFill>
                <a:latin typeface="Calibri"/>
              </a:rPr>
              <a:t>生字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3876480" cy="379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724040" y="2908440"/>
            <a:ext cx="3660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Calibri"/>
              </a:rPr>
              <a:t>蕊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17880" y="206064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ru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084720" y="2997360"/>
            <a:ext cx="223236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花  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227640" y="466236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蕊  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1162080" y="2011320"/>
            <a:ext cx="3876480" cy="379116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554120" y="2138400"/>
            <a:ext cx="3660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Calibri"/>
              </a:rPr>
              <a:t>陈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947960" y="12906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ché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913360" y="2227320"/>
            <a:ext cx="22338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陈  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6058080" y="389268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陈  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1303200" y="2011320"/>
            <a:ext cx="3876840" cy="3791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695600" y="2138400"/>
            <a:ext cx="36604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Calibri"/>
              </a:rPr>
              <a:t>细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089080" y="129060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x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054840" y="222732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细  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6199200" y="389268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细  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1481040" y="1773360"/>
            <a:ext cx="387684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873080" y="1900080"/>
            <a:ext cx="3660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Calibri"/>
              </a:rPr>
              <a:t>封</a:t>
            </a:r>
            <a:endParaRPr b="0" lang="en-US" sz="2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268360" y="105264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fē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234120" y="198900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封  面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6378480" y="3654360"/>
            <a:ext cx="2232000" cy="764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封  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1284120" y="6364440"/>
            <a:ext cx="55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6"/>
          <p:cNvSpPr/>
          <p:nvPr/>
        </p:nvSpPr>
        <p:spPr>
          <a:xfrm>
            <a:off x="3348000" y="4653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3735"/>
                </a:solidFill>
                <a:latin typeface="Calibri"/>
              </a:rPr>
              <a:t>课文脉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258920" y="2374920"/>
            <a:ext cx="6626160" cy="733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位小姑娘采下墙角的花放进书本里，花蕊里的小蚂蚁也被放了进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290600" y="4437000"/>
            <a:ext cx="6624720" cy="733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蚂蚁在书本里和密密麻麻的文字们交上了朋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257480" y="1557360"/>
            <a:ext cx="6624360" cy="733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蚂蚁在书本里自己行动，成了一个会走路的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363680" y="3500280"/>
            <a:ext cx="6624720" cy="733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姑娘无意间打开书本，发现了这本书和原来不一样了，她如饥似渴的读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257480" y="1557360"/>
            <a:ext cx="6624360" cy="733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姑娘碰到小蚂蚁，和小蚂蚁的交流让她发现了这本故事书的秘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云形标注 4"/>
          <p:cNvSpPr/>
          <p:nvPr/>
        </p:nvSpPr>
        <p:spPr>
          <a:xfrm>
            <a:off x="3635280" y="3429000"/>
            <a:ext cx="4753080" cy="2879640"/>
          </a:xfrm>
          <a:prstGeom prst="cloudCallout">
            <a:avLst>
              <a:gd name="adj1" fmla="val -75500"/>
              <a:gd name="adj2" fmla="val 27226"/>
            </a:avLst>
          </a:pr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，学习完这篇课文，你发现这个秘密了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5" descr=""/>
          <p:cNvPicPr/>
          <p:nvPr/>
        </p:nvPicPr>
        <p:blipFill>
          <a:blip r:embed="rId1"/>
          <a:stretch/>
        </p:blipFill>
        <p:spPr>
          <a:xfrm>
            <a:off x="250920" y="4335480"/>
            <a:ext cx="2340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0:2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3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