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04CC-7E8D-4123-8794-196DE480D3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A4EE-CBA3-4606-A343-9882C035CF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67C-D4DC-4369-8051-FBE36AFA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B27-3DDE-4F43-8279-8058AB2B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256-B6E3-4453-B228-C2E24935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949-EE33-4C52-80A1-B1FE38C4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3B9-06CD-43A6-A214-8C86F461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9BA-08F4-44DA-B343-7A2927D2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08B-47DA-4B95-BFE9-46839D21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E1B-0B58-49D6-8DE0-2FA96D8C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691-2514-4FC6-8DB4-0E76B48E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E12-3418-458E-B041-D3912D7D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8363-9C57-45AE-A24B-049802EE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DC1-9355-4FB5-A9A8-913582A8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B289-E370-4024-B606-89A57CE06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雨 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  </a:t>
            </a: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从哪里来</a:t>
            </a: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82700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0" y="2492280"/>
            <a:ext cx="914400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狐狸说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告诉你们吧，水变成水汽，飞到天上去了，水汽变成云，云变成雨点儿，又落下来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大家想，雨会下完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15"/>
          <p:cNvGrpSpPr/>
          <p:nvPr/>
        </p:nvGrpSpPr>
        <p:grpSpPr>
          <a:xfrm>
            <a:off x="1175760" y="260280"/>
            <a:ext cx="6210720" cy="4374360"/>
            <a:chOff x="1175760" y="260280"/>
            <a:chExt cx="6210720" cy="4374360"/>
          </a:xfrm>
        </p:grpSpPr>
        <p:sp>
          <p:nvSpPr>
            <p:cNvPr id="73" name="Text Box 5"/>
            <p:cNvSpPr/>
            <p:nvPr/>
          </p:nvSpPr>
          <p:spPr>
            <a:xfrm>
              <a:off x="4062960" y="26028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云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6"/>
            <p:cNvSpPr/>
            <p:nvPr/>
          </p:nvSpPr>
          <p:spPr>
            <a:xfrm>
              <a:off x="6516360" y="2205000"/>
              <a:ext cx="87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雨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7"/>
            <p:cNvSpPr/>
            <p:nvPr/>
          </p:nvSpPr>
          <p:spPr>
            <a:xfrm>
              <a:off x="1175760" y="19890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水汽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8"/>
            <p:cNvSpPr/>
            <p:nvPr/>
          </p:nvSpPr>
          <p:spPr>
            <a:xfrm>
              <a:off x="3846960" y="371772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水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 flipV="1">
              <a:off x="2195280" y="1125000"/>
              <a:ext cx="1656000" cy="9558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>
              <a:off x="4859280" y="1125360"/>
              <a:ext cx="1800000" cy="1039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>
              <a:off x="4932000" y="3357360"/>
              <a:ext cx="1871640" cy="10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 flipH="1" flipV="1">
              <a:off x="1907640" y="3336840"/>
              <a:ext cx="1655640" cy="955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6"/>
          <p:cNvSpPr/>
          <p:nvPr/>
        </p:nvSpPr>
        <p:spPr>
          <a:xfrm>
            <a:off x="2833560" y="508464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雨是下不完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149200" y="1989000"/>
            <a:ext cx="45392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喜欢课文中的谁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468360" y="189000"/>
            <a:ext cx="2879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请你思考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1996920" y="4822920"/>
            <a:ext cx="56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862200" y="189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组词我最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0"/>
          <p:cNvGrpSpPr/>
          <p:nvPr/>
        </p:nvGrpSpPr>
        <p:grpSpPr>
          <a:xfrm>
            <a:off x="250920" y="1628640"/>
            <a:ext cx="7963560" cy="2837160"/>
            <a:chOff x="250920" y="1628640"/>
            <a:chExt cx="7963560" cy="2837160"/>
          </a:xfrm>
        </p:grpSpPr>
        <p:sp>
          <p:nvSpPr>
            <p:cNvPr id="89" name="Text Box 5"/>
            <p:cNvSpPr/>
            <p:nvPr/>
          </p:nvSpPr>
          <p:spPr>
            <a:xfrm>
              <a:off x="929160" y="1628640"/>
              <a:ext cx="72853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呆（          ）                       然（       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杏（          ）                       燃（         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身（          ）                       岸（       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射（          ）                       岩（       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6"/>
            <p:cNvSpPr/>
            <p:nvPr/>
          </p:nvSpPr>
          <p:spPr>
            <a:xfrm>
              <a:off x="250920" y="1773360"/>
              <a:ext cx="475920" cy="865080"/>
            </a:xfrm>
            <a:custGeom>
              <a:avLst/>
              <a:gdLst>
                <a:gd name="textAreaLeft" fmla="*/ 304200 w 475920"/>
                <a:gd name="textAreaRight" fmla="*/ 476280 w 47592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7"/>
            <p:cNvSpPr/>
            <p:nvPr/>
          </p:nvSpPr>
          <p:spPr>
            <a:xfrm>
              <a:off x="250920" y="3500280"/>
              <a:ext cx="475920" cy="865440"/>
            </a:xfrm>
            <a:custGeom>
              <a:avLst/>
              <a:gdLst>
                <a:gd name="textAreaLeft" fmla="*/ 304200 w 475920"/>
                <a:gd name="textAreaRight" fmla="*/ 476280 w 475920"/>
                <a:gd name="textAreaTop" fmla="*/ 22320 h 865440"/>
                <a:gd name="textAreaBottom" fmla="*/ 843120 h 8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8"/>
            <p:cNvSpPr/>
            <p:nvPr/>
          </p:nvSpPr>
          <p:spPr>
            <a:xfrm>
              <a:off x="5686200" y="1844640"/>
              <a:ext cx="475920" cy="865080"/>
            </a:xfrm>
            <a:custGeom>
              <a:avLst/>
              <a:gdLst>
                <a:gd name="textAreaLeft" fmla="*/ 304200 w 475920"/>
                <a:gd name="textAreaRight" fmla="*/ 476280 w 47592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9"/>
            <p:cNvSpPr/>
            <p:nvPr/>
          </p:nvSpPr>
          <p:spPr>
            <a:xfrm>
              <a:off x="5759280" y="3500280"/>
              <a:ext cx="475920" cy="865440"/>
            </a:xfrm>
            <a:custGeom>
              <a:avLst/>
              <a:gdLst>
                <a:gd name="textAreaLeft" fmla="*/ 304200 w 475920"/>
                <a:gd name="textAreaRight" fmla="*/ 476280 w 475920"/>
                <a:gd name="textAreaTop" fmla="*/ 22320 h 865440"/>
                <a:gd name="textAreaBottom" fmla="*/ 843120 h 8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2340000" y="2349360"/>
            <a:ext cx="381636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DF9A-91CD-4422-B764-544E5901501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74"/>
          <p:cNvPicPr/>
          <p:nvPr/>
        </p:nvPicPr>
        <p:blipFill>
          <a:blip r:embed="rId1"/>
          <a:stretch/>
        </p:blipFill>
        <p:spPr>
          <a:xfrm>
            <a:off x="0" y="0"/>
            <a:ext cx="9144000" cy="70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6"/>
          <p:cNvSpPr/>
          <p:nvPr/>
        </p:nvSpPr>
        <p:spPr>
          <a:xfrm>
            <a:off x="1763640" y="2781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07640" y="1844640"/>
            <a:ext cx="90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  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顿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忽  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岸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上     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身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湿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透      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呆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住    来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250920" y="0"/>
            <a:ext cx="2781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学习字词</a:t>
            </a:r>
            <a:endParaRPr b="1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971640" y="1268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ùn        hū    rán      àn             shē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7160" y="3860640"/>
            <a:ext cx="628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ī               dāi                 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91520" cy="32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熊    呢    嘛    呗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狐 狸      咕 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183040" y="716040"/>
            <a:ext cx="547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ióng     ne      mɑ   be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99920" y="2997360"/>
            <a:ext cx="44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ú   lí        gū dō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539640" y="620640"/>
            <a:ext cx="557208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学习课文、思考问题</a:t>
            </a:r>
            <a:endParaRPr b="0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50920" y="194544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小动物们在寻找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小动物们找到答案了吗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是谁用什么方法告诉大家答案的？从文中找出相关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7:37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5:24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NXTAG2">
    <vt:lpwstr>0008004004000000000001024120</vt:lpwstr>
  </property>
</Properties>
</file>