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E2D-F9BF-4A0D-BD00-0D96366C09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4399-739D-48F3-A966-BA0E12A1F7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67E-A6AA-42DB-B2C0-73FCF3F7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BB1-DE2F-451A-8BB6-38C65D4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667-6323-4AB4-808D-F3139599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372-70A0-449E-989C-F8D661F9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77DD-F0CE-4977-8EE4-A0426E32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35FB-3A46-43ED-A1D3-FC89F357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D42-1873-4DAB-A0F6-6A0265D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04ED-4B18-4261-9666-1BA2E28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F91-CB40-4F5B-AB64-20DF8D7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4612-BC99-47DD-B680-FB353266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10F-2722-4E50-BFDB-C277D7C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2BC-019B-467A-902B-4DA0E162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60E-F1EB-41AF-B2A8-9F0775E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4B40-91AA-4B94-9535-59D1A4F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423-D092-49F6-B689-6C9C7673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43F-BA46-4CD2-A53D-6DF7AA10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1EF-A1BD-4D4F-9BA1-856304DF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216-A6EE-43C2-8ADA-F2B4D6C6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4A2-4ACB-46D4-BB0F-A510EB29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8F0-DEA0-4C65-BF3F-B44F0B7E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127-1C44-4ED0-A7F3-18E033D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9A2-0ACD-4CCB-B296-8AC4FC9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7CD-D1A8-4214-890C-67BB01A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D97-A183-4F22-9BFF-1B14EE3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C9B2-3557-459E-A051-00CB4A960C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60B-108A-4A6B-80DD-CCB13FCC1B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课诗的材料课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38200" y="773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诗的材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716360" y="5877000"/>
            <a:ext cx="42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827000" y="614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247840" y="1905120"/>
            <a:ext cx="46483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247840" y="1905120"/>
            <a:ext cx="46483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65820_114918038_2[1]"/>
          <p:cNvPicPr/>
          <p:nvPr/>
        </p:nvPicPr>
        <p:blipFill>
          <a:blip r:embed="rId1"/>
          <a:stretch/>
        </p:blipFill>
        <p:spPr>
          <a:xfrm>
            <a:off x="0" y="1052640"/>
            <a:ext cx="5940360" cy="544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508720" y="1989000"/>
            <a:ext cx="3132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大自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978560" y="39528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画家的本领比齐白石老先生更大了。那画家是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407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我忽然觉得自己仿佛就是一朵荷花。一身雪白的衣裳，透着清香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阳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着我，我解开衣裳，敞着胸膛，舒坦极了。）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阵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来，我就迎风舞蹈，雪白的衣裳随风飘动。不光是我一朵，一池的荷花都在舞蹈呢，这不就像电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鹅湖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许多天鹅一齐舞蹈的场面吗？风过了，我停止舞蹈，静静地站在那儿。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蜻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过来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告诉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早飞行的快乐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下边游过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告诉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夜做的好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250920" y="0"/>
            <a:ext cx="46479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看荷花引起的想象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在公园里看金鱼，看得出了神，觉得自己仿佛就是一条金鱼。胸鳍像小扇子，轻轻地扇着，大尾巴比绸子还要柔软，慢慢地摆动。水里没有一点儿声音，静极了，静极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9280" y="228600"/>
            <a:ext cx="8964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破釜沉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项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01300000241358127233163785453"/>
          <p:cNvPicPr/>
          <p:nvPr/>
        </p:nvPicPr>
        <p:blipFill>
          <a:blip r:embed="rId1"/>
          <a:stretch/>
        </p:blipFill>
        <p:spPr>
          <a:xfrm>
            <a:off x="900000" y="2781360"/>
            <a:ext cx="72010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2599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庖丁解牛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ac4bd11373f082022da9d29949fbfbedab641b58"/>
          <p:cNvPicPr/>
          <p:nvPr/>
        </p:nvPicPr>
        <p:blipFill>
          <a:blip r:embed="rId1"/>
          <a:stretch/>
        </p:blipFill>
        <p:spPr>
          <a:xfrm>
            <a:off x="2195640" y="2781360"/>
            <a:ext cx="47527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754-45CA-4620-9A33-1C055354C9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11280" y="404640"/>
            <a:ext cx="8208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材料    冒出      破裂      隔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胸膛    挨挨挤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仿佛    衣裳（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hang)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舒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扇子       扇风     莲蓬（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ng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花骨（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）朵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620280"/>
            <a:ext cx="8275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叶挨挨挤挤的，像一个个大圆盘，碧绿的面，淡绿的底。白荷花在这些大圆盘之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，有的才展开两三片花瓣儿；有的花瓣全都展开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出嫩黄色的小莲蓬；有的还是花骨朵儿，看起来饱胀得马上要破裂似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4149720"/>
            <a:ext cx="230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幼圆"/>
              </a:rPr>
              <a:t>运用了什么修辞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5940360" y="2276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900000" y="2852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211640" y="2852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5435640" y="3429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971640" y="3933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5435640" y="119700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900000" y="1773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2536920" y="5280120"/>
            <a:ext cx="57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000033870126931589655313_95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136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荷叶挨挨挤挤的，像一个个大圆盘，碧绿的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淡绿的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932360" y="692280"/>
            <a:ext cx="259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0" y="119700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826920" y="692280"/>
            <a:ext cx="180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008360" y="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白荷花在这些大圆盘之间冒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200000033870126931588124886_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50920" y="26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有的才展开两三片花瓣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177138_11475098766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49228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有的花瓣全都展开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露出嫩黄色的小莲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807200" y="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有的还是花骨朵儿，看起来饱胀得马上要破裂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4349880" y="234936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4课诗的材料课后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4716360" y="5877000"/>
            <a:ext cx="42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这么多的白荷花，有姿势完全相同的吗？没有，一朵有一朵的姿势。看看这一朵，很美，看看那一朵，也很美，都可以画写生画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如果把眼前这 一池的荷叶荷花看作一大幅活的画儿，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微软雅黑"/>
              </a:rPr>
              <a:t>那画家的本领比齐白石老先生更大了。那画家是谁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7:11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5:18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