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71A8-98E6-4B93-A216-3930C20026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687-9E33-4428-B17E-671FABC6B6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DAC-2920-4BD8-94B7-BC95FD190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CA4-4C16-478C-A08F-307023CF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5E6-E481-4E13-9BB2-7FD79318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1B3F-F451-493C-8B7C-34D5DF35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C21-C116-441E-BC11-CBA98B45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A1B9-9139-46E3-B04F-55ED052C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358F-6903-4C23-A4B1-AF938F1E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D03-DD44-4B5C-9F50-19CB9F5E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4E60-F336-4C41-A820-A61B980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B543-222A-4762-9234-15D4279C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BB6-31CF-454E-B43E-FD77E55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BED2-48E4-4FC1-9B13-F3631A1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C7211-309E-498F-B3F8-BAED5D15B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隶书"/>
                <a:ea typeface="华文隶书"/>
              </a:rPr>
              <a:t>扫大街的父亲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753920" y="4581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细读感悟"/>
          <p:cNvPicPr/>
          <p:nvPr/>
        </p:nvPicPr>
        <p:blipFill>
          <a:blip r:embed="rId2"/>
          <a:stretch/>
        </p:blipFill>
        <p:spPr>
          <a:xfrm>
            <a:off x="0" y="73080"/>
            <a:ext cx="2284560" cy="1052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扫大街的父亲"/>
          <p:cNvPicPr/>
          <p:nvPr/>
        </p:nvPicPr>
        <p:blipFill>
          <a:blip r:embed="rId3"/>
          <a:stretch/>
        </p:blipFill>
        <p:spPr>
          <a:xfrm>
            <a:off x="6278400" y="0"/>
            <a:ext cx="28656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468360" y="1341360"/>
            <a:ext cx="33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看到了什么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2565360"/>
            <a:ext cx="60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天哪！父亲，我那扫大街的父亲正站在教室外面，纹丝不动地听着老师和家长们的谈话，他的黑棉袄上满是积雪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眼泪哗哗地流了下来。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教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父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进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老师说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是我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第二次流泪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流下了怎样的泪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感动   悔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从这句话感受到了作者怎样的情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被伟大而深沉的父爱所感动，为有这        样 一个父亲而感到骄傲和自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细读感悟"/>
          <p:cNvPicPr/>
          <p:nvPr/>
        </p:nvPicPr>
        <p:blipFill>
          <a:blip r:embed="rId2"/>
          <a:stretch/>
        </p:blipFill>
        <p:spPr>
          <a:xfrm>
            <a:off x="0" y="260280"/>
            <a:ext cx="33465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826920" y="198900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同学们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们说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究竟是一个怎样的父亲</a:t>
            </a: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900000" y="3357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位工作如此平凡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人格却如此伟大的父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细读感悟"/>
          <p:cNvPicPr/>
          <p:nvPr/>
        </p:nvPicPr>
        <p:blipFill>
          <a:blip r:embed="rId2"/>
          <a:stretch/>
        </p:blipFill>
        <p:spPr>
          <a:xfrm>
            <a:off x="250920" y="619200"/>
            <a:ext cx="2376360" cy="10094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826920" y="472428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  <a:ea typeface="楷体_GB2312"/>
              </a:rPr>
              <a:t>一位善解人意，纯朴厚道，对儿子充满关注和厚爱的父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324000" y="3500280"/>
            <a:ext cx="705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此时此刻，你想对你的爸爸说些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4845028774120671690"/>
          <p:cNvPicPr/>
          <p:nvPr/>
        </p:nvPicPr>
        <p:blipFill>
          <a:blip r:embed="rId2"/>
          <a:stretch/>
        </p:blipFill>
        <p:spPr>
          <a:xfrm>
            <a:off x="6372360" y="1413000"/>
            <a:ext cx="1909800" cy="1650960"/>
          </a:xfrm>
          <a:prstGeom prst="rect">
            <a:avLst/>
          </a:prstGeom>
          <a:ln w="0">
            <a:noFill/>
          </a:ln>
        </p:spPr>
      </p:pic>
      <p:sp>
        <p:nvSpPr>
          <p:cNvPr id="87" name="WordArt 4"/>
          <p:cNvSpPr txBox="1"/>
          <p:nvPr/>
        </p:nvSpPr>
        <p:spPr>
          <a:xfrm>
            <a:off x="1332000" y="1052640"/>
            <a:ext cx="410364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感恩大行动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812880" y="597528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2"/>
          <p:cNvSpPr txBox="1"/>
          <p:nvPr/>
        </p:nvSpPr>
        <p:spPr>
          <a:xfrm>
            <a:off x="1828800" y="3276720"/>
            <a:ext cx="3652920" cy="22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4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E4FC-2E2A-436A-9651-49EED24D82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95280" y="1773360"/>
            <a:ext cx="590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                 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课前小调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假如你的爸爸现在可以选择一门新的职业，你希望你的爸爸干什么样的工作呢？（说出自己的心里话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914400" y="990720"/>
            <a:ext cx="7543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55640" y="1219320"/>
            <a:ext cx="7702560" cy="47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9999"/>
                </a:solidFill>
                <a:latin typeface="Arial"/>
                <a:ea typeface="楷体_GB2312"/>
              </a:rPr>
              <a:t>复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xī         qí                 b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脏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兮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视       回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cháo               t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笑       赶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交流合作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476000" y="1557360"/>
            <a:ext cx="698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亲和儿子之间发生了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以你喜欢的方式朗读课文中描写父亲句子的段落，并谈谈你的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中几次写到作者流泪？有什么不同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1"/>
          <p:cNvSpPr/>
          <p:nvPr/>
        </p:nvSpPr>
        <p:spPr>
          <a:xfrm>
            <a:off x="1971720" y="4319640"/>
            <a:ext cx="7351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9"/>
          <p:cNvSpPr/>
          <p:nvPr/>
        </p:nvSpPr>
        <p:spPr>
          <a:xfrm>
            <a:off x="234000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1979640" y="1197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父亲和儿子之间发生了哪几件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332000" y="1916280"/>
            <a:ext cx="705636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害怕别人知道父亲是扫大街的而受到歧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不肯和父亲住在一起，父亲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                    ）；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让父亲在上课前扫大街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就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想要父亲参加家长会，父亲却（                      ）。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284720" y="292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让我去寄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43280" y="4149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起得更早扫大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2556000" y="5373720"/>
            <a:ext cx="47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冒着风雪站在教室外面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细读感悟"/>
          <p:cNvPicPr/>
          <p:nvPr/>
        </p:nvPicPr>
        <p:blipFill>
          <a:blip r:embed="rId2"/>
          <a:stretch/>
        </p:blipFill>
        <p:spPr>
          <a:xfrm>
            <a:off x="324000" y="692280"/>
            <a:ext cx="2033280" cy="7603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55640" y="126828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半晌，父亲从屋角的床板下，拿出一个小纸包，递给我说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，这是学费和寄宿费，你快去学校交了吧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能透过这句话了解父亲的内心活动吗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55640" y="39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半晌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说明父亲在左右为难，在犹豫，父子住在一起多少能省一笔钱，但挤在一起住条件实在太差，为了孩子的学习最后还是决定把钱给儿子读寄宿，自己则省吃俭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细读感悟"/>
          <p:cNvPicPr/>
          <p:nvPr/>
        </p:nvPicPr>
        <p:blipFill>
          <a:blip r:embed="rId2"/>
          <a:stretch/>
        </p:blipFill>
        <p:spPr>
          <a:xfrm>
            <a:off x="250920" y="692280"/>
            <a:ext cx="2033640" cy="934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971640" y="1916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我看不见父亲脸上的表情，漆黑的夜里，只有他手上的烟锅一红一红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042920" y="32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别人看不起还可以理解，自己的儿子也觉得父亲的工作丢人是有些想不通，但为了儿子，最后还是决定提早扫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508464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父亲的心里如此复杂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那我的心情又如何呢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细读感悟"/>
          <p:cNvPicPr/>
          <p:nvPr/>
        </p:nvPicPr>
        <p:blipFill>
          <a:blip r:embed="rId2"/>
          <a:stretch/>
        </p:blipFill>
        <p:spPr>
          <a:xfrm>
            <a:off x="250920" y="333360"/>
            <a:ext cx="2033640" cy="792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42920" y="1341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泪水从我脸上刷地滚过，对不起，父亲，我是真心地爱你啊，可你偏偏是在学校附近扫街，我怕你被别人看不起呀。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第一次流泪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258920" y="2997360"/>
            <a:ext cx="6049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这段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感受到了什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（“我”觉得对不起含辛茹苦的父亲，但又害怕别人的嘲笑和歧视。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332000" y="4869000"/>
            <a:ext cx="489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流下的是怎样的泪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责  愧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细读感悟"/>
          <p:cNvPicPr/>
          <p:nvPr/>
        </p:nvPicPr>
        <p:blipFill>
          <a:blip r:embed="rId2"/>
          <a:stretch/>
        </p:blipFill>
        <p:spPr>
          <a:xfrm>
            <a:off x="539640" y="1197000"/>
            <a:ext cx="2033640" cy="5443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187280" y="2205000"/>
            <a:ext cx="65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父亲背过脸去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声不吭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坐到了床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声不吭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什么意思？是不是父亲没话可说呢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心里想些什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4:49:2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2:21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