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3C3B-9729-480D-A1E8-F05EC49A99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014-5C29-45A6-8978-AAFDEEC966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AB8-E4E6-4197-BD4A-74C458E2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40F-1D44-4DC6-9AEE-5EA4D90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F05-0413-41E1-A3E5-FDE1CD8D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8AC-7C5C-46C6-A429-75E75848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54C-0F5F-4A10-A8A5-CD8ECA57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03F-53B6-42C3-80B9-66D4AE11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DFC-8E29-4D4B-88BC-7531CDA5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957-B9D3-4BCB-BCDA-9B8E3887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B4A-56D5-4A46-8D7A-E184F74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A86-D294-4D7D-A76D-9656BDD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113-7D4D-453D-84C9-8CF0E12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FB9-FE0F-40E5-9CD7-C66F6598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5A87-8A57-412D-AD86-835687952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50960" y="234936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黑体"/>
                <a:ea typeface="黑体"/>
              </a:rPr>
              <a:t>谁的姿势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55640" y="11127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隶书"/>
              </a:rPr>
              <a:t>湘教版一年级语文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75068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611280" y="907920"/>
            <a:ext cx="82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写字姿势的正确和口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字姿势的正确与否，不仅影响到写字，而且影响到身体，所以不可小看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写字时，应端坐椅上，与桌子保持一些距离。头颈正直、自然，头略向前倾，含胸拔背，两肩松开，肩不耸，背不弓。双脚踏实，平放地上，与肩等宽。脚和身体稳不稳，关系到字的稳不稳。右手执笔，左手自然平放桌上。（左手不可成为重心的支撑点）。双手之间要开阔，如抱大球状。总之，要端庄平正，关节舒展；精神敛聚，呼吸顺畅；右手轻灵无滞，身体稳重自然。 身正、脚实，才能稳，才易于发力，所谓“力发手腰，其根在脚”；松肩，力才能达于肘，达于腕，达于指，达于笔，才能不受牵制，灵活往来。写字姿势的口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腰直头正脚放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臂张开略挺胸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手腕与肘稍抬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精神专注肩放松。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9"/>
          <p:cNvSpPr txBox="1"/>
          <p:nvPr/>
        </p:nvSpPr>
        <p:spPr>
          <a:xfrm>
            <a:off x="3564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提高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2E70-66F7-4A2F-8FCB-BD829B2AEF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2693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268360" y="35002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隶书"/>
                <a:ea typeface="隶书"/>
              </a:rPr>
              <a:t>图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cc00"/>
                </a:solidFill>
                <a:latin typeface="隶书"/>
                <a:ea typeface="隶书"/>
              </a:rPr>
              <a:t>小女孩在教室里读书，坐得端端正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224160" cy="28321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050920" y="357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图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小男孩晒着太阳，躺在草地上看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791240" cy="212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971640" y="2924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图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四个小朋友在教室里写作业，左边的两个小朋友坐得很端正，右边的两个小朋友歪歪斜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859280" y="1773360"/>
            <a:ext cx="360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谁答得又快又好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说一说，谁的姿势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相互评一评读书写字的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138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丁丁"/>
          <p:cNvPicPr/>
          <p:nvPr/>
        </p:nvPicPr>
        <p:blipFill>
          <a:blip r:embed="rId1"/>
          <a:stretch/>
        </p:blipFill>
        <p:spPr>
          <a:xfrm>
            <a:off x="826920" y="1052640"/>
            <a:ext cx="1798920" cy="15476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1371600" y="2590920"/>
            <a:ext cx="6769080" cy="23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19280" y="2781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字要做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个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胸离桌子一拳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眼离书本一尺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手离笔尖一寸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060427084931552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8"/>
          <p:cNvGrpSpPr/>
          <p:nvPr/>
        </p:nvGrpSpPr>
        <p:grpSpPr>
          <a:xfrm>
            <a:off x="0" y="0"/>
            <a:ext cx="7596360" cy="3201840"/>
            <a:chOff x="0" y="0"/>
            <a:chExt cx="7596360" cy="3201840"/>
          </a:xfrm>
        </p:grpSpPr>
        <p:pic>
          <p:nvPicPr>
            <p:cNvPr id="6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88000" cy="32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5"/>
            <p:cNvSpPr/>
            <p:nvPr/>
          </p:nvSpPr>
          <p:spPr>
            <a:xfrm>
              <a:off x="5292720" y="476280"/>
              <a:ext cx="23036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学写字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坐端正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腰打直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9"/>
          <p:cNvGrpSpPr/>
          <p:nvPr/>
        </p:nvGrpSpPr>
        <p:grpSpPr>
          <a:xfrm>
            <a:off x="2050920" y="3633840"/>
            <a:ext cx="7093080" cy="3224160"/>
            <a:chOff x="2050920" y="3633840"/>
            <a:chExt cx="7093080" cy="3224160"/>
          </a:xfrm>
        </p:grpSpPr>
        <p:pic>
          <p:nvPicPr>
            <p:cNvPr id="67" name="Picture 6" descr=""/>
            <p:cNvPicPr/>
            <p:nvPr/>
          </p:nvPicPr>
          <p:blipFill>
            <a:blip r:embed="rId2"/>
            <a:stretch/>
          </p:blipFill>
          <p:spPr>
            <a:xfrm>
              <a:off x="4643280" y="3633840"/>
              <a:ext cx="4500720" cy="32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7"/>
            <p:cNvSpPr/>
            <p:nvPr/>
          </p:nvSpPr>
          <p:spPr>
            <a:xfrm>
              <a:off x="2050920" y="4005360"/>
              <a:ext cx="302436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两肩平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放轻松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欢喜来写字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8a61107b730a77f42f73b336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1979640" y="260280"/>
            <a:ext cx="5133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比一比，谁的姿势最标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826920" y="6426360"/>
            <a:ext cx="58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4:43:2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1:39:53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