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9.jpeg" ContentType="image/jpeg"/>
  <Override PartName="/ppt/media/image11.jpeg" ContentType="image/jpeg"/>
  <Override PartName="/ppt/media/image30.png" ContentType="image/png"/>
  <Override PartName="/ppt/media/image5.png" ContentType="image/png"/>
  <Override PartName="/ppt/media/image14.jpeg" ContentType="image/jpeg"/>
  <Override PartName="/ppt/media/image38.png" ContentType="image/png"/>
  <Override PartName="/ppt/media/image8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2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7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科教版小学语文三年级下册第七单元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十二生肖的故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32B1-B103-45CA-877F-040F967A4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科教版小学语文三年级下册第七单元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十二生肖的故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科教版小学语文三年级下册第七单元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十二生肖的故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E2F1-5F1B-4697-9653-81878ECC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701-EC11-4A79-992D-7F89917D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7BF-7D3C-4D46-97BE-0835F68E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D77-AC77-4CB4-8B7B-D7EA24DC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9B9-0032-49F4-8A1B-E5C2ACBA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261-8CF6-4CCC-98A6-B6E7E6CB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BEF-C4FA-408F-B937-E77149B3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884-575F-4223-A377-FADF7833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383-1E7E-4031-8165-76C2F11E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E23-08FA-49DE-802A-8AAE690E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D4F-145F-478F-8A73-C922776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132-4A0E-40D4-B7BE-06A92AC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F52-5833-4594-8275-1541E47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ff6"/>
            </a:gs>
            <a:gs pos="100000">
              <a:srgbClr val="e1f9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12CB-89A7-4562-AAD3-90D10AA0A0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5B47-ED9C-4654-AD32-D7971E2EF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3.xml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6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baike.baidu.com/view/107965.htm" TargetMode="External"/><Relationship Id="rId3" Type="http://schemas.openxmlformats.org/officeDocument/2006/relationships/hyperlink" Target="http://baike.baidu.com/view/2907.htm" TargetMode="External"/><Relationship Id="rId4" Type="http://schemas.openxmlformats.org/officeDocument/2006/relationships/hyperlink" Target="http://baike.baidu.com/view/120466.htm" TargetMode="External"/><Relationship Id="rId5" Type="http://schemas.openxmlformats.org/officeDocument/2006/relationships/hyperlink" Target="http://baike.baidu.com/subview/11006/8831393.htm" TargetMode="External"/><Relationship Id="rId6" Type="http://schemas.openxmlformats.org/officeDocument/2006/relationships/hyperlink" Target="http://baike.baidu.com/subview/78077/8493797.htm" TargetMode="External"/><Relationship Id="rId7" Type="http://schemas.openxmlformats.org/officeDocument/2006/relationships/hyperlink" Target="http://baike.baidu.com/subview/15780/5469764.htm" TargetMode="External"/><Relationship Id="rId8" Type="http://schemas.openxmlformats.org/officeDocument/2006/relationships/hyperlink" Target="http://baike.baidu.com/subview/10872/5044181.htm" TargetMode="External"/><Relationship Id="rId9" Type="http://schemas.openxmlformats.org/officeDocument/2006/relationships/hyperlink" Target="http://baike.baidu.com/view/27770.htm" TargetMode="External"/><Relationship Id="rId10" Type="http://schemas.openxmlformats.org/officeDocument/2006/relationships/hyperlink" Target="http://baike.baidu.com/view/6392.htm" TargetMode="External"/><Relationship Id="rId11" Type="http://schemas.openxmlformats.org/officeDocument/2006/relationships/hyperlink" Target="http://baike.baidu.com/subview/6134/10170283.htm" TargetMode="External"/><Relationship Id="rId12" Type="http://schemas.openxmlformats.org/officeDocument/2006/relationships/hyperlink" Target="http://baike.baidu.com/subview/6117/8608907.htm" TargetMode="External"/><Relationship Id="rId13" Type="http://schemas.openxmlformats.org/officeDocument/2006/relationships/hyperlink" Target="http://baike.baidu.com/subview/120321/5074885.htm" TargetMode="External"/><Relationship Id="rId14" Type="http://schemas.openxmlformats.org/officeDocument/2006/relationships/hyperlink" Target="http://baike.baidu.com/view/29017.htm" TargetMode="External"/><Relationship Id="rId15" Type="http://schemas.openxmlformats.org/officeDocument/2006/relationships/hyperlink" Target="http://baike.baidu.com/view/21610.htm" TargetMode="External"/><Relationship Id="rId16" Type="http://schemas.openxmlformats.org/officeDocument/2006/relationships/hyperlink" Target="http://baike.baidu.com/subview/8633/11215001.htm" TargetMode="External"/><Relationship Id="rId17" Type="http://schemas.openxmlformats.org/officeDocument/2006/relationships/hyperlink" Target="http://baike.baidu.com/view/3724.htm" TargetMode="External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5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696360" cy="1108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21964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-4680" y="409680"/>
            <a:ext cx="9148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湘教版小学语文三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矩形 6" descr=""/>
          <p:cNvPicPr/>
          <p:nvPr/>
        </p:nvPicPr>
        <p:blipFill>
          <a:blip r:embed="rId3"/>
          <a:stretch/>
        </p:blipFill>
        <p:spPr>
          <a:xfrm>
            <a:off x="1779480" y="599292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鼠"/>
          <p:cNvPicPr/>
          <p:nvPr/>
        </p:nvPicPr>
        <p:blipFill>
          <a:blip r:embed="rId1"/>
          <a:stretch/>
        </p:blipFill>
        <p:spPr>
          <a:xfrm>
            <a:off x="324000" y="4076640"/>
            <a:ext cx="196200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0110522145048-120461136"/>
          <p:cNvPicPr/>
          <p:nvPr/>
        </p:nvPicPr>
        <p:blipFill>
          <a:blip r:embed="rId2"/>
          <a:stretch/>
        </p:blipFill>
        <p:spPr>
          <a:xfrm>
            <a:off x="6391440" y="1628640"/>
            <a:ext cx="2098440" cy="22719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">
            <a:hlinkClick r:id="" action="ppaction://hlinkshowjump?jump=nextslide"/>
          </p:cNvPr>
          <p:cNvSpPr/>
          <p:nvPr/>
        </p:nvSpPr>
        <p:spPr>
          <a:xfrm>
            <a:off x="2340000" y="4076640"/>
            <a:ext cx="4753080" cy="647640"/>
          </a:xfrm>
          <a:prstGeom prst="wedgeRect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哥你放心地去睡觉吧，没事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 rot="10800000">
            <a:off x="1618920" y="1124640"/>
            <a:ext cx="5257800" cy="574920"/>
          </a:xfrm>
          <a:prstGeom prst="wedgeRectCallout">
            <a:avLst>
              <a:gd name="adj1" fmla="val -45986"/>
              <a:gd name="adj2" fmla="val -798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弟，拜年的时间是什么时候啊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星星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164360" y="4941720"/>
            <a:ext cx="1690560" cy="1690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3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88960" y="638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较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343760" y="2224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精明的老鼠答非所问地要猫放心睡觉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921400" y="3429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老鼠要猫放心睡觉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838080" y="2362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066680" y="4267080"/>
            <a:ext cx="3505320" cy="1981440"/>
          </a:xfrm>
          <a:prstGeom prst="cloudCallout">
            <a:avLst>
              <a:gd name="adj1" fmla="val -48504"/>
              <a:gd name="adj2" fmla="val 70032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两句话有什么不同？哪句话写得好？为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116000" y="2708280"/>
            <a:ext cx="655164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>
            <a:hlinkClick r:id="" action="ppaction://hlinkshowjump?jump=previousslide"/>
          </p:cNvPr>
          <p:cNvSpPr/>
          <p:nvPr/>
        </p:nvSpPr>
        <p:spPr>
          <a:xfrm>
            <a:off x="6300720" y="5157720"/>
            <a:ext cx="1440000" cy="12956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 flipH="1">
            <a:off x="6732720" y="836640"/>
            <a:ext cx="2016000" cy="1512720"/>
          </a:xfrm>
          <a:prstGeom prst="cloudCallout">
            <a:avLst>
              <a:gd name="adj1" fmla="val -57166"/>
              <a:gd name="adj2" fmla="val 58393"/>
            </a:avLst>
          </a:prstGeom>
          <a:solidFill>
            <a:srgbClr val="ffff99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这句话当中你看出了老鼠是什么样的呢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4211640" y="19162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说那老态龙钟的大黄牛，知道自己行动缓慢，除夕夜他干脆不睡觉，天蒙蒙亮就迈着稳健的步伐出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老牛2"/>
          <p:cNvPicPr/>
          <p:nvPr/>
        </p:nvPicPr>
        <p:blipFill>
          <a:blip r:embed="rId1"/>
          <a:stretch/>
        </p:blipFill>
        <p:spPr>
          <a:xfrm>
            <a:off x="324000" y="2492280"/>
            <a:ext cx="3816360" cy="3394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9640" y="1773000"/>
            <a:ext cx="74995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那尖嘴巴老鼠，早在大年三十夜就溜到牛棚顶上，一直观察着四周的动静。初一清晨，他见老牛出门了，就偷偷蹿到老牛背上。那老牛也太迟钝了，竟然没有发觉，还是一步一点头地走着，走着。来到神庙，庙门没开，朋友们也还没到，他想，我老牛肯定是第一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6920" y="4292640"/>
            <a:ext cx="7705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庙门打开的一瞬间，尖嘴巴突然从牛背上跳进门内，大声叫道：“我是第一名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老牛还没弄清是怎么回事，就跟着喊：“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就第二名吧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此时，朋友们争先恐后地赶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4324_meitu_1"/>
          <p:cNvPicPr/>
          <p:nvPr/>
        </p:nvPicPr>
        <p:blipFill>
          <a:blip r:embed="rId1"/>
          <a:stretch/>
        </p:blipFill>
        <p:spPr>
          <a:xfrm>
            <a:off x="0" y="0"/>
            <a:ext cx="2521080" cy="184320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1547640" y="4724280"/>
            <a:ext cx="633744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971640" y="5084640"/>
            <a:ext cx="388764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gs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十二生肖2"/>
          <p:cNvPicPr/>
          <p:nvPr/>
        </p:nvPicPr>
        <p:blipFill>
          <a:blip r:embed="rId2"/>
          <a:stretch/>
        </p:blipFill>
        <p:spPr>
          <a:xfrm>
            <a:off x="4140360" y="3789360"/>
            <a:ext cx="4608360" cy="284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Rectangle 14"/>
          <p:cNvSpPr/>
          <p:nvPr/>
        </p:nvSpPr>
        <p:spPr>
          <a:xfrm>
            <a:off x="1265760" y="2708280"/>
            <a:ext cx="22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下去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673092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896760" y="2060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名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老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2898720" y="2060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四名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兔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754520" y="206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名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6150960" y="20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六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7301880" y="20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七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2742120" y="328464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后一名是刚刚跑进门地气喘喘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24000" y="1052640"/>
            <a:ext cx="7848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7d3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3b17d3"/>
                </a:solidFill>
                <a:latin typeface="Arial"/>
              </a:rPr>
              <a:t>再说那只猫，当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悠然自得</a:t>
            </a:r>
            <a:r>
              <a:rPr b="0" lang="zh-CN" sz="2400" spc="-1" strike="noStrike">
                <a:solidFill>
                  <a:srgbClr val="3b17d3"/>
                </a:solidFill>
                <a:latin typeface="Arial"/>
              </a:rPr>
              <a:t>地踏进庙门，只见庙里空荡荡的，就笑着说：“哈哈，今天我为首了！”一个庙神对猫说：“你来迟了，今天已经是正月初二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17d3"/>
                </a:solidFill>
                <a:latin typeface="Arial"/>
              </a:rPr>
              <a:t>　　猫一听庙神的话，满肚子怒火冲向门外，愤愤地说：“好一个刁钻的尖嘴东西，受你骗了！我老猫决不放过你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17d3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3b17d3"/>
                </a:solidFill>
                <a:latin typeface="Arial"/>
              </a:rPr>
              <a:t>从那以后，老鼠再也不敢见猫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20110522145048-120461136"/>
          <p:cNvPicPr/>
          <p:nvPr/>
        </p:nvPicPr>
        <p:blipFill>
          <a:blip r:embed="rId1"/>
          <a:stretch/>
        </p:blipFill>
        <p:spPr>
          <a:xfrm>
            <a:off x="6012000" y="3357720"/>
            <a:ext cx="2633400" cy="2849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xin_2502020911484591060733"/>
          <p:cNvPicPr/>
          <p:nvPr/>
        </p:nvPicPr>
        <p:blipFill>
          <a:blip r:embed="rId1"/>
          <a:stretch/>
        </p:blipFill>
        <p:spPr>
          <a:xfrm>
            <a:off x="5470560" y="2852640"/>
            <a:ext cx="3673440" cy="33512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4000" y="765000"/>
            <a:ext cx="5400360" cy="3834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老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前面走，跟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老黄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老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声吼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兔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抖三抖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天上游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地上扭，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马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跑得快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山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吃青草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猴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翻跟头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金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喊啼鸣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黄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守大门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老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呼噜呼噜睡大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24000" y="0"/>
            <a:ext cx="2952720" cy="1224000"/>
          </a:xfrm>
          <a:custGeom>
            <a:avLst/>
            <a:gdLst>
              <a:gd name="textAreaLeft" fmla="*/ 0 w 2952720"/>
              <a:gd name="textAreaRight" fmla="*/ 2953080 w 2952720"/>
              <a:gd name="textAreaTop" fmla="*/ 318240 h 1224000"/>
              <a:gd name="textAreaBottom" fmla="*/ 9057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十二生肖顺序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367160" y="9748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973240" y="13557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684760" y="13557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440080" y="21178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294240" y="21938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058840" y="28796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478560" y="31082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865240" y="46324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084560" y="50896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411880" y="48610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166840" y="37940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478560" y="40226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952880" y="12794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6019920" y="181296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6477120" y="272736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6629400" y="364176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6095880" y="455616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H="1">
            <a:off x="4724280" y="531828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H="1" flipV="1">
            <a:off x="3428640" y="5165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 flipH="1" flipV="1">
            <a:off x="2437920" y="432756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2133720" y="341316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2362320" y="257508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V="1">
            <a:off x="2666880" y="181296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3505320" y="120312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396396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十二生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500"/>
                            </p:stCondLst>
                            <p:childTnLst>
                              <p:par>
                                <p:cTn id="2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500"/>
                            </p:stCondLst>
                            <p:childTnLst>
                              <p:par>
                                <p:cTn id="2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500"/>
                            </p:stCondLst>
                            <p:childTnLst>
                              <p:par>
                                <p:cTn id="2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159560" y="328680"/>
            <a:ext cx="10875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一读，写一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906560" y="1905120"/>
            <a:ext cx="1095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答非所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信以为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老态龙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173640" y="1905120"/>
            <a:ext cx="1095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争先恐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垂头丧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悠然自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"/>
          <p:cNvSpPr/>
          <p:nvPr/>
        </p:nvSpPr>
        <p:spPr>
          <a:xfrm>
            <a:off x="1289160" y="5511960"/>
            <a:ext cx="656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80880" y="380880"/>
            <a:ext cx="8780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235160" y="1752480"/>
            <a:ext cx="223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肖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消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35160" y="3429000"/>
            <a:ext cx="223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将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奖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731200" y="1752480"/>
            <a:ext cx="223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庙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苗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731200" y="3429000"/>
            <a:ext cx="223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钟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针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十二生肖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43000"/>
            <a:ext cx="9144000" cy="671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6778_1259303726_bi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4320" y="5300640"/>
            <a:ext cx="1387440" cy="155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星星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01080" y="5013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星星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01080" y="587700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80880" y="380880"/>
            <a:ext cx="806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235160" y="1752480"/>
            <a:ext cx="223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缓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暖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35160" y="3429000"/>
            <a:ext cx="223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伐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代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31200" y="1752480"/>
            <a:ext cx="223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除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余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731200" y="3429000"/>
            <a:ext cx="223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偷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愉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ff6"/>
            </a:gs>
            <a:gs pos="100000">
              <a:srgbClr val="e1f9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A198-1474-412D-9F27-1D79213FDA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鸡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971640" y="260280"/>
            <a:ext cx="6481800" cy="640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星星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413480" y="5127480"/>
            <a:ext cx="1730520" cy="1730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猴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1547640" y="333360"/>
            <a:ext cx="6121440" cy="602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星星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451640" y="4941720"/>
            <a:ext cx="1546200" cy="1546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0" y="-792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狗"/>
          <p:cNvPicPr/>
          <p:nvPr/>
        </p:nvPicPr>
        <p:blipFill>
          <a:blip r:embed="rId1"/>
          <a:stretch/>
        </p:blipFill>
        <p:spPr>
          <a:xfrm>
            <a:off x="1547640" y="333360"/>
            <a:ext cx="6108840" cy="619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狗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1547640" y="333360"/>
            <a:ext cx="6153480" cy="626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星星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7380360" y="523872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5"/>
          <p:cNvSpPr/>
          <p:nvPr/>
        </p:nvSpPr>
        <p:spPr>
          <a:xfrm>
            <a:off x="2987640" y="2924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猴"/>
          <p:cNvPicPr/>
          <p:nvPr/>
        </p:nvPicPr>
        <p:blipFill>
          <a:blip r:embed="rId1"/>
          <a:stretch/>
        </p:blipFill>
        <p:spPr>
          <a:xfrm>
            <a:off x="179280" y="4508640"/>
            <a:ext cx="183528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虎"/>
          <p:cNvPicPr/>
          <p:nvPr/>
        </p:nvPicPr>
        <p:blipFill>
          <a:blip r:embed="rId2"/>
          <a:stretch/>
        </p:blipFill>
        <p:spPr>
          <a:xfrm>
            <a:off x="4788000" y="404640"/>
            <a:ext cx="183492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牛"/>
          <p:cNvPicPr/>
          <p:nvPr/>
        </p:nvPicPr>
        <p:blipFill>
          <a:blip r:embed="rId3"/>
          <a:stretch/>
        </p:blipFill>
        <p:spPr>
          <a:xfrm>
            <a:off x="2484360" y="404640"/>
            <a:ext cx="1835280" cy="18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鼠"/>
          <p:cNvPicPr/>
          <p:nvPr/>
        </p:nvPicPr>
        <p:blipFill>
          <a:blip r:embed="rId4"/>
          <a:stretch/>
        </p:blipFill>
        <p:spPr>
          <a:xfrm>
            <a:off x="468360" y="404640"/>
            <a:ext cx="1835280" cy="179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猪"/>
          <p:cNvPicPr/>
          <p:nvPr/>
        </p:nvPicPr>
        <p:blipFill>
          <a:blip r:embed="rId5"/>
          <a:stretch/>
        </p:blipFill>
        <p:spPr>
          <a:xfrm>
            <a:off x="7020000" y="4653000"/>
            <a:ext cx="1834920" cy="176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狗"/>
          <p:cNvPicPr/>
          <p:nvPr/>
        </p:nvPicPr>
        <p:blipFill>
          <a:blip r:embed="rId6"/>
          <a:stretch/>
        </p:blipFill>
        <p:spPr>
          <a:xfrm>
            <a:off x="5003640" y="4508640"/>
            <a:ext cx="1835280" cy="180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蛇"/>
          <p:cNvPicPr/>
          <p:nvPr/>
        </p:nvPicPr>
        <p:blipFill>
          <a:blip r:embed="rId7"/>
          <a:stretch/>
        </p:blipFill>
        <p:spPr>
          <a:xfrm>
            <a:off x="2627280" y="2492280"/>
            <a:ext cx="183528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兔"/>
          <p:cNvPicPr/>
          <p:nvPr/>
        </p:nvPicPr>
        <p:blipFill>
          <a:blip r:embed="rId8"/>
          <a:stretch/>
        </p:blipFill>
        <p:spPr>
          <a:xfrm>
            <a:off x="6877080" y="333360"/>
            <a:ext cx="183528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鸡"/>
          <p:cNvPicPr/>
          <p:nvPr/>
        </p:nvPicPr>
        <p:blipFill>
          <a:blip r:embed="rId9"/>
          <a:stretch/>
        </p:blipFill>
        <p:spPr>
          <a:xfrm>
            <a:off x="2627280" y="4437000"/>
            <a:ext cx="1835280" cy="180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马"/>
          <p:cNvPicPr/>
          <p:nvPr/>
        </p:nvPicPr>
        <p:blipFill>
          <a:blip r:embed="rId10"/>
          <a:stretch/>
        </p:blipFill>
        <p:spPr>
          <a:xfrm>
            <a:off x="4859280" y="2492280"/>
            <a:ext cx="183528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龙"/>
          <p:cNvPicPr/>
          <p:nvPr/>
        </p:nvPicPr>
        <p:blipFill>
          <a:blip r:embed="rId11"/>
          <a:stretch/>
        </p:blipFill>
        <p:spPr>
          <a:xfrm>
            <a:off x="395280" y="2565360"/>
            <a:ext cx="183528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" descr="羊"/>
          <p:cNvPicPr/>
          <p:nvPr/>
        </p:nvPicPr>
        <p:blipFill>
          <a:blip r:embed="rId12"/>
          <a:stretch/>
        </p:blipFill>
        <p:spPr>
          <a:xfrm>
            <a:off x="6948360" y="2492280"/>
            <a:ext cx="1835280" cy="1800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7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20085916422952_2"/>
          <p:cNvPicPr/>
          <p:nvPr/>
        </p:nvPicPr>
        <p:blipFill>
          <a:blip r:embed="rId1"/>
          <a:stretch/>
        </p:blipFill>
        <p:spPr>
          <a:xfrm>
            <a:off x="395280" y="333360"/>
            <a:ext cx="4824360" cy="597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724360" y="620640"/>
            <a:ext cx="3024360" cy="2955960"/>
          </a:xfrm>
          <a:prstGeom prst="rect">
            <a:avLst/>
          </a:prstGeom>
          <a:solidFill>
            <a:srgbClr val="bbe0e3">
              <a:alpha val="4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肖也称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属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是中国和东亚地区的一些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民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来代表年份和人出生的年号。生肖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周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。每一人在其出生年都有一种动物作为生肖。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十二生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是中国民间计算年龄的方法，也是一种古老的纪年法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5940360" y="62064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关于生肖</a:t>
            </a:r>
            <a:endParaRPr b="0" lang="en-US" sz="1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6"/>
          <p:cNvSpPr txBox="1"/>
          <p:nvPr/>
        </p:nvSpPr>
        <p:spPr>
          <a:xfrm>
            <a:off x="628560" y="765000"/>
            <a:ext cx="259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初步感悟</a:t>
            </a:r>
            <a:endParaRPr b="0" i="1" lang="en-US" sz="12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95280" y="2205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468360" y="2349360"/>
            <a:ext cx="8351640" cy="1169280"/>
          </a:xfrm>
          <a:prstGeom prst="rect">
            <a:avLst/>
          </a:prstGeom>
          <a:solidFill>
            <a:srgbClr val="ffff99">
              <a:alpha val="65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由朗读课文，标出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思考：课文给我们讲述了一个什么样的故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4324_meitu_1"/>
          <p:cNvPicPr/>
          <p:nvPr/>
        </p:nvPicPr>
        <p:blipFill>
          <a:blip r:embed="rId3"/>
          <a:stretch/>
        </p:blipFill>
        <p:spPr>
          <a:xfrm>
            <a:off x="0" y="4043520"/>
            <a:ext cx="385128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611280" y="1628640"/>
            <a:ext cx="78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来年正月初一清晨，动物们要到神庙拜年，来得最早的十二名将受到奖励，他们的名字，将按次序排列为年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1280" y="3213000"/>
            <a:ext cx="79214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物们都在准备着，争取新年头一天早些赶到神庙去拜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4324_meitu_1"/>
          <p:cNvPicPr/>
          <p:nvPr/>
        </p:nvPicPr>
        <p:blipFill>
          <a:blip r:embed="rId1"/>
          <a:stretch/>
        </p:blipFill>
        <p:spPr>
          <a:xfrm>
            <a:off x="2050920" y="4451400"/>
            <a:ext cx="3672000" cy="2406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0" y="-27000"/>
            <a:ext cx="914400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5:19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5:06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