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gif" ContentType="image/gif"/>
  <Override PartName="/ppt/media/image9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3721D-ED45-4E26-9E31-CD4A396F3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30B1B-6896-46FA-9382-093579430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EBECF-0340-4FF1-A1BA-AB2651223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F03E4-B333-4D6E-88C0-099688B0A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0D45D1-D804-419E-994D-4695403E0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2FE731-0355-426F-82CA-03868ED4C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B6A22-8101-48E3-B1CA-1B54DF63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6B6FA4-C5C1-4E5F-AC0B-B5FC0292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CE4ED-8202-4FB7-BAF2-CBE1CB4F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240A8-27F5-49FB-9AD7-A76F45D16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28C898-79B2-410E-90F5-EB655D7E9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4C3DB-454A-4719-83D2-32315F389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DEE5B4-FF39-4228-A32A-BDFD648A5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8FA542-2435-4F8A-B20F-BA19D686D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3B71AB-4594-45A8-B6F1-4667F4AA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D55183-6FAA-45BA-9EFD-8B0AB51B8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CFDBE3-A1EC-41F1-A67D-4C3F670D6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469A65-4143-40F6-9F8B-FAF476547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151864-FF77-4B43-86E9-EE483D2C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62DE0-6DF1-4A0E-8D2B-8EC469BD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848D83-85BC-46AA-B029-15BA1014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057671-BA7B-464B-BABB-4E406877A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D7AD90-5B7D-4316-B520-781D12F0A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B366B2-8A60-4F37-B5DE-083522CAF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E453E8-5329-44D8-83C5-9E962B675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32F387-B36D-4CC5-ACC0-99B47883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529745-1677-4F01-A157-42EB54FA6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57C401-CF23-4AF7-B388-D55C2B3F5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3C7EBE-B8A0-4B21-8AA1-110560995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BB6180-DFBA-454A-9752-78B3EC1AD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E2332B-9103-4CB8-9BD0-86CEBB3B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3CE9CB-697B-44F0-B38E-611AE23A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2BD529-D801-4DB4-886B-31437E24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F594-D5E4-4623-8155-F0E04AB3F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256C31-5BE8-4BA0-ADFD-4B867B291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1B1447-4A0B-4C0F-B6CB-F1DF56D03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87AB36-6247-46A3-9C43-4093F91C6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BB2F57-B276-4B1D-823B-22FE53692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3A43A1-5A20-4D83-BD3F-450FD155E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CFAEBA-3C32-4F24-913D-0A19F7D71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2E903C-D380-41DD-B1DC-554665F68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46A3EF-F763-48C3-B999-7D17D5319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2B25A3-1EE6-4154-B96B-BB664CFA9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B5BB60-429E-4184-BD41-599C7AFC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954D-BFD3-4087-82BB-9F6753FB2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6F21CC-7C1D-4A07-8C2B-D40560C8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9871B4-F5B2-4CEB-BC31-3DABB8BD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512A9C-C3B4-4C62-8328-C5588A89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E83963-0CE3-4296-911F-83B2904B1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951939-F9C3-4FB5-9846-DD6E71102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AF722E-A31B-432E-943C-56A16C4D4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C5CA2D-C2FE-4BA5-A927-C25BF67D3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956DF2-C50C-4B1E-95F3-6888C50A5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EB0BA1-B5F3-49A7-AC10-2C08D6882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B95A8D-C7EB-47F6-A8D8-D7119BD86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EAD8-93C0-4EFE-9C90-33CA0B596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D7D8F7-6B48-4CEB-ABB3-81E9A3939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379193-2E48-462B-BF59-1E9F18AE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ED9DA9-9708-4AF1-B57D-0F9355E6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B192DD-A381-440B-A87F-74557032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D55353-801A-464A-81F0-27242F156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754D9B-CC2F-4435-A96E-E1529A4EC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4DA9B2-D496-4EFE-B07C-0890EA6E0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58DC9D-8F00-4E69-AED0-A1CA13FBB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364E7E-B059-449F-972F-C9520B94B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B184DC-7DF4-4439-A33B-9164DEA4D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A3A1-9D1F-438C-B86B-02E1C94E3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68C023-AB8A-4F5E-8718-A0E1C012B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3D5149-F7B4-4665-AFBF-F4ED27CCE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23C3F5-C5AD-48A8-9B91-DB38AAB65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492A50-CCCE-4A0F-8A65-FB87E0BC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C7DB00-AD8E-466C-B11F-94A29B4B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700D18-DBF9-4F55-82DB-B573261D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A0DD5B-8557-47DE-ADA0-BB1A813F9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9B07E7-9E56-4111-9D6A-63576ECC6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63ACB4-29BE-4BB8-B969-E134FC470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E831-0902-4176-AD33-C19124762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78E6-B862-4310-B0BA-1A55126FA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38EA-2F90-43B1-99A4-B81B4240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C940-439D-4E99-B828-675D2C91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3776-8D0D-4AB2-AA19-4C0B3765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E52A-5E6E-46A8-B417-AC9AD6580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017A-F2EC-4E7A-88AE-EF70CF2E0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9CC5-A796-4B46-8ADD-5970A89FC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9CBD7-A78F-448C-B130-F123479B8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59002-BDD9-4FC6-9B31-BA2A669EA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CA882-C313-4C17-B997-0C8F79A00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A5443-D467-417D-B5AF-91B45CFAE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66A41-CBE6-414D-90E6-85351EC43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9F7A9-8EAA-46F7-8EE3-0F21ED327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79706-D890-4947-8F8B-6753F32C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FF591-F723-4005-B595-6D683123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EA3B7-A9CD-443B-BA90-67E7DB51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E319B-631C-479A-8385-CB0CF4CA8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529FC-8EF7-4514-BE13-32221C3A1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9D6E8-759D-484D-B224-4250AC7AC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1D743-F065-4933-9286-3988C6313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1189D-AA0D-406A-88FA-2B26A694C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09CAF-38DF-4C9B-97DC-199A02A41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1C4B9-905F-413A-ACE0-FCFE1141F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42245-67B0-416E-845B-0ED2BB260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D88E7-2D49-4A66-B1BE-9BC5F5D63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6E684-40F7-4088-A731-DF73CE33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F42AA-9863-4EEF-BD01-A85D3154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59090-CA31-4434-B40A-23ACA411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8584A-1F8E-40AA-BC77-F58EFE199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37B61-A925-402F-A203-E488FBC74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7212A-7ED1-4417-B5B9-BAD53C5DC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5A118-B2BB-42C6-A097-8C212D956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BE674-5FFB-4CF2-9E8F-099FD5939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06F7D-C99F-4F03-B878-53533E7BC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123E9-7DEB-432C-B46F-C98CB4323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EE823-A0D1-436C-A0FC-FBBCD46B4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3447E-9CDC-490B-91D5-537EB86E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1A007-4C87-4BCA-8747-83181DB6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C6E1E-1AD3-4670-9970-C460DAD4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14EE8-B531-4A86-B8F2-41D63A3F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9E6E7-4F30-4059-8173-7A067503B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69B35-521E-49B8-88CF-ECAA41A19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041D0-582C-4A72-A1AA-2BA771FE0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47390-5CF6-4CDB-A3B4-F670AE018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69FD7-2AF5-4754-9DF3-509D8D6D6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7292F-F62A-4826-996B-753153886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5D751-AE0F-41B2-A1EF-F65F2F53B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99703-F9BD-449A-91E3-757F13DC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FB848-E613-424D-B27C-6C215F97C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81FE2-577E-4D96-B798-5F4302BC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FC022-0050-483D-BD24-55BF7601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B863D-9B62-4F21-9206-F1103E7D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0649B-25F2-4305-B269-2FA7CBD6F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994AE-E60A-4812-9F50-2F6BAAA6E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E575A-FA00-4094-80A1-DBC740F03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280736-4887-4762-A5D2-A16FDF0FB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727F2-3224-4696-873F-2195B20B8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F2063-1DAB-4DD5-9D9D-C2CD0E711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FDD86-BBD3-405B-9CB0-951F1AE60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DB33A0-85BA-4047-81B3-8E13C6902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2D3C2-705A-4701-96A1-7EE4DFE30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57C35-ABD9-4174-B43B-8BAAF344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E0A57-7BEC-4674-BF99-46569C63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D4B05-A088-4431-80F3-BE53BA9D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75968-CE9C-4CF6-9EA3-29FEAD47E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2AA83-775D-445C-BDDA-004999067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2AECB-5AC8-4F1C-B6A4-0AAF3417E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3E661-FF80-4554-A8B2-BFF263C8F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E14E8-8419-49C1-84EE-FDC7C9325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5950F7-F9D1-4B0E-8545-7C9853CC1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21974-7FF0-4146-A236-0DE92003F7C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E82A4-9E9A-4135-B572-262D9E5ADF8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E348-FE30-4D7E-842A-00BE45167AE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7D20C-0D7B-4569-B0A7-F8F3A44C8C4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51C2A-E5FD-4F17-8EF9-F97A736D568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8AEA3-D3E4-4B6A-8F6F-302424AC78C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3BFD7-4469-40A1-969E-E79E74703A3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3C264-B2FA-47C3-9AB1-404D183B4BC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01420-6ADD-49B1-A24D-99143456DF7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5B2EF-4B08-410C-8EB1-85F21D69F09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259F2-CD46-457D-9975-15C1ABD8852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74476-61DE-4845-8187-95E45C3AED0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4" descr="0417xuelin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6" name="Text Box 5" descr=""/>
          <p:cNvPicPr/>
          <p:nvPr/>
        </p:nvPicPr>
        <p:blipFill>
          <a:blip r:embed="rId2"/>
          <a:stretch/>
        </p:blipFill>
        <p:spPr>
          <a:xfrm>
            <a:off x="838080" y="1400040"/>
            <a:ext cx="7467840" cy="1568520"/>
          </a:xfrm>
          <a:prstGeom prst="rect">
            <a:avLst/>
          </a:prstGeom>
          <a:ln w="0">
            <a:noFill/>
          </a:ln>
        </p:spPr>
      </p:pic>
      <p:sp>
        <p:nvSpPr>
          <p:cNvPr id="577" name="矩形 3"/>
          <p:cNvSpPr/>
          <p:nvPr/>
        </p:nvSpPr>
        <p:spPr>
          <a:xfrm>
            <a:off x="1836360" y="57150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AutoShape 2"/>
          <p:cNvSpPr/>
          <p:nvPr/>
        </p:nvSpPr>
        <p:spPr>
          <a:xfrm>
            <a:off x="0" y="1314360"/>
            <a:ext cx="8820000" cy="5543640"/>
          </a:xfrm>
          <a:prstGeom prst="cloudCallout">
            <a:avLst>
              <a:gd name="adj1" fmla="val -47245"/>
              <a:gd name="adj2" fmla="val 4882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小组长指令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号同学发言，检查自学情况。其他同学纠正、补充，统一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平时的松坊溪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雪中的松坊溪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冬天的松坊溪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Group 3"/>
          <p:cNvGrpSpPr/>
          <p:nvPr/>
        </p:nvGrpSpPr>
        <p:grpSpPr>
          <a:xfrm>
            <a:off x="755640" y="0"/>
            <a:ext cx="7415640" cy="1844280"/>
            <a:chOff x="755640" y="0"/>
            <a:chExt cx="7415640" cy="1844280"/>
          </a:xfrm>
        </p:grpSpPr>
        <p:pic>
          <p:nvPicPr>
            <p:cNvPr id="618" name="Picture 4" descr="3"/>
            <p:cNvPicPr/>
            <p:nvPr/>
          </p:nvPicPr>
          <p:blipFill>
            <a:blip r:embed="rId1"/>
            <a:stretch/>
          </p:blipFill>
          <p:spPr>
            <a:xfrm>
              <a:off x="755640" y="0"/>
              <a:ext cx="2715120" cy="18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9" name="Text Box 5"/>
            <p:cNvSpPr/>
            <p:nvPr/>
          </p:nvSpPr>
          <p:spPr>
            <a:xfrm>
              <a:off x="3829680" y="535320"/>
              <a:ext cx="4341600" cy="581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议：（</a:t>
              </a: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分钟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0" name="文本框 1"/>
          <p:cNvSpPr/>
          <p:nvPr/>
        </p:nvSpPr>
        <p:spPr>
          <a:xfrm>
            <a:off x="1730520" y="6156360"/>
            <a:ext cx="62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AutoShape 2"/>
          <p:cNvSpPr/>
          <p:nvPr/>
        </p:nvSpPr>
        <p:spPr>
          <a:xfrm>
            <a:off x="0" y="1314360"/>
            <a:ext cx="8820000" cy="5543640"/>
          </a:xfrm>
          <a:prstGeom prst="cloudCallout">
            <a:avLst>
              <a:gd name="adj1" fmla="val -47245"/>
              <a:gd name="adj2" fmla="val 4882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感情朗读给你留下深刻印象的词句，谈谈你从这些词句中体会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同学回答，其他组有不同意见可以补充，不要重复前面同学的意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有独特见解的可获得最佳发言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2" name="Group 3"/>
          <p:cNvGrpSpPr/>
          <p:nvPr/>
        </p:nvGrpSpPr>
        <p:grpSpPr>
          <a:xfrm>
            <a:off x="755640" y="0"/>
            <a:ext cx="7415640" cy="1844280"/>
            <a:chOff x="755640" y="0"/>
            <a:chExt cx="7415640" cy="1844280"/>
          </a:xfrm>
        </p:grpSpPr>
        <p:pic>
          <p:nvPicPr>
            <p:cNvPr id="623" name="Picture 4" descr="3"/>
            <p:cNvPicPr/>
            <p:nvPr/>
          </p:nvPicPr>
          <p:blipFill>
            <a:blip r:embed="rId1"/>
            <a:stretch/>
          </p:blipFill>
          <p:spPr>
            <a:xfrm>
              <a:off x="755640" y="0"/>
              <a:ext cx="2715120" cy="18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Text Box 5"/>
            <p:cNvSpPr/>
            <p:nvPr/>
          </p:nvSpPr>
          <p:spPr>
            <a:xfrm>
              <a:off x="3829680" y="535320"/>
              <a:ext cx="4341600" cy="581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展：（</a:t>
              </a: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分钟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AutoShape 2"/>
          <p:cNvSpPr/>
          <p:nvPr/>
        </p:nvSpPr>
        <p:spPr>
          <a:xfrm>
            <a:off x="76320" y="1295280"/>
            <a:ext cx="8820000" cy="5543640"/>
          </a:xfrm>
          <a:prstGeom prst="cloudCallout">
            <a:avLst>
              <a:gd name="adj1" fmla="val -47245"/>
              <a:gd name="adj2" fmla="val 4882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平时的松坊溪是彩色的、发亮的，给人一种恬静的、亮丽的美。而冬天来临之前的松坊溪是素洁的、高雅的美，她美得奇特，美得独具一格，即使严冬中仍然蕴藏着无限的生机，酝酿着又一个新的春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6" name="Group 3"/>
          <p:cNvGrpSpPr/>
          <p:nvPr/>
        </p:nvGrpSpPr>
        <p:grpSpPr>
          <a:xfrm>
            <a:off x="755640" y="0"/>
            <a:ext cx="7415640" cy="1844280"/>
            <a:chOff x="755640" y="0"/>
            <a:chExt cx="7415640" cy="1844280"/>
          </a:xfrm>
        </p:grpSpPr>
        <p:pic>
          <p:nvPicPr>
            <p:cNvPr id="627" name="Picture 4" descr="3"/>
            <p:cNvPicPr/>
            <p:nvPr/>
          </p:nvPicPr>
          <p:blipFill>
            <a:blip r:embed="rId1"/>
            <a:stretch/>
          </p:blipFill>
          <p:spPr>
            <a:xfrm>
              <a:off x="755640" y="0"/>
              <a:ext cx="2715120" cy="18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8" name="Text Box 5"/>
            <p:cNvSpPr/>
            <p:nvPr/>
          </p:nvSpPr>
          <p:spPr>
            <a:xfrm>
              <a:off x="3829680" y="535320"/>
              <a:ext cx="4341600" cy="581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评：（</a:t>
              </a: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分钟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4"/>
          <p:cNvSpPr/>
          <p:nvPr/>
        </p:nvSpPr>
        <p:spPr>
          <a:xfrm>
            <a:off x="304920" y="1828800"/>
            <a:ext cx="8610480" cy="4343400"/>
          </a:xfrm>
          <a:prstGeom prst="rect">
            <a:avLst/>
          </a:prstGeom>
          <a:solidFill>
            <a:srgbClr val="bbe0e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2"/>
          <p:cNvSpPr/>
          <p:nvPr/>
        </p:nvSpPr>
        <p:spPr>
          <a:xfrm>
            <a:off x="574560" y="2022480"/>
            <a:ext cx="807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像柳絮一般的雪，像芦花一般的雪，像蒲公英的带绒毛的种子一般的雪，在风中飞舞。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8"/>
          <p:cNvSpPr/>
          <p:nvPr/>
        </p:nvSpPr>
        <p:spPr>
          <a:xfrm>
            <a:off x="622440" y="4125960"/>
            <a:ext cx="82296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句话把雪比作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写出了雪花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特点，从中感受到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          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9"/>
          <p:cNvSpPr/>
          <p:nvPr/>
        </p:nvSpPr>
        <p:spPr>
          <a:xfrm>
            <a:off x="3137040" y="3973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柳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10"/>
          <p:cNvSpPr/>
          <p:nvPr/>
        </p:nvSpPr>
        <p:spPr>
          <a:xfrm>
            <a:off x="4660920" y="3973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芦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1"/>
          <p:cNvSpPr/>
          <p:nvPr/>
        </p:nvSpPr>
        <p:spPr>
          <a:xfrm>
            <a:off x="6489720" y="39736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蒲公英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12"/>
          <p:cNvSpPr/>
          <p:nvPr/>
        </p:nvSpPr>
        <p:spPr>
          <a:xfrm>
            <a:off x="698400" y="473544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带绒毛的种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13"/>
          <p:cNvSpPr/>
          <p:nvPr/>
        </p:nvSpPr>
        <p:spPr>
          <a:xfrm>
            <a:off x="7404120" y="46594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14"/>
          <p:cNvSpPr/>
          <p:nvPr/>
        </p:nvSpPr>
        <p:spPr>
          <a:xfrm>
            <a:off x="6261120" y="46594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15"/>
          <p:cNvSpPr/>
          <p:nvPr/>
        </p:nvSpPr>
        <p:spPr>
          <a:xfrm>
            <a:off x="5270400" y="473544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Group 16"/>
          <p:cNvGrpSpPr/>
          <p:nvPr/>
        </p:nvGrpSpPr>
        <p:grpSpPr>
          <a:xfrm>
            <a:off x="700200" y="14400"/>
            <a:ext cx="7471080" cy="1844280"/>
            <a:chOff x="700200" y="14400"/>
            <a:chExt cx="7471080" cy="1844280"/>
          </a:xfrm>
        </p:grpSpPr>
        <p:pic>
          <p:nvPicPr>
            <p:cNvPr id="640" name="Picture 17" descr="3"/>
            <p:cNvPicPr/>
            <p:nvPr/>
          </p:nvPicPr>
          <p:blipFill>
            <a:blip r:embed="rId2"/>
            <a:stretch/>
          </p:blipFill>
          <p:spPr>
            <a:xfrm>
              <a:off x="700200" y="14400"/>
              <a:ext cx="2714760" cy="18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1" name="Text Box 18"/>
            <p:cNvSpPr/>
            <p:nvPr/>
          </p:nvSpPr>
          <p:spPr>
            <a:xfrm>
              <a:off x="3830040" y="824040"/>
              <a:ext cx="4341240" cy="581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评：（</a:t>
              </a: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分钟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Text Box 7"/>
          <p:cNvSpPr/>
          <p:nvPr/>
        </p:nvSpPr>
        <p:spPr>
          <a:xfrm>
            <a:off x="1219320" y="152388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雪化了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446A1-D146-46AC-863B-0D6DFA8B192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13"/>
          <p:cNvSpPr/>
          <p:nvPr/>
        </p:nvSpPr>
        <p:spPr>
          <a:xfrm>
            <a:off x="1557360" y="3048120"/>
            <a:ext cx="6248520" cy="169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3300"/>
                </a:solidFill>
                <a:latin typeface="黑体"/>
                <a:ea typeface="黑体"/>
              </a:rPr>
              <a:t>    </a:t>
            </a:r>
            <a:r>
              <a:rPr b="0" lang="zh-CN" sz="3500" spc="-1" strike="noStrike">
                <a:solidFill>
                  <a:srgbClr val="ff3300"/>
                </a:solidFill>
                <a:latin typeface="黑体"/>
                <a:ea typeface="黑体"/>
              </a:rPr>
              <a:t>溪中的大溪石上和小溪石上都覆盖着白雪了。好像有一群    </a:t>
            </a:r>
            <a:r>
              <a:rPr b="1" lang="zh-CN" sz="3500" spc="-1" strike="noStrike">
                <a:solidFill>
                  <a:srgbClr val="ff3300"/>
                </a:solidFill>
                <a:latin typeface="黑体"/>
                <a:ea typeface="黑体"/>
              </a:rPr>
              <a:t>的</a:t>
            </a:r>
            <a:r>
              <a:rPr b="0" lang="zh-CN" sz="3500" spc="-1" strike="noStrike">
                <a:solidFill>
                  <a:srgbClr val="ff3300"/>
                </a:solidFill>
                <a:latin typeface="黑体"/>
                <a:ea typeface="黑体"/>
              </a:rPr>
              <a:t>小牛，在溪中饮水；好像有两只    </a:t>
            </a:r>
            <a:r>
              <a:rPr b="1" lang="zh-CN" sz="3500" spc="-1" strike="noStrike">
                <a:solidFill>
                  <a:srgbClr val="ff3300"/>
                </a:solidFill>
                <a:latin typeface="黑体"/>
                <a:ea typeface="黑体"/>
              </a:rPr>
              <a:t>的</a:t>
            </a:r>
            <a:r>
              <a:rPr b="0" lang="zh-CN" sz="3500" spc="-1" strike="noStrike">
                <a:solidFill>
                  <a:srgbClr val="ff3300"/>
                </a:solidFill>
                <a:latin typeface="黑体"/>
                <a:ea typeface="黑体"/>
              </a:rPr>
              <a:t>狮睡在雪地里；好像有几只    </a:t>
            </a:r>
            <a:r>
              <a:rPr b="1" lang="zh-CN" sz="3500" spc="-1" strike="noStrike">
                <a:solidFill>
                  <a:srgbClr val="ff3300"/>
                </a:solidFill>
                <a:latin typeface="黑体"/>
                <a:ea typeface="黑体"/>
              </a:rPr>
              <a:t>的</a:t>
            </a:r>
            <a:r>
              <a:rPr b="0" lang="zh-CN" sz="3500" spc="-1" strike="noStrike">
                <a:solidFill>
                  <a:srgbClr val="ff3300"/>
                </a:solidFill>
                <a:latin typeface="黑体"/>
                <a:ea typeface="黑体"/>
              </a:rPr>
              <a:t>熊，正准备从溪中    走上溪岸。</a:t>
            </a:r>
            <a:r>
              <a:rPr b="0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14"/>
          <p:cNvSpPr/>
          <p:nvPr/>
        </p:nvSpPr>
        <p:spPr>
          <a:xfrm>
            <a:off x="3724200" y="4624560"/>
            <a:ext cx="16099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白色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5"/>
          <p:cNvSpPr/>
          <p:nvPr/>
        </p:nvSpPr>
        <p:spPr>
          <a:xfrm>
            <a:off x="4605480" y="5133960"/>
            <a:ext cx="16430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白色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16"/>
          <p:cNvSpPr/>
          <p:nvPr/>
        </p:nvSpPr>
        <p:spPr>
          <a:xfrm>
            <a:off x="3743280" y="5700600"/>
            <a:ext cx="15145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冒雪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17"/>
          <p:cNvSpPr/>
          <p:nvPr/>
        </p:nvSpPr>
        <p:spPr>
          <a:xfrm>
            <a:off x="1976400" y="4114800"/>
            <a:ext cx="13762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白色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爱的礼赞（古诺）.mp3" descr=""/>
          <p:cNvPicPr/>
          <p:nvPr/>
        </p:nvPicPr>
        <p:blipFill>
          <a:blip r:embed="rId2"/>
          <a:stretch/>
        </p:blipFill>
        <p:spPr>
          <a:xfrm>
            <a:off x="8839080" y="6248520"/>
            <a:ext cx="304920" cy="304560"/>
          </a:xfrm>
          <a:prstGeom prst="rect">
            <a:avLst/>
          </a:prstGeom>
          <a:ln w="0">
            <a:noFill/>
          </a:ln>
        </p:spPr>
      </p:pic>
      <p:grpSp>
        <p:nvGrpSpPr>
          <p:cNvPr id="584" name="Group 26"/>
          <p:cNvGrpSpPr/>
          <p:nvPr/>
        </p:nvGrpSpPr>
        <p:grpSpPr>
          <a:xfrm>
            <a:off x="533520" y="152280"/>
            <a:ext cx="7415640" cy="1844280"/>
            <a:chOff x="533520" y="152280"/>
            <a:chExt cx="7415640" cy="1844280"/>
          </a:xfrm>
        </p:grpSpPr>
        <p:pic>
          <p:nvPicPr>
            <p:cNvPr id="585" name="Picture 27" descr="3"/>
            <p:cNvPicPr/>
            <p:nvPr/>
          </p:nvPicPr>
          <p:blipFill>
            <a:blip r:embed="rId3"/>
            <a:stretch/>
          </p:blipFill>
          <p:spPr>
            <a:xfrm>
              <a:off x="533520" y="152280"/>
              <a:ext cx="2715120" cy="18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Text Box 28"/>
            <p:cNvSpPr/>
            <p:nvPr/>
          </p:nvSpPr>
          <p:spPr>
            <a:xfrm>
              <a:off x="3607560" y="687600"/>
              <a:ext cx="4341600" cy="581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导：（</a:t>
              </a: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1-4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分钟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579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580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580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581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581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70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582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582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583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583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94926" fill="hold"/>
                                        <p:tgtEl>
                                          <p:spTgt spid="5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evt="onClick">
                          <p:tgtEl>
                            <p:spTgt spid="583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mediacall" presetID="3">
                                  <p:stCondLst>
                                    <p:cond delay="0"/>
                                  </p:stCondLst>
                                  <p:childTnLst>
                                    <p:cmd type="call" cmd="stop">
                                      <p:cBhvr>
                                        <p:cTn id="49" dur="1" fill="hold"/>
                                        <p:tgtEl>
                                          <p:spTgt spid="5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 Box 2"/>
          <p:cNvSpPr/>
          <p:nvPr/>
        </p:nvSpPr>
        <p:spPr>
          <a:xfrm>
            <a:off x="755640" y="2286000"/>
            <a:ext cx="741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正确认读本课的生字、新词，熟读课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给课文分层，写出小标题，并说说课文主要讲了什么事儿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Group 3"/>
          <p:cNvGrpSpPr/>
          <p:nvPr/>
        </p:nvGrpSpPr>
        <p:grpSpPr>
          <a:xfrm>
            <a:off x="755640" y="0"/>
            <a:ext cx="7415640" cy="1844280"/>
            <a:chOff x="755640" y="0"/>
            <a:chExt cx="7415640" cy="1844280"/>
          </a:xfrm>
        </p:grpSpPr>
        <p:pic>
          <p:nvPicPr>
            <p:cNvPr id="589" name="Picture 4" descr="3"/>
            <p:cNvPicPr/>
            <p:nvPr/>
          </p:nvPicPr>
          <p:blipFill>
            <a:blip r:embed="rId1"/>
            <a:stretch/>
          </p:blipFill>
          <p:spPr>
            <a:xfrm>
              <a:off x="755640" y="0"/>
              <a:ext cx="2715120" cy="18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Text Box 5"/>
            <p:cNvSpPr/>
            <p:nvPr/>
          </p:nvSpPr>
          <p:spPr>
            <a:xfrm>
              <a:off x="3829680" y="535320"/>
              <a:ext cx="4341600" cy="581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导：（</a:t>
              </a: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1-4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分钟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2000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" dur="2000"/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AutoShape 2"/>
          <p:cNvSpPr/>
          <p:nvPr/>
        </p:nvSpPr>
        <p:spPr>
          <a:xfrm>
            <a:off x="0" y="1557360"/>
            <a:ext cx="8893080" cy="5040360"/>
          </a:xfrm>
          <a:prstGeom prst="cloudCallout">
            <a:avLst>
              <a:gd name="adj1" fmla="val -27277"/>
              <a:gd name="adj2" fmla="val 45148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声朗读课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遍，标出自然段序号、画出生字、新词、短语以及带关联词语和修辞手法的句子，熟读积累。  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Group 3"/>
          <p:cNvGrpSpPr/>
          <p:nvPr/>
        </p:nvGrpSpPr>
        <p:grpSpPr>
          <a:xfrm>
            <a:off x="755640" y="0"/>
            <a:ext cx="7415640" cy="1844280"/>
            <a:chOff x="755640" y="0"/>
            <a:chExt cx="7415640" cy="1844280"/>
          </a:xfrm>
        </p:grpSpPr>
        <p:pic>
          <p:nvPicPr>
            <p:cNvPr id="593" name="Picture 4" descr="3"/>
            <p:cNvPicPr/>
            <p:nvPr/>
          </p:nvPicPr>
          <p:blipFill>
            <a:blip r:embed="rId1"/>
            <a:stretch/>
          </p:blipFill>
          <p:spPr>
            <a:xfrm>
              <a:off x="755640" y="0"/>
              <a:ext cx="2715120" cy="18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4" name="Text Box 5"/>
            <p:cNvSpPr/>
            <p:nvPr/>
          </p:nvSpPr>
          <p:spPr>
            <a:xfrm>
              <a:off x="3829680" y="535320"/>
              <a:ext cx="4341600" cy="581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导：（</a:t>
              </a: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1-4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分钟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AutoShape 2"/>
          <p:cNvSpPr/>
          <p:nvPr/>
        </p:nvSpPr>
        <p:spPr>
          <a:xfrm>
            <a:off x="0" y="1557360"/>
            <a:ext cx="8893080" cy="5040360"/>
          </a:xfrm>
          <a:prstGeom prst="cloudCallout">
            <a:avLst>
              <a:gd name="adj1" fmla="val -27277"/>
              <a:gd name="adj2" fmla="val 45148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借助工具书查出生字音、形、义。查出不懂词语的意思，可以把解释写在书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提出本课中不懂的问题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思考：这篇文章主要写了什么？是从哪几个方面描写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Group 3"/>
          <p:cNvGrpSpPr/>
          <p:nvPr/>
        </p:nvGrpSpPr>
        <p:grpSpPr>
          <a:xfrm>
            <a:off x="755640" y="0"/>
            <a:ext cx="7415640" cy="1844280"/>
            <a:chOff x="755640" y="0"/>
            <a:chExt cx="7415640" cy="1844280"/>
          </a:xfrm>
        </p:grpSpPr>
        <p:pic>
          <p:nvPicPr>
            <p:cNvPr id="597" name="Picture 4" descr="3"/>
            <p:cNvPicPr/>
            <p:nvPr/>
          </p:nvPicPr>
          <p:blipFill>
            <a:blip r:embed="rId1"/>
            <a:stretch/>
          </p:blipFill>
          <p:spPr>
            <a:xfrm>
              <a:off x="755640" y="0"/>
              <a:ext cx="2715120" cy="18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Text Box 5"/>
            <p:cNvSpPr/>
            <p:nvPr/>
          </p:nvSpPr>
          <p:spPr>
            <a:xfrm>
              <a:off x="3829680" y="535320"/>
              <a:ext cx="4341600" cy="581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思：（</a:t>
              </a: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分钟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矩形 6"/>
          <p:cNvSpPr/>
          <p:nvPr/>
        </p:nvSpPr>
        <p:spPr>
          <a:xfrm>
            <a:off x="2971800" y="297180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utoShape 2"/>
          <p:cNvSpPr/>
          <p:nvPr/>
        </p:nvSpPr>
        <p:spPr>
          <a:xfrm>
            <a:off x="0" y="1314360"/>
            <a:ext cx="8820000" cy="5543640"/>
          </a:xfrm>
          <a:prstGeom prst="cloudCallout">
            <a:avLst>
              <a:gd name="adj1" fmla="val -47245"/>
              <a:gd name="adj2" fmla="val 4882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小组长指令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号同学发言，检查自学情况。其他同学纠正、补充，统一标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组长领导组员分自然段朗读课文，给课文分层，写出小标题。总结课文讲了一件什么事儿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" name="Group 3"/>
          <p:cNvGrpSpPr/>
          <p:nvPr/>
        </p:nvGrpSpPr>
        <p:grpSpPr>
          <a:xfrm>
            <a:off x="755640" y="0"/>
            <a:ext cx="7415640" cy="1844280"/>
            <a:chOff x="755640" y="0"/>
            <a:chExt cx="7415640" cy="1844280"/>
          </a:xfrm>
        </p:grpSpPr>
        <p:pic>
          <p:nvPicPr>
            <p:cNvPr id="602" name="Picture 4" descr="3"/>
            <p:cNvPicPr/>
            <p:nvPr/>
          </p:nvPicPr>
          <p:blipFill>
            <a:blip r:embed="rId1"/>
            <a:stretch/>
          </p:blipFill>
          <p:spPr>
            <a:xfrm>
              <a:off x="755640" y="0"/>
              <a:ext cx="2715120" cy="18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Text Box 5"/>
            <p:cNvSpPr/>
            <p:nvPr/>
          </p:nvSpPr>
          <p:spPr>
            <a:xfrm>
              <a:off x="3829680" y="535320"/>
              <a:ext cx="4341600" cy="581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议：（</a:t>
              </a: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分钟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Text Box 2"/>
          <p:cNvSpPr/>
          <p:nvPr/>
        </p:nvSpPr>
        <p:spPr>
          <a:xfrm>
            <a:off x="179280" y="1484280"/>
            <a:ext cx="8534520" cy="441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能正确认读本文新出现的生字新词。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松坊溪 山垄 鹅卵石 斑点 柳絮 枫叶  火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草垛  篱笆  洞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能正确、流利、有感情地朗读课文。（三号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能给课文分层并加上小标题。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、能用简短的话说说课文讲了一件什么事儿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Group 3"/>
          <p:cNvGrpSpPr/>
          <p:nvPr/>
        </p:nvGrpSpPr>
        <p:grpSpPr>
          <a:xfrm>
            <a:off x="755640" y="0"/>
            <a:ext cx="7415640" cy="1844280"/>
            <a:chOff x="755640" y="0"/>
            <a:chExt cx="7415640" cy="1844280"/>
          </a:xfrm>
        </p:grpSpPr>
        <p:pic>
          <p:nvPicPr>
            <p:cNvPr id="606" name="Picture 4" descr="3"/>
            <p:cNvPicPr/>
            <p:nvPr/>
          </p:nvPicPr>
          <p:blipFill>
            <a:blip r:embed="rId1"/>
            <a:stretch/>
          </p:blipFill>
          <p:spPr>
            <a:xfrm>
              <a:off x="755640" y="0"/>
              <a:ext cx="2715120" cy="18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Text Box 5"/>
            <p:cNvSpPr/>
            <p:nvPr/>
          </p:nvSpPr>
          <p:spPr>
            <a:xfrm>
              <a:off x="3829680" y="535320"/>
              <a:ext cx="4341600" cy="581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展：（</a:t>
              </a: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分钟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ext Box 2"/>
          <p:cNvSpPr/>
          <p:nvPr/>
        </p:nvSpPr>
        <p:spPr>
          <a:xfrm>
            <a:off x="179280" y="1600200"/>
            <a:ext cx="8534520" cy="303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本文容易读错的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松坊溪 山垄  篱笆  洞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课文主要写了什么？是从哪几个方面描写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文通过对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松坊溪冬景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平时景象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对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描写，突出表现了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松坊溪冬天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别具特色的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美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展现了大自然的灵性，表达了作者热爱大自然的情怀。（平时  雪中  雪后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Group 3"/>
          <p:cNvGrpSpPr/>
          <p:nvPr/>
        </p:nvGrpSpPr>
        <p:grpSpPr>
          <a:xfrm>
            <a:off x="755640" y="0"/>
            <a:ext cx="7415640" cy="1844280"/>
            <a:chOff x="755640" y="0"/>
            <a:chExt cx="7415640" cy="1844280"/>
          </a:xfrm>
        </p:grpSpPr>
        <p:pic>
          <p:nvPicPr>
            <p:cNvPr id="610" name="Picture 4" descr="3"/>
            <p:cNvPicPr/>
            <p:nvPr/>
          </p:nvPicPr>
          <p:blipFill>
            <a:blip r:embed="rId1"/>
            <a:stretch/>
          </p:blipFill>
          <p:spPr>
            <a:xfrm>
              <a:off x="755640" y="0"/>
              <a:ext cx="2715120" cy="18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Text Box 5"/>
            <p:cNvSpPr/>
            <p:nvPr/>
          </p:nvSpPr>
          <p:spPr>
            <a:xfrm>
              <a:off x="3829680" y="535320"/>
              <a:ext cx="4341600" cy="581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评：（</a:t>
              </a: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分钟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AutoShape 3"/>
          <p:cNvSpPr/>
          <p:nvPr/>
        </p:nvSpPr>
        <p:spPr>
          <a:xfrm>
            <a:off x="0" y="1676520"/>
            <a:ext cx="8604360" cy="4681440"/>
          </a:xfrm>
          <a:prstGeom prst="cloudCallout">
            <a:avLst>
              <a:gd name="adj1" fmla="val 50555"/>
              <a:gd name="adj2" fmla="val 185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有感情朗读课文，细细品味，平时的松坊溪、雪中的松坊溪、雪后的松坊溪分别给你留下了怎样的印象？你是从哪些词句感受到的？请你画出来，美美地读一读，谈谈理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3" name="Group 4"/>
          <p:cNvGrpSpPr/>
          <p:nvPr/>
        </p:nvGrpSpPr>
        <p:grpSpPr>
          <a:xfrm>
            <a:off x="755640" y="0"/>
            <a:ext cx="7415640" cy="1844280"/>
            <a:chOff x="755640" y="0"/>
            <a:chExt cx="7415640" cy="1844280"/>
          </a:xfrm>
        </p:grpSpPr>
        <p:pic>
          <p:nvPicPr>
            <p:cNvPr id="614" name="Picture 5" descr="3"/>
            <p:cNvPicPr/>
            <p:nvPr/>
          </p:nvPicPr>
          <p:blipFill>
            <a:blip r:embed="rId1"/>
            <a:stretch/>
          </p:blipFill>
          <p:spPr>
            <a:xfrm>
              <a:off x="755640" y="0"/>
              <a:ext cx="2715120" cy="18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Text Box 6"/>
            <p:cNvSpPr/>
            <p:nvPr/>
          </p:nvSpPr>
          <p:spPr>
            <a:xfrm>
              <a:off x="3829680" y="535320"/>
              <a:ext cx="4341600" cy="581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导：（</a:t>
              </a: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1-4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分钟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1T13:19:2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39:01Z</dcterms:modified>
  <cp:revision>2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