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092-6F8C-4B63-A769-7F5C7CAE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0BC-C41C-4835-8495-A2C55F93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012-9201-4F71-BECD-A5302326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4784-9762-4A90-AE2A-B8C8F31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570A5-4DEF-44D1-AA49-D7DFCDCD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36E3-8480-40FA-A6BA-89A4F7A9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DC391-4C18-4476-82D7-D729D72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3970-6513-42A6-AFB8-F7C7C00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5625-C654-4BA2-A9CF-55931C5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1B195-FD3F-4CF0-8B13-3A639AAC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4530-0C78-41D5-99D5-46C2C80C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3564D-8B9A-4E13-B7F1-DD86A98A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4889-4CB8-4A51-AC0A-D95FF1A7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53F8-6B26-4D3C-A70A-2C0B084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B2A9C-4CE2-4443-BC2D-415D6AB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A956-CB0A-458A-AB79-4313677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3629-0A15-4250-B264-2B33CAA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FD545-4AA2-4622-9C32-CEBE80CE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D592E-F574-411B-8CE7-57C87A1D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CBD9-42E3-4F0E-A39F-F1709B7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2728-8F70-4163-83B5-E027EF9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FA94D-3547-4237-A107-C9E4D9B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BA448-5E46-4A4D-8409-5BFF62AC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240F-A34B-4A27-AB9B-23EBB3A7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F31EA-FBF0-4810-850A-2E6C2747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CAB03-022E-4F6C-9036-07CCC194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AF75-0E99-4020-9E33-4B05B2B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2BCC0-F7F5-4D7B-BFA3-3BED575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1D8C2-1250-4ADD-BAE4-D24A80FE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79579-3917-414D-9EC3-B67C3572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CB88A-32A6-47B1-BD48-858D692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E3206-AD5A-4A0E-824D-7FA413C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954F-BFF8-4E51-A354-D355121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60D-9A07-447C-9AC7-551869DD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8D69A-51E5-49A1-82EB-6C01E9B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8FCA9-1F62-4687-9B21-A26DFC9E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ADC21-94DF-4B62-8494-1BA1745B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C3F10-AB3C-4A88-84FE-AD4E957C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A4FA5-B912-4C3C-B2BC-B4B8D350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0B491-245E-4B54-93CE-FFB0BDF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199EF-751F-47E3-8453-87395021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4B919-292C-4016-A52D-C122774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66EB5-4F31-4B76-85A2-D9A0E8D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6B8E-FBA8-417C-ADEF-280EF70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65C-4D54-4537-B097-8543D7C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FDBC-8A4C-405A-BB4D-CBDAAB9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A3ED-3FAA-4F77-B226-AC6CA2C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D02E-B432-4B43-BB68-86417D2C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72AB2-B6D5-48BC-B1AB-467F029D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8FD10-2040-4ED6-948B-A7F7486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E456-5D27-4881-9BE5-40FA69FB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F3B2D-DC85-4CE1-B288-3CF78764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676B-48B2-460B-AD4A-2DB1FAE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6FFC-D633-41A2-8742-1E207909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F0F0F-A0C0-488A-A7A0-2EBE14E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058-6C6F-4795-8CD6-8719D0BF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F244A-90FE-4527-939E-4A6FED4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ED0A5-9804-48AA-9961-FA2D476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15401-11C2-4A55-9E13-1AC1E62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357CD-B54E-498E-9431-2B0F3D8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3E4D8-DFD5-4EE2-A9AE-7C84583C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A1E3B-D587-4D6D-99BA-D0ED959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CEDF-C645-4723-805D-530CEAF3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47438-0EFF-41B5-B00B-C2867AB1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8953D-D1F7-4B6E-AD98-CCC3243E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60295-6080-448E-9B7F-1DCB202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3FF-9099-48EB-8F54-CDB927E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5A5A-6758-4A08-A1F1-E05DA12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663D2-8F68-43A7-8BE9-8E22401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4D5C2-6085-4400-9E13-A64139A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8E8C-F186-46E8-B4C7-76A6F9CD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4D543-B72A-463B-9EB5-71FE87F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4843B-9C59-4130-AFC0-1B301B1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49B64-18F6-4837-8932-4A444A3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55CE3-8FE4-45A9-AB78-9D60BD5F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0B6E2-37F2-46DF-A748-5CA23DE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A8F-8F84-4F09-87F4-A1CFEFC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C1E-8E33-499E-BF73-933B1B2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00E-F0B8-4939-A4E0-6AC0A9B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010-8062-49D6-99F3-0B07382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7A0-4F67-4D01-AC1D-37C19365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8CC-DFC6-4FD1-B9ED-1E2D6C6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82-D651-4113-A079-05359F1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A7C-CE73-4C96-81EB-781E25CF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BEF6-72A5-4794-AEEA-9CCFAE14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52BB-B0CF-4852-A99F-C944262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0600-60F4-4412-A522-C59663F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A344-93FA-479E-AD5D-DFF0DCB0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02E-F5EB-4373-A54C-C3EFD23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0F55-E981-4DA5-AFCC-CAFE644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BBB-618C-4BD7-84C2-87253E6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009-6B16-4243-8975-471DBDE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5ABD-7EF7-4776-B0CF-5A830A9D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FD6-6F9A-4309-81D3-35B59DF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6D5-8342-42F5-ACC1-ACEB8BFE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0CB5-904D-40B1-903F-191C8E4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27F3-4511-4596-9C3F-B93A9B38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C082-E064-4999-9D6A-6EE2137C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FC18-4336-4E67-A949-CB226F8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BC50-4C41-4467-8040-44597A5A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FB86-7785-42EF-96D9-9B1CA30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CC1B-5154-4A30-AD33-B449A87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A396-4C46-4C71-B02A-7DE0C69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670C-2C78-4F87-8479-115BD10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F5C1-5543-4135-B44E-B955583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0EB9-D575-4E84-A4D9-42AACB5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ACDB-6086-4D2B-92D1-10655B1A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363D-58E3-47E9-A136-7BF7C8FA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1F80-A731-4C27-8255-2DC6AE1A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1941-12BA-4EDE-8929-F08582E3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FCEB-03AC-41BC-A32D-B0A4A44E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8F71-9D41-4B63-ACFC-EECD397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E24C-BA83-483C-9015-3C1ABF12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786F-C56B-477E-A492-9B745C0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72E0-B0FB-47A1-B06F-F70D416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7D37-BDC6-4A1C-8B8D-029DA7B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070D-6776-48CC-9A68-3E499E2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7016-7FBF-4873-A149-5635FF7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782D-88F3-4D4F-93A1-AA42B592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06F6-BF8F-4FBB-A48F-DEE468BF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C32B3-73BE-42B6-A340-CE5CED42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544D-9AC7-4E9B-9E0C-7551CBB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B1D2-82BE-4357-9255-17BD8114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7B18-B49B-4CEA-BF54-1BD366CB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DEA5-86ED-4A1A-AD5A-18824D2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A988-073C-40FD-8382-DA80AA9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ED348-2EDC-4AFC-AE8C-7A3F0A0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DC7C-EAA1-48A5-B928-5255C15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7723-A065-49E6-A311-1D48DFF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1750-964F-4CA7-818F-F2CEB84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1C48-82CC-4688-8BBF-6817C207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BDD0-6ADC-4CAC-B9FC-7DDBAEF0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6546-98D1-4146-83F1-67ADBEDE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BF6C-BDD0-4204-AEF9-2D0987ED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93CED-A950-48F0-A069-21321B4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518F-F305-48A9-B108-4EDF6F1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E3D3-144D-4BB7-982F-D40BC444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6CE1-6902-4792-892F-F3F660F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553B-8F9A-48B3-B83F-5B34A1A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3B7BE-98B9-4347-BB4D-924B9B3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0DB7-6D73-41EE-9918-A37FC04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E001-93A4-46F9-A02D-CF2F785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4541-18AC-4C51-9B3C-9563D135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A77C-B5D6-4FC3-AF2A-6569090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D99E-FFC8-436C-9658-C76EC983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03F2-FEE1-4F4B-ACDF-EA720EB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4DAA-0B26-4193-8292-8E4699D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A799-D3AF-4B24-B166-48C426425A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F328-DD75-4155-9DB0-165E4E7196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C26B-1D37-4A5F-80BF-3BE31F5FB4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73B-7763-48C7-B88E-B9ECB1FFF2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CE8C-09B3-46D1-9BC8-E15B6CDCB2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CFAD-16CF-413F-8609-5DCAC81CA9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D64-8EB0-48C7-9A2F-B71365B97F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6725-E2A0-4BDF-9ADA-EF27496415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E80-28ED-4A0D-A7FE-63D22BFD36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860-3927-488A-BEEA-B3D89BC0AA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34B-0E9F-4CD7-8697-B2363C689C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057-0746-49EE-B68B-652ADC30ED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0417xuelin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6" name="Text Box 5" descr=""/>
          <p:cNvPicPr/>
          <p:nvPr/>
        </p:nvPicPr>
        <p:blipFill>
          <a:blip r:embed="rId2"/>
          <a:stretch/>
        </p:blipFill>
        <p:spPr>
          <a:xfrm>
            <a:off x="838080" y="1400040"/>
            <a:ext cx="7467840" cy="1568520"/>
          </a:xfrm>
          <a:prstGeom prst="rect">
            <a:avLst/>
          </a:prstGeom>
          <a:ln w="0">
            <a:noFill/>
          </a:ln>
        </p:spPr>
      </p:pic>
      <p:sp>
        <p:nvSpPr>
          <p:cNvPr id="577" name="矩形 3"/>
          <p:cNvSpPr/>
          <p:nvPr/>
        </p:nvSpPr>
        <p:spPr>
          <a:xfrm>
            <a:off x="183636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组长指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同学发言，检查自学情况。其他同学纠正、补充，统一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时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中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冬天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8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1562040" y="625320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朗读给你留下深刻印象的词句，谈谈你从这些词句中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同学回答，其他组有不同意见可以补充，不要重复前面同学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独特见解的可获得最佳发言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23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展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76320" y="129528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时的松坊溪是彩色的、发亮的，给人一种恬静的、亮丽的美。而冬天来临之前的松坊溪是素洁的、高雅的美，她美得奇特，美得独具一格，即使严冬中仍然蕴藏着无限的生机，酝酿着又一个新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27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304920" y="1828800"/>
            <a:ext cx="8610480" cy="43434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"/>
          <p:cNvSpPr/>
          <p:nvPr/>
        </p:nvSpPr>
        <p:spPr>
          <a:xfrm>
            <a:off x="574560" y="2022480"/>
            <a:ext cx="80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像柳絮一般的雪，像芦花一般的雪，像蒲公英的带绒毛的种子一般的雪，在风中飞舞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22440" y="412596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把雪比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写出了雪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，从中感受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3137040" y="3973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柳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4660920" y="3973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芦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6489720" y="3973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蒲公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698400" y="4735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绒毛的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7404120" y="465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4"/>
          <p:cNvSpPr/>
          <p:nvPr/>
        </p:nvSpPr>
        <p:spPr>
          <a:xfrm>
            <a:off x="6261120" y="465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5270400" y="47354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6"/>
          <p:cNvGrpSpPr/>
          <p:nvPr/>
        </p:nvGrpSpPr>
        <p:grpSpPr>
          <a:xfrm>
            <a:off x="700200" y="14400"/>
            <a:ext cx="7471080" cy="1844280"/>
            <a:chOff x="700200" y="14400"/>
            <a:chExt cx="7471080" cy="1844280"/>
          </a:xfrm>
        </p:grpSpPr>
        <p:pic>
          <p:nvPicPr>
            <p:cNvPr id="640" name="Picture 17" descr="3"/>
            <p:cNvPicPr/>
            <p:nvPr/>
          </p:nvPicPr>
          <p:blipFill>
            <a:blip r:embed="rId2"/>
            <a:stretch/>
          </p:blipFill>
          <p:spPr>
            <a:xfrm>
              <a:off x="700200" y="14400"/>
              <a:ext cx="271476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18"/>
            <p:cNvSpPr/>
            <p:nvPr/>
          </p:nvSpPr>
          <p:spPr>
            <a:xfrm>
              <a:off x="3830040" y="824040"/>
              <a:ext cx="43412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7"/>
          <p:cNvSpPr/>
          <p:nvPr/>
        </p:nvSpPr>
        <p:spPr>
          <a:xfrm>
            <a:off x="1219320" y="1523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雪化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25A-7B7F-4FCD-94F1-805F66D49C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3"/>
          <p:cNvSpPr/>
          <p:nvPr/>
        </p:nvSpPr>
        <p:spPr>
          <a:xfrm>
            <a:off x="1557360" y="3048120"/>
            <a:ext cx="624852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溪中的大溪石上和小溪石上都覆盖着白雪了。好像有一群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小牛，在溪中饮水；好像有两只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狮睡在雪地里。好像有几只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熊，正准备从溪中    走上溪岸。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3724200" y="4624560"/>
            <a:ext cx="1609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4605480" y="5133960"/>
            <a:ext cx="1643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3743280" y="5700600"/>
            <a:ext cx="151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冒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7"/>
          <p:cNvSpPr/>
          <p:nvPr/>
        </p:nvSpPr>
        <p:spPr>
          <a:xfrm>
            <a:off x="1976400" y="4114800"/>
            <a:ext cx="1376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爱的礼赞（古诺）.mp3" descr=""/>
          <p:cNvPicPr/>
          <p:nvPr/>
        </p:nvPicPr>
        <p:blipFill>
          <a:blip r:embed="rId2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26"/>
          <p:cNvGrpSpPr/>
          <p:nvPr/>
        </p:nvGrpSpPr>
        <p:grpSpPr>
          <a:xfrm>
            <a:off x="533520" y="152280"/>
            <a:ext cx="7415640" cy="1844280"/>
            <a:chOff x="533520" y="152280"/>
            <a:chExt cx="7415640" cy="1844280"/>
          </a:xfrm>
        </p:grpSpPr>
        <p:pic>
          <p:nvPicPr>
            <p:cNvPr id="585" name="Picture 27" descr="3"/>
            <p:cNvPicPr/>
            <p:nvPr/>
          </p:nvPicPr>
          <p:blipFill>
            <a:blip r:embed="rId3"/>
            <a:stretch/>
          </p:blipFill>
          <p:spPr>
            <a:xfrm>
              <a:off x="533520" y="15228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28"/>
            <p:cNvSpPr/>
            <p:nvPr/>
          </p:nvSpPr>
          <p:spPr>
            <a:xfrm>
              <a:off x="3607560" y="68760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7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4926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9" dur="1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55640" y="2286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认读本课的生字、新词，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给课文分层，写出小标题，并说说课文主要讲了什么事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89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2"/>
          <p:cNvSpPr/>
          <p:nvPr/>
        </p:nvSpPr>
        <p:spPr>
          <a:xfrm>
            <a:off x="0" y="1557360"/>
            <a:ext cx="8893080" cy="5040360"/>
          </a:xfrm>
          <a:prstGeom prst="cloudCallout">
            <a:avLst>
              <a:gd name="adj1" fmla="val -27277"/>
              <a:gd name="adj2" fmla="val 451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朗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，标出自然段序号、画出生字、新词、短语以及带关联词语和修辞手法的句子，熟读积累。 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93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>
            <a:off x="0" y="1557360"/>
            <a:ext cx="8893080" cy="5040360"/>
          </a:xfrm>
          <a:prstGeom prst="cloudCallout">
            <a:avLst>
              <a:gd name="adj1" fmla="val -27277"/>
              <a:gd name="adj2" fmla="val 451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借助工具书查出生字音、形、义。查出不懂词语的意思，可以把解释写在书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本课中不懂的问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这篇文章主要写了什么？是从哪几个方面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97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思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6"/>
          <p:cNvSpPr/>
          <p:nvPr/>
        </p:nvSpPr>
        <p:spPr>
          <a:xfrm>
            <a:off x="2971800" y="2971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组长指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同学发言，检查自学情况。其他同学纠正、补充，统一标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组长领导组员分自然段朗读课文，给课文分层，写出小标题。总结课文讲了一件什么事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02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79280" y="1484280"/>
            <a:ext cx="8534520" cy="44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能正确认读本文新出现的生字新词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坊溪 山垄 鹅卵石 斑点 柳絮 枫叶  火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垛  篱笆  洞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能正确、流利、有感情地朗读课文。（三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能给课文分层并加上小标题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能用简短的话说说课文讲了一件什么事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06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展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79280" y="1600200"/>
            <a:ext cx="8534520" cy="30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本文容易读错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坊溪 山垄  篱笆  洞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课文主要写了什么？是从哪几个方面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通过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松坊溪冬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时景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，突出表现了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松坊溪冬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具特色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展现了大自然的灵性，表达了作者热爱大自然的情怀。（平时  雪中  雪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0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3"/>
          <p:cNvSpPr/>
          <p:nvPr/>
        </p:nvSpPr>
        <p:spPr>
          <a:xfrm>
            <a:off x="0" y="1676520"/>
            <a:ext cx="8604360" cy="4681440"/>
          </a:xfrm>
          <a:prstGeom prst="cloudCallout">
            <a:avLst>
              <a:gd name="adj1" fmla="val 50555"/>
              <a:gd name="adj2" fmla="val 18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有感情朗读课文，细细品味，平时的松坊溪、雪中的松坊溪、雪后的松坊溪分别给你留下了怎样的印象？你是从哪些词句感受到的？请你画出来，美美地读一读，谈谈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4" name="Picture 5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6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3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54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