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2B98-EEE5-4DBB-89A1-88C48649BA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77B9-C1AD-4CD8-B737-9E287006AA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F73-0452-4C77-BBB8-7AFC3CA4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03F-BC01-4D35-9BB7-7FEB455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733-E338-4A21-8B2A-3FD16943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DC3-F88B-433D-A4BD-2EE85799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AD3-BA1E-4DE7-A032-4DAE9FFC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1A2-DD3E-4799-85ED-3E3ED1F3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956-65F1-4772-815F-39823824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611-1C3D-46D2-B8D5-01C0715D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8E1-34E9-45A1-A1D1-F22F6CE6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605-0EF6-4653-B338-4C9BCF08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819-829E-4E22-BED4-2025A9B1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FFF-7CB3-422B-A6DC-D6627F57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F5A6-F46C-4A74-9289-0D709E092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447920" y="20620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三 个 太 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38200" y="1069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u=441085449,414489345&amp;fm=0&amp;gp=8"/>
          <p:cNvPicPr/>
          <p:nvPr/>
        </p:nvPicPr>
        <p:blipFill>
          <a:blip r:embed="rId1"/>
          <a:stretch/>
        </p:blipFill>
        <p:spPr>
          <a:xfrm>
            <a:off x="1905120" y="39387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u=441085449,414489345&amp;fm=0&amp;gp=8"/>
          <p:cNvPicPr/>
          <p:nvPr/>
        </p:nvPicPr>
        <p:blipFill>
          <a:blip r:embed="rId2"/>
          <a:stretch/>
        </p:blipFill>
        <p:spPr>
          <a:xfrm>
            <a:off x="4038480" y="391464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u=441085449,414489345&amp;fm=0&amp;gp=8"/>
          <p:cNvPicPr/>
          <p:nvPr/>
        </p:nvPicPr>
        <p:blipFill>
          <a:blip r:embed="rId3"/>
          <a:stretch/>
        </p:blipFill>
        <p:spPr>
          <a:xfrm>
            <a:off x="6172200" y="391464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54" name="矩形 9"/>
          <p:cNvSpPr/>
          <p:nvPr/>
        </p:nvSpPr>
        <p:spPr>
          <a:xfrm>
            <a:off x="196020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388620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0" y="887400"/>
            <a:ext cx="4572000" cy="597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4605480" y="914400"/>
            <a:ext cx="4538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52280" y="0"/>
            <a:ext cx="5186520" cy="6705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5486400" y="3199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个太阳是晶晶画出来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1080" y="190512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晶晶小朋友为什么要画三个太阳，他是怎么想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7"/>
          <p:cNvSpPr txBox="1"/>
          <p:nvPr/>
        </p:nvSpPr>
        <p:spPr>
          <a:xfrm>
            <a:off x="3657600" y="15238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思考？？？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3" name="Picture 19" descr="u=1178897937,2553067619&amp;fm=0&amp;gp=2"/>
          <p:cNvPicPr/>
          <p:nvPr/>
        </p:nvPicPr>
        <p:blipFill>
          <a:blip r:embed="rId1"/>
          <a:stretch/>
        </p:blipFill>
        <p:spPr>
          <a:xfrm>
            <a:off x="1447920" y="1143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u=1178897937,2553067619&amp;fm=0&amp;gp=2"/>
          <p:cNvPicPr/>
          <p:nvPr/>
        </p:nvPicPr>
        <p:blipFill>
          <a:blip r:embed="rId2"/>
          <a:stretch/>
        </p:blipFill>
        <p:spPr>
          <a:xfrm>
            <a:off x="3962520" y="4648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u=1178897937,2553067619&amp;fm=0&amp;gp=2"/>
          <p:cNvPicPr/>
          <p:nvPr/>
        </p:nvPicPr>
        <p:blipFill>
          <a:blip r:embed="rId3"/>
          <a:stretch/>
        </p:blipFill>
        <p:spPr>
          <a:xfrm>
            <a:off x="6477120" y="1295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440" y="2437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认为晶晶是个怎样的孩子，我们应该向他学习些什么？你以后会怎么做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14800" y="990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267160" cy="242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6815111306493660"/>
          <p:cNvPicPr/>
          <p:nvPr/>
        </p:nvPicPr>
        <p:blipFill>
          <a:blip r:embed="rId2"/>
          <a:stretch/>
        </p:blipFill>
        <p:spPr>
          <a:xfrm>
            <a:off x="457200" y="2057400"/>
            <a:ext cx="28576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C6D1-C878-4E3E-9624-F6B3D75FA7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574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、流利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课文内容，学做有同情心的孩子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"/>
          <p:cNvSpPr/>
          <p:nvPr/>
        </p:nvSpPr>
        <p:spPr>
          <a:xfrm>
            <a:off x="1827360" y="6172200"/>
            <a:ext cx="64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hhdx01"/>
          <p:cNvPicPr/>
          <p:nvPr/>
        </p:nvPicPr>
        <p:blipFill>
          <a:blip r:embed="rId1"/>
          <a:stretch/>
        </p:blipFill>
        <p:spPr>
          <a:xfrm>
            <a:off x="2286000" y="990720"/>
            <a:ext cx="6248520" cy="493524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 rot="5400000">
            <a:off x="145800" y="2965320"/>
            <a:ext cx="21463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故事欣赏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maiguochaidexiaonvhai.mp3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3009600" y="61714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后你会有什么感受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7"/>
          <p:cNvSpPr/>
          <p:nvPr/>
        </p:nvSpPr>
        <p:spPr>
          <a:xfrm>
            <a:off x="1066680" y="2666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u=2509192080,710777739&amp;fm=0&amp;gp=42"/>
          <p:cNvPicPr/>
          <p:nvPr/>
        </p:nvPicPr>
        <p:blipFill>
          <a:blip r:embed="rId1"/>
          <a:stretch/>
        </p:blipFill>
        <p:spPr>
          <a:xfrm>
            <a:off x="3048120" y="457200"/>
            <a:ext cx="2590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"/>
          <p:cNvGrpSpPr/>
          <p:nvPr/>
        </p:nvGrpSpPr>
        <p:grpSpPr>
          <a:xfrm>
            <a:off x="380880" y="457200"/>
            <a:ext cx="8229600" cy="5562720"/>
            <a:chOff x="380880" y="457200"/>
            <a:chExt cx="8229600" cy="5562720"/>
          </a:xfrm>
        </p:grpSpPr>
        <p:pic>
          <p:nvPicPr>
            <p:cNvPr id="65" name="Picture 4" descr="u=2509192080,710777739&amp;fm=0&amp;gp=42"/>
            <p:cNvPicPr/>
            <p:nvPr/>
          </p:nvPicPr>
          <p:blipFill>
            <a:blip r:embed="rId2"/>
            <a:stretch/>
          </p:blipFill>
          <p:spPr>
            <a:xfrm>
              <a:off x="457200" y="533520"/>
              <a:ext cx="251460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u=2509192080,710777739&amp;fm=0&amp;gp=42"/>
            <p:cNvPicPr/>
            <p:nvPr/>
          </p:nvPicPr>
          <p:blipFill>
            <a:blip r:embed="rId3"/>
            <a:stretch/>
          </p:blipFill>
          <p:spPr>
            <a:xfrm>
              <a:off x="5715000" y="457200"/>
              <a:ext cx="26668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6" descr="u=2509192080,710777739&amp;fm=0&amp;gp=42"/>
            <p:cNvPicPr/>
            <p:nvPr/>
          </p:nvPicPr>
          <p:blipFill>
            <a:blip r:embed="rId4"/>
            <a:stretch/>
          </p:blipFill>
          <p:spPr>
            <a:xfrm>
              <a:off x="380880" y="3276720"/>
              <a:ext cx="259092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7" descr="u=2509192080,710777739&amp;fm=0&amp;gp=42"/>
            <p:cNvPicPr/>
            <p:nvPr/>
          </p:nvPicPr>
          <p:blipFill>
            <a:blip r:embed="rId5"/>
            <a:stretch/>
          </p:blipFill>
          <p:spPr>
            <a:xfrm>
              <a:off x="3124080" y="3276720"/>
              <a:ext cx="27432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8" descr="u=2509192080,710777739&amp;fm=0&amp;gp=42"/>
            <p:cNvPicPr/>
            <p:nvPr/>
          </p:nvPicPr>
          <p:blipFill>
            <a:blip r:embed="rId6"/>
            <a:stretch/>
          </p:blipFill>
          <p:spPr>
            <a:xfrm>
              <a:off x="5867280" y="3200400"/>
              <a:ext cx="27432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Rectangle 9"/>
          <p:cNvSpPr/>
          <p:nvPr/>
        </p:nvSpPr>
        <p:spPr>
          <a:xfrm>
            <a:off x="1331280" y="144720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998160" y="144720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6741360" y="137124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180800" y="41904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衣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4226760" y="434304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6400800" y="41904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亮晶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66680" y="1981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加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715000" y="167652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衣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5486400" y="350532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61840" y="17524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师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757840" y="18288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4038480" y="304920"/>
            <a:ext cx="13716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学写字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2640" y="228600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界有几个太阳？课文为什么说有三个太阳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u=441085449,414489345&amp;fm=0&amp;gp=8"/>
          <p:cNvPicPr/>
          <p:nvPr/>
        </p:nvPicPr>
        <p:blipFill>
          <a:blip r:embed="rId1"/>
          <a:stretch/>
        </p:blipFill>
        <p:spPr>
          <a:xfrm>
            <a:off x="990720" y="4572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u=441085449,414489345&amp;fm=0&amp;gp=8"/>
          <p:cNvPicPr/>
          <p:nvPr/>
        </p:nvPicPr>
        <p:blipFill>
          <a:blip r:embed="rId2"/>
          <a:stretch/>
        </p:blipFill>
        <p:spPr>
          <a:xfrm>
            <a:off x="3809880" y="45720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u=441085449,414489345&amp;fm=0&amp;gp=8"/>
          <p:cNvPicPr/>
          <p:nvPr/>
        </p:nvPicPr>
        <p:blipFill>
          <a:blip r:embed="rId3"/>
          <a:stretch/>
        </p:blipFill>
        <p:spPr>
          <a:xfrm>
            <a:off x="6553080" y="457200"/>
            <a:ext cx="1333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59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06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