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4C1-B62C-4249-8A7A-0E2B5DE921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BC9F-0F0A-42C0-B1E6-48BF0BF02068}" type="slidenum">
              <a:rPr b="0" lang="zh-CN" sz="1200" spc="-1" strike="noStrike">
                <a:solidFill>
                  <a:srgbClr val="3d3f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49C-CBF0-4E3D-B77F-CF8122F4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BBD-784C-4B6A-AA0E-B8E14FFA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25A-33CE-41C4-AB7E-587B1FA4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4D7-7247-4959-8863-F6E700F7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55D-FE9F-4380-B11C-37BD496E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E15D-9AA1-429F-9C7D-C321E20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282F-9236-4BF8-87A0-B9BBFC9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CE4A-F7D7-4B5E-8A6F-29B54E8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63A8-1128-46AF-BF0D-9229758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64F-EA16-446E-A4E3-D783CA3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280-550A-4E78-ABEC-B451E6A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1E6-6E27-4ED9-AD72-D8EAD83B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067D-1AD4-42A2-9B0C-CA60A1D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22F-DF83-43DF-99F0-99986CE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A7E4-7501-4B6C-8243-5B23E4E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C2D3-5F0B-4AF8-8179-8A3A4A8E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BBD-A313-49C0-B8B3-5D2F4F3F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622-1C81-4EC1-94EC-B42482C2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F84-6AF6-4C9F-81E4-57F3EB9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D3D-6810-4A32-A53A-5896805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CD3-71AF-4B4A-893C-F23A3E3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708-E906-4FEF-94F3-9D4C687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075-89CE-45D6-BFEF-D32FFA8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771-784B-420B-B6F5-D212F23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4E3-F6B7-45A6-AD87-2520AB5C27EE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3"/>
          <a:stretch/>
        </p:blipFill>
        <p:spPr>
          <a:xfrm>
            <a:off x="2165400" y="3584520"/>
            <a:ext cx="6211800" cy="43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358F-1241-41C1-BB9C-B8AF2F5441F1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2905200" y="1905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85128"/>
                </a:solidFill>
                <a:latin typeface="华文新魏"/>
                <a:ea typeface="华文新魏"/>
              </a:rPr>
              <a:t>酸葡萄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515320" y="46483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85128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85128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385128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609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8e2e"/>
                </a:solidFill>
                <a:latin typeface="方正黑体_GBK"/>
                <a:ea typeface="方正黑体_GBK"/>
              </a:rPr>
              <a:t>        </a:t>
            </a:r>
            <a:r>
              <a:rPr b="0" lang="zh-CN" sz="1600" spc="-1" strike="noStrike">
                <a:solidFill>
                  <a:srgbClr val="8b8e2e"/>
                </a:solidFill>
                <a:latin typeface="方正黑体_GBK"/>
                <a:ea typeface="方正黑体_GBK"/>
              </a:rPr>
              <a:t>2.</a:t>
            </a:r>
            <a:r>
              <a:rPr b="0" lang="zh-CN" sz="1600" spc="-1" strike="noStrike">
                <a:solidFill>
                  <a:srgbClr val="8b8e2e"/>
                </a:solidFill>
                <a:latin typeface="方正黑体_GBK"/>
                <a:ea typeface="方正黑体_GBK"/>
              </a:rPr>
              <a:t>释疑解惑</a:t>
            </a:r>
            <a:endParaRPr b="0" lang="en-US" sz="16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）狐狸在树林里转来转去干什么？</a:t>
            </a:r>
            <a:endParaRPr b="0" lang="en-US" sz="24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肚子饿得咕咕叫，找东西吃。</a:t>
            </a:r>
            <a:endParaRPr b="0" lang="en-US" sz="24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）狐狸发现了一个葡萄架后，又有何反应？</a:t>
            </a:r>
            <a:endParaRPr b="0" lang="en-US" sz="24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乐得三步并做两步奔了过去，馋得直流口水，使劲地又蹦又跳。</a:t>
            </a: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b8e2e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07" name="Picture 3" descr="t010fa8c53aff713f73"/>
          <p:cNvPicPr/>
          <p:nvPr/>
        </p:nvPicPr>
        <p:blipFill>
          <a:blip r:embed="rId2"/>
          <a:stretch/>
        </p:blipFill>
        <p:spPr>
          <a:xfrm>
            <a:off x="5867280" y="4038480"/>
            <a:ext cx="188604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酸葡萄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）狐狸为什么没有吃到一颗葡萄？</a:t>
            </a:r>
            <a:br>
              <a:rPr sz="2000"/>
            </a:b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葡萄高高地挂在葡萄架上，无论狐狸怎样跳，都够不着。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）狐狸说那些葡萄是酸葡萄，真的是酸葡萄吗？</a:t>
            </a:r>
            <a:br>
              <a:rPr sz="2000"/>
            </a:br>
            <a:r>
              <a:rPr b="0" lang="zh-CN" sz="2000" spc="-1" strike="noStrike">
                <a:solidFill>
                  <a:srgbClr val="8b8e2e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是，从又圆又大、晶莹、紫得发亮这些词可以看出葡萄已经成熟了，而成熟的葡萄不是酸的。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0" name="Picture 3" descr="t01d1cb2b24e7736129"/>
          <p:cNvPicPr/>
          <p:nvPr/>
        </p:nvPicPr>
        <p:blipFill>
          <a:blip r:embed="rId2"/>
          <a:stretch/>
        </p:blipFill>
        <p:spPr>
          <a:xfrm>
            <a:off x="457200" y="3886200"/>
            <a:ext cx="3440160" cy="22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t01271091a504ae453b"/>
          <p:cNvPicPr/>
          <p:nvPr/>
        </p:nvPicPr>
        <p:blipFill>
          <a:blip r:embed="rId3"/>
          <a:stretch/>
        </p:blipFill>
        <p:spPr>
          <a:xfrm>
            <a:off x="4495680" y="3886200"/>
            <a:ext cx="3429000" cy="24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248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狐狸因为吃不到葡萄，就故意说是些酸葡萄，这是自欺欺人的表现，也是一种精神安慰法，自己得不到的东西就认为这种东西不好，是坏东西</a:t>
            </a:r>
            <a:endParaRPr b="1" lang="en-US" sz="24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b8e2e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8b8e2e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8b8e2e"/>
                </a:solidFill>
                <a:latin typeface="宋体"/>
              </a:rPr>
              <a:t>）狐狸为什么说熟葡萄是酸葡萄？</a:t>
            </a: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4" name="Picture 4" descr="t01935d4adb17da092c"/>
          <p:cNvPicPr/>
          <p:nvPr/>
        </p:nvPicPr>
        <p:blipFill>
          <a:blip r:embed="rId2"/>
          <a:stretch/>
        </p:blipFill>
        <p:spPr>
          <a:xfrm>
            <a:off x="5943600" y="373392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狐狸吃到葡萄没有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一颗也没有，因为它够不着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6" name="Picture 4" descr="t01bcd62613f67d0efe"/>
          <p:cNvPicPr/>
          <p:nvPr/>
        </p:nvPicPr>
        <p:blipFill>
          <a:blip r:embed="rId3"/>
          <a:stretch/>
        </p:blipFill>
        <p:spPr>
          <a:xfrm>
            <a:off x="5257800" y="1676520"/>
            <a:ext cx="2587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1520" y="949320"/>
            <a:ext cx="82393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b8e2e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8b8e2e"/>
                </a:solidFill>
                <a:latin typeface="Arial"/>
              </a:rPr>
              <a:t>课堂小结</a:t>
            </a:r>
            <a:br>
              <a:rPr sz="4000"/>
            </a:br>
            <a:endParaRPr b="0" lang="en-US" sz="4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b8e2e"/>
                </a:solidFill>
                <a:latin typeface="Arial"/>
              </a:rPr>
              <a:t>学了这则寓言，你明白了什么道理？</a:t>
            </a:r>
            <a:br>
              <a:rPr sz="1800"/>
            </a:br>
            <a:endParaRPr b="0" lang="en-US" sz="1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b8e2e"/>
                </a:solidFill>
                <a:latin typeface="Arial"/>
              </a:rPr>
              <a:t>得不到的东西就诋毁东西不好，这消极的心态是不可取的，我们要得不到的东西更要努力去获得。 </a:t>
            </a:r>
            <a:endParaRPr b="0" lang="en-US" sz="18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2362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d3f41"/>
                </a:solidFill>
                <a:latin typeface="Arial"/>
                <a:ea typeface="黑体"/>
              </a:rPr>
              <a:t>谢谢指导</a:t>
            </a:r>
            <a:endParaRPr b="0" lang="en-US" sz="7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d5f1f"/>
                </a:solidFill>
                <a:latin typeface="Arial Black"/>
              </a:rPr>
              <a:t>使用规范说明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d3f4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A44-0C29-46D3-874B-4AC3F99491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3352680" y="2297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93" name="Picture 2" descr="酸葡萄2"/>
          <p:cNvPicPr/>
          <p:nvPr/>
        </p:nvPicPr>
        <p:blipFill>
          <a:blip r:embed="rId1"/>
          <a:stretch/>
        </p:blipFill>
        <p:spPr>
          <a:xfrm>
            <a:off x="0" y="144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1763640" y="714240"/>
            <a:ext cx="56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1520" y="948960"/>
            <a:ext cx="82393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8b8e2e"/>
                </a:solidFill>
                <a:latin typeface="Arial"/>
                <a:ea typeface="楷体_GB2312"/>
              </a:rPr>
              <a:t>同学们，通过学习《狐狸和乌鸦》这一课，使我们知道了爱听别人的奉承话就容易受骗上当的道理。这一次，狐狸肚子饿了，发现了一个葡萄架，它又是怎样做的呢？学完《酸葡萄》，你就会明白。</a:t>
            </a:r>
            <a:br>
              <a:rPr sz="3600"/>
            </a:b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8b8e2e"/>
                </a:solidFill>
                <a:latin typeface="黑体"/>
                <a:ea typeface="黑体"/>
              </a:rPr>
              <a:t>成熟的葡萄</a:t>
            </a: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是不是</a:t>
            </a:r>
            <a:r>
              <a:rPr b="0" lang="zh-CN" sz="2000" spc="-1" strike="noStrike">
                <a:solidFill>
                  <a:srgbClr val="8b8e2e"/>
                </a:solidFill>
                <a:latin typeface="黑体"/>
                <a:ea typeface="黑体"/>
              </a:rPr>
              <a:t>酸的呢？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97" name="Picture 3" descr="t01d1cb2b24e7736129"/>
          <p:cNvPicPr/>
          <p:nvPr/>
        </p:nvPicPr>
        <p:blipFill>
          <a:blip r:embed="rId1"/>
          <a:stretch/>
        </p:blipFill>
        <p:spPr>
          <a:xfrm>
            <a:off x="5029200" y="838080"/>
            <a:ext cx="3440160" cy="228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t01271091a504ae453b"/>
          <p:cNvPicPr/>
          <p:nvPr/>
        </p:nvPicPr>
        <p:blipFill>
          <a:blip r:embed="rId2"/>
          <a:stretch/>
        </p:blipFill>
        <p:spPr>
          <a:xfrm>
            <a:off x="5410080" y="3657600"/>
            <a:ext cx="314172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葡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05040" y="949320"/>
            <a:ext cx="82389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狐狸为什么要说葡萄是酸的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080" y="12193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  <a:ea typeface="黑体"/>
              </a:rPr>
              <a:t>自读课文，整体感知</a:t>
            </a:r>
            <a:br>
              <a:rPr sz="2000"/>
            </a:b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自己轻声朗读课文，注意读准字音，读通句子。</a:t>
            </a:r>
            <a:br>
              <a:rPr sz="2000"/>
            </a:b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遇到不懂的地方画上记号。 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2389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b8e2e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8b8e2e"/>
                </a:solidFill>
                <a:latin typeface="Arial"/>
              </a:rPr>
              <a:t>积累新词</a:t>
            </a:r>
            <a:endParaRPr b="0" lang="en-US" sz="4000" spc="-1" strike="noStrike">
              <a:solidFill>
                <a:srgbClr val="8b8e2e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b0f0"/>
                </a:solidFill>
                <a:latin typeface="Arial"/>
              </a:rPr>
              <a:t>垂头丧气</a:t>
            </a:r>
            <a:r>
              <a:rPr b="0" lang="zh-CN" sz="2000" spc="-1" strike="noStrike">
                <a:solidFill>
                  <a:srgbClr val="8b8e2e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8b8e2e"/>
                </a:solidFill>
                <a:latin typeface="Arial"/>
                <a:ea typeface="楷体_GB2312"/>
              </a:rPr>
              <a:t>形容失望的神情。</a:t>
            </a:r>
            <a:br>
              <a:rPr sz="2000"/>
            </a:br>
            <a:r>
              <a:rPr b="1" lang="zh-CN" sz="2000" spc="-1" strike="noStrike">
                <a:solidFill>
                  <a:srgbClr val="00b0f0"/>
                </a:solidFill>
                <a:latin typeface="Arial"/>
              </a:rPr>
              <a:t>折腾</a:t>
            </a:r>
            <a:r>
              <a:rPr b="1" lang="zh-CN" sz="2000" spc="-1" strike="noStrike">
                <a:solidFill>
                  <a:srgbClr val="8b8e2e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8b8e2e"/>
                </a:solidFill>
                <a:latin typeface="Arial"/>
                <a:ea typeface="楷体_GB2312"/>
              </a:rPr>
              <a:t>指反复做某事。</a:t>
            </a:r>
            <a:br>
              <a:rPr sz="2000"/>
            </a:br>
            <a:r>
              <a:rPr b="1" lang="zh-CN" sz="2000" spc="-1" strike="noStrike">
                <a:solidFill>
                  <a:srgbClr val="00b0f0"/>
                </a:solidFill>
                <a:latin typeface="Arial"/>
              </a:rPr>
              <a:t>稀罕</a:t>
            </a:r>
            <a:r>
              <a:rPr b="1" lang="zh-CN" sz="2000" spc="-1" strike="noStrike">
                <a:solidFill>
                  <a:srgbClr val="8b8e2e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8b8e2e"/>
                </a:solidFill>
                <a:latin typeface="Arial"/>
                <a:ea typeface="楷体_GB2312"/>
              </a:rPr>
              <a:t>认为稀奇而喜爱。</a:t>
            </a:r>
            <a:br>
              <a:rPr sz="2000"/>
            </a:b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2389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8e2e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8b8e2e"/>
                </a:solidFill>
                <a:latin typeface="Arial"/>
              </a:rPr>
              <a:t>学习课文，感悟内容</a:t>
            </a:r>
            <a:br>
              <a:rPr sz="3600"/>
            </a:br>
            <a:endParaRPr b="0" lang="en-US" sz="3600" spc="-1" strike="noStrike">
              <a:solidFill>
                <a:srgbClr val="8b8e2e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8b8e2e"/>
                </a:solidFill>
                <a:latin typeface="方正黑体_GBK"/>
                <a:ea typeface="方正黑体_GBK"/>
              </a:rPr>
              <a:t>1.</a:t>
            </a:r>
            <a:r>
              <a:rPr b="0" lang="zh-CN" sz="2800" spc="-1" strike="noStrike">
                <a:solidFill>
                  <a:srgbClr val="8b8e2e"/>
                </a:solidFill>
                <a:latin typeface="方正黑体_GBK"/>
                <a:ea typeface="方正黑体_GBK"/>
              </a:rPr>
              <a:t>自读自悟。</a:t>
            </a:r>
            <a:br>
              <a:rPr sz="2800"/>
            </a:b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）自由读文，说说知道了什么？不理解的地方做上记号。</a:t>
            </a:r>
            <a:br>
              <a:rPr sz="2800"/>
            </a:b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b8e2e"/>
                </a:solidFill>
                <a:latin typeface="楷体_GB2312"/>
                <a:ea typeface="楷体_GB2312"/>
              </a:rPr>
              <a:t>）集体交流。重点理解狐狸说那些熟葡萄酸的原因。</a:t>
            </a:r>
            <a:br>
              <a:rPr sz="2800"/>
            </a:b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4:24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5:15Z</dcterms:modified>
  <cp:revision>6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420e000000000001024120</vt:lpwstr>
  </property>
  <property fmtid="{D5CDD505-2E9C-101B-9397-08002B2CF9AE}" pid="4" name="Version">
    <vt:r8>1</vt:r8>
  </property>
</Properties>
</file>