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349C-D002-45E9-8B43-C74CB9E8A6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878A-118B-44FF-BC8C-10C7853E9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AE0F-A22D-4637-989E-428442D4BF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10C-0AAD-4BB7-86C1-D901EC42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3C9-7A58-47DC-995A-37F2AD0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3F6-6452-4E8C-AE52-025D703F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D5A-0D6E-42DD-98E9-355DE52A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860-4AAD-4DE8-AE65-2C6EE7A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D9C-1D86-48CD-89D6-36A76148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78B-CD88-41D8-A8CD-8D749CA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E81-3C0D-4E3A-983A-8305E16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4FB-4748-4383-AD86-9DBB5C1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03E-B058-45D5-816F-F5178BB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C46-C3F4-45B9-AACD-D11528B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EBE-AA5D-435E-9C82-0E7EF46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73B-D8ED-47FD-84AC-5DFD64A087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55360" y="838080"/>
            <a:ext cx="538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</a:t>
            </a:r>
            <a:r>
              <a:rPr b="1" lang="en-U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27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　松树和青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52760" y="5943600"/>
            <a:ext cx="5671800" cy="49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2638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杉树哥哥，请您扶我一把，让我看一眼美丽的大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个微弱的声音，从地面上传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小杉树低头一看，原来是一根幼小的青藤。小杉树不耐烦地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哎呀，你这么瘦小，站都站不稳，也想看大海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看着小青藤难过的样子，小松树俯身对青藤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呀，小青藤，你就顺着我的身子爬上来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962520" y="228600"/>
            <a:ext cx="5105160" cy="1981080"/>
          </a:xfrm>
          <a:prstGeom prst="cloudCallout">
            <a:avLst>
              <a:gd name="adj1" fmla="val 37342"/>
              <a:gd name="adj2" fmla="val 81490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找出松树和杉树对青藤提出请求的态度的相关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990720" y="457200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066680" y="4114800"/>
            <a:ext cx="2667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1295280" y="6095880"/>
            <a:ext cx="7848720" cy="763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3657600" y="4572000"/>
            <a:ext cx="5181480" cy="763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5105520"/>
            <a:ext cx="3048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>
            <a:hlinkClick r:id="rId2" action="ppaction://hlinksldjump"/>
          </p:cNvPr>
          <p:cNvSpPr/>
          <p:nvPr/>
        </p:nvSpPr>
        <p:spPr>
          <a:xfrm>
            <a:off x="83059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6234"/>
                </a:moveTo>
                <a:lnTo>
                  <a:pt x="13376" y="8845"/>
                </a:ln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lnTo>
                  <a:pt x="17763" y="13197"/>
                </a:lnTo>
                <a:lnTo>
                  <a:pt x="16109" y="13197"/>
                </a:lnTo>
                <a:lnTo>
                  <a:pt x="16109" y="20386"/>
                </a:lnTo>
                <a:lnTo>
                  <a:pt x="5491" y="20386"/>
                </a:lnTo>
                <a:lnTo>
                  <a:pt x="5491" y="13197"/>
                </a:lnTo>
                <a:lnTo>
                  <a:pt x="3837" y="13197"/>
                </a:lnTo>
                <a:close/>
              </a:path>
              <a:path fill="darkenLess" w="21600" h="26394">
                <a:moveTo>
                  <a:pt x="13376" y="8845"/>
                </a:move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close/>
              </a:path>
              <a:path fill="darkenLess" w="21600" h="26394">
                <a:moveTo>
                  <a:pt x="9877" y="16696"/>
                </a:moveTo>
                <a:lnTo>
                  <a:pt x="11723" y="16696"/>
                </a:lnTo>
                <a:lnTo>
                  <a:pt x="11723" y="20386"/>
                </a:lnTo>
                <a:lnTo>
                  <a:pt x="16109" y="20386"/>
                </a:lnTo>
                <a:lnTo>
                  <a:pt x="16109" y="13197"/>
                </a:lnTo>
                <a:lnTo>
                  <a:pt x="5491" y="13197"/>
                </a:lnTo>
                <a:lnTo>
                  <a:pt x="5491" y="20386"/>
                </a:lnTo>
                <a:lnTo>
                  <a:pt x="9877" y="203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5256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小青藤高兴极了，他使劲往上一蹿，攀住了小松树的腰，不断地向上爬呀爬。终于，在一个明媚的清晨，小青藤也兴高采烈地嚷开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啊，太美了，我看到了辽阔的大海，绿色的岛屿，还有航船上飘扬的旗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青藤和小松树热烈地拥抱着，小杉树惭愧地低下了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304920" y="4876920"/>
            <a:ext cx="3962160" cy="1752480"/>
          </a:xfrm>
          <a:prstGeom prst="cloudCallout">
            <a:avLst>
              <a:gd name="adj1" fmla="val -59777"/>
              <a:gd name="adj2" fmla="val 6014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青藤在松树的帮助下看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267080" y="4648320"/>
            <a:ext cx="4876920" cy="2057400"/>
          </a:xfrm>
          <a:prstGeom prst="cloudCallout">
            <a:avLst>
              <a:gd name="adj1" fmla="val 30435"/>
              <a:gd name="adj2" fmla="val 1203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这里的省略号有什么作用？你能说说小青藤还看到了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248520" y="4495680"/>
            <a:ext cx="2895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5638680" y="0"/>
            <a:ext cx="3505320" cy="1600200"/>
          </a:xfrm>
          <a:prstGeom prst="cloudCallout">
            <a:avLst>
              <a:gd name="adj1" fmla="val 44157"/>
              <a:gd name="adj2" fmla="val 394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杉树为什么感到惭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990720" y="3505320"/>
            <a:ext cx="8153280" cy="759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0" y="396252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590920" y="396252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>
            <a:hlinkClick r:id="rId2" action="ppaction://hlinksldjump"/>
          </p:cNvPr>
          <p:cNvSpPr/>
          <p:nvPr/>
        </p:nvSpPr>
        <p:spPr>
          <a:xfrm>
            <a:off x="838188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6234"/>
                </a:moveTo>
                <a:lnTo>
                  <a:pt x="13376" y="8845"/>
                </a:ln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lnTo>
                  <a:pt x="17763" y="13197"/>
                </a:lnTo>
                <a:lnTo>
                  <a:pt x="16109" y="13197"/>
                </a:lnTo>
                <a:lnTo>
                  <a:pt x="16109" y="20386"/>
                </a:lnTo>
                <a:lnTo>
                  <a:pt x="5491" y="20386"/>
                </a:lnTo>
                <a:lnTo>
                  <a:pt x="5491" y="13197"/>
                </a:lnTo>
                <a:lnTo>
                  <a:pt x="3837" y="13197"/>
                </a:lnTo>
                <a:close/>
              </a:path>
              <a:path fill="darkenLess" w="21600" h="26394">
                <a:moveTo>
                  <a:pt x="13376" y="8845"/>
                </a:move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close/>
              </a:path>
              <a:path fill="darkenLess" w="21600" h="26394">
                <a:moveTo>
                  <a:pt x="9877" y="16696"/>
                </a:moveTo>
                <a:lnTo>
                  <a:pt x="11723" y="16696"/>
                </a:lnTo>
                <a:lnTo>
                  <a:pt x="11723" y="20386"/>
                </a:lnTo>
                <a:lnTo>
                  <a:pt x="16109" y="20386"/>
                </a:lnTo>
                <a:lnTo>
                  <a:pt x="16109" y="13197"/>
                </a:lnTo>
                <a:lnTo>
                  <a:pt x="5491" y="13197"/>
                </a:lnTo>
                <a:lnTo>
                  <a:pt x="5491" y="20386"/>
                </a:lnTo>
                <a:lnTo>
                  <a:pt x="9877" y="203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09480" y="609480"/>
            <a:ext cx="3962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演一演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16280" y="4114800"/>
            <a:ext cx="64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14400" y="35053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三位同学分角色扮演小松树、小杉树、小青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906560" y="22096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飞翔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411880" y="22096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辽阔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906560" y="32767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初升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11880" y="32767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翻滚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6560" y="4343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微弱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411880" y="4343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美丽的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754280" y="1981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松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53040" y="1981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青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554880" y="1981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杉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909960" y="39625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看到了大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5720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2209680" y="26668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5105520" y="2514600"/>
            <a:ext cx="1676160" cy="12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2590920" y="22860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杉  踮  鸥  涛  幼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0880" y="74304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ā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1115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ō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214680" y="7621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8043120" y="76212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808200" y="412740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俯  媚  屿  航  帜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3808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4111560" y="3733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6078960" y="375300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286000" y="375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8101800" y="37530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ShockwaveFlash6" descr=""/>
          <p:cNvPicPr/>
          <p:nvPr/>
        </p:nvPicPr>
        <p:blipFill>
          <a:blip r:embed="rId7"/>
          <a:stretch/>
        </p:blipFill>
        <p:spPr>
          <a:xfrm>
            <a:off x="533520" y="53532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ShockwaveFlash7" descr=""/>
          <p:cNvPicPr/>
          <p:nvPr/>
        </p:nvPicPr>
        <p:blipFill>
          <a:blip r:embed="rId8"/>
          <a:stretch/>
        </p:blipFill>
        <p:spPr>
          <a:xfrm>
            <a:off x="2438280" y="53532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ShockwaveFlash8" descr=""/>
          <p:cNvPicPr/>
          <p:nvPr/>
        </p:nvPicPr>
        <p:blipFill>
          <a:blip r:embed="rId9"/>
          <a:stretch/>
        </p:blipFill>
        <p:spPr>
          <a:xfrm>
            <a:off x="4343400" y="53532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ShockwaveFlash9" descr=""/>
          <p:cNvPicPr/>
          <p:nvPr/>
        </p:nvPicPr>
        <p:blipFill>
          <a:blip r:embed="rId10"/>
          <a:stretch/>
        </p:blipFill>
        <p:spPr>
          <a:xfrm>
            <a:off x="6248520" y="53532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ShockwaveFlash10" descr=""/>
          <p:cNvPicPr/>
          <p:nvPr/>
        </p:nvPicPr>
        <p:blipFill>
          <a:blip r:embed="rId11"/>
          <a:stretch/>
        </p:blipFill>
        <p:spPr>
          <a:xfrm>
            <a:off x="8153280" y="53532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3"/>
          <p:cNvPicPr/>
          <p:nvPr/>
        </p:nvPicPr>
        <p:blipFill>
          <a:blip r:embed="rId1"/>
          <a:stretch/>
        </p:blipFill>
        <p:spPr>
          <a:xfrm>
            <a:off x="647640" y="533520"/>
            <a:ext cx="7848720" cy="5624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2987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松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401840" y="92160"/>
            <a:ext cx="66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311160" y="609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02"/>
          <p:cNvPicPr/>
          <p:nvPr/>
        </p:nvPicPr>
        <p:blipFill>
          <a:blip r:embed="rId1"/>
          <a:stretch/>
        </p:blipFill>
        <p:spPr>
          <a:xfrm>
            <a:off x="1143000" y="304920"/>
            <a:ext cx="4846680" cy="6248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031-1B93-4621-8455-8B658774B0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04920" y="15238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　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升　 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耐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57200" y="3657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辽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岛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屿  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拥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85800" y="10508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gā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590920" y="10666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ch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724280" y="83808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à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867280" y="1066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848720" y="9907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33526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29000" y="3352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ǎ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0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62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402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380120" y="603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松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41468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05"/>
          <p:cNvPicPr/>
          <p:nvPr/>
        </p:nvPicPr>
        <p:blipFill>
          <a:blip r:embed="rId1"/>
          <a:stretch/>
        </p:blipFill>
        <p:spPr>
          <a:xfrm>
            <a:off x="0" y="0"/>
            <a:ext cx="4800600" cy="594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2"/>
          <p:cNvPicPr/>
          <p:nvPr/>
        </p:nvPicPr>
        <p:blipFill>
          <a:blip r:embed="rId2"/>
          <a:stretch/>
        </p:blipFill>
        <p:spPr>
          <a:xfrm>
            <a:off x="4297320" y="0"/>
            <a:ext cx="484668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243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ɡānɡ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上，长着一片小树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一天清早，小松树高兴地对伙伴们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啊，我看到大海了，我看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chū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升的太阳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小松树身边的小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shān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树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diǎn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起脚跟，嚷嚷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看到了，看到了！有飞翔的海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ōu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翻滚的波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tāo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还有点点白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杉树哥哥，请您扶我一把，让我看一眼美丽的大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个微弱的声音，从地面上传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751280" y="990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松树和青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小杉树低头一看，原来是一根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yòu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小的青藤。小杉树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nài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fán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地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哎呀，你这么瘦小，站都站不稳，也想看大海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看着小青藤难过的样子，小松树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fǔ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身对青藤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来呀，小青藤，你就顺着我的身子爬上来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小青藤高兴极了，他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jìn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往上一蹿，攀住了小松树的腰，不断地向上爬呀爬。终于，在一个明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mèi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清晨，小青藤也兴高采烈地嚷开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啊，太美了，我看到了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kuò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大海，绿色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dǎo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yǔ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还有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hánɡ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船上飘扬的旗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zhì)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青藤和小松树热烈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yōnɡ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抱着，小杉树惭愧地低下了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80880" y="533520"/>
            <a:ext cx="8382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你最喜欢哪一段或哪几段？</a:t>
            </a:r>
            <a:endParaRPr b="0" lang="en-US" sz="6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第一、二、三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第四、五、六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七、八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>
            <a:hlinkClick r:id="rId4" action="ppaction://hlinksldjump"/>
          </p:cNvPr>
          <p:cNvSpPr/>
          <p:nvPr/>
        </p:nvSpPr>
        <p:spPr>
          <a:xfrm>
            <a:off x="830592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4777"/>
                </a:moveTo>
                <a:lnTo>
                  <a:pt x="17806" y="11783"/>
                </a:lnTo>
                <a:lnTo>
                  <a:pt x="3794" y="187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2819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山冈上，长着一片小树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天清早，小松树高兴地对伙伴们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啊，我看到大海了，我看到初升的太阳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小松树身边的小杉树踮起脚跟，嚷嚷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看到了，看到了！有飞翔的海鸥，翻滚的波涛，还有点点白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486400" y="685800"/>
            <a:ext cx="3505320" cy="1905120"/>
          </a:xfrm>
          <a:prstGeom prst="cloudCallout">
            <a:avLst>
              <a:gd name="adj1" fmla="val 41166"/>
              <a:gd name="adj2" fmla="val 4683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　　小松树和小杉树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76320" y="4343400"/>
            <a:ext cx="7924680" cy="763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4777"/>
                </a:moveTo>
                <a:lnTo>
                  <a:pt x="17806" y="11783"/>
                </a:lnTo>
                <a:lnTo>
                  <a:pt x="3794" y="187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380880" y="23623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05520" y="3220920"/>
            <a:ext cx="11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初升的太阳、飞翔的海鸥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翻滚的波涛、还有点点白帆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隶书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522960" y="2001960"/>
            <a:ext cx="94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太阳、海鸥、波涛、白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28600" y="441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比较上下两组的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>
            <a:hlinkClick r:id="rId1" action="ppaction://hlinksldjump"/>
          </p:cNvPr>
          <p:cNvSpPr/>
          <p:nvPr/>
        </p:nvSpPr>
        <p:spPr>
          <a:xfrm>
            <a:off x="815328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6234"/>
                </a:moveTo>
                <a:lnTo>
                  <a:pt x="13376" y="8845"/>
                </a:ln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lnTo>
                  <a:pt x="17763" y="13197"/>
                </a:lnTo>
                <a:lnTo>
                  <a:pt x="16109" y="13197"/>
                </a:lnTo>
                <a:lnTo>
                  <a:pt x="16109" y="20386"/>
                </a:lnTo>
                <a:lnTo>
                  <a:pt x="5491" y="20386"/>
                </a:lnTo>
                <a:lnTo>
                  <a:pt x="5491" y="13197"/>
                </a:lnTo>
                <a:lnTo>
                  <a:pt x="3837" y="13197"/>
                </a:lnTo>
                <a:close/>
              </a:path>
              <a:path fill="darkenLess" w="21600" h="26394">
                <a:moveTo>
                  <a:pt x="13376" y="8845"/>
                </a:move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close/>
              </a:path>
              <a:path fill="darkenLess" w="21600" h="26394">
                <a:moveTo>
                  <a:pt x="9877" y="16696"/>
                </a:moveTo>
                <a:lnTo>
                  <a:pt x="11723" y="16696"/>
                </a:lnTo>
                <a:lnTo>
                  <a:pt x="11723" y="20386"/>
                </a:lnTo>
                <a:lnTo>
                  <a:pt x="16109" y="20386"/>
                </a:lnTo>
                <a:lnTo>
                  <a:pt x="16109" y="13197"/>
                </a:lnTo>
                <a:lnTo>
                  <a:pt x="5491" y="13197"/>
                </a:lnTo>
                <a:lnTo>
                  <a:pt x="5491" y="20386"/>
                </a:lnTo>
                <a:lnTo>
                  <a:pt x="9877" y="203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00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27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